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2F2-A4C1-4EE9-B824-DCF9130A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870-0348-4655-AC81-759320EA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56B-5B7C-489E-BC62-0F9E82DD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096-EDCD-403E-8A9F-451E82F6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259-5DDF-4504-862E-36F253FB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8BD-4D42-445A-A699-14E93B9E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97D-23E9-40B4-BEC7-87F327B8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7A5-B9AB-416E-9159-C4B81900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C5A-1A3B-472F-A9EB-EA3AED89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662-981D-457E-9976-1A53E251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87E-9D18-40F9-994D-E748A67A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CA8-E26A-4771-A71D-EB53A232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28FF-FBF7-490C-A9CB-1962EEBCE78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54080" y="198360"/>
            <a:ext cx="7772400" cy="15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92000" y="549360"/>
            <a:ext cx="5543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Aharoni"/>
              </a:rPr>
              <a:t>Глаго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Calibri"/>
              </a:rPr>
              <a:t>Коваленко А.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Calibri"/>
              </a:rPr>
              <a:t>ГБОУ Школа №198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Calibri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pap1"/>
          <p:cNvPicPr/>
          <p:nvPr/>
        </p:nvPicPr>
        <p:blipFill>
          <a:blip r:embed="rId2"/>
          <a:stretch/>
        </p:blipFill>
        <p:spPr>
          <a:xfrm>
            <a:off x="7262640" y="4365720"/>
            <a:ext cx="1733760" cy="1512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русский  язык"/>
          <p:cNvPicPr/>
          <p:nvPr/>
        </p:nvPicPr>
        <p:blipFill>
          <a:blip r:embed="rId3"/>
          <a:stretch/>
        </p:blipFill>
        <p:spPr>
          <a:xfrm>
            <a:off x="3506760" y="1541520"/>
            <a:ext cx="19144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5692"/>
                </a:solidFill>
                <a:latin typeface="Calibri"/>
              </a:rPr>
              <a:t>Подберите к существительным однокоренные глаголы в указанном времени. Вставьте пропущенные букв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астоящее вр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Р..бота — я р..бота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шедшее вр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Д..журный — Вова д..жури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удущее вр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3fb2"/>
                </a:solidFill>
                <a:latin typeface="Calibri"/>
              </a:rPr>
              <a:t>З..втрак — ребята будут з..втрак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авила работы на уроке</a:t>
            </a:r>
            <a:br>
              <a:rPr sz="4000"/>
            </a:br>
            <a:r>
              <a:rPr b="1" i="1" lang="ru-RU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00080" y="1600200"/>
            <a:ext cx="75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8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Calibri"/>
              </a:rPr>
              <a:t>Понапрасну не болтай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8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Calibri"/>
              </a:rPr>
              <a:t>Рассуждай и убежда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8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Calibri"/>
              </a:rPr>
              <a:t>Здесь не нужен шум и га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8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Calibri"/>
              </a:rPr>
              <a:t>Ты решай всё са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8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Calibri"/>
              </a:rPr>
              <a:t>Если же не сможешь вдруг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8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Calibri"/>
              </a:rPr>
              <a:t>Пусть придёт на помощь дру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8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s://i.pinimg.com/originals/06/c7/30/06c730ae5659c16a2e744a3eb3c49bee.png"/>
          <p:cNvPicPr/>
          <p:nvPr/>
        </p:nvPicPr>
        <p:blipFill>
          <a:blip r:embed="rId2"/>
          <a:stretch/>
        </p:blipFill>
        <p:spPr>
          <a:xfrm>
            <a:off x="7143840" y="1500120"/>
            <a:ext cx="142380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-108000" y="1440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12000" y="-540792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8920" y="404280"/>
            <a:ext cx="4079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Что без меня предме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Лишь назван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А я приду 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сё в действие придё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Летит раке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Люди строят зд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Цветут сад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И хлеб в полях растё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8220240" y="4869000"/>
            <a:ext cx="531720" cy="12380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4546440" y="274680"/>
            <a:ext cx="4346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Интересная часть речи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 русском языке живёт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Кто что делает расскажет: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Чертит, пишет иль поёт, вышивает или пашет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Или забивает гол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арит, жарит, моет, чистит —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сё расскажет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8" descr="Рисунок2.jpg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E:\фоны презентации\exp[1].jpg"/>
          <p:cNvPicPr/>
          <p:nvPr/>
        </p:nvPicPr>
        <p:blipFill>
          <a:blip r:embed="rId2"/>
          <a:stretch/>
        </p:blipFill>
        <p:spPr>
          <a:xfrm>
            <a:off x="7327800" y="2030400"/>
            <a:ext cx="1346400" cy="13460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Aharoni"/>
              </a:rPr>
              <a:t>Глагол —  это самая живая часть реч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000" y="1413000"/>
            <a:ext cx="8002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По частоте употребления глагол занимает второе место после имени существительно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3fb2"/>
                </a:solidFill>
                <a:latin typeface="Calibri"/>
              </a:rPr>
              <a:t>Вспомним, как определить время глагола, будем учиться различать временные формы глагола и правильно употреблять их в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f3f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1" descr=""/>
          <p:cNvPicPr/>
          <p:nvPr/>
        </p:nvPicPr>
        <p:blipFill>
          <a:blip r:embed="rId1"/>
          <a:stretch/>
        </p:blipFill>
        <p:spPr>
          <a:xfrm>
            <a:off x="378000" y="295200"/>
            <a:ext cx="8388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01120" y="-5234040"/>
            <a:ext cx="3571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58165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ая соединительная линия 5"/>
          <p:cNvSpPr/>
          <p:nvPr/>
        </p:nvSpPr>
        <p:spPr>
          <a:xfrm>
            <a:off x="4214880" y="3000240"/>
            <a:ext cx="57132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7"/>
          <p:cNvSpPr/>
          <p:nvPr/>
        </p:nvSpPr>
        <p:spPr>
          <a:xfrm>
            <a:off x="4357800" y="1571760"/>
            <a:ext cx="57132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2"/>
          <p:cNvSpPr/>
          <p:nvPr/>
        </p:nvSpPr>
        <p:spPr>
          <a:xfrm>
            <a:off x="4214880" y="4357800"/>
            <a:ext cx="57132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50104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658800" y="404640"/>
            <a:ext cx="8004240" cy="60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450720" y="404640"/>
            <a:ext cx="8018640" cy="60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6T17:30:42Z</dcterms:created>
  <dc:creator>User</dc:creator>
  <dc:description/>
  <dc:language>en-US</dc:language>
  <cp:lastModifiedBy>user2</cp:lastModifiedBy>
  <dcterms:modified xsi:type="dcterms:W3CDTF">2023-04-25T13:26:54Z</dcterms:modified>
  <cp:revision>47</cp:revision>
  <dc:subject/>
  <dc:title>Слайд 1</dc:title>
</cp:coreProperties>
</file>