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7A78-087F-4296-9054-7F3A0C9F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CC96-0E97-4AD4-969A-D30A4EE6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11FE-A1B1-40E3-B45C-EB936263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F957-8BF0-47B5-BC75-6C73706F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66F8-0E06-4F83-AD84-88424164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2388-73D5-4782-B040-07B5C294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845A-9D10-40DC-9CBF-8247E5C5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3BCC-A84F-414F-A707-2EE40BDB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AF3C-32BC-4F0D-A414-7BBE2176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6288-3CDB-4E2F-8A5D-1CC34193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777B-AFCD-4D6B-9F66-95085AC6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EB26-8AF2-46A2-B500-BFDAEF26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49D5-9FBE-401F-B58F-42A9307FFF7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Рисунок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54080" y="198360"/>
            <a:ext cx="7772400" cy="15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92000" y="549360"/>
            <a:ext cx="55436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  <a:ea typeface="Aharoni"/>
              </a:rPr>
              <a:t>Глаго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Calibri"/>
              </a:rPr>
              <a:t>Коваленко А.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Calibri"/>
              </a:rPr>
              <a:t>ГБОУ Школа №198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Calibri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pap1"/>
          <p:cNvPicPr/>
          <p:nvPr/>
        </p:nvPicPr>
        <p:blipFill>
          <a:blip r:embed="rId2"/>
          <a:stretch/>
        </p:blipFill>
        <p:spPr>
          <a:xfrm>
            <a:off x="7262640" y="4365720"/>
            <a:ext cx="1733760" cy="1512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русский  язык"/>
          <p:cNvPicPr/>
          <p:nvPr/>
        </p:nvPicPr>
        <p:blipFill>
          <a:blip r:embed="rId3"/>
          <a:stretch/>
        </p:blipFill>
        <p:spPr>
          <a:xfrm>
            <a:off x="3506760" y="1541520"/>
            <a:ext cx="191448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5692"/>
                </a:solidFill>
                <a:latin typeface="Calibri"/>
              </a:rPr>
              <a:t>Подберите к существительным однокоренные глаголы в указанном времени. Вставьте пропущенные букв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астоящее врем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Р..бота — я р..бота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ошедшее врем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Д..журный — Вова д..жури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Будущее врем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3fb2"/>
                </a:solidFill>
                <a:latin typeface="Calibri"/>
              </a:rPr>
              <a:t>З..втрак — ребята будут з..втрак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равила работы на уроке</a:t>
            </a:r>
            <a:br>
              <a:rPr sz="4000"/>
            </a:br>
            <a:r>
              <a:rPr b="1" i="1" lang="ru-RU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00080" y="1600200"/>
            <a:ext cx="75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8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Calibri"/>
              </a:rPr>
              <a:t>Понапрасну не болтай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8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Calibri"/>
              </a:rPr>
              <a:t>Рассуждай и убежда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8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Calibri"/>
              </a:rPr>
              <a:t>Здесь не нужен шум и га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8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Calibri"/>
              </a:rPr>
              <a:t>Ты решай всё сам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8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Calibri"/>
              </a:rPr>
              <a:t>Если же не сможешь вдруг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8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Calibri"/>
              </a:rPr>
              <a:t>Пусть придёт на помощь дру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8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s://i.pinimg.com/originals/06/c7/30/06c730ae5659c16a2e744a3eb3c49bee.png"/>
          <p:cNvPicPr/>
          <p:nvPr/>
        </p:nvPicPr>
        <p:blipFill>
          <a:blip r:embed="rId2"/>
          <a:stretch/>
        </p:blipFill>
        <p:spPr>
          <a:xfrm>
            <a:off x="7143840" y="1500120"/>
            <a:ext cx="142380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-108000" y="1440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12000" y="-5407920"/>
            <a:ext cx="289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8920" y="404280"/>
            <a:ext cx="40798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Что без меня предме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Лишь назван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А я приду 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сё в действие придё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Летит раке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Люди строят зда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Цветут сад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И хлеб в полях растё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2"/>
          <a:stretch/>
        </p:blipFill>
        <p:spPr>
          <a:xfrm>
            <a:off x="8220240" y="4869000"/>
            <a:ext cx="531720" cy="12380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3"/>
          <p:cNvSpPr/>
          <p:nvPr/>
        </p:nvSpPr>
        <p:spPr>
          <a:xfrm>
            <a:off x="4546440" y="274680"/>
            <a:ext cx="4346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Интересная часть речи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 русском языке живёт.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Кто что делает расскажет: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Чертит, пишет иль поёт, вышивает или пашет,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Или забивает гол,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арит, жарит, моет, чистит —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сё расскажет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8" descr="Рисунок2.jpg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E:\фоны презентации\exp[1].jpg"/>
          <p:cNvPicPr/>
          <p:nvPr/>
        </p:nvPicPr>
        <p:blipFill>
          <a:blip r:embed="rId2"/>
          <a:stretch/>
        </p:blipFill>
        <p:spPr>
          <a:xfrm>
            <a:off x="7327800" y="2030400"/>
            <a:ext cx="1346400" cy="13460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  <a:ea typeface="Aharoni"/>
              </a:rPr>
              <a:t>Глагол —  это самая живая часть речи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000" y="1413000"/>
            <a:ext cx="8002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По частоте употребления глагол занимает второе место после имени существительног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3fb2"/>
                </a:solidFill>
                <a:latin typeface="Calibri"/>
              </a:rPr>
              <a:t>Вспомним, как определить время глагола, будем учиться различать временные формы глагола и правильно употреблять их в 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f3f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Объект 1" descr=""/>
          <p:cNvPicPr/>
          <p:nvPr/>
        </p:nvPicPr>
        <p:blipFill>
          <a:blip r:embed="rId1"/>
          <a:stretch/>
        </p:blipFill>
        <p:spPr>
          <a:xfrm>
            <a:off x="378000" y="295200"/>
            <a:ext cx="838800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01120" y="-5234040"/>
            <a:ext cx="3571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Объект 1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569080" cy="58165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ая соединительная линия 5"/>
          <p:cNvSpPr/>
          <p:nvPr/>
        </p:nvSpPr>
        <p:spPr>
          <a:xfrm>
            <a:off x="4214880" y="3000240"/>
            <a:ext cx="57132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7"/>
          <p:cNvSpPr/>
          <p:nvPr/>
        </p:nvSpPr>
        <p:spPr>
          <a:xfrm>
            <a:off x="4357800" y="1571760"/>
            <a:ext cx="57132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12"/>
          <p:cNvSpPr/>
          <p:nvPr/>
        </p:nvSpPr>
        <p:spPr>
          <a:xfrm>
            <a:off x="4214880" y="4357800"/>
            <a:ext cx="57132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Объект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501040" cy="63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658800" y="404640"/>
            <a:ext cx="8004240" cy="60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Объект 3" descr=""/>
          <p:cNvPicPr/>
          <p:nvPr/>
        </p:nvPicPr>
        <p:blipFill>
          <a:blip r:embed="rId1"/>
          <a:stretch/>
        </p:blipFill>
        <p:spPr>
          <a:xfrm>
            <a:off x="450720" y="404640"/>
            <a:ext cx="8018640" cy="601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6T17:30:42Z</dcterms:created>
  <dc:creator>User</dc:creator>
  <dc:description/>
  <dc:language>en-US</dc:language>
  <cp:lastModifiedBy>user2</cp:lastModifiedBy>
  <dcterms:modified xsi:type="dcterms:W3CDTF">2023-04-25T13:26:54Z</dcterms:modified>
  <cp:revision>47</cp:revision>
  <dc:subject/>
  <dc:title>Слайд 1</dc:title>
</cp:coreProperties>
</file>