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B75-152D-4B56-B33C-0B6403CE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BCC-2903-492F-B22D-5B334727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6F1-A7B1-43A0-A07E-F285EEA5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BC9-637A-44F7-9D4B-7C13CD12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4A2-244F-4024-9ED3-3A591AFE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E4F-6329-4C86-8D07-F0042DDF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BDF-4E2E-4062-A87C-08F29740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0B9-6A56-4424-9561-44DC2160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486-9EC4-4F28-AE51-F4135C16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EBF-2EC5-48EE-9547-8FD149D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4E7-2AFD-4F99-8CBC-343B97C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690-8FAE-4063-85B7-7E1F16EF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7A55-BFEA-4D8A-A961-0D0E9EE73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image" Target="../media/image8.png"/><Relationship Id="rId49" Type="http://schemas.openxmlformats.org/officeDocument/2006/relationships/image" Target="../media/image8.png"/><Relationship Id="rId50" Type="http://schemas.openxmlformats.org/officeDocument/2006/relationships/image" Target="../media/image10.png"/><Relationship Id="rId51" Type="http://schemas.openxmlformats.org/officeDocument/2006/relationships/image" Target="../media/image10.png"/><Relationship Id="rId5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1125360"/>
            <a:ext cx="712800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-ВИКТОРИН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ОБЖ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5840" y="105120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кидая помещение, в котором имеется возгор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ты не забудешь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1640" y="2993400"/>
            <a:ext cx="50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Открыть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Плотно закрыть входную д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Собрат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0080" y="1051560"/>
            <a:ext cx="811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 для спасения своей жизни не следует делать при пожа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кварти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до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2720" y="2562480"/>
            <a:ext cx="3384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Прятаться в шкаф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ыбегать на бал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Громко кри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1fbf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1fbf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1840" y="1123560"/>
            <a:ext cx="72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жар на первом эта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естничная клетка задымл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ты должен поступить в данной ситу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10160" y="3354480"/>
            <a:ext cx="9440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Спуститься по лест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оспользоваться лиф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Плотно закрыть входную дверь в квартиру и звать на помощ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74072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2.5E-006 -6.8471E-007 L -0.00364 -0.0925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908000" y="981000"/>
            <a:ext cx="550404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2924280"/>
            <a:ext cx="8334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тоит дом, петьдясят сестричек в нё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Посоветую я детям -не играйте с домом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236000" y="4149720"/>
            <a:ext cx="1019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эт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03640" y="4941720"/>
            <a:ext cx="1495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ич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">
            <a:hlinkClick r:id="rId8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08000" y="981000"/>
            <a:ext cx="550404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8040" y="3168720"/>
            <a:ext cx="846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ленький, лёгонький, а тяжко подн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40360" y="5445000"/>
            <a:ext cx="28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ячий уго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8000" y="981000"/>
            <a:ext cx="550404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86000" y="3168720"/>
            <a:ext cx="63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вать не жую, а всё поеда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4720" y="4724280"/>
            <a:ext cx="1533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ГОН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340000" y="1413000"/>
            <a:ext cx="439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ончи пословиц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19280" y="3500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огне и 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03640" y="3645000"/>
            <a:ext cx="3152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елезо плав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-0.03863 C 0.02083 -0.03238 0.01858 -0.01388 0.01163 -0.00023 C 0.00989 0.02013 0.0092 0.00926 0.00555 0.02568 C 0.00521 0.02823 0.00555 0.031 0.00469 0.03331 C 0.00399 0.03493 0.00243 0.0354 0.00121 0.03655 C -0.00295 0.04581 -0.00868 0.0539 -0.01372 0.06246 C -0.0125 0.06292 -0.01076 0.06269 -0.01024 0.06408 C -0.00972 0.06593 -0.01337 0.07218 -0.01372 0.0731 C -0.01615 0.07888 -0.01806 0.08629 -0.02066 0.09161 C -0.02222 0.09392 -0.02379 0.09531 -0.02517 0.09762 C -0.02743 0.10109 -0.0309 0.10849 -0.0309 0.10872 C -0.03125 0.11196 -0.0316 0.11566 -0.03247 0.11913 C -0.03281 0.12376 -0.03438 0.13301 -0.03438 0.13324 C -0.03368 0.158 -0.03316 0.18298 -0.03247 0.20796 C -0.03177 0.21467 -0.0316 0.22161 -0.03004 0.22786 C -0.02865 0.23248 -0.02413 0.24012 -0.02413 0.24035 C -0.02031 0.26394 -0.02622 0.2341 -0.01979 0.25238 C -0.01736 0.25839 -0.01875 0.26417 -0.01493 0.26926 C -0.00955 0.2769 0.00573 0.28129 0.01354 0.28314 C 0.03403 0.28198 0.05434 0.28175 0.07465 0.2799 C 0.07621 0.27967 0.07691 0.27759 0.0783 0.2769 C 0.08611 0.27204 0.0868 0.27366 0.09323 0.26764 C 0.09878 0.26232 0.1026 0.25353 0.1092 0.25076 C 0.1151 0.24821 0.12083 0.24544 0.12656 0.24173 C 0.13073 0.23549 0.13663 0.23225 0.14149 0.22647 C 0.14392 0.22369 0.14809 0.21721 0.14809 0.21745 C 0.15035 0.20866 0.15174 0.20148 0.15295 0.19269 C 0.15191 0.16979 0.15208 0.1536 0.14149 0.13602 C 0.13559 0.12631 0.13628 0.1233 0.12743 0.12075 C 0.12396 0.11312 0.1191 0.11196 0.11389 0.10687 C 0.08941 0.08305 0.11476 0.10711 0.09983 0.09323 C 0.09913 0.0923 0.09878 0.09045 0.09757 0.08999 C 0.08576 0.08536 0.07066 0.08467 0.05868 0.08397 C -0.01007 0.0849 -0.0375 0.08166 -0.0908 0.09461 C -0.09844 0.10248 -0.09236 0.09762 -0.10451 0.10225 C -0.11563 0.10664 -0.12639 0.11173 -0.13785 0.11451 C -0.15226 0.12214 -0.16597 0.12792 -0.18177 0.12978 C -0.18941 0.13533 -0.18681 0.1344 -0.2 0.1344 C -0.22795 0.1344 -0.2559 0.13348 -0.28386 0.13301 C -0.28611 0.13255 -0.28854 0.13232 -0.2908 0.13139 C -0.29271 0.1307 -0.29445 0.12885 -0.29653 0.12839 C -0.30261 0.12677 -0.325 0.12561 -0.32865 0.12538 C -0.33247 0.12006 -0.34445 0.11613 -0.35052 0.11451 C -0.35538 0.11127 -0.35903 0.10641 -0.36424 0.10387 C -0.36875 0.09531 -0.37622 0.09138 -0.38038 0.08235 C -0.38229 0.07819 -0.38351 0.07356 -0.38611 0.07009 C -0.38889 0.06662 -0.39427 0.05945 -0.39427 0.05968 C -0.39636 0.05205 -0.39722 0.04696 -0.40226 0.04257 C -0.40469 0.03355 -0.40295 0.03933 -0.40799 0.02568 C -0.40972 0.02082 -0.41267 0.01041 -0.41267 0.01064 C -0.41406 -0.00647 -0.41528 -0.02336 -0.41719 -0.04001 C -0.41684 -0.06153 -0.41701 -0.08304 -0.41597 -0.10455 C -0.4158 -0.10779 -0.41406 -0.11057 -0.41372 -0.11357 C -0.41302 -0.11866 -0.41372 -0.12398 -0.41267 -0.12884 C -0.41215 -0.13185 -0.41024 -0.13393 -0.4092 -0.13671 C -0.40417 -0.15128 -0.40208 -0.16747 -0.39531 -0.18112 C -0.3941 -0.18829 -0.39392 -0.19477 -0.3908 -0.20101 C -0.38802 -0.2179 -0.38247 -0.21651 -0.37118 -0.2223 C -0.36684 -0.22461 -0.35747 -0.22692 -0.35747 -0.22669 C -0.28229 -0.226 -0.2125 -0.22415 -0.13785 -0.22553 C -0.11493 -0.22785 -0.09184 -0.23085 -0.06892 -0.23317 C -0.02899 -0.2327 0.01823 -0.26093 0.05069 -0.22993 C 0.06337 -0.2179 0.04774 -0.22877 0.05989 -0.22091 C 0.06424 -0.21466 0.06562 -0.20726 0.07135 -0.2024 C 0.0717 -0.20078 0.0717 -0.19916 0.07222 -0.19778 C 0.07292 -0.19662 0.07413 -0.19616 0.07465 -0.19477 C 0.07674 -0.18991 0.07674 -0.18297 0.0783 -0.17788 C 0.07778 -0.15128 0.08021 -0.09021 0.07014 -0.06315 C 0.0691 -0.05644 0.0691 -0.04973 0.06562 -0.04464 C 0.06406 -0.03863 0.06267 -0.03608 0.05868 -0.03238 C 0.05174 -0.0185 0.02882 -0.01619 0.01736 -0.01249 C 0.01163 -0.01064 0.00694 -0.00948 0.00243 -0.00347 C 0.00156 -0.00231 1.11111E-006 -0.00023 1.11111E-006 -4.19385E-006 E">
                                      <p:cBhvr>
                                        <p:cTn id="14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619280" y="765000"/>
            <a:ext cx="41036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ончи пословиц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280" y="2997360"/>
            <a:ext cx="4334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доглядишь око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3939120" y="4205880"/>
            <a:ext cx="40942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платишь бо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700360" y="1700280"/>
            <a:ext cx="37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ончи пословиц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00000" y="256536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Спи, царь огонь, -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4508640"/>
            <a:ext cx="501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ворит царица вод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0680" y="2151360"/>
            <a:ext cx="87044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называется гибкий трубопровод для перекачки воды к месту пожар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режк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дран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ф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0" dur="25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251640" cy="6857640"/>
        </p:xfrm>
        <a:graphic>
          <a:graphicData uri="http://schemas.openxmlformats.org/drawingml/2006/table">
            <a:tbl>
              <a:tblPr/>
              <a:tblGrid>
                <a:gridCol w="1850400"/>
                <a:gridCol w="1850400"/>
                <a:gridCol w="1850040"/>
                <a:gridCol w="1850400"/>
                <a:gridCol w="1850400"/>
              </a:tblGrid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755640" y="404640"/>
            <a:ext cx="50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40000" y="333360"/>
            <a:ext cx="7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11640" y="33336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12000" y="33336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885080" y="333360"/>
            <a:ext cx="7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360" y="170028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11280" y="1700280"/>
            <a:ext cx="71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4720" y="1628640"/>
            <a:ext cx="647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2000" y="1628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0">
                <a:noFill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885080" y="1628640"/>
            <a:ext cx="719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0">
                <a:noFill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2924280"/>
            <a:ext cx="790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0">
                <a:noFill/>
              </a:ln>
              <a:blipFill rotWithShape="0">
                <a:blip r:embed="rId2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84360" y="299736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40360" y="299736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0">
                <a:noFill/>
              </a:ln>
              <a:blipFill rotWithShape="0">
                <a:blip r:embed="rId2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84720" y="299736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0">
                <a:noFill/>
              </a:ln>
              <a:blipFill rotWithShape="0">
                <a:blip r:embed="rId2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0" y="299736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0">
                <a:noFill/>
              </a:ln>
              <a:blipFill rotWithShape="0">
                <a:blip r:embed="rId3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436572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0">
                <a:noFill/>
              </a:ln>
              <a:blipFill rotWithShape="0">
                <a:blip r:embed="rId3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340000" y="436572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0">
                <a:noFill/>
              </a:ln>
              <a:blipFill rotWithShape="0">
                <a:blip r:embed="rId3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067280" y="443700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0">
                <a:noFill/>
              </a:ln>
              <a:blipFill rotWithShape="0">
                <a:blip r:embed="rId3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940360" y="443700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0">
                <a:noFill/>
              </a:ln>
              <a:blipFill rotWithShape="0">
                <a:blip r:embed="rId3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812000" y="443700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0">
                <a:noFill/>
              </a:ln>
              <a:blipFill rotWithShape="0">
                <a:blip r:embed="rId4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0">
                <a:noFill/>
              </a:ln>
              <a:blipFill rotWithShape="0">
                <a:blip r:embed="rId4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4000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0">
                <a:noFill/>
              </a:ln>
              <a:blipFill rotWithShape="0">
                <a:blip r:embed="rId4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4036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0">
                <a:noFill/>
              </a:ln>
              <a:blipFill rotWithShape="0">
                <a:blip r:embed="rId4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12000" y="57340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0">
                <a:noFill/>
              </a:ln>
              <a:blipFill rotWithShape="0">
                <a:blip r:embed="rId4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812000" y="573408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0">
                <a:noFill/>
              </a:ln>
              <a:blipFill rotWithShape="0">
                <a:blip r:embed="rId5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269000"/>
            <a:ext cx="7667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вая пожарная команда в Москве была создана в двадцатых годах XVII столе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лько пожарных было в её состав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71640" y="1587960"/>
            <a:ext cx="79261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назывался боец, который в далёком прошлом скакал впереди пожарного обоз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тово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адни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ье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ач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773440"/>
            <a:ext cx="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90792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чему пожарных вызывают по телефону именно «01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4360" y="4869000"/>
            <a:ext cx="35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придумали сами пож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7080" y="4365720"/>
            <a:ext cx="64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самый простой и короткий номер, его легко запом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68360" y="1052640"/>
            <a:ext cx="45241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можно тушить начинающийся пож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69892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43280" y="2708280"/>
          <a:ext cx="4699080" cy="1703520"/>
        </p:xfrm>
        <a:graphic>
          <a:graphicData uri="http://schemas.openxmlformats.org/drawingml/2006/table">
            <a:tbl>
              <a:tblPr/>
              <a:tblGrid>
                <a:gridCol w="4699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жар можно тушить огнетушителем, водой, песком, одеял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1800" y="374760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627280" y="4365720"/>
          <a:ext cx="5073480" cy="1185840"/>
        </p:xfrm>
        <a:graphic>
          <a:graphicData uri="http://schemas.openxmlformats.org/drawingml/2006/table">
            <a:tbl>
              <a:tblPr/>
              <a:tblGrid>
                <a:gridCol w="5073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огонь маленький, надо открыть окна, и пожар потухнет сам соб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800" y="3488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05080" y="2924280"/>
            <a:ext cx="689220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тарые времена не было телефонов и маш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 пожарные прибывали на место происшествия, все сгорал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124000" y="4941720"/>
          <a:ext cx="5291280" cy="1185840"/>
        </p:xfrm>
        <a:graphic>
          <a:graphicData uri="http://schemas.openxmlformats.org/drawingml/2006/table">
            <a:tbl>
              <a:tblPr/>
              <a:tblGrid>
                <a:gridCol w="5291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ьше все дома строились из дерева, строили их близко друг к дру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1800" y="3488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3800" y="692280"/>
            <a:ext cx="677196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 в старые времена пожар мог уничтожить целый гор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52360" y="162792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ли загореться искусственная е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5800" y="2996640"/>
            <a:ext cx="68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. И хотя она разгорается не так быстро, как настоящ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о выделяет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3800" y="494100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усственные елки не горя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0920" y="1341000"/>
            <a:ext cx="85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м на Новый год подарили замечательные фейерверки и бенгальские ог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вы будете из зажигат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2173320" y="2911320"/>
            <a:ext cx="914400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560" y="494172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йерверки, свечи, бенгальские огни можно зажигать т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 взрослыми и подальше от елки, а еще лучше вне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48240" y="3246480"/>
            <a:ext cx="72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 дома, рядом с елкой – так красивее. Все-таки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79960" y="476280"/>
            <a:ext cx="65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«ОГНЕТУШИТЕЛ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2924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ь, г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т, туш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ши, ш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от, г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нет, ле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ть, те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нт, тен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ушь, оте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ин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21280" y="20080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ьте слова из слова огнетуш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760" y="404640"/>
            <a:ext cx="92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гня не видно, помещение задымле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ты сделаешь в первую очеред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5440" y="2659320"/>
            <a:ext cx="437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Займусь тушением пож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Проветрю поме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ызову пожарную ох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189000"/>
            <a:ext cx="8124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в квартире или доме дымно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безопаснее пробираться к выход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080" y="1844640"/>
            <a:ext cx="726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) На четверенька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200" y="3067920"/>
            <a:ext cx="875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) Подняв голову ввер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43880" y="4190040"/>
            <a:ext cx="582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) Во весь рос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15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314280"/>
            <a:ext cx="85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ма, Лука и Андрей оказались свидетелями пожара в квартире многоэтажного дома. Фома бросился к лифту, чтобы скорее оказаться во дворе. Лука стал кричать на лестничной клетке «Пожар!». Андрей спустился на этаж ниже и попросил жильцов вызвать пожарных. Действия кого из друзей являются вер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360" y="3283560"/>
            <a:ext cx="376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) Андре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000" y="5299920"/>
            <a:ext cx="277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) Л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4720" y="3283560"/>
            <a:ext cx="32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) Фо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5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5480" y="61956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может усилить огонь при пожаре в квартир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720" y="522828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Потоки свежего воздух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2000" y="213300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) Плотный д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7800" y="3499200"/>
            <a:ext cx="543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) Мокрые вещ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1116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500" autoRev="1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20,-106,-8)"/>
                                      </p:to>
                                    </p:se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0,-106,-8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73440" y="2777400"/>
            <a:ext cx="87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0240" y="1253160"/>
            <a:ext cx="69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ой номер телефона нужно набирать при пожаре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25884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ше каких этажей не рекомендуется 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жаре спускаться по верёвкам, выпрыгивать из око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1555200"/>
            <a:ext cx="7139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Выше второго э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) Выше третьего э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) Выше четвёртого эта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7956720" y="4508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" dur="50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720" y="1266840"/>
            <a:ext cx="820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ы вызываешь по телефону пожарную коман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следует назвать диспетчеру в первую очере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35800" y="2487960"/>
            <a:ext cx="5205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Адрес дома, где случился пож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Район, где ты прожива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Фамилии сосе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7740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5:59:46Z</dcterms:created>
  <dc:creator>Валя</dc:creator>
  <dc:description/>
  <dc:language>en-US</dc:language>
  <cp:lastModifiedBy>Валя</cp:lastModifiedBy>
  <dcterms:modified xsi:type="dcterms:W3CDTF">2013-04-16T18:17:40Z</dcterms:modified>
  <cp:revision>3</cp:revision>
  <dc:subject/>
  <dc:title>Слайд 1</dc:title>
</cp:coreProperties>
</file>