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3C9-F480-484C-AB40-6C38E275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8CF-0C3C-49D5-8933-5F19150F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BE9-009B-4C09-B904-5110BC02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9B8-C8FC-4FB6-882A-995E88E2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5586-206C-4CAF-8027-C6ADC21C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014E-912F-47B8-8C80-09C8AA0A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AC3C-7FD0-408B-983E-A5A5ABF8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1825-741F-4B79-8ACE-AF928428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8D99-BAA4-4B41-A157-D849A28C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A3D5-E9D7-461B-B66E-932190F6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2AE2-EE01-4E75-B5AF-F4C8AF70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9C1-C52D-4AF4-87C7-92CD53D6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D035-EEB6-47BF-B8B1-AD8F648C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30D5-D89D-4002-B500-42A61C2E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09FF-AD31-4FFE-B515-F0F7F226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3739-A29C-4A0B-980E-68A39F08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16C6-DD83-4D2C-BE33-80CBC853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AFE-6BDF-4CF9-B7ED-DD24145F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BCB-9B64-42EB-9D88-0212927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1FD-3B57-4D9B-909B-92122428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3E2-2FD7-421A-96B1-62437A90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29B-A9AE-4A80-A095-E7B9DBEA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20D-2434-4051-A2D4-C9B1790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9B2-434E-4D61-867F-155D802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A7CF7B-1D1C-42AF-BDF7-F4F5FFCB3C3F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A29730-D5D7-47B2-AE0C-CACFFB667403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Users\Пользователь\Desktop\event_508af3e79c1be2d25eb54bcfb44cc7a48a706245_5925e5c360d81.jpg"/>
          <p:cNvPicPr/>
          <p:nvPr/>
        </p:nvPicPr>
        <p:blipFill>
          <a:blip r:embed="rId1"/>
          <a:stretch/>
        </p:blipFill>
        <p:spPr>
          <a:xfrm>
            <a:off x="179640" y="1747440"/>
            <a:ext cx="7920360" cy="4489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7640" y="260640"/>
            <a:ext cx="7344360" cy="22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 fontScale="92000"/>
          </a:bodyPr>
          <a:p>
            <a:pPr indent="0" algn="r">
              <a:lnSpc>
                <a:spcPct val="115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зависимость – проблема современного обществ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1200"/>
            </a:br>
            <a:r>
              <a:rPr b="1" lang="ru-RU" sz="1600" spc="-1" strike="noStrike">
                <a:solidFill>
                  <a:srgbClr val="ff9257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ru-RU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7640" y="1845000"/>
            <a:ext cx="6840360" cy="43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3420000" y="5591160"/>
            <a:ext cx="504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и: ученики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олкунов А., Костиков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67640" y="980640"/>
            <a:ext cx="818784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95640" y="980640"/>
            <a:ext cx="8280720" cy="48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7640" y="1268640"/>
            <a:ext cx="8199720" cy="45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76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Times New Roman"/>
              </a:rPr>
              <a:t>Спасибо</a:t>
            </a:r>
            <a:endParaRPr b="0" lang="ru-RU" sz="8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Times New Roman"/>
              </a:rPr>
              <a:t>за внимание!</a:t>
            </a:r>
            <a:endParaRPr b="0" lang="ru-RU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640" y="260640"/>
            <a:ext cx="7776360" cy="309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marL="182880"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Цель исследования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проблема Интернет-зависимости среди учащихся нашей школы </a:t>
            </a:r>
            <a:br>
              <a:rPr sz="2700"/>
            </a:br>
            <a:br>
              <a:rPr sz="3100"/>
            </a:b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27640" y="2565000"/>
            <a:ext cx="7560360" cy="36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rmAutofit fontScale="95000"/>
          </a:bodyPr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чение литературы об Интернет-завис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чить виды и признаки проявления Интернет-завис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сти социологическое исследование на предрасположенность учащихся нашей школы Интернет – завис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24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 </a:t>
            </a:r>
            <a:br>
              <a:rPr sz="3600"/>
            </a:b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76640"/>
            <a:ext cx="8229240" cy="5847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15000"/>
              </a:lnSpc>
              <a:spcBef>
                <a:spcPts val="249"/>
              </a:spcBef>
              <a:spcAft>
                <a:spcPts val="10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редположить, что Интернет-зависимость проявляется в том, что люди утрачивают способность контролировать свое время в сети, предпочитая виртуальную жизнь реаль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627640" y="2349000"/>
            <a:ext cx="5184360" cy="40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-зависимость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интернет -аддикция) —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язчивое стремление использовать Интернет и избыточное пользование им, проведение большого количества времени в Се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034520" y="3717000"/>
            <a:ext cx="37411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513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имберли Янг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одит 4 симптома Интернет-зависимости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язчивое желание проверить e-mail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ожидание следующего выхода в Интернет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обы окружающих на то, что человек проводит слишком много времени в Интернет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обы окружающих на то, что человек тратит слишком много денег на Интернет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 rot="399600">
            <a:off x="5851800" y="1086480"/>
            <a:ext cx="1892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lnSpc>
                <a:spcPct val="115000"/>
              </a:lnSpc>
              <a:spcBef>
                <a:spcPts val="24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Интернет – зависимости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24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▪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е призна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ьютерной зависимости: «потеря контроля» над временем, проведенным за компьютером; утрата интереса к социальной жизни и внешнему виду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24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▪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призна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ьютерной зависимости: ухудшение опорно-двигательного аппарата; пищеварительной системы; зрения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572000" y="4803480"/>
            <a:ext cx="3585960" cy="20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534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2000"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актическая часть          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социального опроса (анкетирование)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ой целью вы используете Интернет?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AutoNum type="arabicPeriod" startAt="2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ое устройство используете при выходе в сеть Интернет?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AutoNum type="arabicPeriod" startAt="3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ова ваша потребность в Интернете?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AutoNum type="arabicPeriod" startAt="3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влияет Интернет на ваше общение с окружающими?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AutoNum type="arabicPeriod" startAt="3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читаете ли вы себя Интернет-зависимыми?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95640" y="764640"/>
            <a:ext cx="8280720" cy="48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7640" y="1052640"/>
            <a:ext cx="810216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565</TotalTime>
  <Application>LibreOffice/7.4.7.2$Linux_X86_64 LibreOffice_project/40$Build-2</Application>
  <AppVersion>15.0000</AppVersion>
  <Words>179</Words>
  <Paragraphs>34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5:41:03Z</dcterms:created>
  <dc:creator>Мама</dc:creator>
  <dc:description/>
  <dc:language>en-US</dc:language>
  <cp:lastModifiedBy>Пользователь</cp:lastModifiedBy>
  <dcterms:modified xsi:type="dcterms:W3CDTF">2023-04-06T17:20:19Z</dcterms:modified>
  <cp:revision>5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