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1A8-E900-4906-94A6-C7CEA790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BEB-0162-434B-9655-82DB599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C06-F174-479D-BDB9-66A975B5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C24-308D-4849-B00D-14DA1B01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0FA8-105C-4A51-A5A1-3C2C6C39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AB4D-0B8D-4BF6-AC0C-51EF4DF3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3E86-27BC-41F1-BFE3-13F5D05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C25-28DA-441F-B3A8-551EB69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9992-4420-414C-B869-98F67DE6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0C57-91CC-4ADC-B2E6-E1FFED30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481-FDC4-4372-A1B2-BECAE58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292-F72E-483B-9578-D8EF263F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E6DB-2550-42A3-A171-6401E5F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AAFA-183F-4051-8484-4F35D00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D399-3B27-4D99-AF2A-61B31B1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3444-941C-4947-903A-983820FB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F883-86BD-4E1A-B121-F8CD19C1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81C-2B98-4CFD-B236-D8B09C82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854-8769-47A8-8E34-A75AA84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970-F1A2-4545-B5B4-B4AF563B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89B-7FB8-4C0E-807B-0537960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67D-FC68-4B85-A5A7-232FA3FA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F0D-5252-48F6-83B7-FBCBE10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747-3AB8-4270-947E-12FC1E3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FFE4F3-3B96-4A6A-8558-132D3869D300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5EDBC-D303-4693-9A62-D6BE0EEF3AA5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Пользователь\Desktop\event_508af3e79c1be2d25eb54bcfb44cc7a48a706245_5925e5c360d81.jpg"/>
          <p:cNvPicPr/>
          <p:nvPr/>
        </p:nvPicPr>
        <p:blipFill>
          <a:blip r:embed="rId1"/>
          <a:stretch/>
        </p:blipFill>
        <p:spPr>
          <a:xfrm>
            <a:off x="179640" y="1747440"/>
            <a:ext cx="7920360" cy="4489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260640"/>
            <a:ext cx="734436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 fontScale="92000"/>
          </a:bodyPr>
          <a:p>
            <a:pPr indent="0" algn="r">
              <a:lnSpc>
                <a:spcPct val="115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зависимость – проблема современного обществ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200"/>
            </a:br>
            <a:r>
              <a:rPr b="1" lang="ru-RU" sz="1600" spc="-1" strike="noStrike">
                <a:solidFill>
                  <a:srgbClr val="ff9257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ru-RU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7640" y="1845000"/>
            <a:ext cx="6840360" cy="43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3420000" y="5591160"/>
            <a:ext cx="50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и: ученики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олкунов А., Костико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7640" y="980640"/>
            <a:ext cx="818784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95640" y="980640"/>
            <a:ext cx="8280720" cy="48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7640" y="1268640"/>
            <a:ext cx="8199720" cy="45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ru-RU" sz="8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</a:rPr>
              <a:t>за внимание!</a:t>
            </a:r>
            <a:endParaRPr b="0" lang="ru-RU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640" y="260640"/>
            <a:ext cx="7776360" cy="309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marL="182880"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 исследования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проблема Интернет-зависимости среди учащихся нашей школы </a:t>
            </a:r>
            <a:br>
              <a:rPr sz="2700"/>
            </a:br>
            <a:br>
              <a:rPr sz="3100"/>
            </a:b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7640" y="2565000"/>
            <a:ext cx="7560360" cy="36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 fontScale="95000"/>
          </a:bodyPr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ение литературы об Интернет-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виды и признаки проявления Интернет-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сти социологическое исследование на предрасположенность учащихся нашей школы Интернет – 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 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6640"/>
            <a:ext cx="8229240" cy="584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положить, что Интернет-зависимость проявляется в том, что люди утрачивают способность контролировать свое время в сети, предпочитая виртуальную жизнь реа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627640" y="2349000"/>
            <a:ext cx="5184360" cy="40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-зависимос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интернет -аддикция) —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язчивое стремление использовать Интернет и избыточное пользование им, проведение большого количества времени в Се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034520" y="3717000"/>
            <a:ext cx="37411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513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имберли Ян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одит 4 симптома Интернет-зависимости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язчивое желание проверить e-mail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ожидание следующего выхода в Интернет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окружающих на то, что человек проводит слишком много времени в Интернет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окружающих на то, что человек тратит слишком много денег на Интернет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 rot="399600">
            <a:off x="5851800" y="1086480"/>
            <a:ext cx="1892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Интернет – зависимости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призна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ьютерной зависимости: «потеря контроля» над временем, проведенным за компьютером; утрата интереса к социальной жизни и внешнему виду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призна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ьютерной зависимости: ухудшение опорно-двигательного аппарата; пищеварительной системы; зрения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572000" y="4803480"/>
            <a:ext cx="3585960" cy="20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актическая часть          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социального опроса (анкетирование)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ой целью вы используете Интернет?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2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ое устройство используете при выходе в сеть Интернет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3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ова ваша потребность в Интернете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3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влияет Интернет на ваше общение с окружающими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3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читаете ли вы себя Интернет-зависимыми?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95640" y="764640"/>
            <a:ext cx="8280720" cy="48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7640" y="1052640"/>
            <a:ext cx="810216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565</TotalTime>
  <Application>LibreOffice/7.4.7.2$Linux_X86_64 LibreOffice_project/40$Build-2</Application>
  <AppVersion>15.0000</AppVersion>
  <Words>179</Words>
  <Paragraphs>34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5:41:03Z</dcterms:created>
  <dc:creator>Мама</dc:creator>
  <dc:description/>
  <dc:language>en-US</dc:language>
  <cp:lastModifiedBy>Пользователь</cp:lastModifiedBy>
  <dcterms:modified xsi:type="dcterms:W3CDTF">2023-04-06T17:20:19Z</dcterms:modified>
  <cp:revision>5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