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11.jpeg" ContentType="image/jpeg"/>
  <Override PartName="/ppt/media/image41.jpeg" ContentType="image/jpeg"/>
  <Override PartName="/ppt/media/image13.gif" ContentType="image/gif"/>
  <Override PartName="/ppt/media/image16.png" ContentType="image/png"/>
  <Override PartName="/ppt/media/image3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wmf" ContentType="image/x-wmf"/>
  <Override PartName="/ppt/media/image9.wmf" ContentType="image/x-wmf"/>
  <Override PartName="/ppt/media/image35.wmf" ContentType="image/x-wmf"/>
  <Override PartName="/ppt/media/image3.jpeg" ContentType="image/jpeg"/>
  <Override PartName="/ppt/media/image24.jpeg" ContentType="image/jpeg"/>
  <Override PartName="/ppt/media/image36.png" ContentType="image/png"/>
  <Override PartName="/ppt/media/image4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5.png" ContentType="image/png"/>
  <Override PartName="/ppt/media/image14.png" ContentType="image/pn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FF66-8C36-46C8-B09D-1138E02D9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D94-9F5B-470E-9666-8734FEA93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D66F-5D11-4781-8064-DEFE97028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50F-CF70-4328-974E-E40EE5B9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9E8-0ED3-401A-A660-28CC8DF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774-380F-4C19-B68C-2EB3526F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DE9-1DB2-4E7E-A358-481E1D62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EAF-2FD6-408F-A996-EB309C06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914-AF5E-4005-8788-188C3D8F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19A-953E-4AA6-BC0C-58B69D3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295-8A46-41C0-B398-6E4CB1D0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6C7-9E9E-405E-818E-8C6604FF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F98-0D08-4369-B253-7CFE7A6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986-01C5-4F5A-A0E7-AA46CC2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922-AD4F-4FD8-B9C1-CB4021F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1D1-CD5D-4B40-A9D7-CE7D52DA5235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hyperlink" Target="http://ne-kurim.ru/glossary/tabak/" TargetMode="External"/><Relationship Id="rId5" Type="http://schemas.openxmlformats.org/officeDocument/2006/relationships/hyperlink" Target="http://zdor-rus.ucoz.ru/" TargetMode="External"/><Relationship Id="rId6" Type="http://schemas.openxmlformats.org/officeDocument/2006/relationships/hyperlink" Target="http://zdor-rus.ucoz.ru/" TargetMode="External"/><Relationship Id="rId7" Type="http://schemas.openxmlformats.org/officeDocument/2006/relationships/hyperlink" Target="http://zdor-rus.ucoz.ru/" TargetMode="External"/><Relationship Id="rId8" Type="http://schemas.openxmlformats.org/officeDocument/2006/relationships/hyperlink" Target="http://zdor-rus.ucoz.ru/" TargetMode="External"/><Relationship Id="rId9" Type="http://schemas.openxmlformats.org/officeDocument/2006/relationships/hyperlink" Target="http://zdor-rus.ucoz.ru/" TargetMode="External"/><Relationship Id="rId10" Type="http://schemas.openxmlformats.org/officeDocument/2006/relationships/hyperlink" Target="http://zdor-rus.ucoz.ru/" TargetMode="External"/><Relationship Id="rId11" Type="http://schemas.openxmlformats.org/officeDocument/2006/relationships/hyperlink" Target="http://zdor-rus.ucoz.ru/" TargetMode="External"/><Relationship Id="rId12" Type="http://schemas.openxmlformats.org/officeDocument/2006/relationships/hyperlink" Target="http://zdor-rus.ucoz.ru/blog/statistika_tabakokurenija/2011-01-12-4" TargetMode="External"/><Relationship Id="rId13" Type="http://schemas.openxmlformats.org/officeDocument/2006/relationships/hyperlink" Target="http://zdor-rus.ucoz.ru/blog/statistika_tabakokurenija/2011-01-12-4" TargetMode="External"/><Relationship Id="rId14" Type="http://schemas.openxmlformats.org/officeDocument/2006/relationships/hyperlink" Target="http://zdor-rus.ucoz.ru/blog/statistika_tabakokurenija/2011-01-12-4" TargetMode="External"/><Relationship Id="rId15" Type="http://schemas.openxmlformats.org/officeDocument/2006/relationships/hyperlink" Target="http://zdor-rus.ucoz.ru/blog/statistika_tabakokurenija/2011-01-12-4" TargetMode="External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hyperlink" Target="http://tv.km.ru/redirect.asp?event=E025C103-9F35-4A3D-B2C3-F1EB27362D62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>
            <a:hlinkClick r:id="rId1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ne-kurim.ru/upload/information_system_5/6/6/4/item_664/information_items_1186659256.jpg"/>
          <p:cNvPicPr/>
          <p:nvPr/>
        </p:nvPicPr>
        <p:blipFill>
          <a:blip r:embed="rId2"/>
          <a:stretch/>
        </p:blipFill>
        <p:spPr>
          <a:xfrm>
            <a:off x="7050240" y="3746520"/>
            <a:ext cx="1228680" cy="130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happydoctor.ru/img/41_2.jpg"/>
          <p:cNvPicPr/>
          <p:nvPr/>
        </p:nvPicPr>
        <p:blipFill>
          <a:blip r:embed="rId3"/>
          <a:stretch/>
        </p:blipFill>
        <p:spPr>
          <a:xfrm>
            <a:off x="3274920" y="3652920"/>
            <a:ext cx="2791080" cy="164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p1020960"/>
          <p:cNvPicPr/>
          <p:nvPr/>
        </p:nvPicPr>
        <p:blipFill>
          <a:blip r:embed="rId4"/>
          <a:stretch/>
        </p:blipFill>
        <p:spPr>
          <a:xfrm>
            <a:off x="608040" y="2917800"/>
            <a:ext cx="1684440" cy="2532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55" name="Прямоугольник 14" descr=""/>
          <p:cNvPicPr/>
          <p:nvPr/>
        </p:nvPicPr>
        <p:blipFill>
          <a:blip r:embed="rId5"/>
          <a:stretch/>
        </p:blipFill>
        <p:spPr>
          <a:xfrm>
            <a:off x="152280" y="701640"/>
            <a:ext cx="8667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193680" y="3860640"/>
            <a:ext cx="5748480" cy="29973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 курящих нередко «закладывает уши», никотин угнетает слуховой нер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345960" y="333360"/>
            <a:ext cx="3554640" cy="3616200"/>
          </a:xfrm>
          <a:prstGeom prst="rect">
            <a:avLst/>
          </a:prstGeom>
          <a:ln w="0">
            <a:noFill/>
          </a:ln>
        </p:spPr>
      </p:pic>
      <p:sp>
        <p:nvSpPr>
          <p:cNvPr id="170" name="Cloud"/>
          <p:cNvSpPr/>
          <p:nvPr/>
        </p:nvSpPr>
        <p:spPr>
          <a:xfrm>
            <a:off x="3740040" y="333360"/>
            <a:ext cx="5403960" cy="46083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Это ошибка!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Курильщик без привычной сигареты становится нервозным, рассеянным, легко отвлекается. Мысль у него одна: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«скорее бы затянуться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3"/>
          <p:cNvSpPr/>
          <p:nvPr/>
        </p:nvSpPr>
        <p:spPr>
          <a:xfrm>
            <a:off x="1380960" y="461880"/>
            <a:ext cx="63374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ТРЕ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«КУРИТЬ МОД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j0205365"/>
          <p:cNvPicPr/>
          <p:nvPr/>
        </p:nvPicPr>
        <p:blipFill>
          <a:blip r:embed="rId1"/>
          <a:stretch/>
        </p:blipFill>
        <p:spPr>
          <a:xfrm>
            <a:off x="4124160" y="4618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3133800" y="5006880"/>
            <a:ext cx="2876400" cy="13176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information_items_1189279082"/>
          <p:cNvPicPr/>
          <p:nvPr/>
        </p:nvPicPr>
        <p:blipFill>
          <a:blip r:embed="rId4"/>
          <a:stretch/>
        </p:blipFill>
        <p:spPr>
          <a:xfrm>
            <a:off x="204840" y="1903320"/>
            <a:ext cx="2351160" cy="277992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9" descr="вред курения для женщин"/>
          <p:cNvPicPr/>
          <p:nvPr/>
        </p:nvPicPr>
        <p:blipFill>
          <a:blip r:embed="rId5"/>
          <a:stretch/>
        </p:blipFill>
        <p:spPr>
          <a:xfrm>
            <a:off x="6262560" y="2019240"/>
            <a:ext cx="180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loud"/>
          <p:cNvSpPr/>
          <p:nvPr/>
        </p:nvSpPr>
        <p:spPr>
          <a:xfrm>
            <a:off x="-176040" y="2741760"/>
            <a:ext cx="4830480" cy="30844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ДНО ВЫГЛЯДЕТЬ СПОРТИВНЫМ, СТРОЙНЫМ И НЕ КУ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79280" y="237960"/>
            <a:ext cx="2737080" cy="27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6643800" y="276120"/>
            <a:ext cx="2239920" cy="2808360"/>
          </a:xfrm>
          <a:prstGeom prst="rect">
            <a:avLst/>
          </a:prstGeom>
          <a:ln w="0">
            <a:noFill/>
          </a:ln>
        </p:spPr>
      </p:pic>
      <p:sp>
        <p:nvSpPr>
          <p:cNvPr id="187" name="filecab3"/>
          <p:cNvSpPr/>
          <p:nvPr/>
        </p:nvSpPr>
        <p:spPr>
          <a:xfrm>
            <a:off x="3149640" y="277920"/>
            <a:ext cx="3166920" cy="266364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Известно, что, курильщики являются худшими работниками, чем некурящ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>
            <a:off x="3235320" y="2692440"/>
            <a:ext cx="5908680" cy="38336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екоторые зарубежные фирмы за одну и ту же работу курильщикам устанавливают заработную плату на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10 – 20% ниж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, чем некуря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4040" y="-3240"/>
            <a:ext cx="8582040" cy="685800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ЧЕТВЕРТ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Курение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МОГАЕТ СОСРЕДОТОЧИТЬСЯ И ЛУЧШЕ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БОТАТЬ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j0205365"/>
          <p:cNvPicPr/>
          <p:nvPr/>
        </p:nvPicPr>
        <p:blipFill>
          <a:blip r:embed="rId1"/>
          <a:stretch/>
        </p:blipFill>
        <p:spPr>
          <a:xfrm>
            <a:off x="4114800" y="18900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Konec"/>
          <p:cNvPicPr/>
          <p:nvPr/>
        </p:nvPicPr>
        <p:blipFill>
          <a:blip r:embed="rId3"/>
          <a:stretch/>
        </p:blipFill>
        <p:spPr>
          <a:xfrm>
            <a:off x="3892680" y="4622760"/>
            <a:ext cx="1803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7640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228600" y="2927520"/>
            <a:ext cx="2808360" cy="3592440"/>
          </a:xfrm>
          <a:prstGeom prst="rect">
            <a:avLst/>
          </a:prstGeom>
          <a:ln w="0">
            <a:noFill/>
          </a:ln>
        </p:spPr>
      </p:pic>
      <p:sp>
        <p:nvSpPr>
          <p:cNvPr id="202" name="Cloud"/>
          <p:cNvSpPr/>
          <p:nvPr/>
        </p:nvSpPr>
        <p:spPr>
          <a:xfrm>
            <a:off x="3036960" y="1052640"/>
            <a:ext cx="6107040" cy="53816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УРЕНИ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СУЖАЕТ СОСУДЫ ГОЛОВНОГО МОЗГА, УМЕНЬШАЕТСЯ ПОСТУПЛЕНИЕ КИСЛОРОДА И ПИТАТЕЛЬНЫХ ВЕЩЕСТВ.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МСТВЕННА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РАБОТОСПОСОБНОСТЬ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ilecab3"/>
          <p:cNvSpPr/>
          <p:nvPr/>
        </p:nvSpPr>
        <p:spPr>
          <a:xfrm>
            <a:off x="3203640" y="260280"/>
            <a:ext cx="5616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о тоже заблужд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ilecab3"/>
          <p:cNvSpPr/>
          <p:nvPr/>
        </p:nvSpPr>
        <p:spPr>
          <a:xfrm>
            <a:off x="15840" y="5380200"/>
            <a:ext cx="9144000" cy="12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a35"/>
                </a:solidFill>
                <a:latin typeface="Arial"/>
              </a:rPr>
              <a:t>Ощущение прилива сил и «просветления» в голове – обманчи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/>
          <p:cNvSpPr/>
          <p:nvPr/>
        </p:nvSpPr>
        <p:spPr>
          <a:xfrm>
            <a:off x="1303200" y="366840"/>
            <a:ext cx="6581880" cy="60195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ПЯТ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урение не так  вредно, как говоря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3049560" y="5002200"/>
            <a:ext cx="3087720" cy="12445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information_items_1186486667"/>
          <p:cNvPicPr/>
          <p:nvPr/>
        </p:nvPicPr>
        <p:blipFill>
          <a:blip r:embed="rId3"/>
          <a:stretch/>
        </p:blipFill>
        <p:spPr>
          <a:xfrm>
            <a:off x="2635200" y="311040"/>
            <a:ext cx="36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4321440" cy="2792520"/>
          </a:xfrm>
          <a:prstGeom prst="rect">
            <a:avLst/>
          </a:prstGeom>
          <a:ln w="0">
            <a:noFill/>
          </a:ln>
        </p:spPr>
      </p:pic>
      <p:sp>
        <p:nvSpPr>
          <p:cNvPr id="217" name="Cloud"/>
          <p:cNvSpPr/>
          <p:nvPr/>
        </p:nvSpPr>
        <p:spPr>
          <a:xfrm>
            <a:off x="3854520" y="1289160"/>
            <a:ext cx="5213160" cy="31874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Эксперты считают, что курение – одна из главных причин заболеваний и смертности среди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876240" y="3738600"/>
            <a:ext cx="11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7680" y="4376880"/>
            <a:ext cx="5943600" cy="2226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Курение – главный фактор риска заболевания лёгких и сердечно-сосудист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90% больных раком лёгких кур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GETWELL"/>
          <p:cNvPicPr/>
          <p:nvPr/>
        </p:nvPicPr>
        <p:blipFill>
          <a:blip r:embed="rId3"/>
          <a:stretch/>
        </p:blipFill>
        <p:spPr>
          <a:xfrm>
            <a:off x="6669000" y="4678200"/>
            <a:ext cx="22068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3"/>
          <p:cNvSpPr/>
          <p:nvPr/>
        </p:nvSpPr>
        <p:spPr>
          <a:xfrm>
            <a:off x="1249200" y="366840"/>
            <a:ext cx="6718320" cy="60195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ШЕСТ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Я всегда могу бросить кури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024360" y="4917960"/>
            <a:ext cx="3170160" cy="12798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n1"/>
          <p:cNvPicPr/>
          <p:nvPr/>
        </p:nvPicPr>
        <p:blipFill>
          <a:blip r:embed="rId3"/>
          <a:stretch/>
        </p:blipFill>
        <p:spPr>
          <a:xfrm>
            <a:off x="3486240" y="163440"/>
            <a:ext cx="2035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3120" y="316080"/>
            <a:ext cx="3529080" cy="3105000"/>
          </a:xfrm>
          <a:prstGeom prst="rect">
            <a:avLst/>
          </a:prstGeom>
          <a:ln w="0">
            <a:noFill/>
          </a:ln>
        </p:spPr>
      </p:pic>
      <p:sp>
        <p:nvSpPr>
          <p:cNvPr id="233" name="Cloud"/>
          <p:cNvSpPr/>
          <p:nvPr/>
        </p:nvSpPr>
        <p:spPr>
          <a:xfrm>
            <a:off x="3227400" y="701640"/>
            <a:ext cx="5737320" cy="350676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75% курящих через  5 лет убеждаются, что не могут бросить ку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303120" y="4940280"/>
            <a:ext cx="11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719360" y="4594320"/>
            <a:ext cx="533376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Большинство курильщиков БЕЗУСПЕШНО стараются БРОСИТЬ КУ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AMOBSTAC"/>
          <p:cNvPicPr/>
          <p:nvPr/>
        </p:nvPicPr>
        <p:blipFill>
          <a:blip r:embed="rId3"/>
          <a:stretch/>
        </p:blipFill>
        <p:spPr>
          <a:xfrm>
            <a:off x="7121520" y="4446720"/>
            <a:ext cx="163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3"/>
          <p:cNvSpPr/>
          <p:nvPr/>
        </p:nvSpPr>
        <p:spPr>
          <a:xfrm>
            <a:off x="785880" y="131760"/>
            <a:ext cx="751356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222a35"/>
                </a:solidFill>
                <a:latin typeface="Arial"/>
              </a:rPr>
              <a:t>                            седь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a35"/>
                </a:solidFill>
                <a:latin typeface="Arial"/>
              </a:rPr>
              <a:t>«Курение опасно только для того, кто кур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AMOBSCUR"/>
          <p:cNvPicPr/>
          <p:nvPr/>
        </p:nvPicPr>
        <p:blipFill>
          <a:blip r:embed="rId1"/>
          <a:stretch/>
        </p:blipFill>
        <p:spPr>
          <a:xfrm>
            <a:off x="239760" y="345960"/>
            <a:ext cx="2665440" cy="18385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9"/>
          <p:cNvSpPr txBox="1"/>
          <p:nvPr/>
        </p:nvSpPr>
        <p:spPr>
          <a:xfrm>
            <a:off x="687240" y="955800"/>
            <a:ext cx="171000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бачный д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317520" y="5295960"/>
            <a:ext cx="11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638360" y="5011560"/>
            <a:ext cx="7188120" cy="1191240"/>
          </a:xfrm>
          <a:prstGeom prst="rect">
            <a:avLst/>
          </a:prstGeom>
          <a:solidFill>
            <a:srgbClr val="f2f2f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a35"/>
                </a:solidFill>
                <a:latin typeface="Arial"/>
              </a:rPr>
              <a:t>Врачами установлено, что курение опасно не только для здоровья тех, кто курит, но и тех, кто, находясь рядом, вдыхает чужо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REJECT"/>
          <p:cNvPicPr/>
          <p:nvPr/>
        </p:nvPicPr>
        <p:blipFill>
          <a:blip r:embed="rId2"/>
          <a:stretch/>
        </p:blipFill>
        <p:spPr>
          <a:xfrm>
            <a:off x="7153200" y="1897200"/>
            <a:ext cx="18352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методический центр\для презентаций\фон для презентации\master04_background.png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90680" y="227160"/>
            <a:ext cx="433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5b9bd5"/>
                </a:solidFill>
                <a:latin typeface="Arial Black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AutoShape 4"/>
          <p:cNvSpPr/>
          <p:nvPr/>
        </p:nvSpPr>
        <p:spPr>
          <a:xfrm rot="5400000">
            <a:off x="-2422440" y="162648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be0ed"/>
              </a:gs>
              <a:gs pos="100000">
                <a:srgbClr val="b0ba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268360" y="5373720"/>
            <a:ext cx="61912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самая актуальная проблема в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учающихся средней школ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340000" y="4508640"/>
            <a:ext cx="6426000" cy="66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реди вредных привычек табакоку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нимает особое место (по масштабам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411280" y="3500280"/>
            <a:ext cx="6597720" cy="69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е решение важно дл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2268360" y="2565360"/>
            <a:ext cx="67564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кома и детям и взрос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547640" y="1341360"/>
            <a:ext cx="7363080" cy="936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абакокурение – одна из са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спространенных вред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1203480" y="1819440"/>
            <a:ext cx="380880" cy="380880"/>
            <a:chOff x="1203480" y="1819440"/>
            <a:chExt cx="380880" cy="380880"/>
          </a:xfrm>
        </p:grpSpPr>
        <p:sp>
          <p:nvSpPr>
            <p:cNvPr id="66" name="Oval 12"/>
            <p:cNvSpPr/>
            <p:nvPr/>
          </p:nvSpPr>
          <p:spPr>
            <a:xfrm>
              <a:off x="1203480" y="18194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1225080" y="18406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1244520" y="18604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5"/>
            <p:cNvSpPr/>
            <p:nvPr/>
          </p:nvSpPr>
          <p:spPr>
            <a:xfrm>
              <a:off x="1244880" y="18608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6"/>
            <p:cNvSpPr/>
            <p:nvPr/>
          </p:nvSpPr>
          <p:spPr>
            <a:xfrm>
              <a:off x="1263600" y="18795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1264320" y="18802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8"/>
          <p:cNvGrpSpPr/>
          <p:nvPr/>
        </p:nvGrpSpPr>
        <p:grpSpPr>
          <a:xfrm>
            <a:off x="1846440" y="2832120"/>
            <a:ext cx="380880" cy="380880"/>
            <a:chOff x="1846440" y="2832120"/>
            <a:chExt cx="380880" cy="380880"/>
          </a:xfrm>
        </p:grpSpPr>
        <p:sp>
          <p:nvSpPr>
            <p:cNvPr id="73" name="Oval 19"/>
            <p:cNvSpPr/>
            <p:nvPr/>
          </p:nvSpPr>
          <p:spPr>
            <a:xfrm>
              <a:off x="1846440" y="28321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1868040" y="2853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1887480" y="28731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1887840" y="2873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1906560" y="2892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1907280" y="2892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5"/>
          <p:cNvGrpSpPr/>
          <p:nvPr/>
        </p:nvGrpSpPr>
        <p:grpSpPr>
          <a:xfrm>
            <a:off x="2095560" y="3692520"/>
            <a:ext cx="380880" cy="380880"/>
            <a:chOff x="2095560" y="3692520"/>
            <a:chExt cx="380880" cy="380880"/>
          </a:xfrm>
        </p:grpSpPr>
        <p:sp>
          <p:nvSpPr>
            <p:cNvPr id="80" name="Oval 26"/>
            <p:cNvSpPr/>
            <p:nvPr/>
          </p:nvSpPr>
          <p:spPr>
            <a:xfrm>
              <a:off x="2095560" y="36925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7"/>
            <p:cNvSpPr/>
            <p:nvPr/>
          </p:nvSpPr>
          <p:spPr>
            <a:xfrm>
              <a:off x="2117160" y="37137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2136600" y="37335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2136960" y="37339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2155680" y="37526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1"/>
            <p:cNvSpPr/>
            <p:nvPr/>
          </p:nvSpPr>
          <p:spPr>
            <a:xfrm>
              <a:off x="2156400" y="37533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2"/>
          <p:cNvGrpSpPr/>
          <p:nvPr/>
        </p:nvGrpSpPr>
        <p:grpSpPr>
          <a:xfrm>
            <a:off x="2068560" y="4656240"/>
            <a:ext cx="380880" cy="380880"/>
            <a:chOff x="2068560" y="4656240"/>
            <a:chExt cx="380880" cy="380880"/>
          </a:xfrm>
        </p:grpSpPr>
        <p:sp>
          <p:nvSpPr>
            <p:cNvPr id="87" name="Oval 33"/>
            <p:cNvSpPr/>
            <p:nvPr/>
          </p:nvSpPr>
          <p:spPr>
            <a:xfrm>
              <a:off x="2068560" y="4656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4"/>
            <p:cNvSpPr/>
            <p:nvPr/>
          </p:nvSpPr>
          <p:spPr>
            <a:xfrm>
              <a:off x="2090160" y="4677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35"/>
            <p:cNvSpPr/>
            <p:nvPr/>
          </p:nvSpPr>
          <p:spPr>
            <a:xfrm>
              <a:off x="2109600" y="4697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6"/>
            <p:cNvSpPr/>
            <p:nvPr/>
          </p:nvSpPr>
          <p:spPr>
            <a:xfrm>
              <a:off x="2109960" y="4697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7"/>
            <p:cNvSpPr/>
            <p:nvPr/>
          </p:nvSpPr>
          <p:spPr>
            <a:xfrm>
              <a:off x="2128680" y="4716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8"/>
            <p:cNvSpPr/>
            <p:nvPr/>
          </p:nvSpPr>
          <p:spPr>
            <a:xfrm>
              <a:off x="2129400" y="4717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1835280" y="5516640"/>
            <a:ext cx="355320" cy="380880"/>
            <a:chOff x="1835280" y="5516640"/>
            <a:chExt cx="355320" cy="380880"/>
          </a:xfrm>
        </p:grpSpPr>
        <p:sp>
          <p:nvSpPr>
            <p:cNvPr id="94" name="Oval 40"/>
            <p:cNvSpPr/>
            <p:nvPr/>
          </p:nvSpPr>
          <p:spPr>
            <a:xfrm>
              <a:off x="1835280" y="5516640"/>
              <a:ext cx="35532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1"/>
            <p:cNvSpPr/>
            <p:nvPr/>
          </p:nvSpPr>
          <p:spPr>
            <a:xfrm>
              <a:off x="1855440" y="5537880"/>
              <a:ext cx="31464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2"/>
            <p:cNvSpPr/>
            <p:nvPr/>
          </p:nvSpPr>
          <p:spPr>
            <a:xfrm>
              <a:off x="1873080" y="5557680"/>
              <a:ext cx="27756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3"/>
            <p:cNvSpPr/>
            <p:nvPr/>
          </p:nvSpPr>
          <p:spPr>
            <a:xfrm>
              <a:off x="1873800" y="5558040"/>
              <a:ext cx="27756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4"/>
            <p:cNvSpPr/>
            <p:nvPr/>
          </p:nvSpPr>
          <p:spPr>
            <a:xfrm>
              <a:off x="1892520" y="5576760"/>
              <a:ext cx="24120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5"/>
            <p:cNvSpPr/>
            <p:nvPr/>
          </p:nvSpPr>
          <p:spPr>
            <a:xfrm>
              <a:off x="1892160" y="5577480"/>
              <a:ext cx="24120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47"/>
          <p:cNvSpPr/>
          <p:nvPr/>
        </p:nvSpPr>
        <p:spPr>
          <a:xfrm>
            <a:off x="3976560" y="285840"/>
            <a:ext cx="5167440" cy="76428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АБАКОКУ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9"/>
          <p:cNvGrpSpPr/>
          <p:nvPr/>
        </p:nvGrpSpPr>
        <p:grpSpPr>
          <a:xfrm>
            <a:off x="468360" y="6237360"/>
            <a:ext cx="355680" cy="380880"/>
            <a:chOff x="468360" y="6237360"/>
            <a:chExt cx="355680" cy="380880"/>
          </a:xfrm>
        </p:grpSpPr>
        <p:sp>
          <p:nvSpPr>
            <p:cNvPr id="102" name="Oval 40"/>
            <p:cNvSpPr/>
            <p:nvPr/>
          </p:nvSpPr>
          <p:spPr>
            <a:xfrm>
              <a:off x="468360" y="6237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1"/>
            <p:cNvSpPr/>
            <p:nvPr/>
          </p:nvSpPr>
          <p:spPr>
            <a:xfrm>
              <a:off x="488520" y="6258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2"/>
            <p:cNvSpPr/>
            <p:nvPr/>
          </p:nvSpPr>
          <p:spPr>
            <a:xfrm>
              <a:off x="506160" y="6278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63c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3"/>
            <p:cNvSpPr/>
            <p:nvPr/>
          </p:nvSpPr>
          <p:spPr>
            <a:xfrm>
              <a:off x="506880" y="6278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4"/>
            <p:cNvSpPr/>
            <p:nvPr/>
          </p:nvSpPr>
          <p:spPr>
            <a:xfrm>
              <a:off x="525600" y="6297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33668"/>
                </a:gs>
                <a:gs pos="50000">
                  <a:srgbClr val="0563c1"/>
                </a:gs>
                <a:gs pos="100000">
                  <a:srgbClr val="03366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5"/>
            <p:cNvSpPr/>
            <p:nvPr/>
          </p:nvSpPr>
          <p:spPr>
            <a:xfrm>
              <a:off x="525240" y="6298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6"/>
          <p:cNvSpPr/>
          <p:nvPr/>
        </p:nvSpPr>
        <p:spPr>
          <a:xfrm>
            <a:off x="826920" y="6188040"/>
            <a:ext cx="83170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прос: «Почему же так много людей куря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j0205365"/>
          <p:cNvPicPr/>
          <p:nvPr/>
        </p:nvPicPr>
        <p:blipFill>
          <a:blip r:embed="rId2"/>
          <a:stretch/>
        </p:blipFill>
        <p:spPr>
          <a:xfrm>
            <a:off x="58680" y="30002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>
            <a:hlinkClick r:id="rId1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previousslide"/>
          </p:cNvPr>
          <p:cNvSpPr/>
          <p:nvPr/>
        </p:nvSpPr>
        <p:spPr>
          <a:xfrm>
            <a:off x="810720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73120" y="5024520"/>
            <a:ext cx="22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Заголовок 3" descr=""/>
          <p:cNvPicPr/>
          <p:nvPr/>
        </p:nvPicPr>
        <p:blipFill>
          <a:blip r:embed="rId2"/>
          <a:stretch/>
        </p:blipFill>
        <p:spPr>
          <a:xfrm>
            <a:off x="378000" y="79200"/>
            <a:ext cx="7948440" cy="15735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1" descr="Статистика подросткового курения в России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919160" y="1047600"/>
            <a:ext cx="5486400" cy="2332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53" name="TextBox 12"/>
          <p:cNvSpPr/>
          <p:nvPr/>
        </p:nvSpPr>
        <p:spPr>
          <a:xfrm>
            <a:off x="154080" y="3379680"/>
            <a:ext cx="8682120" cy="3290760"/>
          </a:xfrm>
          <a:prstGeom prst="rect">
            <a:avLst/>
          </a:prstGeom>
          <a:solidFill>
            <a:srgbClr val="f2f2f2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данным Роспотребнадзора, среди молодежи 33% учащихся средних учебных заведений употребляет 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табак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ежедневно. В день они выкуривают в среднем 12 и 7 сигарет, юноши и девушки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реди молодёжи 14 -17 лет курение стало излюбленным времяпрепровождением. В этой возрастной категории есть уже заядлые курильщики с 5-летним стаж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а сегодняшний момент среди населения России, по данным национального исследования, курящих в возрасте от 15 до 19 лет среди юношей – 40%, среди девушек того же возраста – 7%. Но это только верхушка айсберга, сколько неизвестного скрывается под вод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Так, в старших классах курят 50% мальчиков и 40% дев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данным ВОЗ, в ряде стран население бросает курить. Так, в Великобритании число курящих за последние 10-15 лет сократилось примерно на 10 миллионов человек. Это означает, что каждый день курить бросает почти две тысячи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3300"/>
                </a:solidFill>
                <a:latin typeface="Arial"/>
              </a:rPr>
              <a:t>Информация Роспотребсоюза и ВОЗ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993300"/>
                </a:solidFill>
                <a:latin typeface="Arial"/>
              </a:rPr>
              <a:t>(сайт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zdor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-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rus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.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9"/>
              </a:rPr>
              <a:t>ucoz</a:t>
            </a:r>
            <a:r>
              <a:rPr b="0" i="1" lang="ru-RU" sz="1400" spc="-1" strike="noStrike" u="sng">
                <a:solidFill>
                  <a:srgbClr val="0563c1"/>
                </a:solidFill>
                <a:uFillTx/>
                <a:latin typeface="Arial"/>
                <a:hlinkClick r:id="rId10"/>
              </a:rPr>
              <a:t>.</a:t>
            </a:r>
            <a:r>
              <a:rPr b="0" i="1" lang="en-US" sz="1400" spc="-1" strike="noStrike" u="sng">
                <a:solidFill>
                  <a:srgbClr val="0563c1"/>
                </a:solidFill>
                <a:uFillTx/>
                <a:latin typeface="Arial"/>
                <a:hlinkClick r:id="rId11"/>
              </a:rPr>
              <a:t>ru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›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blog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13"/>
              </a:rPr>
              <a:t>…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4"/>
              </a:rPr>
              <a:t>tabakokurenija</a:t>
            </a:r>
            <a:r>
              <a:rPr b="0" lang="ru-RU" sz="1400" spc="-1" strike="noStrike" u="sng">
                <a:solidFill>
                  <a:srgbClr val="0563c1"/>
                </a:solidFill>
                <a:uFillTx/>
                <a:latin typeface="Arial"/>
                <a:hlinkClick r:id="rId15"/>
              </a:rPr>
              <a:t>/2011-01-12-4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rcRect l="0" t="5710" r="0" b="6684"/>
          <a:stretch/>
        </p:blipFill>
        <p:spPr>
          <a:xfrm>
            <a:off x="0" y="0"/>
            <a:ext cx="9217080" cy="6056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6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>
            <a:hlinkClick r:id="" action="ppaction://hlinkshowjump?jump=previousslide"/>
          </p:cNvPr>
          <p:cNvSpPr/>
          <p:nvPr/>
        </p:nvSpPr>
        <p:spPr>
          <a:xfrm>
            <a:off x="80866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266760" y="-31752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табачном дым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395280" y="907920"/>
            <a:ext cx="27432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ыше 4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редных для организма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84360" y="1341360"/>
            <a:ext cx="33480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1116000" y="1773360"/>
            <a:ext cx="367200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эфирные ма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1835280" y="1989000"/>
            <a:ext cx="367164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кись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2843280" y="2565360"/>
            <a:ext cx="367200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3759120" y="2997360"/>
            <a:ext cx="486900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4343400" y="351000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абачный дег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4751280" y="444672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лони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190440" y="2889360"/>
            <a:ext cx="4392720" cy="183816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вине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1919160" y="4065480"/>
            <a:ext cx="4537080" cy="189864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ышья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1030320" y="3662280"/>
            <a:ext cx="4392720" cy="18385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ер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водород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1235160" y="5132520"/>
            <a:ext cx="4703760" cy="1458720"/>
          </a:xfrm>
          <a:prstGeom prst="pie">
            <a:avLst/>
          </a:prstGeom>
          <a:solidFill>
            <a:srgbClr val="ecfc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формальдегид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2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155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155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115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115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15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155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115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155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155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15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15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15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15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115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15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15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15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15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155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155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115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15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155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115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155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155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115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115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155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155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115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115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155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155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15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155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moking-hazards-1"/>
          <p:cNvPicPr/>
          <p:nvPr/>
        </p:nvPicPr>
        <p:blipFill>
          <a:blip r:embed="rId1"/>
          <a:stretch/>
        </p:blipFill>
        <p:spPr>
          <a:xfrm>
            <a:off x="3995640" y="0"/>
            <a:ext cx="4929120" cy="39434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5"/>
          <p:cNvSpPr/>
          <p:nvPr/>
        </p:nvSpPr>
        <p:spPr>
          <a:xfrm>
            <a:off x="468360" y="2060640"/>
            <a:ext cx="4032360" cy="1511280"/>
          </a:xfrm>
          <a:prstGeom prst="rightArrow">
            <a:avLst>
              <a:gd name="adj1" fmla="val 50000"/>
              <a:gd name="adj2" fmla="val 66704"/>
            </a:avLst>
          </a:prstGeom>
          <a:solidFill>
            <a:srgbClr val="faa4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гки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cument"/>
          <p:cNvSpPr/>
          <p:nvPr/>
        </p:nvSpPr>
        <p:spPr>
          <a:xfrm>
            <a:off x="250920" y="3997440"/>
            <a:ext cx="8640720" cy="243036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80%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курящих страдают заболеваниями легких. У них легко развивается воспаление легких, увеличивается склонность к туберкул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 курящих подростков объем грудной клетки и развитие легких примерно 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отстают от показателей у некуря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250920" y="162000"/>
            <a:ext cx="4681440" cy="1008000"/>
          </a:xfrm>
          <a:prstGeom prst="wedgeRectCallout">
            <a:avLst>
              <a:gd name="adj1" fmla="val 93949"/>
              <a:gd name="adj2" fmla="val 1725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2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6045120" y="196920"/>
            <a:ext cx="2741760" cy="26431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5"/>
          <p:cNvSpPr/>
          <p:nvPr/>
        </p:nvSpPr>
        <p:spPr>
          <a:xfrm>
            <a:off x="395280" y="173160"/>
            <a:ext cx="4681440" cy="1699920"/>
          </a:xfrm>
          <a:prstGeom prst="wedgeRectCallout">
            <a:avLst>
              <a:gd name="adj1" fmla="val 27958"/>
              <a:gd name="adj2" fmla="val 1206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те это, деву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1562040" y="2963880"/>
            <a:ext cx="6048360" cy="37148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Курение женщины в любой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з периодов ее жизни опасно для потом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9"/>
          <p:cNvSpPr/>
          <p:nvPr/>
        </p:nvSpPr>
        <p:spPr>
          <a:xfrm>
            <a:off x="0" y="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Что такое «пассивное курение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672000" y="3317760"/>
            <a:ext cx="54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Установлено, что 2/3 дыма от сгоревшей сигареты попадает во внешнюю среду и загрязняет ее никотином, смолами и другими вредными веществами.                        Пребы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течении часа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в накуренном помещении равносильно «выкуриванию»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-х сига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9" descr="http://neky.ru/uploads/posts/2008-12/1228287597_neky.ru.jpg"/>
          <p:cNvPicPr/>
          <p:nvPr/>
        </p:nvPicPr>
        <p:blipFill>
          <a:blip r:embed="rId1"/>
          <a:stretch/>
        </p:blipFill>
        <p:spPr>
          <a:xfrm>
            <a:off x="252360" y="804960"/>
            <a:ext cx="3416400" cy="3485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obolon.info/images/articles/passivnoe-kyrenie-mojet-privesti-k-depre_1.jpg"/>
          <p:cNvPicPr/>
          <p:nvPr/>
        </p:nvPicPr>
        <p:blipFill>
          <a:blip r:embed="rId2"/>
          <a:stretch/>
        </p:blipFill>
        <p:spPr>
          <a:xfrm>
            <a:off x="4200480" y="246240"/>
            <a:ext cx="4943520" cy="37162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1"/>
          <p:cNvSpPr/>
          <p:nvPr/>
        </p:nvSpPr>
        <p:spPr>
          <a:xfrm>
            <a:off x="422280" y="4654440"/>
            <a:ext cx="3106800" cy="1800360"/>
          </a:xfrm>
          <a:prstGeom prst="rect">
            <a:avLst/>
          </a:prstGeom>
          <a:solidFill>
            <a:srgbClr val="fafafa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ассивный курильщик вдыхает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 % гадостей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826920" y="0"/>
            <a:ext cx="66978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Вредные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ривы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86400" y="4140360"/>
            <a:ext cx="254304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Text Box 7"/>
          <p:cNvSpPr/>
          <p:nvPr/>
        </p:nvSpPr>
        <p:spPr>
          <a:xfrm>
            <a:off x="528480" y="5591160"/>
            <a:ext cx="230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554800" y="583416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нар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3506760" y="4330800"/>
            <a:ext cx="1371600" cy="149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2811600" y="580248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алк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j0343747"/>
          <p:cNvPicPr/>
          <p:nvPr/>
        </p:nvPicPr>
        <p:blipFill>
          <a:blip r:embed="rId3"/>
          <a:stretch/>
        </p:blipFill>
        <p:spPr>
          <a:xfrm rot="2177400">
            <a:off x="217440" y="1387080"/>
            <a:ext cx="1285920" cy="1541520"/>
          </a:xfrm>
          <a:prstGeom prst="rect">
            <a:avLst/>
          </a:prstGeom>
          <a:ln w="0">
            <a:noFill/>
          </a:ln>
        </p:spPr>
      </p:pic>
      <p:sp>
        <p:nvSpPr>
          <p:cNvPr id="117" name="Document"/>
          <p:cNvSpPr/>
          <p:nvPr/>
        </p:nvSpPr>
        <p:spPr>
          <a:xfrm>
            <a:off x="1835280" y="765000"/>
            <a:ext cx="7057800" cy="316872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редным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следует считать те привычки, которые мешают или не дают возможности человеку в течении его жизни успешно реализовать себя как личность, как представителя данн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>
            <a:hlinkClick r:id="rId4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Российских курильщиков начинают штрафовать за курение в неположенных местах"/>
          <p:cNvPicPr/>
          <p:nvPr/>
        </p:nvPicPr>
        <p:blipFill>
          <a:blip r:embed="rId5"/>
          <a:stretch/>
        </p:blipFill>
        <p:spPr>
          <a:xfrm>
            <a:off x="173160" y="3814920"/>
            <a:ext cx="2663640" cy="173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ocument"/>
          <p:cNvSpPr/>
          <p:nvPr/>
        </p:nvSpPr>
        <p:spPr>
          <a:xfrm>
            <a:off x="1643040" y="77760"/>
            <a:ext cx="7380360" cy="280836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Курение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– привычная система действий, выражающая болезненное пристрастие человека к наркотическому веществу – </a:t>
            </a:r>
            <a:r>
              <a:rPr b="1" i="1" lang="ru-RU" sz="2800" spc="-1" strike="noStrike">
                <a:solidFill>
                  <a:srgbClr val="44546a"/>
                </a:solidFill>
                <a:latin typeface="Arial"/>
              </a:rPr>
              <a:t>никотину,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содержащемуся в таба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1660680" y="3016080"/>
            <a:ext cx="7381800" cy="3367080"/>
          </a:xfrm>
          <a:prstGeom prst="pie">
            <a:avLst/>
          </a:prstGeom>
          <a:solidFill>
            <a:srgbClr val="f2f2f2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Никотин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– желтоватая жидкость жгучего вкуса, растворимая в воде и жирах, хорошо всасывается слизистыми оболочками и даже кожей. </a:t>
            </a:r>
            <a:r>
              <a:rPr b="1" i="1" lang="ru-RU" sz="2800" spc="-1" strike="noStrike">
                <a:solidFill>
                  <a:srgbClr val="44546a"/>
                </a:solidFill>
                <a:latin typeface="Arial"/>
              </a:rPr>
              <a:t>Очень ядовит: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смертельная доза – 1мг/кг массы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0343747"/>
          <p:cNvPicPr/>
          <p:nvPr/>
        </p:nvPicPr>
        <p:blipFill>
          <a:blip r:embed="rId1"/>
          <a:stretch/>
        </p:blipFill>
        <p:spPr>
          <a:xfrm rot="2177400">
            <a:off x="92160" y="3604680"/>
            <a:ext cx="1285920" cy="15415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j0343747"/>
          <p:cNvPicPr/>
          <p:nvPr/>
        </p:nvPicPr>
        <p:blipFill>
          <a:blip r:embed="rId3"/>
          <a:stretch/>
        </p:blipFill>
        <p:spPr>
          <a:xfrm rot="2177400">
            <a:off x="103320" y="488520"/>
            <a:ext cx="12859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исунок1"/>
          <p:cNvPicPr/>
          <p:nvPr/>
        </p:nvPicPr>
        <p:blipFill>
          <a:blip r:embed="rId1"/>
          <a:stretch/>
        </p:blipFill>
        <p:spPr>
          <a:xfrm>
            <a:off x="130320" y="-27000"/>
            <a:ext cx="9013680" cy="676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820800" y="509760"/>
            <a:ext cx="35607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707000" y="673200"/>
            <a:ext cx="35481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лик погибает от 1/4 капли никот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ака - от 1/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ловека смертельная доза нико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 от 50 до 100 мг, или 2-3 кап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PICT0512"/>
          <p:cNvPicPr/>
          <p:nvPr/>
        </p:nvPicPr>
        <p:blipFill>
          <a:blip r:embed="rId2"/>
          <a:stretch/>
        </p:blipFill>
        <p:spPr>
          <a:xfrm>
            <a:off x="5946840" y="3549600"/>
            <a:ext cx="1330200" cy="27259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3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>
            <a:hlinkClick r:id="" action="ppaction://hlinkshowjump?jump=previousslide"/>
          </p:cNvPr>
          <p:cNvSpPr/>
          <p:nvPr/>
        </p:nvSpPr>
        <p:spPr>
          <a:xfrm>
            <a:off x="80755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Орел"/>
          <p:cNvPicPr/>
          <p:nvPr/>
        </p:nvPicPr>
        <p:blipFill>
          <a:blip r:embed="rId4"/>
          <a:stretch/>
        </p:blipFill>
        <p:spPr>
          <a:xfrm>
            <a:off x="1459080" y="3822840"/>
            <a:ext cx="243504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urvedRibbon3"/>
          <p:cNvSpPr/>
          <p:nvPr/>
        </p:nvSpPr>
        <p:spPr>
          <a:xfrm>
            <a:off x="179280" y="404640"/>
            <a:ext cx="8713800" cy="6453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ИФЫ О КУР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678040" y="2333520"/>
            <a:ext cx="3754440" cy="36194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kure_1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21040" y="423720"/>
            <a:ext cx="1428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7"/>
          <p:cNvSpPr/>
          <p:nvPr/>
        </p:nvSpPr>
        <p:spPr>
          <a:xfrm>
            <a:off x="1398600" y="477720"/>
            <a:ext cx="63374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ПЕРВ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«Большинство взрослых и подростков кур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j0205365"/>
          <p:cNvPicPr/>
          <p:nvPr/>
        </p:nvPicPr>
        <p:blipFill>
          <a:blip r:embed="rId1"/>
          <a:stretch/>
        </p:blipFill>
        <p:spPr>
          <a:xfrm>
            <a:off x="3817800" y="67320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5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50800" y="954000"/>
            <a:ext cx="3816360" cy="2381400"/>
          </a:xfrm>
          <a:prstGeom prst="rect">
            <a:avLst/>
          </a:prstGeom>
          <a:ln w="0">
            <a:noFill/>
          </a:ln>
        </p:spPr>
      </p:pic>
      <p:sp>
        <p:nvSpPr>
          <p:cNvPr id="153" name="Cloud"/>
          <p:cNvSpPr/>
          <p:nvPr/>
        </p:nvSpPr>
        <p:spPr>
          <a:xfrm>
            <a:off x="3994200" y="3135240"/>
            <a:ext cx="4983120" cy="33400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РЕДИ ПОДРОСТКОВ КУРИТ НЕ БОЛЕ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40% ЮНОШЕ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И НЕ БОЛЕ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7% ДЕВ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hair3"/>
          <p:cNvSpPr/>
          <p:nvPr/>
        </p:nvSpPr>
        <p:spPr>
          <a:xfrm>
            <a:off x="4140360" y="189000"/>
            <a:ext cx="4752720" cy="2735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Это неправда!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Большинство подростков и взрослых      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е кур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9"/>
          <p:cNvSpPr txBox="1"/>
          <p:nvPr/>
        </p:nvSpPr>
        <p:spPr>
          <a:xfrm>
            <a:off x="1185840" y="3490920"/>
            <a:ext cx="11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ак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Text Box 72"/>
          <p:cNvSpPr/>
          <p:nvPr/>
        </p:nvSpPr>
        <p:spPr>
          <a:xfrm>
            <a:off x="250920" y="4325760"/>
            <a:ext cx="32572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a35"/>
                </a:solidFill>
                <a:latin typeface="Arial"/>
              </a:rPr>
              <a:t>По статистике курит МЕНЬШИНСТВО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>
            <a:off x="1203480" y="414360"/>
            <a:ext cx="6737040" cy="601992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иф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                             В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Курение успокаивает нерв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205365"/>
          <p:cNvPicPr/>
          <p:nvPr/>
        </p:nvPicPr>
        <p:blipFill>
          <a:blip r:embed="rId1"/>
          <a:stretch/>
        </p:blipFill>
        <p:spPr>
          <a:xfrm>
            <a:off x="3959280" y="533880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>
            <a:hlinkClick r:id="" action="ppaction://hlinkshowjump?jump=previousslide"/>
          </p:cNvPr>
          <p:cNvSpPr/>
          <p:nvPr/>
        </p:nvSpPr>
        <p:spPr>
          <a:xfrm>
            <a:off x="77374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firstslide"/>
          </p:cNvPr>
          <p:cNvSpPr/>
          <p:nvPr/>
        </p:nvSpPr>
        <p:spPr>
          <a:xfrm>
            <a:off x="80978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>
            <a:hlinkClick r:id="rId2" action="ppaction://hlinksldjump"/>
          </p:cNvPr>
          <p:cNvSpPr/>
          <p:nvPr/>
        </p:nvSpPr>
        <p:spPr>
          <a:xfrm>
            <a:off x="8459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вред курения для подростокв"/>
          <p:cNvPicPr/>
          <p:nvPr/>
        </p:nvPicPr>
        <p:blipFill>
          <a:blip r:embed="rId3"/>
          <a:stretch/>
        </p:blipFill>
        <p:spPr>
          <a:xfrm>
            <a:off x="2924280" y="193680"/>
            <a:ext cx="3166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42:47Z</dcterms:created>
  <dc:creator>wlad</dc:creator>
  <dc:description/>
  <dc:language>en-US</dc:language>
  <cp:lastModifiedBy>User</cp:lastModifiedBy>
  <dcterms:modified xsi:type="dcterms:W3CDTF">2023-04-21T13:12:24Z</dcterms:modified>
  <cp:revision>1017</cp:revision>
  <dc:subject/>
  <dc:title>Слайд 1</dc:title>
</cp:coreProperties>
</file>