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B82-A4EE-4D8D-AFC3-6DD28493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37E-1263-48C7-9F79-CF1BB697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0A2-071A-4377-A2D9-93F74058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B77-4944-48FE-94B6-5B770509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D710-5DBB-4AFA-A3D6-47961EF3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1881-DC76-4EDD-934F-9357651F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B2EC-6705-4177-8E18-C5E93257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EB68-13E2-401B-B2FE-36962358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8EBF-34B4-485E-A282-C2EE8961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55DC-997F-4E1D-A419-8A4CA452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F1BD-D12D-47D8-8721-BFF98507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A41-5A1B-48E3-883D-4A87E4F9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A492-300B-458D-9577-76E72468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0ACF-89E2-4945-84F8-013C74BB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FA3C-5A37-4914-BBC3-7140615A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435B-5D0B-4875-A738-B69D8B48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BE06-0172-47C2-926B-EFD20DCF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D0B94-C433-40D5-B229-EEC3F893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9705-7056-44DA-BE44-BB69F43B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187E5-DE56-48ED-BAAC-5E3AB6AB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F75F-713E-4EFB-B8F1-81FC4737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670EB-E270-40D4-917B-28714EB6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151-0DEA-449C-896E-37B7D224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5022-EAB8-4232-8A33-4DD6BDCE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B972C-C43F-42E6-9621-3778D084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777BC-DC6E-44A1-BE8A-7B602E38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80A2-A980-4ABF-8DE4-2C35FAFB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40CD3-C6E0-4F81-AE54-3B247816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595A-EFB2-42C5-B484-B8808974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DDE9B-BADF-4165-8990-E8BBB1CF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6EF1C-BA3E-49A1-95D8-8FB5605E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CA02C-59A3-45BB-8272-CD82EBBB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71951-DE3C-4233-8A86-F65100C7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5D1-5BCE-46CB-ADC4-02BB9E73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2AF04-5AAF-46D4-8CC4-E8105283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0E2E8-E39D-472D-A113-6339C844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335FF-13D6-442E-A0B1-59C1B09C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C9872-039B-4FDF-8468-37F82082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49BF1-04F4-4E45-BC72-FD00D439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0690F-6D71-4FED-9A9F-D751B06F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5BB22-AC97-46BD-A42D-02AC25CE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EB8F3-E2A8-49C5-B263-26658BDD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83224-AFF1-44E8-9C71-94EC2ADE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763-381D-4A1D-9E62-84F3AA2D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BD8-3092-4227-AE8B-03E08EAF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CDD-D71B-4F61-9647-AB890D73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051-561D-4EA5-B661-533602FB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999-A0FF-423C-9A4F-17C7B3EA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020A-86A0-42EB-A09B-89D91B5D087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564F-A1E5-45AE-AFD8-029A7B0C806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5E8F-5EDC-4BAC-9575-3329B30390E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7357-BA8E-43F1-9094-440028BF617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9"/>
          <p:cNvSpPr/>
          <p:nvPr/>
        </p:nvSpPr>
        <p:spPr>
          <a:xfrm>
            <a:off x="468360" y="2800440"/>
            <a:ext cx="61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43"/>
          <p:cNvSpPr txBox="1"/>
          <p:nvPr/>
        </p:nvSpPr>
        <p:spPr>
          <a:xfrm>
            <a:off x="1187280" y="1704960"/>
            <a:ext cx="7272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2cee35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имволика</a:t>
            </a:r>
            <a:endParaRPr b="0" lang="en-US" sz="1800" spc="1" strike="noStrike">
              <a:ln w="19080">
                <a:solidFill>
                  <a:srgbClr val="2cee35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2cee35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наментов"</a:t>
            </a:r>
            <a:endParaRPr b="0" lang="en-US" sz="1800" spc="1" strike="noStrike">
              <a:ln w="19080">
                <a:solidFill>
                  <a:srgbClr val="2cee35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542880" y="493560"/>
            <a:ext cx="6778800" cy="1311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43000" y="2133360"/>
            <a:ext cx="6400800" cy="20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геометрическ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зооморфны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стительны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иродны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ультовы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249120" y="262080"/>
            <a:ext cx="7602480" cy="1060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2"/>
          <a:srcRect l="12850" t="0" r="11010" b="0"/>
          <a:stretch/>
        </p:blipFill>
        <p:spPr>
          <a:xfrm>
            <a:off x="326880" y="890640"/>
            <a:ext cx="2237040" cy="19130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7"/>
          <p:cNvSpPr/>
          <p:nvPr/>
        </p:nvSpPr>
        <p:spPr>
          <a:xfrm>
            <a:off x="2843280" y="1190520"/>
            <a:ext cx="497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андр – «алхан хээ» - молоточный орн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3"/>
          <a:srcRect l="9748" t="0" r="0" b="0"/>
          <a:stretch/>
        </p:blipFill>
        <p:spPr>
          <a:xfrm>
            <a:off x="2367000" y="1881360"/>
            <a:ext cx="2495520" cy="1844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4983480" y="2192400"/>
            <a:ext cx="366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 – это солнц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и орнаментов – покло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му Свети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4"/>
          <a:stretch/>
        </p:blipFill>
        <p:spPr>
          <a:xfrm>
            <a:off x="463680" y="3429000"/>
            <a:ext cx="1193760" cy="13921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1979640" y="36655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ь-Янь – символ единство и противоположности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2" descr=""/>
          <p:cNvPicPr/>
          <p:nvPr/>
        </p:nvPicPr>
        <p:blipFill>
          <a:blip r:embed="rId5"/>
          <a:stretch/>
        </p:blipFill>
        <p:spPr>
          <a:xfrm>
            <a:off x="250920" y="5013360"/>
            <a:ext cx="1619280" cy="11523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3"/>
          <p:cNvSpPr/>
          <p:nvPr/>
        </p:nvSpPr>
        <p:spPr>
          <a:xfrm>
            <a:off x="1979640" y="53211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зы – символ счастья, благополучия и долголе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1792440" y="208080"/>
            <a:ext cx="6516360" cy="5308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419640" cy="7905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3903840" y="1360440"/>
            <a:ext cx="37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говидный узор – «эбэр угал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1944720" cy="12189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2195640" y="25844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Шоу» - орнамент в виде круга. Это черепаший панцирь. Символ мудрости и в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3059280" cy="15843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9"/>
          <p:cNvSpPr/>
          <p:nvPr/>
        </p:nvSpPr>
        <p:spPr>
          <a:xfrm>
            <a:off x="3637440" y="4581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а изюбра – «Бугын толг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219240" y="171360"/>
            <a:ext cx="8528040" cy="955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177840" y="1197000"/>
            <a:ext cx="2376360" cy="1852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2627280" y="1413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ндуки с растите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нам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3"/>
          <a:stretch/>
        </p:blipFill>
        <p:spPr>
          <a:xfrm>
            <a:off x="5651640" y="1413000"/>
            <a:ext cx="2738160" cy="17920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971640" y="316080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0ca4"/>
                </a:solidFill>
                <a:latin typeface="Arial"/>
              </a:rPr>
              <a:t>4.Природные орнамен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4"/>
          <a:stretch/>
        </p:blipFill>
        <p:spPr>
          <a:xfrm>
            <a:off x="179280" y="3789360"/>
            <a:ext cx="4032360" cy="1152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9"/>
          <p:cNvSpPr/>
          <p:nvPr/>
        </p:nvSpPr>
        <p:spPr>
          <a:xfrm>
            <a:off x="4284720" y="3789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ка – пожелание духов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я и соверш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0" descr=""/>
          <p:cNvPicPr/>
          <p:nvPr/>
        </p:nvPicPr>
        <p:blipFill>
          <a:blip r:embed="rId5"/>
          <a:stretch/>
        </p:blipFill>
        <p:spPr>
          <a:xfrm>
            <a:off x="179280" y="5229360"/>
            <a:ext cx="3240360" cy="9363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2"/>
          <p:cNvSpPr/>
          <p:nvPr/>
        </p:nvSpPr>
        <p:spPr>
          <a:xfrm>
            <a:off x="3564000" y="5229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ные узоры – символ вечности на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4:29:28Z</dcterms:created>
  <dc:creator>alena</dc:creator>
  <dc:description/>
  <dc:language>en-US</dc:language>
  <cp:lastModifiedBy>Home</cp:lastModifiedBy>
  <dcterms:modified xsi:type="dcterms:W3CDTF">2020-02-17T10:14:08Z</dcterms:modified>
  <cp:revision>17</cp:revision>
  <dc:subject/>
  <dc:title>Слайд 1</dc:title>
</cp:coreProperties>
</file>