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677-9E83-4DBF-984A-CA3C71A7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0E5-1767-4F25-9F56-6A29CEAF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C49-97BD-4594-B4A3-98ACB627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5A1-1B5B-4935-8738-5486EACE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F617-F6D9-4DEA-A336-5943AC56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0B28-AFB9-4C1C-BCD8-244CBA6E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1BEB-9D26-456A-8387-22708FA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E7CB-ADA1-4D66-B044-6F1FFF0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7F0-C3B4-4051-B6C9-21B5FE9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38A9-F00B-41D2-85FD-97C1E41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2A22-9D45-41F9-A5FD-AF55C01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3F6-89B2-4645-B0ED-5C6929B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D5D3-900D-400F-A050-12F1DAC3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E320-4102-4674-8891-3677978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510-5D68-49E6-AA67-3BDE758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20F9-0BB2-49C2-98C0-2DFB3744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D4EC-1E47-417A-95D6-04E921E0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FA71-781E-48B0-94ED-7EAA6EA6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C012-9B26-43E0-BB53-78962BCF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303B-D962-4D4F-ACE8-F0B751E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7607-6156-44C2-ACFB-A9F2DE9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B9AD-797C-40C4-866F-E47F1236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799-6731-4391-8B8B-B142BE7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6807-A993-4BAE-BB38-E738CFE9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4B32-4B9A-4593-A575-26A230D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C254-5E50-4FAA-A96F-B6F8C9A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9202-EE07-4EAA-B988-E4FF2D4B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E2C2-25C5-4835-9012-7A0BC478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AE74-5575-4383-8680-78AD7B23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7827-3D7A-455F-AFAD-E8C53CF2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232D-90B9-43BB-8D15-42B2784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9253-B661-46DA-8FF6-D0F7A1B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D5A9-9A74-4D5E-84BF-A09EB09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5CF-41A3-42EA-9910-22D8B37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F2E4-BC89-4C28-9849-78ED289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CC68-B156-497E-B81A-9D08346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AF86D-8668-4F5B-B90D-56E96C8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8E04-9DE7-459A-A64D-4CFE012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A65D-21EB-4CB1-9158-D9B25E6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47E5-81E0-4FFD-BCC2-EC4B4CD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000B8-F3D2-4141-81FA-7C39047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1AB7-8D69-4B08-982C-3EB442EE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815E-FB5F-4F83-B0BA-0DE3D98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440-9DD3-4FC3-A355-C66DC91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B0C-8609-4917-98B1-3655BC70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4D8-DAEA-48F7-B759-96D582D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CDC-5AB1-4E76-B08F-97F43FB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E7F-3C92-4E71-A652-70B15E8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F24-34AD-4D06-BB0A-79AD36C6830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3183-AE8A-4129-9804-54C519884ED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7D7-0F5D-4215-A5B7-D508488D609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1DDF-0857-41E4-A85C-C14E2AFBAD6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9"/>
          <p:cNvSpPr/>
          <p:nvPr/>
        </p:nvSpPr>
        <p:spPr>
          <a:xfrm>
            <a:off x="468360" y="2800440"/>
            <a:ext cx="61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3"/>
          <p:cNvSpPr txBox="1"/>
          <p:nvPr/>
        </p:nvSpPr>
        <p:spPr>
          <a:xfrm>
            <a:off x="1187280" y="1704960"/>
            <a:ext cx="727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cee35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мволика</a:t>
            </a:r>
            <a:endParaRPr b="0" lang="en-US" sz="1800" spc="1" strike="noStrike">
              <a:ln w="19080">
                <a:solidFill>
                  <a:srgbClr val="2cee35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cee35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наментов"</a:t>
            </a:r>
            <a:endParaRPr b="0" lang="en-US" sz="1800" spc="1" strike="noStrike">
              <a:ln w="19080">
                <a:solidFill>
                  <a:srgbClr val="2cee35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42880" y="493560"/>
            <a:ext cx="6778800" cy="1311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43000" y="2133360"/>
            <a:ext cx="640080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еометрическ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ооморф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титель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род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ультов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7602480" cy="1060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rcRect l="12850" t="0" r="11010" b="0"/>
          <a:stretch/>
        </p:blipFill>
        <p:spPr>
          <a:xfrm>
            <a:off x="326880" y="890640"/>
            <a:ext cx="2237040" cy="1913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2843280" y="1190520"/>
            <a:ext cx="497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андр – «алхан хээ» - молоточный орн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3"/>
          <a:srcRect l="9748" t="0" r="0" b="0"/>
          <a:stretch/>
        </p:blipFill>
        <p:spPr>
          <a:xfrm>
            <a:off x="2367000" y="1881360"/>
            <a:ext cx="2495520" cy="1844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4983480" y="2192400"/>
            <a:ext cx="36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 – это солнц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и орнаментов – по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му Свет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4"/>
          <a:stretch/>
        </p:blipFill>
        <p:spPr>
          <a:xfrm>
            <a:off x="463680" y="3429000"/>
            <a:ext cx="1193760" cy="1392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1979640" y="36655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ь-Янь – символ единство и противоположности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5"/>
          <a:stretch/>
        </p:blipFill>
        <p:spPr>
          <a:xfrm>
            <a:off x="250920" y="5013360"/>
            <a:ext cx="1619280" cy="1152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3"/>
          <p:cNvSpPr/>
          <p:nvPr/>
        </p:nvSpPr>
        <p:spPr>
          <a:xfrm>
            <a:off x="1979640" y="53211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зы – символ счастья, благополучия и долг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792440" y="208080"/>
            <a:ext cx="6516360" cy="5308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419640" cy="790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903840" y="136044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говидный узор – «эбэр угал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944720" cy="12189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2195640" y="25844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оу» - орнамент в виде круга. Это черепаший панцирь. Символ мудрости и в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3059280" cy="1584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3637440" y="4581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изюбра – «Бугын толг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19240" y="171360"/>
            <a:ext cx="8528040" cy="95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77840" y="1197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2627280" y="1413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ндуки с расти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на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5651640" y="1413000"/>
            <a:ext cx="2738160" cy="1792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971640" y="316080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0ca4"/>
                </a:solidFill>
                <a:latin typeface="Arial"/>
              </a:rPr>
              <a:t>4.Природные орнам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>
            <a:off x="179280" y="3789360"/>
            <a:ext cx="4032360" cy="1152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4284720" y="378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ка – пожелание духов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и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5"/>
          <a:stretch/>
        </p:blipFill>
        <p:spPr>
          <a:xfrm>
            <a:off x="179280" y="5229360"/>
            <a:ext cx="3240360" cy="936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2"/>
          <p:cNvSpPr/>
          <p:nvPr/>
        </p:nvSpPr>
        <p:spPr>
          <a:xfrm>
            <a:off x="3564000" y="522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е узоры – символ вечности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9:28Z</dcterms:created>
  <dc:creator>alena</dc:creator>
  <dc:description/>
  <dc:language>en-US</dc:language>
  <cp:lastModifiedBy>Home</cp:lastModifiedBy>
  <dcterms:modified xsi:type="dcterms:W3CDTF">2020-02-17T10:14:08Z</dcterms:modified>
  <cp:revision>17</cp:revision>
  <dc:subject/>
  <dc:title>Слайд 1</dc:title>
</cp:coreProperties>
</file>