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rawing3.xml" ContentType="application/vnd.ms-office.drawingml.diagramDrawing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drawing2.xml" ContentType="application/vnd.ms-office.drawingml.diagramDrawing+xml"/>
  <Override PartName="/ppt/diagrams/data3.xml" ContentType="application/vnd.openxmlformats-officedocument.drawingml.diagramData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3">
  <dgm:title val=""/>
  <dgm:desc val=""/>
  <dgm:catLst>
    <dgm:cat type="colorful" pri="103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3"/>
      <a:schemeClr val="accent4"/>
    </dgm:fillClrLst>
    <dgm:linClrLst>
      <a:schemeClr val="accent3"/>
      <a:schemeClr val="accent4"/>
    </dgm:linClrLst>
    <dgm:effectClrLst/>
    <dgm:txLinClrLst/>
    <dgm:txFillClrLst/>
    <dgm:txEffectClrLst/>
  </dgm:styleLbl>
  <dgm:styleLbl name="ln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3">
        <a:alpha val="50000"/>
      </a:schemeClr>
      <a:schemeClr val="accent4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3">
        <a:tint val="50000"/>
      </a:schemeClr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3"/>
      <a:schemeClr val="accent4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B2C5EEB-87EF-4429-A8D5-64287D7C4FA9}" type="doc">
      <dgm:prSet loTypeId="urn:microsoft.com/office/officeart/2005/8/layout/hierarchy1" loCatId="hierarchy" qsTypeId="urn:microsoft.com/office/officeart/2005/8/quickstyle/simple1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C3D747FD-E1B9-4E3A-9ECD-3E8E84DF6A73}">
      <dgm:prSet phldrT="[Текст]" custT="1"/>
      <dgm:spPr/>
      <dgm:t>
        <a:bodyPr/>
        <a:lstStyle/>
        <a:p>
          <a:pPr algn="ctr"/>
          <a:r>
            <a:rPr lang="ru-RU" sz="2000" b="1" dirty="0" smtClean="0">
              <a:latin typeface="Times New Roman" pitchFamily="18" charset="0"/>
              <a:cs typeface="Times New Roman" pitchFamily="18" charset="0"/>
            </a:rPr>
            <a:t>Подготовка дошкольников к обучению грамоте</a:t>
          </a:r>
          <a:r>
            <a:rPr lang="ru-RU" sz="2000" dirty="0" smtClean="0">
              <a:latin typeface="Times New Roman" pitchFamily="18" charset="0"/>
              <a:cs typeface="Times New Roman" pitchFamily="18" charset="0"/>
            </a:rPr>
            <a:t>  </a:t>
          </a:r>
        </a:p>
        <a:p>
          <a:pPr algn="ctr"/>
          <a:r>
            <a:rPr lang="ru-RU" sz="2000" dirty="0" smtClean="0">
              <a:latin typeface="Times New Roman" pitchFamily="18" charset="0"/>
              <a:cs typeface="Times New Roman" pitchFamily="18" charset="0"/>
            </a:rPr>
            <a:t>построена на последовательном, поэтапном обучении детей:</a:t>
          </a:r>
          <a:endParaRPr lang="ru-RU" sz="2000" dirty="0">
            <a:latin typeface="Times New Roman" pitchFamily="18" charset="0"/>
            <a:cs typeface="Times New Roman" pitchFamily="18" charset="0"/>
          </a:endParaRPr>
        </a:p>
      </dgm:t>
    </dgm:pt>
    <dgm:pt modelId="{C29708EC-6588-4BD5-986E-98E873F59208}" type="parTrans" cxnId="{D95A4781-217F-41D3-BAD9-81C58A5B4DE9}">
      <dgm:prSet/>
      <dgm:spPr/>
      <dgm:t>
        <a:bodyPr/>
        <a:lstStyle/>
        <a:p>
          <a:endParaRPr lang="ru-RU"/>
        </a:p>
      </dgm:t>
    </dgm:pt>
    <dgm:pt modelId="{F20832C0-BAF7-4A9A-900B-65B43B7579C3}" type="sibTrans" cxnId="{D95A4781-217F-41D3-BAD9-81C58A5B4DE9}">
      <dgm:prSet/>
      <dgm:spPr/>
      <dgm:t>
        <a:bodyPr/>
        <a:lstStyle/>
        <a:p>
          <a:endParaRPr lang="ru-RU"/>
        </a:p>
      </dgm:t>
    </dgm:pt>
    <dgm:pt modelId="{DDA1FA01-B0B9-49AD-88A5-61D47CBCAE17}">
      <dgm:prSet phldrT="[Текст]" custT="1"/>
      <dgm:spPr/>
      <dgm:t>
        <a:bodyPr/>
        <a:lstStyle/>
        <a:p>
          <a:r>
            <a:rPr lang="ru-RU" sz="2000" b="1" dirty="0" smtClean="0">
              <a:latin typeface="Times New Roman" pitchFamily="18" charset="0"/>
              <a:cs typeface="Times New Roman" pitchFamily="18" charset="0"/>
            </a:rPr>
            <a:t>чтению</a:t>
          </a:r>
          <a:endParaRPr lang="ru-RU" sz="2000" b="1" dirty="0">
            <a:latin typeface="Times New Roman" pitchFamily="18" charset="0"/>
            <a:cs typeface="Times New Roman" pitchFamily="18" charset="0"/>
          </a:endParaRPr>
        </a:p>
      </dgm:t>
    </dgm:pt>
    <dgm:pt modelId="{E095C666-2F91-4A60-BD0C-C19188561462}" type="parTrans" cxnId="{D089D813-61E0-42FC-B35B-F7CAA33B819F}">
      <dgm:prSet/>
      <dgm:spPr/>
      <dgm:t>
        <a:bodyPr/>
        <a:lstStyle/>
        <a:p>
          <a:endParaRPr lang="ru-RU"/>
        </a:p>
      </dgm:t>
    </dgm:pt>
    <dgm:pt modelId="{21838F12-095E-4421-B83E-80A03CB582AB}" type="sibTrans" cxnId="{D089D813-61E0-42FC-B35B-F7CAA33B819F}">
      <dgm:prSet/>
      <dgm:spPr/>
      <dgm:t>
        <a:bodyPr/>
        <a:lstStyle/>
        <a:p>
          <a:endParaRPr lang="ru-RU"/>
        </a:p>
      </dgm:t>
    </dgm:pt>
    <dgm:pt modelId="{15238002-0939-4145-9511-AFAD55DECEE4}">
      <dgm:prSet/>
      <dgm:spPr/>
      <dgm:t>
        <a:bodyPr/>
        <a:lstStyle/>
        <a:p>
          <a:r>
            <a:rPr lang="ru-RU" b="1" smtClean="0">
              <a:latin typeface="Times New Roman" pitchFamily="18" charset="0"/>
              <a:cs typeface="Times New Roman" pitchFamily="18" charset="0"/>
            </a:rPr>
            <a:t>звуковому</a:t>
          </a:r>
        </a:p>
        <a:p>
          <a:r>
            <a:rPr lang="ru-RU" b="1" smtClean="0">
              <a:latin typeface="Times New Roman" pitchFamily="18" charset="0"/>
              <a:cs typeface="Times New Roman" pitchFamily="18" charset="0"/>
            </a:rPr>
            <a:t>и </a:t>
          </a:r>
        </a:p>
        <a:p>
          <a:r>
            <a:rPr lang="ru-RU" b="1" smtClean="0">
              <a:latin typeface="Times New Roman" pitchFamily="18" charset="0"/>
              <a:cs typeface="Times New Roman" pitchFamily="18" charset="0"/>
            </a:rPr>
            <a:t>звуко - буквенному анализу</a:t>
          </a:r>
          <a:endParaRPr lang="ru-RU" b="1" dirty="0" smtClean="0">
            <a:latin typeface="Times New Roman" pitchFamily="18" charset="0"/>
            <a:cs typeface="Times New Roman" pitchFamily="18" charset="0"/>
          </a:endParaRPr>
        </a:p>
      </dgm:t>
    </dgm:pt>
    <dgm:pt modelId="{DB08FE46-41C8-4D42-B550-713E3FBE91E1}" type="parTrans" cxnId="{7B03EB6A-D0FD-4924-B9AC-9886B7034741}">
      <dgm:prSet/>
      <dgm:spPr/>
      <dgm:t>
        <a:bodyPr/>
        <a:lstStyle/>
        <a:p>
          <a:endParaRPr lang="ru-RU"/>
        </a:p>
      </dgm:t>
    </dgm:pt>
    <dgm:pt modelId="{60B80432-4489-46D6-8518-4978CDAAE625}" type="sibTrans" cxnId="{7B03EB6A-D0FD-4924-B9AC-9886B7034741}">
      <dgm:prSet/>
      <dgm:spPr/>
      <dgm:t>
        <a:bodyPr/>
        <a:lstStyle/>
        <a:p>
          <a:endParaRPr lang="ru-RU"/>
        </a:p>
      </dgm:t>
    </dgm:pt>
    <dgm:pt modelId="{2DEE1C6C-99A5-43E3-B146-41066DA669B0}">
      <dgm:prSet/>
      <dgm:spPr/>
      <dgm:t>
        <a:bodyPr/>
        <a:lstStyle/>
        <a:p>
          <a:r>
            <a:rPr lang="ru-RU" b="1" dirty="0" smtClean="0">
              <a:latin typeface="Times New Roman" pitchFamily="18" charset="0"/>
              <a:cs typeface="Times New Roman" pitchFamily="18" charset="0"/>
            </a:rPr>
            <a:t>подготовке руки ребенка к письму</a:t>
          </a:r>
          <a:endParaRPr lang="ru-RU" b="1" dirty="0"/>
        </a:p>
      </dgm:t>
    </dgm:pt>
    <dgm:pt modelId="{A86E41F8-2BF7-4954-B05B-41596E6572D8}" type="parTrans" cxnId="{97406117-12C1-4CEA-8CA9-051098A6B726}">
      <dgm:prSet/>
      <dgm:spPr/>
      <dgm:t>
        <a:bodyPr/>
        <a:lstStyle/>
        <a:p>
          <a:endParaRPr lang="ru-RU"/>
        </a:p>
      </dgm:t>
    </dgm:pt>
    <dgm:pt modelId="{C6EAEB43-450A-4BB1-816E-8F4670235C03}" type="sibTrans" cxnId="{97406117-12C1-4CEA-8CA9-051098A6B726}">
      <dgm:prSet/>
      <dgm:spPr/>
      <dgm:t>
        <a:bodyPr/>
        <a:lstStyle/>
        <a:p>
          <a:endParaRPr lang="ru-RU"/>
        </a:p>
      </dgm:t>
    </dgm:pt>
    <dgm:pt modelId="{B0B1C154-A87F-45CF-AE44-B45492FD6B7F}" type="pres">
      <dgm:prSet presAssocID="{9B2C5EEB-87EF-4429-A8D5-64287D7C4FA9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B7522669-DBB1-43EA-8993-AF32F41216B2}" type="pres">
      <dgm:prSet presAssocID="{C3D747FD-E1B9-4E3A-9ECD-3E8E84DF6A73}" presName="hierRoot1" presStyleCnt="0"/>
      <dgm:spPr/>
    </dgm:pt>
    <dgm:pt modelId="{D89D212A-D013-478D-AA34-3889A2402882}" type="pres">
      <dgm:prSet presAssocID="{C3D747FD-E1B9-4E3A-9ECD-3E8E84DF6A73}" presName="composite" presStyleCnt="0"/>
      <dgm:spPr/>
    </dgm:pt>
    <dgm:pt modelId="{F92D9AEE-D799-4D62-B3D9-CEE962E9D7D8}" type="pres">
      <dgm:prSet presAssocID="{C3D747FD-E1B9-4E3A-9ECD-3E8E84DF6A73}" presName="background" presStyleLbl="node0" presStyleIdx="0" presStyleCnt="1"/>
      <dgm:spPr/>
    </dgm:pt>
    <dgm:pt modelId="{CF4A987E-8C19-4C5F-97E8-3A2C913ABA30}" type="pres">
      <dgm:prSet presAssocID="{C3D747FD-E1B9-4E3A-9ECD-3E8E84DF6A73}" presName="text" presStyleLbl="fgAcc0" presStyleIdx="0" presStyleCnt="1" custScaleX="167901" custLinFactNeighborX="1235" custLinFactNeighborY="-26756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DFC204FA-8CB8-4771-A690-B5C5BD4CBE7D}" type="pres">
      <dgm:prSet presAssocID="{C3D747FD-E1B9-4E3A-9ECD-3E8E84DF6A73}" presName="hierChild2" presStyleCnt="0"/>
      <dgm:spPr/>
    </dgm:pt>
    <dgm:pt modelId="{97DD151F-B19B-4CBD-BC98-A3C1970F70FE}" type="pres">
      <dgm:prSet presAssocID="{DB08FE46-41C8-4D42-B550-713E3FBE91E1}" presName="Name10" presStyleLbl="parChTrans1D2" presStyleIdx="0" presStyleCnt="3"/>
      <dgm:spPr/>
      <dgm:t>
        <a:bodyPr/>
        <a:lstStyle/>
        <a:p>
          <a:endParaRPr lang="ru-RU"/>
        </a:p>
      </dgm:t>
    </dgm:pt>
    <dgm:pt modelId="{A9FD59C3-A62A-494F-A12B-7709CAFDB0B1}" type="pres">
      <dgm:prSet presAssocID="{15238002-0939-4145-9511-AFAD55DECEE4}" presName="hierRoot2" presStyleCnt="0"/>
      <dgm:spPr/>
    </dgm:pt>
    <dgm:pt modelId="{DABD45D6-1AF5-409A-8D23-4DDB28FFD4F6}" type="pres">
      <dgm:prSet presAssocID="{15238002-0939-4145-9511-AFAD55DECEE4}" presName="composite2" presStyleCnt="0"/>
      <dgm:spPr/>
    </dgm:pt>
    <dgm:pt modelId="{22123F64-90A7-4B09-852D-68903D3ADE73}" type="pres">
      <dgm:prSet presAssocID="{15238002-0939-4145-9511-AFAD55DECEE4}" presName="background2" presStyleLbl="node2" presStyleIdx="0" presStyleCnt="3"/>
      <dgm:spPr/>
    </dgm:pt>
    <dgm:pt modelId="{3E70E313-0D61-4D32-8B46-A51101DF5BFA}" type="pres">
      <dgm:prSet presAssocID="{15238002-0939-4145-9511-AFAD55DECEE4}" presName="text2" presStyleLbl="fgAcc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7B518FCD-8B44-4793-8E2A-B790A437A2B7}" type="pres">
      <dgm:prSet presAssocID="{15238002-0939-4145-9511-AFAD55DECEE4}" presName="hierChild3" presStyleCnt="0"/>
      <dgm:spPr/>
    </dgm:pt>
    <dgm:pt modelId="{9B758DF5-D4F3-4C27-AB62-91E89D753A72}" type="pres">
      <dgm:prSet presAssocID="{E095C666-2F91-4A60-BD0C-C19188561462}" presName="Name10" presStyleLbl="parChTrans1D2" presStyleIdx="1" presStyleCnt="3"/>
      <dgm:spPr/>
      <dgm:t>
        <a:bodyPr/>
        <a:lstStyle/>
        <a:p>
          <a:endParaRPr lang="ru-RU"/>
        </a:p>
      </dgm:t>
    </dgm:pt>
    <dgm:pt modelId="{0CB72C0B-4E19-4FD3-8564-F4A9242F6E28}" type="pres">
      <dgm:prSet presAssocID="{DDA1FA01-B0B9-49AD-88A5-61D47CBCAE17}" presName="hierRoot2" presStyleCnt="0"/>
      <dgm:spPr/>
    </dgm:pt>
    <dgm:pt modelId="{0E630550-CCF8-4CAC-BEA0-29421D7486B8}" type="pres">
      <dgm:prSet presAssocID="{DDA1FA01-B0B9-49AD-88A5-61D47CBCAE17}" presName="composite2" presStyleCnt="0"/>
      <dgm:spPr/>
    </dgm:pt>
    <dgm:pt modelId="{E2C805E6-B84E-4FE2-ACA7-92230522F5E9}" type="pres">
      <dgm:prSet presAssocID="{DDA1FA01-B0B9-49AD-88A5-61D47CBCAE17}" presName="background2" presStyleLbl="node2" presStyleIdx="1" presStyleCnt="3"/>
      <dgm:spPr/>
    </dgm:pt>
    <dgm:pt modelId="{57EFD91D-9461-4041-8960-07E4BBCABB9B}" type="pres">
      <dgm:prSet presAssocID="{DDA1FA01-B0B9-49AD-88A5-61D47CBCAE17}" presName="text2" presStyleLbl="fgAcc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9CCA949B-753F-4478-A414-0E423482C230}" type="pres">
      <dgm:prSet presAssocID="{DDA1FA01-B0B9-49AD-88A5-61D47CBCAE17}" presName="hierChild3" presStyleCnt="0"/>
      <dgm:spPr/>
    </dgm:pt>
    <dgm:pt modelId="{F1A6D11D-541F-481F-81E3-2BB13F1F1308}" type="pres">
      <dgm:prSet presAssocID="{A86E41F8-2BF7-4954-B05B-41596E6572D8}" presName="Name10" presStyleLbl="parChTrans1D2" presStyleIdx="2" presStyleCnt="3"/>
      <dgm:spPr/>
      <dgm:t>
        <a:bodyPr/>
        <a:lstStyle/>
        <a:p>
          <a:endParaRPr lang="ru-RU"/>
        </a:p>
      </dgm:t>
    </dgm:pt>
    <dgm:pt modelId="{3A666B13-E11D-4E89-93C1-FF3492DF4E58}" type="pres">
      <dgm:prSet presAssocID="{2DEE1C6C-99A5-43E3-B146-41066DA669B0}" presName="hierRoot2" presStyleCnt="0"/>
      <dgm:spPr/>
    </dgm:pt>
    <dgm:pt modelId="{DEEE48FA-F118-4ED2-B1F2-45F7A5408854}" type="pres">
      <dgm:prSet presAssocID="{2DEE1C6C-99A5-43E3-B146-41066DA669B0}" presName="composite2" presStyleCnt="0"/>
      <dgm:spPr/>
    </dgm:pt>
    <dgm:pt modelId="{AD16FF61-EB4E-44C4-B870-8DC46186CE7E}" type="pres">
      <dgm:prSet presAssocID="{2DEE1C6C-99A5-43E3-B146-41066DA669B0}" presName="background2" presStyleLbl="node2" presStyleIdx="2" presStyleCnt="3"/>
      <dgm:spPr/>
    </dgm:pt>
    <dgm:pt modelId="{8BB521C9-DB88-402C-9079-B5009A415BED}" type="pres">
      <dgm:prSet presAssocID="{2DEE1C6C-99A5-43E3-B146-41066DA669B0}" presName="text2" presStyleLbl="fgAcc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9C63CF6A-5834-43FD-9689-CCD5D4C44C34}" type="pres">
      <dgm:prSet presAssocID="{2DEE1C6C-99A5-43E3-B146-41066DA669B0}" presName="hierChild3" presStyleCnt="0"/>
      <dgm:spPr/>
    </dgm:pt>
  </dgm:ptLst>
  <dgm:cxnLst>
    <dgm:cxn modelId="{68842F7B-B0B5-48BC-B0D1-2E19C9405C13}" type="presOf" srcId="{15238002-0939-4145-9511-AFAD55DECEE4}" destId="{3E70E313-0D61-4D32-8B46-A51101DF5BFA}" srcOrd="0" destOrd="0" presId="urn:microsoft.com/office/officeart/2005/8/layout/hierarchy1"/>
    <dgm:cxn modelId="{D59E692B-A31E-4AF9-A0A4-E80211894EC2}" type="presOf" srcId="{A86E41F8-2BF7-4954-B05B-41596E6572D8}" destId="{F1A6D11D-541F-481F-81E3-2BB13F1F1308}" srcOrd="0" destOrd="0" presId="urn:microsoft.com/office/officeart/2005/8/layout/hierarchy1"/>
    <dgm:cxn modelId="{A82E150B-FDE9-4553-8430-94D0075A617F}" type="presOf" srcId="{DDA1FA01-B0B9-49AD-88A5-61D47CBCAE17}" destId="{57EFD91D-9461-4041-8960-07E4BBCABB9B}" srcOrd="0" destOrd="0" presId="urn:microsoft.com/office/officeart/2005/8/layout/hierarchy1"/>
    <dgm:cxn modelId="{7B03EB6A-D0FD-4924-B9AC-9886B7034741}" srcId="{C3D747FD-E1B9-4E3A-9ECD-3E8E84DF6A73}" destId="{15238002-0939-4145-9511-AFAD55DECEE4}" srcOrd="0" destOrd="0" parTransId="{DB08FE46-41C8-4D42-B550-713E3FBE91E1}" sibTransId="{60B80432-4489-46D6-8518-4978CDAAE625}"/>
    <dgm:cxn modelId="{97406117-12C1-4CEA-8CA9-051098A6B726}" srcId="{C3D747FD-E1B9-4E3A-9ECD-3E8E84DF6A73}" destId="{2DEE1C6C-99A5-43E3-B146-41066DA669B0}" srcOrd="2" destOrd="0" parTransId="{A86E41F8-2BF7-4954-B05B-41596E6572D8}" sibTransId="{C6EAEB43-450A-4BB1-816E-8F4670235C03}"/>
    <dgm:cxn modelId="{96E1F0E1-48A9-456D-988D-A80644CD3879}" type="presOf" srcId="{9B2C5EEB-87EF-4429-A8D5-64287D7C4FA9}" destId="{B0B1C154-A87F-45CF-AE44-B45492FD6B7F}" srcOrd="0" destOrd="0" presId="urn:microsoft.com/office/officeart/2005/8/layout/hierarchy1"/>
    <dgm:cxn modelId="{21B2DFA2-7055-4687-BA66-78F6A8FEDA49}" type="presOf" srcId="{C3D747FD-E1B9-4E3A-9ECD-3E8E84DF6A73}" destId="{CF4A987E-8C19-4C5F-97E8-3A2C913ABA30}" srcOrd="0" destOrd="0" presId="urn:microsoft.com/office/officeart/2005/8/layout/hierarchy1"/>
    <dgm:cxn modelId="{D089D813-61E0-42FC-B35B-F7CAA33B819F}" srcId="{C3D747FD-E1B9-4E3A-9ECD-3E8E84DF6A73}" destId="{DDA1FA01-B0B9-49AD-88A5-61D47CBCAE17}" srcOrd="1" destOrd="0" parTransId="{E095C666-2F91-4A60-BD0C-C19188561462}" sibTransId="{21838F12-095E-4421-B83E-80A03CB582AB}"/>
    <dgm:cxn modelId="{EE02BE3B-2183-4F56-A0E2-E21A1FE10274}" type="presOf" srcId="{2DEE1C6C-99A5-43E3-B146-41066DA669B0}" destId="{8BB521C9-DB88-402C-9079-B5009A415BED}" srcOrd="0" destOrd="0" presId="urn:microsoft.com/office/officeart/2005/8/layout/hierarchy1"/>
    <dgm:cxn modelId="{0B69DD5D-2509-4C31-BE0D-B5AF3EF97995}" type="presOf" srcId="{E095C666-2F91-4A60-BD0C-C19188561462}" destId="{9B758DF5-D4F3-4C27-AB62-91E89D753A72}" srcOrd="0" destOrd="0" presId="urn:microsoft.com/office/officeart/2005/8/layout/hierarchy1"/>
    <dgm:cxn modelId="{D95A4781-217F-41D3-BAD9-81C58A5B4DE9}" srcId="{9B2C5EEB-87EF-4429-A8D5-64287D7C4FA9}" destId="{C3D747FD-E1B9-4E3A-9ECD-3E8E84DF6A73}" srcOrd="0" destOrd="0" parTransId="{C29708EC-6588-4BD5-986E-98E873F59208}" sibTransId="{F20832C0-BAF7-4A9A-900B-65B43B7579C3}"/>
    <dgm:cxn modelId="{D6F6F286-C65E-40AC-93DA-56639D1D7BF7}" type="presOf" srcId="{DB08FE46-41C8-4D42-B550-713E3FBE91E1}" destId="{97DD151F-B19B-4CBD-BC98-A3C1970F70FE}" srcOrd="0" destOrd="0" presId="urn:microsoft.com/office/officeart/2005/8/layout/hierarchy1"/>
    <dgm:cxn modelId="{E850C50B-7BFB-437E-A514-222B41604AD6}" type="presParOf" srcId="{B0B1C154-A87F-45CF-AE44-B45492FD6B7F}" destId="{B7522669-DBB1-43EA-8993-AF32F41216B2}" srcOrd="0" destOrd="0" presId="urn:microsoft.com/office/officeart/2005/8/layout/hierarchy1"/>
    <dgm:cxn modelId="{F94A7EBB-FDD7-43D9-82E6-DA70CAB734A8}" type="presParOf" srcId="{B7522669-DBB1-43EA-8993-AF32F41216B2}" destId="{D89D212A-D013-478D-AA34-3889A2402882}" srcOrd="0" destOrd="0" presId="urn:microsoft.com/office/officeart/2005/8/layout/hierarchy1"/>
    <dgm:cxn modelId="{C50DD2C3-BE4C-4A2D-8F11-C3EFB57FADF8}" type="presParOf" srcId="{D89D212A-D013-478D-AA34-3889A2402882}" destId="{F92D9AEE-D799-4D62-B3D9-CEE962E9D7D8}" srcOrd="0" destOrd="0" presId="urn:microsoft.com/office/officeart/2005/8/layout/hierarchy1"/>
    <dgm:cxn modelId="{0823CB67-4510-4A8B-B1D1-A8BC6AB58F11}" type="presParOf" srcId="{D89D212A-D013-478D-AA34-3889A2402882}" destId="{CF4A987E-8C19-4C5F-97E8-3A2C913ABA30}" srcOrd="1" destOrd="0" presId="urn:microsoft.com/office/officeart/2005/8/layout/hierarchy1"/>
    <dgm:cxn modelId="{D43811DF-FD7C-42B6-84A1-ED78C4B2BB91}" type="presParOf" srcId="{B7522669-DBB1-43EA-8993-AF32F41216B2}" destId="{DFC204FA-8CB8-4771-A690-B5C5BD4CBE7D}" srcOrd="1" destOrd="0" presId="urn:microsoft.com/office/officeart/2005/8/layout/hierarchy1"/>
    <dgm:cxn modelId="{C01F15D8-1678-4CB8-A1FA-BD91A9ACB9E4}" type="presParOf" srcId="{DFC204FA-8CB8-4771-A690-B5C5BD4CBE7D}" destId="{97DD151F-B19B-4CBD-BC98-A3C1970F70FE}" srcOrd="0" destOrd="0" presId="urn:microsoft.com/office/officeart/2005/8/layout/hierarchy1"/>
    <dgm:cxn modelId="{1567D33B-2026-4830-8295-7886D711F6B3}" type="presParOf" srcId="{DFC204FA-8CB8-4771-A690-B5C5BD4CBE7D}" destId="{A9FD59C3-A62A-494F-A12B-7709CAFDB0B1}" srcOrd="1" destOrd="0" presId="urn:microsoft.com/office/officeart/2005/8/layout/hierarchy1"/>
    <dgm:cxn modelId="{F0015ADA-4BE7-4C30-915F-8E172E1713D8}" type="presParOf" srcId="{A9FD59C3-A62A-494F-A12B-7709CAFDB0B1}" destId="{DABD45D6-1AF5-409A-8D23-4DDB28FFD4F6}" srcOrd="0" destOrd="0" presId="urn:microsoft.com/office/officeart/2005/8/layout/hierarchy1"/>
    <dgm:cxn modelId="{71E0A44A-AB26-4BF1-B12D-CA810577CC2E}" type="presParOf" srcId="{DABD45D6-1AF5-409A-8D23-4DDB28FFD4F6}" destId="{22123F64-90A7-4B09-852D-68903D3ADE73}" srcOrd="0" destOrd="0" presId="urn:microsoft.com/office/officeart/2005/8/layout/hierarchy1"/>
    <dgm:cxn modelId="{B8CC7E76-75F7-4BD6-96CF-F01C2F842612}" type="presParOf" srcId="{DABD45D6-1AF5-409A-8D23-4DDB28FFD4F6}" destId="{3E70E313-0D61-4D32-8B46-A51101DF5BFA}" srcOrd="1" destOrd="0" presId="urn:microsoft.com/office/officeart/2005/8/layout/hierarchy1"/>
    <dgm:cxn modelId="{1353BF54-9412-4421-B98B-15D6B278231B}" type="presParOf" srcId="{A9FD59C3-A62A-494F-A12B-7709CAFDB0B1}" destId="{7B518FCD-8B44-4793-8E2A-B790A437A2B7}" srcOrd="1" destOrd="0" presId="urn:microsoft.com/office/officeart/2005/8/layout/hierarchy1"/>
    <dgm:cxn modelId="{109C4182-E084-4FFE-97DE-BC83B1C89B81}" type="presParOf" srcId="{DFC204FA-8CB8-4771-A690-B5C5BD4CBE7D}" destId="{9B758DF5-D4F3-4C27-AB62-91E89D753A72}" srcOrd="2" destOrd="0" presId="urn:microsoft.com/office/officeart/2005/8/layout/hierarchy1"/>
    <dgm:cxn modelId="{A41D93C7-E8BF-4545-85B4-928FE5277AED}" type="presParOf" srcId="{DFC204FA-8CB8-4771-A690-B5C5BD4CBE7D}" destId="{0CB72C0B-4E19-4FD3-8564-F4A9242F6E28}" srcOrd="3" destOrd="0" presId="urn:microsoft.com/office/officeart/2005/8/layout/hierarchy1"/>
    <dgm:cxn modelId="{EE01FF60-C239-47C5-A030-11A875F5C9C6}" type="presParOf" srcId="{0CB72C0B-4E19-4FD3-8564-F4A9242F6E28}" destId="{0E630550-CCF8-4CAC-BEA0-29421D7486B8}" srcOrd="0" destOrd="0" presId="urn:microsoft.com/office/officeart/2005/8/layout/hierarchy1"/>
    <dgm:cxn modelId="{46AF75A6-7D4E-46A8-B44D-06FC60E58580}" type="presParOf" srcId="{0E630550-CCF8-4CAC-BEA0-29421D7486B8}" destId="{E2C805E6-B84E-4FE2-ACA7-92230522F5E9}" srcOrd="0" destOrd="0" presId="urn:microsoft.com/office/officeart/2005/8/layout/hierarchy1"/>
    <dgm:cxn modelId="{FF4E26BE-70DB-41A1-BAB1-9108AAF7EB8D}" type="presParOf" srcId="{0E630550-CCF8-4CAC-BEA0-29421D7486B8}" destId="{57EFD91D-9461-4041-8960-07E4BBCABB9B}" srcOrd="1" destOrd="0" presId="urn:microsoft.com/office/officeart/2005/8/layout/hierarchy1"/>
    <dgm:cxn modelId="{2D0E07D7-9C48-4D03-B8D2-FD216F2B2A91}" type="presParOf" srcId="{0CB72C0B-4E19-4FD3-8564-F4A9242F6E28}" destId="{9CCA949B-753F-4478-A414-0E423482C230}" srcOrd="1" destOrd="0" presId="urn:microsoft.com/office/officeart/2005/8/layout/hierarchy1"/>
    <dgm:cxn modelId="{E52EAF0F-4F93-4490-A225-E03839816243}" type="presParOf" srcId="{DFC204FA-8CB8-4771-A690-B5C5BD4CBE7D}" destId="{F1A6D11D-541F-481F-81E3-2BB13F1F1308}" srcOrd="4" destOrd="0" presId="urn:microsoft.com/office/officeart/2005/8/layout/hierarchy1"/>
    <dgm:cxn modelId="{40EE6339-A40C-43CB-AA0F-186146423548}" type="presParOf" srcId="{DFC204FA-8CB8-4771-A690-B5C5BD4CBE7D}" destId="{3A666B13-E11D-4E89-93C1-FF3492DF4E58}" srcOrd="5" destOrd="0" presId="urn:microsoft.com/office/officeart/2005/8/layout/hierarchy1"/>
    <dgm:cxn modelId="{C240B8D7-6620-431D-AE37-BCC8DCF9F1C5}" type="presParOf" srcId="{3A666B13-E11D-4E89-93C1-FF3492DF4E58}" destId="{DEEE48FA-F118-4ED2-B1F2-45F7A5408854}" srcOrd="0" destOrd="0" presId="urn:microsoft.com/office/officeart/2005/8/layout/hierarchy1"/>
    <dgm:cxn modelId="{079D6EA9-FF03-46A5-924A-0702557308B4}" type="presParOf" srcId="{DEEE48FA-F118-4ED2-B1F2-45F7A5408854}" destId="{AD16FF61-EB4E-44C4-B870-8DC46186CE7E}" srcOrd="0" destOrd="0" presId="urn:microsoft.com/office/officeart/2005/8/layout/hierarchy1"/>
    <dgm:cxn modelId="{D6E691EF-79EC-4695-B605-A11638A95EA6}" type="presParOf" srcId="{DEEE48FA-F118-4ED2-B1F2-45F7A5408854}" destId="{8BB521C9-DB88-402C-9079-B5009A415BED}" srcOrd="1" destOrd="0" presId="urn:microsoft.com/office/officeart/2005/8/layout/hierarchy1"/>
    <dgm:cxn modelId="{C25AD829-AFAB-43E6-A53C-0F8E9368675A}" type="presParOf" srcId="{3A666B13-E11D-4E89-93C1-FF3492DF4E58}" destId="{9C63CF6A-5834-43FD-9689-CCD5D4C44C34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599A46DA-4262-4B63-AB17-7CC1E9B52295}" type="doc">
      <dgm:prSet loTypeId="urn:microsoft.com/office/officeart/2005/8/layout/chevron2" loCatId="list" qsTypeId="urn:microsoft.com/office/officeart/2005/8/quickstyle/simple1" qsCatId="simple" csTypeId="urn:microsoft.com/office/officeart/2005/8/colors/colorful3" csCatId="colorful" phldr="1"/>
      <dgm:spPr/>
      <dgm:t>
        <a:bodyPr/>
        <a:lstStyle/>
        <a:p>
          <a:endParaRPr lang="ru-RU"/>
        </a:p>
      </dgm:t>
    </dgm:pt>
    <dgm:pt modelId="{73885435-A8E3-497C-B7F9-1A42EBE02985}">
      <dgm:prSet phldrT="[Текст]"/>
      <dgm:spPr/>
      <dgm:t>
        <a:bodyPr/>
        <a:lstStyle/>
        <a:p>
          <a:r>
            <a:rPr lang="ru-RU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1</a:t>
          </a:r>
          <a:endParaRPr lang="ru-RU" dirty="0">
            <a:solidFill>
              <a:schemeClr val="tx1"/>
            </a:solidFill>
            <a:latin typeface="Times New Roman" pitchFamily="18" charset="0"/>
            <a:cs typeface="Times New Roman" pitchFamily="18" charset="0"/>
          </a:endParaRPr>
        </a:p>
      </dgm:t>
    </dgm:pt>
    <dgm:pt modelId="{9D51B570-459B-4435-ACC3-263B1AC31137}" type="parTrans" cxnId="{8B2D6334-F45D-4CCA-8B07-9D8F788E46F7}">
      <dgm:prSet/>
      <dgm:spPr/>
      <dgm:t>
        <a:bodyPr/>
        <a:lstStyle/>
        <a:p>
          <a:endParaRPr lang="ru-RU"/>
        </a:p>
      </dgm:t>
    </dgm:pt>
    <dgm:pt modelId="{785B1754-A6AD-4E70-A2FD-61A3F4AA2E12}" type="sibTrans" cxnId="{8B2D6334-F45D-4CCA-8B07-9D8F788E46F7}">
      <dgm:prSet/>
      <dgm:spPr/>
      <dgm:t>
        <a:bodyPr/>
        <a:lstStyle/>
        <a:p>
          <a:endParaRPr lang="ru-RU"/>
        </a:p>
      </dgm:t>
    </dgm:pt>
    <dgm:pt modelId="{B92AE493-64B2-4BD5-9802-54F0A46C50A0}">
      <dgm:prSet phldrT="[Текст]"/>
      <dgm:spPr/>
      <dgm:t>
        <a:bodyPr/>
        <a:lstStyle/>
        <a:p>
          <a:pPr algn="l"/>
          <a:r>
            <a:rPr lang="ru-RU" b="1" dirty="0" smtClean="0">
              <a:latin typeface="Times New Roman" pitchFamily="18" charset="0"/>
              <a:cs typeface="Times New Roman" pitchFamily="18" charset="0"/>
            </a:rPr>
            <a:t>Ознакомление со словом</a:t>
          </a:r>
          <a:r>
            <a:rPr lang="ru-RU" dirty="0" smtClean="0">
              <a:latin typeface="Times New Roman" pitchFamily="18" charset="0"/>
              <a:cs typeface="Times New Roman" pitchFamily="18" charset="0"/>
            </a:rPr>
            <a:t> 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C901948F-03B4-45B0-99C2-2242D03173FD}" type="parTrans" cxnId="{C4673C0E-3557-4A66-99AA-835DD6E158A6}">
      <dgm:prSet/>
      <dgm:spPr/>
      <dgm:t>
        <a:bodyPr/>
        <a:lstStyle/>
        <a:p>
          <a:endParaRPr lang="ru-RU"/>
        </a:p>
      </dgm:t>
    </dgm:pt>
    <dgm:pt modelId="{05E5E752-EB6B-420A-856F-30B4DC5774FF}" type="sibTrans" cxnId="{C4673C0E-3557-4A66-99AA-835DD6E158A6}">
      <dgm:prSet/>
      <dgm:spPr/>
      <dgm:t>
        <a:bodyPr/>
        <a:lstStyle/>
        <a:p>
          <a:endParaRPr lang="ru-RU"/>
        </a:p>
      </dgm:t>
    </dgm:pt>
    <dgm:pt modelId="{EF9B588D-8F96-4A6F-A5C2-3B4B7273EECC}">
      <dgm:prSet phldrT="[Текст]"/>
      <dgm:spPr/>
      <dgm:t>
        <a:bodyPr/>
        <a:lstStyle/>
        <a:p>
          <a:pPr algn="just"/>
          <a:r>
            <a:rPr lang="ru-RU" i="1" dirty="0" smtClean="0">
              <a:latin typeface="Times New Roman" pitchFamily="18" charset="0"/>
              <a:cs typeface="Times New Roman" pitchFamily="18" charset="0"/>
            </a:rPr>
            <a:t>(слова звучат по-разному и похоже; их можно разделить на слоги, моделирование)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CA010D63-2B33-47AF-9196-F36C66F74AE3}" type="parTrans" cxnId="{C5EA5A61-B0F0-4BB6-8D59-36468A80F472}">
      <dgm:prSet/>
      <dgm:spPr/>
      <dgm:t>
        <a:bodyPr/>
        <a:lstStyle/>
        <a:p>
          <a:endParaRPr lang="ru-RU"/>
        </a:p>
      </dgm:t>
    </dgm:pt>
    <dgm:pt modelId="{CA6DBDC5-12BE-4D31-9D77-A43AECD2E68B}" type="sibTrans" cxnId="{C5EA5A61-B0F0-4BB6-8D59-36468A80F472}">
      <dgm:prSet/>
      <dgm:spPr/>
      <dgm:t>
        <a:bodyPr/>
        <a:lstStyle/>
        <a:p>
          <a:endParaRPr lang="ru-RU"/>
        </a:p>
      </dgm:t>
    </dgm:pt>
    <dgm:pt modelId="{1DFA1B34-1F7C-449F-B44D-767882B7E437}">
      <dgm:prSet phldrT="[Текст]"/>
      <dgm:spPr/>
      <dgm:t>
        <a:bodyPr/>
        <a:lstStyle/>
        <a:p>
          <a:r>
            <a:rPr lang="ru-RU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2</a:t>
          </a:r>
          <a:endParaRPr lang="ru-RU" dirty="0">
            <a:solidFill>
              <a:schemeClr val="tx1"/>
            </a:solidFill>
            <a:latin typeface="Times New Roman" pitchFamily="18" charset="0"/>
            <a:cs typeface="Times New Roman" pitchFamily="18" charset="0"/>
          </a:endParaRPr>
        </a:p>
      </dgm:t>
    </dgm:pt>
    <dgm:pt modelId="{2FD59D57-19DD-4604-A983-0B20A8278C53}" type="parTrans" cxnId="{578D0507-E996-49B5-BA01-65B6D2C0760F}">
      <dgm:prSet/>
      <dgm:spPr/>
      <dgm:t>
        <a:bodyPr/>
        <a:lstStyle/>
        <a:p>
          <a:endParaRPr lang="ru-RU"/>
        </a:p>
      </dgm:t>
    </dgm:pt>
    <dgm:pt modelId="{ED1000EC-7AD7-452B-894D-D0B1929012BC}" type="sibTrans" cxnId="{578D0507-E996-49B5-BA01-65B6D2C0760F}">
      <dgm:prSet/>
      <dgm:spPr/>
      <dgm:t>
        <a:bodyPr/>
        <a:lstStyle/>
        <a:p>
          <a:endParaRPr lang="ru-RU"/>
        </a:p>
      </dgm:t>
    </dgm:pt>
    <dgm:pt modelId="{F9F3A09F-C314-4F61-A25B-4D97D5DDF407}">
      <dgm:prSet phldrT="[Текст]"/>
      <dgm:spPr/>
      <dgm:t>
        <a:bodyPr/>
        <a:lstStyle/>
        <a:p>
          <a:r>
            <a:rPr lang="ru-RU" b="1" dirty="0" smtClean="0">
              <a:latin typeface="Times New Roman" pitchFamily="18" charset="0"/>
              <a:cs typeface="Times New Roman" pitchFamily="18" charset="0"/>
            </a:rPr>
            <a:t>Ознакомление со звуками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20917DCF-8F6D-4147-B3E0-77B7EC6B6874}" type="parTrans" cxnId="{D048852B-BBBC-435A-8553-D0A1EAE56C00}">
      <dgm:prSet/>
      <dgm:spPr/>
      <dgm:t>
        <a:bodyPr/>
        <a:lstStyle/>
        <a:p>
          <a:endParaRPr lang="ru-RU"/>
        </a:p>
      </dgm:t>
    </dgm:pt>
    <dgm:pt modelId="{D73346B1-FC4E-426E-B29D-BC974A556D03}" type="sibTrans" cxnId="{D048852B-BBBC-435A-8553-D0A1EAE56C00}">
      <dgm:prSet/>
      <dgm:spPr/>
      <dgm:t>
        <a:bodyPr/>
        <a:lstStyle/>
        <a:p>
          <a:endParaRPr lang="ru-RU"/>
        </a:p>
      </dgm:t>
    </dgm:pt>
    <dgm:pt modelId="{3AB84340-EB9E-4070-BE92-C7A87A60977C}">
      <dgm:prSet phldrT="[Текст]"/>
      <dgm:spPr/>
      <dgm:t>
        <a:bodyPr/>
        <a:lstStyle/>
        <a:p>
          <a:r>
            <a:rPr lang="ru-RU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3</a:t>
          </a:r>
          <a:endParaRPr lang="ru-RU" dirty="0">
            <a:solidFill>
              <a:schemeClr val="tx1"/>
            </a:solidFill>
            <a:latin typeface="Times New Roman" pitchFamily="18" charset="0"/>
            <a:cs typeface="Times New Roman" pitchFamily="18" charset="0"/>
          </a:endParaRPr>
        </a:p>
      </dgm:t>
    </dgm:pt>
    <dgm:pt modelId="{68CAF97C-79CE-4DAF-878E-230BA7B9E42E}" type="parTrans" cxnId="{2DBDFFF6-C3D4-4E9D-B323-44FBE1D24EFC}">
      <dgm:prSet/>
      <dgm:spPr/>
      <dgm:t>
        <a:bodyPr/>
        <a:lstStyle/>
        <a:p>
          <a:endParaRPr lang="ru-RU"/>
        </a:p>
      </dgm:t>
    </dgm:pt>
    <dgm:pt modelId="{E357A7BA-3BCB-4F70-AB23-F76FDA41C219}" type="sibTrans" cxnId="{2DBDFFF6-C3D4-4E9D-B323-44FBE1D24EFC}">
      <dgm:prSet/>
      <dgm:spPr/>
      <dgm:t>
        <a:bodyPr/>
        <a:lstStyle/>
        <a:p>
          <a:endParaRPr lang="ru-RU"/>
        </a:p>
      </dgm:t>
    </dgm:pt>
    <dgm:pt modelId="{FB12AD79-15DC-4D8E-9293-F4BEA42B8C08}">
      <dgm:prSet phldrT="[Текст]"/>
      <dgm:spPr/>
      <dgm:t>
        <a:bodyPr/>
        <a:lstStyle/>
        <a:p>
          <a:r>
            <a:rPr lang="ru-RU" b="1" dirty="0" smtClean="0">
              <a:latin typeface="Times New Roman" pitchFamily="18" charset="0"/>
              <a:cs typeface="Times New Roman" pitchFamily="18" charset="0"/>
            </a:rPr>
            <a:t>Развитие моторики и графических навыков с целью подготовки руки ребенка к письму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9F31AA36-2475-4BB2-9AF9-A31C00A4E7F1}" type="parTrans" cxnId="{5AC2A1D5-46C1-4395-B460-5EF17CD25DF9}">
      <dgm:prSet/>
      <dgm:spPr/>
      <dgm:t>
        <a:bodyPr/>
        <a:lstStyle/>
        <a:p>
          <a:endParaRPr lang="ru-RU"/>
        </a:p>
      </dgm:t>
    </dgm:pt>
    <dgm:pt modelId="{7B3F8247-ED3C-4C7D-A69F-878A476D2E8C}" type="sibTrans" cxnId="{5AC2A1D5-46C1-4395-B460-5EF17CD25DF9}">
      <dgm:prSet/>
      <dgm:spPr/>
      <dgm:t>
        <a:bodyPr/>
        <a:lstStyle/>
        <a:p>
          <a:endParaRPr lang="ru-RU"/>
        </a:p>
      </dgm:t>
    </dgm:pt>
    <dgm:pt modelId="{3D8BA55E-0A36-48B9-836F-A094F10CCD4D}">
      <dgm:prSet phldrT="[Текст]"/>
      <dgm:spPr/>
      <dgm:t>
        <a:bodyPr/>
        <a:lstStyle/>
        <a:p>
          <a:r>
            <a:rPr lang="ru-RU" i="1" dirty="0" smtClean="0">
              <a:latin typeface="Times New Roman" pitchFamily="18" charset="0"/>
              <a:cs typeface="Times New Roman" pitchFamily="18" charset="0"/>
            </a:rPr>
            <a:t>(в словах «живут» звуки окружающего мира, звуки бывают твердые и мягкие)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8AB96C3E-5B6D-4829-8768-5B6C4DDB4806}" type="parTrans" cxnId="{8A973C07-1C92-435C-BDB5-DBED8D16651D}">
      <dgm:prSet/>
      <dgm:spPr/>
      <dgm:t>
        <a:bodyPr/>
        <a:lstStyle/>
        <a:p>
          <a:endParaRPr lang="ru-RU"/>
        </a:p>
      </dgm:t>
    </dgm:pt>
    <dgm:pt modelId="{048C98AA-FD9A-47E9-91AF-3516C4E9AECA}" type="sibTrans" cxnId="{8A973C07-1C92-435C-BDB5-DBED8D16651D}">
      <dgm:prSet/>
      <dgm:spPr/>
      <dgm:t>
        <a:bodyPr/>
        <a:lstStyle/>
        <a:p>
          <a:endParaRPr lang="ru-RU"/>
        </a:p>
      </dgm:t>
    </dgm:pt>
    <dgm:pt modelId="{EAF3FD8C-93AB-4282-9721-44D65BAF0627}" type="pres">
      <dgm:prSet presAssocID="{599A46DA-4262-4B63-AB17-7CC1E9B52295}" presName="linearFlow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2E3FB9-FF6B-4E7C-B718-500B11C5DC46}" type="pres">
      <dgm:prSet presAssocID="{73885435-A8E3-497C-B7F9-1A42EBE02985}" presName="composite" presStyleCnt="0"/>
      <dgm:spPr/>
    </dgm:pt>
    <dgm:pt modelId="{3F4DF1A4-C5EB-469F-9D71-2B22871293EE}" type="pres">
      <dgm:prSet presAssocID="{73885435-A8E3-497C-B7F9-1A42EBE02985}" presName="parentText" presStyleLbl="alignNode1" presStyleIdx="0" presStyleCnt="3" custLinFactNeighborX="-2495" custLinFactNeighborY="-177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36E034-0CA5-4FA9-91D4-0F498E458DB1}" type="pres">
      <dgm:prSet presAssocID="{73885435-A8E3-497C-B7F9-1A42EBE02985}" presName="descendantText" presStyleLbl="alignAcc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0E728CC-5C76-427C-BE22-D7863CE8A89C}" type="pres">
      <dgm:prSet presAssocID="{785B1754-A6AD-4E70-A2FD-61A3F4AA2E12}" presName="sp" presStyleCnt="0"/>
      <dgm:spPr/>
    </dgm:pt>
    <dgm:pt modelId="{DF6AF07D-8CB2-40CF-9230-8479C88F12B9}" type="pres">
      <dgm:prSet presAssocID="{1DFA1B34-1F7C-449F-B44D-767882B7E437}" presName="composite" presStyleCnt="0"/>
      <dgm:spPr/>
    </dgm:pt>
    <dgm:pt modelId="{770B30CB-6421-43B0-A3DC-33CB6D04B042}" type="pres">
      <dgm:prSet presAssocID="{1DFA1B34-1F7C-449F-B44D-767882B7E437}" presName="parentText" presStyleLbl="align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B9ECA85-2426-4CC6-A169-A61B2BC073A6}" type="pres">
      <dgm:prSet presAssocID="{1DFA1B34-1F7C-449F-B44D-767882B7E437}" presName="descendantText" presStyleLbl="alignAcc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25BC172-5C21-4A21-BF31-ACB52294749D}" type="pres">
      <dgm:prSet presAssocID="{ED1000EC-7AD7-452B-894D-D0B1929012BC}" presName="sp" presStyleCnt="0"/>
      <dgm:spPr/>
    </dgm:pt>
    <dgm:pt modelId="{8B998453-B95A-4CB7-B4F4-9DA7B899D936}" type="pres">
      <dgm:prSet presAssocID="{3AB84340-EB9E-4070-BE92-C7A87A60977C}" presName="composite" presStyleCnt="0"/>
      <dgm:spPr/>
    </dgm:pt>
    <dgm:pt modelId="{91CD09F7-B139-4812-B9B7-E00D0CCF98D2}" type="pres">
      <dgm:prSet presAssocID="{3AB84340-EB9E-4070-BE92-C7A87A60977C}" presName="parentText" presStyleLbl="align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805A336-7EBA-4954-9775-D2615650C253}" type="pres">
      <dgm:prSet presAssocID="{3AB84340-EB9E-4070-BE92-C7A87A60977C}" presName="descendantText" presStyleLbl="alignAcc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78D0507-E996-49B5-BA01-65B6D2C0760F}" srcId="{599A46DA-4262-4B63-AB17-7CC1E9B52295}" destId="{1DFA1B34-1F7C-449F-B44D-767882B7E437}" srcOrd="1" destOrd="0" parTransId="{2FD59D57-19DD-4604-A983-0B20A8278C53}" sibTransId="{ED1000EC-7AD7-452B-894D-D0B1929012BC}"/>
    <dgm:cxn modelId="{D817D9F3-A595-4B5A-8D1D-FD4CD239FC23}" type="presOf" srcId="{B92AE493-64B2-4BD5-9802-54F0A46C50A0}" destId="{C636E034-0CA5-4FA9-91D4-0F498E458DB1}" srcOrd="0" destOrd="0" presId="urn:microsoft.com/office/officeart/2005/8/layout/chevron2"/>
    <dgm:cxn modelId="{D048852B-BBBC-435A-8553-D0A1EAE56C00}" srcId="{1DFA1B34-1F7C-449F-B44D-767882B7E437}" destId="{F9F3A09F-C314-4F61-A25B-4D97D5DDF407}" srcOrd="0" destOrd="0" parTransId="{20917DCF-8F6D-4147-B3E0-77B7EC6B6874}" sibTransId="{D73346B1-FC4E-426E-B29D-BC974A556D03}"/>
    <dgm:cxn modelId="{FED714CA-43F6-4FC8-8FC4-AECAADFD4BEC}" type="presOf" srcId="{F9F3A09F-C314-4F61-A25B-4D97D5DDF407}" destId="{CB9ECA85-2426-4CC6-A169-A61B2BC073A6}" srcOrd="0" destOrd="0" presId="urn:microsoft.com/office/officeart/2005/8/layout/chevron2"/>
    <dgm:cxn modelId="{42BA90F0-4B38-4B85-B3EF-4AFC7988BCDC}" type="presOf" srcId="{EF9B588D-8F96-4A6F-A5C2-3B4B7273EECC}" destId="{C636E034-0CA5-4FA9-91D4-0F498E458DB1}" srcOrd="0" destOrd="1" presId="urn:microsoft.com/office/officeart/2005/8/layout/chevron2"/>
    <dgm:cxn modelId="{8B2D6334-F45D-4CCA-8B07-9D8F788E46F7}" srcId="{599A46DA-4262-4B63-AB17-7CC1E9B52295}" destId="{73885435-A8E3-497C-B7F9-1A42EBE02985}" srcOrd="0" destOrd="0" parTransId="{9D51B570-459B-4435-ACC3-263B1AC31137}" sibTransId="{785B1754-A6AD-4E70-A2FD-61A3F4AA2E12}"/>
    <dgm:cxn modelId="{D39E72CA-0CD3-4FB9-9DB4-87BCFD0CB39A}" type="presOf" srcId="{1DFA1B34-1F7C-449F-B44D-767882B7E437}" destId="{770B30CB-6421-43B0-A3DC-33CB6D04B042}" srcOrd="0" destOrd="0" presId="urn:microsoft.com/office/officeart/2005/8/layout/chevron2"/>
    <dgm:cxn modelId="{368ED982-609A-4CA2-AF3F-A1142E8B7CD9}" type="presOf" srcId="{3AB84340-EB9E-4070-BE92-C7A87A60977C}" destId="{91CD09F7-B139-4812-B9B7-E00D0CCF98D2}" srcOrd="0" destOrd="0" presId="urn:microsoft.com/office/officeart/2005/8/layout/chevron2"/>
    <dgm:cxn modelId="{C4673C0E-3557-4A66-99AA-835DD6E158A6}" srcId="{73885435-A8E3-497C-B7F9-1A42EBE02985}" destId="{B92AE493-64B2-4BD5-9802-54F0A46C50A0}" srcOrd="0" destOrd="0" parTransId="{C901948F-03B4-45B0-99C2-2242D03173FD}" sibTransId="{05E5E752-EB6B-420A-856F-30B4DC5774FF}"/>
    <dgm:cxn modelId="{DED84E84-612A-4B60-AE2E-C91A842F7BAC}" type="presOf" srcId="{FB12AD79-15DC-4D8E-9293-F4BEA42B8C08}" destId="{8805A336-7EBA-4954-9775-D2615650C253}" srcOrd="0" destOrd="0" presId="urn:microsoft.com/office/officeart/2005/8/layout/chevron2"/>
    <dgm:cxn modelId="{2DBDFFF6-C3D4-4E9D-B323-44FBE1D24EFC}" srcId="{599A46DA-4262-4B63-AB17-7CC1E9B52295}" destId="{3AB84340-EB9E-4070-BE92-C7A87A60977C}" srcOrd="2" destOrd="0" parTransId="{68CAF97C-79CE-4DAF-878E-230BA7B9E42E}" sibTransId="{E357A7BA-3BCB-4F70-AB23-F76FDA41C219}"/>
    <dgm:cxn modelId="{5AC2A1D5-46C1-4395-B460-5EF17CD25DF9}" srcId="{3AB84340-EB9E-4070-BE92-C7A87A60977C}" destId="{FB12AD79-15DC-4D8E-9293-F4BEA42B8C08}" srcOrd="0" destOrd="0" parTransId="{9F31AA36-2475-4BB2-9AF9-A31C00A4E7F1}" sibTransId="{7B3F8247-ED3C-4C7D-A69F-878A476D2E8C}"/>
    <dgm:cxn modelId="{5B393682-D16A-4B0B-8D8F-F123967E5573}" type="presOf" srcId="{73885435-A8E3-497C-B7F9-1A42EBE02985}" destId="{3F4DF1A4-C5EB-469F-9D71-2B22871293EE}" srcOrd="0" destOrd="0" presId="urn:microsoft.com/office/officeart/2005/8/layout/chevron2"/>
    <dgm:cxn modelId="{9028E492-2D11-483F-92B0-6FBE43368C46}" type="presOf" srcId="{3D8BA55E-0A36-48B9-836F-A094F10CCD4D}" destId="{CB9ECA85-2426-4CC6-A169-A61B2BC073A6}" srcOrd="0" destOrd="1" presId="urn:microsoft.com/office/officeart/2005/8/layout/chevron2"/>
    <dgm:cxn modelId="{C5EA5A61-B0F0-4BB6-8D59-36468A80F472}" srcId="{73885435-A8E3-497C-B7F9-1A42EBE02985}" destId="{EF9B588D-8F96-4A6F-A5C2-3B4B7273EECC}" srcOrd="1" destOrd="0" parTransId="{CA010D63-2B33-47AF-9196-F36C66F74AE3}" sibTransId="{CA6DBDC5-12BE-4D31-9D77-A43AECD2E68B}"/>
    <dgm:cxn modelId="{8A973C07-1C92-435C-BDB5-DBED8D16651D}" srcId="{1DFA1B34-1F7C-449F-B44D-767882B7E437}" destId="{3D8BA55E-0A36-48B9-836F-A094F10CCD4D}" srcOrd="1" destOrd="0" parTransId="{8AB96C3E-5B6D-4829-8768-5B6C4DDB4806}" sibTransId="{048C98AA-FD9A-47E9-91AF-3516C4E9AECA}"/>
    <dgm:cxn modelId="{57181040-9BB7-41E2-ABEF-8FFDE7F83B71}" type="presOf" srcId="{599A46DA-4262-4B63-AB17-7CC1E9B52295}" destId="{EAF3FD8C-93AB-4282-9721-44D65BAF0627}" srcOrd="0" destOrd="0" presId="urn:microsoft.com/office/officeart/2005/8/layout/chevron2"/>
    <dgm:cxn modelId="{FAE7B4CA-F22D-434D-88E1-0A4E031DF30B}" type="presParOf" srcId="{EAF3FD8C-93AB-4282-9721-44D65BAF0627}" destId="{762E3FB9-FF6B-4E7C-B718-500B11C5DC46}" srcOrd="0" destOrd="0" presId="urn:microsoft.com/office/officeart/2005/8/layout/chevron2"/>
    <dgm:cxn modelId="{10891B9D-CAB4-49EF-8967-B50E6D076C8E}" type="presParOf" srcId="{762E3FB9-FF6B-4E7C-B718-500B11C5DC46}" destId="{3F4DF1A4-C5EB-469F-9D71-2B22871293EE}" srcOrd="0" destOrd="0" presId="urn:microsoft.com/office/officeart/2005/8/layout/chevron2"/>
    <dgm:cxn modelId="{F0F16904-E73C-4841-BA83-8F97B4CF21C0}" type="presParOf" srcId="{762E3FB9-FF6B-4E7C-B718-500B11C5DC46}" destId="{C636E034-0CA5-4FA9-91D4-0F498E458DB1}" srcOrd="1" destOrd="0" presId="urn:microsoft.com/office/officeart/2005/8/layout/chevron2"/>
    <dgm:cxn modelId="{97FC4A66-339A-4C08-908C-22D8462F83D1}" type="presParOf" srcId="{EAF3FD8C-93AB-4282-9721-44D65BAF0627}" destId="{40E728CC-5C76-427C-BE22-D7863CE8A89C}" srcOrd="1" destOrd="0" presId="urn:microsoft.com/office/officeart/2005/8/layout/chevron2"/>
    <dgm:cxn modelId="{76881264-3E7E-4560-8F96-E07964FF5A9B}" type="presParOf" srcId="{EAF3FD8C-93AB-4282-9721-44D65BAF0627}" destId="{DF6AF07D-8CB2-40CF-9230-8479C88F12B9}" srcOrd="2" destOrd="0" presId="urn:microsoft.com/office/officeart/2005/8/layout/chevron2"/>
    <dgm:cxn modelId="{02E8289B-6D61-4614-B33F-A79A8435EA64}" type="presParOf" srcId="{DF6AF07D-8CB2-40CF-9230-8479C88F12B9}" destId="{770B30CB-6421-43B0-A3DC-33CB6D04B042}" srcOrd="0" destOrd="0" presId="urn:microsoft.com/office/officeart/2005/8/layout/chevron2"/>
    <dgm:cxn modelId="{00FEA4BE-3335-4581-8A17-51388D67AFDC}" type="presParOf" srcId="{DF6AF07D-8CB2-40CF-9230-8479C88F12B9}" destId="{CB9ECA85-2426-4CC6-A169-A61B2BC073A6}" srcOrd="1" destOrd="0" presId="urn:microsoft.com/office/officeart/2005/8/layout/chevron2"/>
    <dgm:cxn modelId="{EC4AFE38-B382-4D6D-9DFB-4E66C17E4055}" type="presParOf" srcId="{EAF3FD8C-93AB-4282-9721-44D65BAF0627}" destId="{425BC172-5C21-4A21-BF31-ACB52294749D}" srcOrd="3" destOrd="0" presId="urn:microsoft.com/office/officeart/2005/8/layout/chevron2"/>
    <dgm:cxn modelId="{5C7AA31B-EEC5-48C9-B450-D4994E4A9FD8}" type="presParOf" srcId="{EAF3FD8C-93AB-4282-9721-44D65BAF0627}" destId="{8B998453-B95A-4CB7-B4F4-9DA7B899D936}" srcOrd="4" destOrd="0" presId="urn:microsoft.com/office/officeart/2005/8/layout/chevron2"/>
    <dgm:cxn modelId="{451F86CE-5D8C-48DC-8D72-8184CA66221C}" type="presParOf" srcId="{8B998453-B95A-4CB7-B4F4-9DA7B899D936}" destId="{91CD09F7-B139-4812-B9B7-E00D0CCF98D2}" srcOrd="0" destOrd="0" presId="urn:microsoft.com/office/officeart/2005/8/layout/chevron2"/>
    <dgm:cxn modelId="{86EC8D9D-5EFA-4079-88CC-9BEBD5241334}" type="presParOf" srcId="{8B998453-B95A-4CB7-B4F4-9DA7B899D936}" destId="{8805A336-7EBA-4954-9775-D2615650C253}" srcOrd="1" destOrd="0" presId="urn:microsoft.com/office/officeart/2005/8/layout/chevron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8BEADBE-0541-4123-B25E-ED7392B81E4C}" type="doc">
      <dgm:prSet loTypeId="urn:microsoft.com/office/officeart/2005/8/layout/list1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05D092AA-A870-45A6-8C99-EFF13BE3AB2F}">
      <dgm:prSet phldrT="[Текст]" custT="1"/>
      <dgm:spPr/>
      <dgm:t>
        <a:bodyPr/>
        <a:lstStyle/>
        <a:p>
          <a:pPr algn="just"/>
          <a:r>
            <a:rPr lang="ru-RU" sz="2400" dirty="0" smtClean="0">
              <a:latin typeface="Times New Roman" pitchFamily="18" charset="0"/>
              <a:cs typeface="Times New Roman" pitchFamily="18" charset="0"/>
            </a:rPr>
            <a:t>Подготовка руки ребенка к письму - овладение некоторыми графическими умениями.</a:t>
          </a:r>
          <a:endParaRPr lang="ru-RU" sz="2400" dirty="0">
            <a:latin typeface="Times New Roman" pitchFamily="18" charset="0"/>
            <a:cs typeface="Times New Roman" pitchFamily="18" charset="0"/>
          </a:endParaRPr>
        </a:p>
      </dgm:t>
    </dgm:pt>
    <dgm:pt modelId="{060083F9-5E7B-4D53-92F4-2F17EBA42BA7}" type="parTrans" cxnId="{4A1B4B88-C5E9-4B99-9035-775CA868DE2E}">
      <dgm:prSet/>
      <dgm:spPr/>
      <dgm:t>
        <a:bodyPr/>
        <a:lstStyle/>
        <a:p>
          <a:endParaRPr lang="ru-RU"/>
        </a:p>
      </dgm:t>
    </dgm:pt>
    <dgm:pt modelId="{B5D2F9DF-A511-4949-BFD6-A9EEA58B13B5}" type="sibTrans" cxnId="{4A1B4B88-C5E9-4B99-9035-775CA868DE2E}">
      <dgm:prSet/>
      <dgm:spPr/>
      <dgm:t>
        <a:bodyPr/>
        <a:lstStyle/>
        <a:p>
          <a:endParaRPr lang="ru-RU"/>
        </a:p>
      </dgm:t>
    </dgm:pt>
    <dgm:pt modelId="{4F14AE0C-9250-490F-9795-B9351019155F}">
      <dgm:prSet custT="1"/>
      <dgm:spPr/>
      <dgm:t>
        <a:bodyPr/>
        <a:lstStyle/>
        <a:p>
          <a:pPr algn="just"/>
          <a:r>
            <a:rPr lang="ru-RU" sz="2400" dirty="0" smtClean="0">
              <a:latin typeface="Times New Roman" pitchFamily="18" charset="0"/>
              <a:cs typeface="Times New Roman" pitchFamily="18" charset="0"/>
            </a:rPr>
            <a:t>Освоение фонетической стороны речи с целью развития у детей способности ориентироваться звуковой действительности языка</a:t>
          </a:r>
          <a:endParaRPr lang="ru-RU" sz="2400" dirty="0">
            <a:latin typeface="Times New Roman" pitchFamily="18" charset="0"/>
            <a:cs typeface="Times New Roman" pitchFamily="18" charset="0"/>
          </a:endParaRPr>
        </a:p>
      </dgm:t>
    </dgm:pt>
    <dgm:pt modelId="{31908F6C-2BE0-42C0-BC2B-2DCEE7F59FB3}" type="parTrans" cxnId="{F2307393-32F2-4CE1-BA16-BC3DF85A9C8B}">
      <dgm:prSet/>
      <dgm:spPr/>
      <dgm:t>
        <a:bodyPr/>
        <a:lstStyle/>
        <a:p>
          <a:endParaRPr lang="ru-RU"/>
        </a:p>
      </dgm:t>
    </dgm:pt>
    <dgm:pt modelId="{B6D30221-3309-4CC9-BC82-4C04696D399D}" type="sibTrans" cxnId="{F2307393-32F2-4CE1-BA16-BC3DF85A9C8B}">
      <dgm:prSet/>
      <dgm:spPr/>
      <dgm:t>
        <a:bodyPr/>
        <a:lstStyle/>
        <a:p>
          <a:endParaRPr lang="ru-RU"/>
        </a:p>
      </dgm:t>
    </dgm:pt>
    <dgm:pt modelId="{C747FDD2-C723-4022-8F95-D6C2DA2EF4DC}" type="pres">
      <dgm:prSet presAssocID="{98BEADBE-0541-4123-B25E-ED7392B81E4C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6ADDD46B-3102-409A-BE79-9D5FFE8C8079}" type="pres">
      <dgm:prSet presAssocID="{4F14AE0C-9250-490F-9795-B9351019155F}" presName="parentLin" presStyleCnt="0"/>
      <dgm:spPr/>
    </dgm:pt>
    <dgm:pt modelId="{FDF7E6BF-2D54-44AA-B6C8-3140208E573E}" type="pres">
      <dgm:prSet presAssocID="{4F14AE0C-9250-490F-9795-B9351019155F}" presName="parentLeftMargin" presStyleLbl="node1" presStyleIdx="0" presStyleCnt="2"/>
      <dgm:spPr/>
      <dgm:t>
        <a:bodyPr/>
        <a:lstStyle/>
        <a:p>
          <a:endParaRPr lang="ru-RU"/>
        </a:p>
      </dgm:t>
    </dgm:pt>
    <dgm:pt modelId="{1BEE6E09-1B28-4F63-A50A-DE5FB29B1525}" type="pres">
      <dgm:prSet presAssocID="{4F14AE0C-9250-490F-9795-B9351019155F}" presName="parentText" presStyleLbl="node1" presStyleIdx="0" presStyleCnt="2" custScaleX="142857" custScaleY="123173" custLinFactNeighborX="2102" custLinFactNeighborY="23618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DE81998-39C0-473E-98AB-E6E6267CD9F7}" type="pres">
      <dgm:prSet presAssocID="{4F14AE0C-9250-490F-9795-B9351019155F}" presName="negativeSpace" presStyleCnt="0"/>
      <dgm:spPr/>
    </dgm:pt>
    <dgm:pt modelId="{9334120D-A956-4B27-BAD9-6B4B1317E0D1}" type="pres">
      <dgm:prSet presAssocID="{4F14AE0C-9250-490F-9795-B9351019155F}" presName="childText" presStyleLbl="conFgAcc1" presStyleIdx="0" presStyleCnt="2" custLinFactY="-18976" custLinFactNeighborX="-348" custLinFactNeighborY="-100000">
        <dgm:presLayoutVars>
          <dgm:bulletEnabled val="1"/>
        </dgm:presLayoutVars>
      </dgm:prSet>
      <dgm:spPr/>
    </dgm:pt>
    <dgm:pt modelId="{CDB084E3-BCF9-446E-8298-75FC103ECF0F}" type="pres">
      <dgm:prSet presAssocID="{B6D30221-3309-4CC9-BC82-4C04696D399D}" presName="spaceBetweenRectangles" presStyleCnt="0"/>
      <dgm:spPr/>
    </dgm:pt>
    <dgm:pt modelId="{CBDE766E-3E1F-4D34-ABD4-FFE365E2036F}" type="pres">
      <dgm:prSet presAssocID="{05D092AA-A870-45A6-8C99-EFF13BE3AB2F}" presName="parentLin" presStyleCnt="0"/>
      <dgm:spPr/>
    </dgm:pt>
    <dgm:pt modelId="{7E4CEABD-A7F6-485C-8EF6-B8FAE3FD3097}" type="pres">
      <dgm:prSet presAssocID="{05D092AA-A870-45A6-8C99-EFF13BE3AB2F}" presName="parentLeftMargin" presStyleLbl="node1" presStyleIdx="0" presStyleCnt="2"/>
      <dgm:spPr/>
      <dgm:t>
        <a:bodyPr/>
        <a:lstStyle/>
        <a:p>
          <a:endParaRPr lang="ru-RU"/>
        </a:p>
      </dgm:t>
    </dgm:pt>
    <dgm:pt modelId="{382829A0-01E6-417D-AAF0-016EDF86909A}" type="pres">
      <dgm:prSet presAssocID="{05D092AA-A870-45A6-8C99-EFF13BE3AB2F}" presName="parentText" presStyleLbl="node1" presStyleIdx="1" presStyleCnt="2" custScaleX="142857" custScaleY="143243" custLinFactY="21508" custLinFactNeighborX="2102" custLinFactNeighborY="100000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CA63450-6CD8-4D55-9830-B7F1C9C28CA1}" type="pres">
      <dgm:prSet presAssocID="{05D092AA-A870-45A6-8C99-EFF13BE3AB2F}" presName="negativeSpace" presStyleCnt="0"/>
      <dgm:spPr/>
    </dgm:pt>
    <dgm:pt modelId="{9BFE5B28-9058-407F-99B5-019118194CBC}" type="pres">
      <dgm:prSet presAssocID="{05D092AA-A870-45A6-8C99-EFF13BE3AB2F}" presName="childText" presStyleLbl="conFgAcc1" presStyleIdx="1" presStyleCnt="2" custLinFactY="-11299" custLinFactNeighborX="520" custLinFactNeighborY="-100000">
        <dgm:presLayoutVars>
          <dgm:bulletEnabled val="1"/>
        </dgm:presLayoutVars>
      </dgm:prSet>
      <dgm:spPr/>
    </dgm:pt>
  </dgm:ptLst>
  <dgm:cxnLst>
    <dgm:cxn modelId="{4A1B4B88-C5E9-4B99-9035-775CA868DE2E}" srcId="{98BEADBE-0541-4123-B25E-ED7392B81E4C}" destId="{05D092AA-A870-45A6-8C99-EFF13BE3AB2F}" srcOrd="1" destOrd="0" parTransId="{060083F9-5E7B-4D53-92F4-2F17EBA42BA7}" sibTransId="{B5D2F9DF-A511-4949-BFD6-A9EEA58B13B5}"/>
    <dgm:cxn modelId="{B94AF199-4C90-4333-A69F-7694BADAEF08}" type="presOf" srcId="{4F14AE0C-9250-490F-9795-B9351019155F}" destId="{1BEE6E09-1B28-4F63-A50A-DE5FB29B1525}" srcOrd="1" destOrd="0" presId="urn:microsoft.com/office/officeart/2005/8/layout/list1"/>
    <dgm:cxn modelId="{F2307393-32F2-4CE1-BA16-BC3DF85A9C8B}" srcId="{98BEADBE-0541-4123-B25E-ED7392B81E4C}" destId="{4F14AE0C-9250-490F-9795-B9351019155F}" srcOrd="0" destOrd="0" parTransId="{31908F6C-2BE0-42C0-BC2B-2DCEE7F59FB3}" sibTransId="{B6D30221-3309-4CC9-BC82-4C04696D399D}"/>
    <dgm:cxn modelId="{5E6C6174-ABA5-4111-B74B-6860B9520BE9}" type="presOf" srcId="{05D092AA-A870-45A6-8C99-EFF13BE3AB2F}" destId="{382829A0-01E6-417D-AAF0-016EDF86909A}" srcOrd="1" destOrd="0" presId="urn:microsoft.com/office/officeart/2005/8/layout/list1"/>
    <dgm:cxn modelId="{1AC42563-250F-4F7A-8610-F64E621F6C13}" type="presOf" srcId="{98BEADBE-0541-4123-B25E-ED7392B81E4C}" destId="{C747FDD2-C723-4022-8F95-D6C2DA2EF4DC}" srcOrd="0" destOrd="0" presId="urn:microsoft.com/office/officeart/2005/8/layout/list1"/>
    <dgm:cxn modelId="{3D9E87B2-2945-448F-886F-9EDF4A652753}" type="presOf" srcId="{4F14AE0C-9250-490F-9795-B9351019155F}" destId="{FDF7E6BF-2D54-44AA-B6C8-3140208E573E}" srcOrd="0" destOrd="0" presId="urn:microsoft.com/office/officeart/2005/8/layout/list1"/>
    <dgm:cxn modelId="{9FF1D16A-0B83-44E3-9637-0E8C0C53CAF2}" type="presOf" srcId="{05D092AA-A870-45A6-8C99-EFF13BE3AB2F}" destId="{7E4CEABD-A7F6-485C-8EF6-B8FAE3FD3097}" srcOrd="0" destOrd="0" presId="urn:microsoft.com/office/officeart/2005/8/layout/list1"/>
    <dgm:cxn modelId="{4B4B6D28-589A-4E9B-AD5E-403A728939DF}" type="presParOf" srcId="{C747FDD2-C723-4022-8F95-D6C2DA2EF4DC}" destId="{6ADDD46B-3102-409A-BE79-9D5FFE8C8079}" srcOrd="0" destOrd="0" presId="urn:microsoft.com/office/officeart/2005/8/layout/list1"/>
    <dgm:cxn modelId="{CF485AF8-BE07-4089-B1A1-909D4781858E}" type="presParOf" srcId="{6ADDD46B-3102-409A-BE79-9D5FFE8C8079}" destId="{FDF7E6BF-2D54-44AA-B6C8-3140208E573E}" srcOrd="0" destOrd="0" presId="urn:microsoft.com/office/officeart/2005/8/layout/list1"/>
    <dgm:cxn modelId="{644B74FF-7B93-4A6C-9518-F10F730B9189}" type="presParOf" srcId="{6ADDD46B-3102-409A-BE79-9D5FFE8C8079}" destId="{1BEE6E09-1B28-4F63-A50A-DE5FB29B1525}" srcOrd="1" destOrd="0" presId="urn:microsoft.com/office/officeart/2005/8/layout/list1"/>
    <dgm:cxn modelId="{37AD172E-60E3-4B4B-80F6-8D63DFBCDA7D}" type="presParOf" srcId="{C747FDD2-C723-4022-8F95-D6C2DA2EF4DC}" destId="{3DE81998-39C0-473E-98AB-E6E6267CD9F7}" srcOrd="1" destOrd="0" presId="urn:microsoft.com/office/officeart/2005/8/layout/list1"/>
    <dgm:cxn modelId="{CB1AE249-48BA-4B1F-81DD-AADEB2DFA56D}" type="presParOf" srcId="{C747FDD2-C723-4022-8F95-D6C2DA2EF4DC}" destId="{9334120D-A956-4B27-BAD9-6B4B1317E0D1}" srcOrd="2" destOrd="0" presId="urn:microsoft.com/office/officeart/2005/8/layout/list1"/>
    <dgm:cxn modelId="{A94EB84F-0A18-4885-9D1F-09ADF371ADB9}" type="presParOf" srcId="{C747FDD2-C723-4022-8F95-D6C2DA2EF4DC}" destId="{CDB084E3-BCF9-446E-8298-75FC103ECF0F}" srcOrd="3" destOrd="0" presId="urn:microsoft.com/office/officeart/2005/8/layout/list1"/>
    <dgm:cxn modelId="{BA456ACB-83AF-469A-BEE3-0A918966B902}" type="presParOf" srcId="{C747FDD2-C723-4022-8F95-D6C2DA2EF4DC}" destId="{CBDE766E-3E1F-4D34-ABD4-FFE365E2036F}" srcOrd="4" destOrd="0" presId="urn:microsoft.com/office/officeart/2005/8/layout/list1"/>
    <dgm:cxn modelId="{16E2FDCD-5F9A-4365-A761-65D9B23C753D}" type="presParOf" srcId="{CBDE766E-3E1F-4D34-ABD4-FFE365E2036F}" destId="{7E4CEABD-A7F6-485C-8EF6-B8FAE3FD3097}" srcOrd="0" destOrd="0" presId="urn:microsoft.com/office/officeart/2005/8/layout/list1"/>
    <dgm:cxn modelId="{6EF1B4B3-03CE-4B91-8281-F82442F8DD5A}" type="presParOf" srcId="{CBDE766E-3E1F-4D34-ABD4-FFE365E2036F}" destId="{382829A0-01E6-417D-AAF0-016EDF86909A}" srcOrd="1" destOrd="0" presId="urn:microsoft.com/office/officeart/2005/8/layout/list1"/>
    <dgm:cxn modelId="{00B6A41C-2AA4-43CD-B580-A9116948A18B}" type="presParOf" srcId="{C747FDD2-C723-4022-8F95-D6C2DA2EF4DC}" destId="{2CA63450-6CD8-4D55-9830-B7F1C9C28CA1}" srcOrd="5" destOrd="0" presId="urn:microsoft.com/office/officeart/2005/8/layout/list1"/>
    <dgm:cxn modelId="{92062CD3-A6D5-4795-BEFC-A6CB1C666676}" type="presParOf" srcId="{C747FDD2-C723-4022-8F95-D6C2DA2EF4DC}" destId="{9BFE5B28-9058-407F-99B5-019118194CBC}" srcOrd="6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F1A6D11D-541F-481F-81E3-2BB13F1F1308}">
      <dsp:nvSpPr>
        <dsp:cNvPr id="0" name=""/>
        <dsp:cNvSpPr/>
      </dsp:nvSpPr>
      <dsp:spPr>
        <a:xfrm>
          <a:off x="4014797" y="2184131"/>
          <a:ext cx="2800339" cy="1066403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851983"/>
              </a:lnTo>
              <a:lnTo>
                <a:pt x="2800339" y="851983"/>
              </a:lnTo>
              <a:lnTo>
                <a:pt x="2800339" y="1066403"/>
              </a:lnTo>
            </a:path>
          </a:pathLst>
        </a:custGeom>
        <a:noFill/>
        <a:ln w="55000" cap="flat" cmpd="thickThin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9B758DF5-D4F3-4C27-AB62-91E89D753A72}">
      <dsp:nvSpPr>
        <dsp:cNvPr id="0" name=""/>
        <dsp:cNvSpPr/>
      </dsp:nvSpPr>
      <dsp:spPr>
        <a:xfrm>
          <a:off x="3940492" y="2184131"/>
          <a:ext cx="91440" cy="1066403"/>
        </a:xfrm>
        <a:custGeom>
          <a:avLst/>
          <a:gdLst/>
          <a:ahLst/>
          <a:cxnLst/>
          <a:rect l="0" t="0" r="0" b="0"/>
          <a:pathLst>
            <a:path>
              <a:moveTo>
                <a:pt x="74305" y="0"/>
              </a:moveTo>
              <a:lnTo>
                <a:pt x="74305" y="851983"/>
              </a:lnTo>
              <a:lnTo>
                <a:pt x="45720" y="851983"/>
              </a:lnTo>
              <a:lnTo>
                <a:pt x="45720" y="1066403"/>
              </a:lnTo>
            </a:path>
          </a:pathLst>
        </a:custGeom>
        <a:noFill/>
        <a:ln w="55000" cap="flat" cmpd="thickThin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97DD151F-B19B-4CBD-BC98-A3C1970F70FE}">
      <dsp:nvSpPr>
        <dsp:cNvPr id="0" name=""/>
        <dsp:cNvSpPr/>
      </dsp:nvSpPr>
      <dsp:spPr>
        <a:xfrm>
          <a:off x="1157287" y="2184131"/>
          <a:ext cx="2857510" cy="1066403"/>
        </a:xfrm>
        <a:custGeom>
          <a:avLst/>
          <a:gdLst/>
          <a:ahLst/>
          <a:cxnLst/>
          <a:rect l="0" t="0" r="0" b="0"/>
          <a:pathLst>
            <a:path>
              <a:moveTo>
                <a:pt x="2857510" y="0"/>
              </a:moveTo>
              <a:lnTo>
                <a:pt x="2857510" y="851983"/>
              </a:lnTo>
              <a:lnTo>
                <a:pt x="0" y="851983"/>
              </a:lnTo>
              <a:lnTo>
                <a:pt x="0" y="1066403"/>
              </a:lnTo>
            </a:path>
          </a:pathLst>
        </a:custGeom>
        <a:noFill/>
        <a:ln w="55000" cap="flat" cmpd="thickThin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F92D9AEE-D799-4D62-B3D9-CEE962E9D7D8}">
      <dsp:nvSpPr>
        <dsp:cNvPr id="0" name=""/>
        <dsp:cNvSpPr/>
      </dsp:nvSpPr>
      <dsp:spPr>
        <a:xfrm>
          <a:off x="2071700" y="714376"/>
          <a:ext cx="3886194" cy="1469755"/>
        </a:xfrm>
        <a:prstGeom prst="roundRect">
          <a:avLst>
            <a:gd name="adj" fmla="val 10000"/>
          </a:avLst>
        </a:prstGeom>
        <a:solidFill>
          <a:schemeClr val="accent3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CF4A987E-8C19-4C5F-97E8-3A2C913ABA30}">
      <dsp:nvSpPr>
        <dsp:cNvPr id="0" name=""/>
        <dsp:cNvSpPr/>
      </dsp:nvSpPr>
      <dsp:spPr>
        <a:xfrm>
          <a:off x="2328875" y="958692"/>
          <a:ext cx="3886194" cy="1469755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kern="1200" dirty="0" smtClean="0">
              <a:latin typeface="Times New Roman" pitchFamily="18" charset="0"/>
              <a:cs typeface="Times New Roman" pitchFamily="18" charset="0"/>
            </a:rPr>
            <a:t>Подготовка дошкольников к обучению грамоте</a:t>
          </a: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  </a:t>
          </a:r>
        </a:p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построена на последовательном, поэтапном обучении детей: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2328875" y="958692"/>
        <a:ext cx="3886194" cy="1469755"/>
      </dsp:txXfrm>
    </dsp:sp>
    <dsp:sp modelId="{22123F64-90A7-4B09-852D-68903D3ADE73}">
      <dsp:nvSpPr>
        <dsp:cNvPr id="0" name=""/>
        <dsp:cNvSpPr/>
      </dsp:nvSpPr>
      <dsp:spPr>
        <a:xfrm>
          <a:off x="0" y="3250534"/>
          <a:ext cx="2314575" cy="1469755"/>
        </a:xfrm>
        <a:prstGeom prst="roundRect">
          <a:avLst>
            <a:gd name="adj" fmla="val 10000"/>
          </a:avLst>
        </a:prstGeom>
        <a:solidFill>
          <a:schemeClr val="accent5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3E70E313-0D61-4D32-8B46-A51101DF5BFA}">
      <dsp:nvSpPr>
        <dsp:cNvPr id="0" name=""/>
        <dsp:cNvSpPr/>
      </dsp:nvSpPr>
      <dsp:spPr>
        <a:xfrm>
          <a:off x="257174" y="3494850"/>
          <a:ext cx="2314575" cy="1469755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68580" tIns="68580" rIns="68580" bIns="6858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smtClean="0">
              <a:latin typeface="Times New Roman" pitchFamily="18" charset="0"/>
              <a:cs typeface="Times New Roman" pitchFamily="18" charset="0"/>
            </a:rPr>
            <a:t>звуковому</a:t>
          </a:r>
        </a:p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smtClean="0">
              <a:latin typeface="Times New Roman" pitchFamily="18" charset="0"/>
              <a:cs typeface="Times New Roman" pitchFamily="18" charset="0"/>
            </a:rPr>
            <a:t>и </a:t>
          </a:r>
        </a:p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smtClean="0">
              <a:latin typeface="Times New Roman" pitchFamily="18" charset="0"/>
              <a:cs typeface="Times New Roman" pitchFamily="18" charset="0"/>
            </a:rPr>
            <a:t>звуко - буквенному анализу</a:t>
          </a:r>
          <a:endParaRPr lang="ru-RU" sz="1800" b="1" kern="1200" dirty="0" smtClean="0">
            <a:latin typeface="Times New Roman" pitchFamily="18" charset="0"/>
            <a:cs typeface="Times New Roman" pitchFamily="18" charset="0"/>
          </a:endParaRPr>
        </a:p>
      </dsp:txBody>
      <dsp:txXfrm>
        <a:off x="257174" y="3494850"/>
        <a:ext cx="2314575" cy="1469755"/>
      </dsp:txXfrm>
    </dsp:sp>
    <dsp:sp modelId="{E2C805E6-B84E-4FE2-ACA7-92230522F5E9}">
      <dsp:nvSpPr>
        <dsp:cNvPr id="0" name=""/>
        <dsp:cNvSpPr/>
      </dsp:nvSpPr>
      <dsp:spPr>
        <a:xfrm>
          <a:off x="2828924" y="3250534"/>
          <a:ext cx="2314575" cy="1469755"/>
        </a:xfrm>
        <a:prstGeom prst="roundRect">
          <a:avLst>
            <a:gd name="adj" fmla="val 10000"/>
          </a:avLst>
        </a:prstGeom>
        <a:solidFill>
          <a:schemeClr val="accent5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57EFD91D-9461-4041-8960-07E4BBCABB9B}">
      <dsp:nvSpPr>
        <dsp:cNvPr id="0" name=""/>
        <dsp:cNvSpPr/>
      </dsp:nvSpPr>
      <dsp:spPr>
        <a:xfrm>
          <a:off x="3086099" y="3494850"/>
          <a:ext cx="2314575" cy="1469755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kern="1200" dirty="0" smtClean="0">
              <a:latin typeface="Times New Roman" pitchFamily="18" charset="0"/>
              <a:cs typeface="Times New Roman" pitchFamily="18" charset="0"/>
            </a:rPr>
            <a:t>чтению</a:t>
          </a:r>
          <a:endParaRPr lang="ru-RU" sz="2000" b="1" kern="1200" dirty="0">
            <a:latin typeface="Times New Roman" pitchFamily="18" charset="0"/>
            <a:cs typeface="Times New Roman" pitchFamily="18" charset="0"/>
          </a:endParaRPr>
        </a:p>
      </dsp:txBody>
      <dsp:txXfrm>
        <a:off x="3086099" y="3494850"/>
        <a:ext cx="2314575" cy="1469755"/>
      </dsp:txXfrm>
    </dsp:sp>
    <dsp:sp modelId="{AD16FF61-EB4E-44C4-B870-8DC46186CE7E}">
      <dsp:nvSpPr>
        <dsp:cNvPr id="0" name=""/>
        <dsp:cNvSpPr/>
      </dsp:nvSpPr>
      <dsp:spPr>
        <a:xfrm>
          <a:off x="5657850" y="3250534"/>
          <a:ext cx="2314575" cy="1469755"/>
        </a:xfrm>
        <a:prstGeom prst="roundRect">
          <a:avLst>
            <a:gd name="adj" fmla="val 10000"/>
          </a:avLst>
        </a:prstGeom>
        <a:solidFill>
          <a:schemeClr val="accent5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8BB521C9-DB88-402C-9079-B5009A415BED}">
      <dsp:nvSpPr>
        <dsp:cNvPr id="0" name=""/>
        <dsp:cNvSpPr/>
      </dsp:nvSpPr>
      <dsp:spPr>
        <a:xfrm>
          <a:off x="5915024" y="3494850"/>
          <a:ext cx="2314575" cy="1469755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68580" tIns="68580" rIns="68580" bIns="6858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dirty="0" smtClean="0">
              <a:latin typeface="Times New Roman" pitchFamily="18" charset="0"/>
              <a:cs typeface="Times New Roman" pitchFamily="18" charset="0"/>
            </a:rPr>
            <a:t>подготовке руки ребенка к письму</a:t>
          </a:r>
          <a:endParaRPr lang="ru-RU" sz="1800" b="1" kern="1200" dirty="0"/>
        </a:p>
      </dsp:txBody>
      <dsp:txXfrm>
        <a:off x="5915024" y="3494850"/>
        <a:ext cx="2314575" cy="1469755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3F4DF1A4-C5EB-469F-9D71-2B22871293EE}">
      <dsp:nvSpPr>
        <dsp:cNvPr id="0" name=""/>
        <dsp:cNvSpPr/>
      </dsp:nvSpPr>
      <dsp:spPr>
        <a:xfrm rot="5400000">
          <a:off x="-245635" y="245635"/>
          <a:ext cx="1637567" cy="1146297"/>
        </a:xfrm>
        <a:prstGeom prst="chevron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590" tIns="21590" rIns="21590" bIns="21590" numCol="1" spcCol="1270" anchor="ctr" anchorCtr="0">
          <a:noAutofit/>
        </a:bodyPr>
        <a:lstStyle/>
        <a:p>
          <a:pPr lvl="0" algn="ctr" defTabSz="1511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400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1</a:t>
          </a:r>
          <a:endParaRPr lang="ru-RU" sz="3400" kern="1200" dirty="0">
            <a:solidFill>
              <a:schemeClr val="tx1"/>
            </a:solidFill>
            <a:latin typeface="Times New Roman" pitchFamily="18" charset="0"/>
            <a:cs typeface="Times New Roman" pitchFamily="18" charset="0"/>
          </a:endParaRPr>
        </a:p>
      </dsp:txBody>
      <dsp:txXfrm rot="5400000">
        <a:off x="-245635" y="245635"/>
        <a:ext cx="1637567" cy="1146297"/>
      </dsp:txXfrm>
    </dsp:sp>
    <dsp:sp modelId="{C636E034-0CA5-4FA9-91D4-0F498E458DB1}">
      <dsp:nvSpPr>
        <dsp:cNvPr id="0" name=""/>
        <dsp:cNvSpPr/>
      </dsp:nvSpPr>
      <dsp:spPr>
        <a:xfrm rot="5400000">
          <a:off x="4155739" y="-3008994"/>
          <a:ext cx="1064418" cy="7083302"/>
        </a:xfrm>
        <a:prstGeom prst="round2Same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56464" tIns="13970" rIns="13970" bIns="13970" numCol="1" spcCol="1270" anchor="ctr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200" b="1" kern="1200" dirty="0" smtClean="0">
              <a:latin typeface="Times New Roman" pitchFamily="18" charset="0"/>
              <a:cs typeface="Times New Roman" pitchFamily="18" charset="0"/>
            </a:rPr>
            <a:t>Ознакомление со словом</a:t>
          </a:r>
          <a:r>
            <a:rPr lang="ru-RU" sz="2200" kern="1200" dirty="0" smtClean="0">
              <a:latin typeface="Times New Roman" pitchFamily="18" charset="0"/>
              <a:cs typeface="Times New Roman" pitchFamily="18" charset="0"/>
            </a:rPr>
            <a:t> </a:t>
          </a:r>
          <a:endParaRPr lang="ru-RU" sz="2200" kern="1200" dirty="0">
            <a:latin typeface="Times New Roman" pitchFamily="18" charset="0"/>
            <a:cs typeface="Times New Roman" pitchFamily="18" charset="0"/>
          </a:endParaRPr>
        </a:p>
        <a:p>
          <a:pPr marL="228600" lvl="1" indent="-228600" algn="just" defTabSz="9779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200" i="1" kern="1200" dirty="0" smtClean="0">
              <a:latin typeface="Times New Roman" pitchFamily="18" charset="0"/>
              <a:cs typeface="Times New Roman" pitchFamily="18" charset="0"/>
            </a:rPr>
            <a:t>(слова звучат по-разному и похоже; их можно разделить на слоги, моделирование)</a:t>
          </a:r>
          <a:endParaRPr lang="ru-RU" sz="2200" kern="1200" dirty="0">
            <a:latin typeface="Times New Roman" pitchFamily="18" charset="0"/>
            <a:cs typeface="Times New Roman" pitchFamily="18" charset="0"/>
          </a:endParaRPr>
        </a:p>
      </dsp:txBody>
      <dsp:txXfrm rot="5400000">
        <a:off x="4155739" y="-3008994"/>
        <a:ext cx="1064418" cy="7083302"/>
      </dsp:txXfrm>
    </dsp:sp>
    <dsp:sp modelId="{770B30CB-6421-43B0-A3DC-33CB6D04B042}">
      <dsp:nvSpPr>
        <dsp:cNvPr id="0" name=""/>
        <dsp:cNvSpPr/>
      </dsp:nvSpPr>
      <dsp:spPr>
        <a:xfrm rot="5400000">
          <a:off x="-245635" y="1689832"/>
          <a:ext cx="1637567" cy="1146297"/>
        </a:xfrm>
        <a:prstGeom prst="chevron">
          <a:avLst/>
        </a:prstGeom>
        <a:solidFill>
          <a:schemeClr val="accent3">
            <a:hueOff val="5812304"/>
            <a:satOff val="-18573"/>
            <a:lumOff val="-4706"/>
            <a:alphaOff val="0"/>
          </a:schemeClr>
        </a:solidFill>
        <a:ln w="55000" cap="flat" cmpd="thickThin" algn="ctr">
          <a:solidFill>
            <a:schemeClr val="accent3">
              <a:hueOff val="5812304"/>
              <a:satOff val="-18573"/>
              <a:lumOff val="-4706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590" tIns="21590" rIns="21590" bIns="21590" numCol="1" spcCol="1270" anchor="ctr" anchorCtr="0">
          <a:noAutofit/>
        </a:bodyPr>
        <a:lstStyle/>
        <a:p>
          <a:pPr lvl="0" algn="ctr" defTabSz="1511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400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2</a:t>
          </a:r>
          <a:endParaRPr lang="ru-RU" sz="3400" kern="1200" dirty="0">
            <a:solidFill>
              <a:schemeClr val="tx1"/>
            </a:solidFill>
            <a:latin typeface="Times New Roman" pitchFamily="18" charset="0"/>
            <a:cs typeface="Times New Roman" pitchFamily="18" charset="0"/>
          </a:endParaRPr>
        </a:p>
      </dsp:txBody>
      <dsp:txXfrm rot="5400000">
        <a:off x="-245635" y="1689832"/>
        <a:ext cx="1637567" cy="1146297"/>
      </dsp:txXfrm>
    </dsp:sp>
    <dsp:sp modelId="{CB9ECA85-2426-4CC6-A169-A61B2BC073A6}">
      <dsp:nvSpPr>
        <dsp:cNvPr id="0" name=""/>
        <dsp:cNvSpPr/>
      </dsp:nvSpPr>
      <dsp:spPr>
        <a:xfrm rot="5400000">
          <a:off x="4155739" y="-1565244"/>
          <a:ext cx="1064418" cy="7083302"/>
        </a:xfrm>
        <a:prstGeom prst="round2Same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3">
              <a:hueOff val="5812304"/>
              <a:satOff val="-18573"/>
              <a:lumOff val="-4706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56464" tIns="13970" rIns="13970" bIns="13970" numCol="1" spcCol="1270" anchor="ctr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200" b="1" kern="1200" dirty="0" smtClean="0">
              <a:latin typeface="Times New Roman" pitchFamily="18" charset="0"/>
              <a:cs typeface="Times New Roman" pitchFamily="18" charset="0"/>
            </a:rPr>
            <a:t>Ознакомление со звуками</a:t>
          </a:r>
          <a:endParaRPr lang="ru-RU" sz="2200" kern="1200" dirty="0">
            <a:latin typeface="Times New Roman" pitchFamily="18" charset="0"/>
            <a:cs typeface="Times New Roman" pitchFamily="18" charset="0"/>
          </a:endParaRPr>
        </a:p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200" i="1" kern="1200" dirty="0" smtClean="0">
              <a:latin typeface="Times New Roman" pitchFamily="18" charset="0"/>
              <a:cs typeface="Times New Roman" pitchFamily="18" charset="0"/>
            </a:rPr>
            <a:t>(в словах «живут» звуки окружающего мира, звуки бывают твердые и мягкие)</a:t>
          </a:r>
          <a:endParaRPr lang="ru-RU" sz="2200" kern="1200" dirty="0">
            <a:latin typeface="Times New Roman" pitchFamily="18" charset="0"/>
            <a:cs typeface="Times New Roman" pitchFamily="18" charset="0"/>
          </a:endParaRPr>
        </a:p>
      </dsp:txBody>
      <dsp:txXfrm rot="5400000">
        <a:off x="4155739" y="-1565244"/>
        <a:ext cx="1064418" cy="7083302"/>
      </dsp:txXfrm>
    </dsp:sp>
    <dsp:sp modelId="{91CD09F7-B139-4812-B9B7-E00D0CCF98D2}">
      <dsp:nvSpPr>
        <dsp:cNvPr id="0" name=""/>
        <dsp:cNvSpPr/>
      </dsp:nvSpPr>
      <dsp:spPr>
        <a:xfrm rot="5400000">
          <a:off x="-245635" y="3133582"/>
          <a:ext cx="1637567" cy="1146297"/>
        </a:xfrm>
        <a:prstGeom prst="chevron">
          <a:avLst/>
        </a:prstGeom>
        <a:solidFill>
          <a:schemeClr val="accent3">
            <a:hueOff val="11624607"/>
            <a:satOff val="-37145"/>
            <a:lumOff val="-9412"/>
            <a:alphaOff val="0"/>
          </a:schemeClr>
        </a:solidFill>
        <a:ln w="55000" cap="flat" cmpd="thickThin" algn="ctr">
          <a:solidFill>
            <a:schemeClr val="accent3">
              <a:hueOff val="11624607"/>
              <a:satOff val="-37145"/>
              <a:lumOff val="-9412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590" tIns="21590" rIns="21590" bIns="21590" numCol="1" spcCol="1270" anchor="ctr" anchorCtr="0">
          <a:noAutofit/>
        </a:bodyPr>
        <a:lstStyle/>
        <a:p>
          <a:pPr lvl="0" algn="ctr" defTabSz="1511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400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3</a:t>
          </a:r>
          <a:endParaRPr lang="ru-RU" sz="3400" kern="1200" dirty="0">
            <a:solidFill>
              <a:schemeClr val="tx1"/>
            </a:solidFill>
            <a:latin typeface="Times New Roman" pitchFamily="18" charset="0"/>
            <a:cs typeface="Times New Roman" pitchFamily="18" charset="0"/>
          </a:endParaRPr>
        </a:p>
      </dsp:txBody>
      <dsp:txXfrm rot="5400000">
        <a:off x="-245635" y="3133582"/>
        <a:ext cx="1637567" cy="1146297"/>
      </dsp:txXfrm>
    </dsp:sp>
    <dsp:sp modelId="{8805A336-7EBA-4954-9775-D2615650C253}">
      <dsp:nvSpPr>
        <dsp:cNvPr id="0" name=""/>
        <dsp:cNvSpPr/>
      </dsp:nvSpPr>
      <dsp:spPr>
        <a:xfrm rot="5400000">
          <a:off x="4155739" y="-121494"/>
          <a:ext cx="1064418" cy="7083302"/>
        </a:xfrm>
        <a:prstGeom prst="round2Same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3">
              <a:hueOff val="11624607"/>
              <a:satOff val="-37145"/>
              <a:lumOff val="-9412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56464" tIns="13970" rIns="13970" bIns="13970" numCol="1" spcCol="1270" anchor="ctr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200" b="1" kern="1200" dirty="0" smtClean="0">
              <a:latin typeface="Times New Roman" pitchFamily="18" charset="0"/>
              <a:cs typeface="Times New Roman" pitchFamily="18" charset="0"/>
            </a:rPr>
            <a:t>Развитие моторики и графических навыков с целью подготовки руки ребенка к письму</a:t>
          </a:r>
          <a:endParaRPr lang="ru-RU" sz="2200" kern="1200" dirty="0">
            <a:latin typeface="Times New Roman" pitchFamily="18" charset="0"/>
            <a:cs typeface="Times New Roman" pitchFamily="18" charset="0"/>
          </a:endParaRPr>
        </a:p>
      </dsp:txBody>
      <dsp:txXfrm rot="5400000">
        <a:off x="4155739" y="-121494"/>
        <a:ext cx="1064418" cy="7083302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9334120D-A956-4B27-BAD9-6B4B1317E0D1}">
      <dsp:nvSpPr>
        <dsp:cNvPr id="0" name=""/>
        <dsp:cNvSpPr/>
      </dsp:nvSpPr>
      <dsp:spPr>
        <a:xfrm>
          <a:off x="0" y="498076"/>
          <a:ext cx="8229600" cy="10836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1BEE6E09-1B28-4F63-A50A-DE5FB29B1525}">
      <dsp:nvSpPr>
        <dsp:cNvPr id="0" name=""/>
        <dsp:cNvSpPr/>
      </dsp:nvSpPr>
      <dsp:spPr>
        <a:xfrm>
          <a:off x="393807" y="306869"/>
          <a:ext cx="7835792" cy="1563508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62000"/>
                <a:satMod val="180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32000"/>
                <a:satMod val="25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23000"/>
                <a:satMod val="300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217742" tIns="0" rIns="217742" bIns="0" numCol="1" spcCol="1270" anchor="ctr" anchorCtr="0">
          <a:noAutofit/>
        </a:bodyPr>
        <a:lstStyle/>
        <a:p>
          <a:pPr lvl="0" algn="just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>
              <a:latin typeface="Times New Roman" pitchFamily="18" charset="0"/>
              <a:cs typeface="Times New Roman" pitchFamily="18" charset="0"/>
            </a:rPr>
            <a:t>Освоение фонетической стороны речи с целью развития у детей способности ориентироваться звуковой действительности языка</a:t>
          </a:r>
          <a:endParaRPr lang="ru-RU" sz="24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393807" y="306869"/>
        <a:ext cx="7835792" cy="1563508"/>
      </dsp:txXfrm>
    </dsp:sp>
    <dsp:sp modelId="{9BFE5B28-9058-407F-99B5-019118194CBC}">
      <dsp:nvSpPr>
        <dsp:cNvPr id="0" name=""/>
        <dsp:cNvSpPr/>
      </dsp:nvSpPr>
      <dsp:spPr>
        <a:xfrm>
          <a:off x="0" y="2678174"/>
          <a:ext cx="8229600" cy="10836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hueOff val="6718553"/>
              <a:satOff val="9479"/>
              <a:lumOff val="-1176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82829A0-01E6-417D-AAF0-016EDF86909A}">
      <dsp:nvSpPr>
        <dsp:cNvPr id="0" name=""/>
        <dsp:cNvSpPr/>
      </dsp:nvSpPr>
      <dsp:spPr>
        <a:xfrm>
          <a:off x="393807" y="2707692"/>
          <a:ext cx="7835792" cy="1818269"/>
        </a:xfrm>
        <a:prstGeom prst="roundRect">
          <a:avLst/>
        </a:prstGeom>
        <a:gradFill rotWithShape="0">
          <a:gsLst>
            <a:gs pos="0">
              <a:schemeClr val="accent5">
                <a:hueOff val="6718553"/>
                <a:satOff val="9479"/>
                <a:lumOff val="-1176"/>
                <a:alphaOff val="0"/>
                <a:tint val="62000"/>
                <a:satMod val="180000"/>
              </a:schemeClr>
            </a:gs>
            <a:gs pos="65000">
              <a:schemeClr val="accent5">
                <a:hueOff val="6718553"/>
                <a:satOff val="9479"/>
                <a:lumOff val="-1176"/>
                <a:alphaOff val="0"/>
                <a:tint val="32000"/>
                <a:satMod val="250000"/>
              </a:schemeClr>
            </a:gs>
            <a:gs pos="100000">
              <a:schemeClr val="accent5">
                <a:hueOff val="6718553"/>
                <a:satOff val="9479"/>
                <a:lumOff val="-1176"/>
                <a:alphaOff val="0"/>
                <a:tint val="23000"/>
                <a:satMod val="300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217742" tIns="0" rIns="217742" bIns="0" numCol="1" spcCol="1270" anchor="ctr" anchorCtr="0">
          <a:noAutofit/>
        </a:bodyPr>
        <a:lstStyle/>
        <a:p>
          <a:pPr lvl="0" algn="just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>
              <a:latin typeface="Times New Roman" pitchFamily="18" charset="0"/>
              <a:cs typeface="Times New Roman" pitchFamily="18" charset="0"/>
            </a:rPr>
            <a:t>Подготовка руки ребенка к письму - овладение некоторыми графическими умениями.</a:t>
          </a:r>
          <a:endParaRPr lang="ru-RU" sz="24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393807" y="2707692"/>
        <a:ext cx="7835792" cy="181826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chevron2">
  <dgm:title val=""/>
  <dgm:desc val=""/>
  <dgm:catLst>
    <dgm:cat type="process" pri="12000"/>
    <dgm:cat type="list" pri="16000"/>
    <dgm:cat type="convert" pri="1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</dgm:ptLst>
      <dgm:cxnLst>
        <dgm:cxn modelId="4" srcId="0" destId="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alg type="lin">
      <dgm:param type="linDir" val="fromT"/>
      <dgm:param type="nodeHorzAlign" val="l"/>
    </dgm:alg>
    <dgm:shape xmlns:r="http://schemas.openxmlformats.org/officeDocument/2006/relationships" r:blip="">
      <dgm:adjLst/>
    </dgm:shape>
    <dgm:presOf/>
    <dgm:constrLst>
      <dgm:constr type="h" for="ch" forName="composite" refType="h"/>
      <dgm:constr type="w" for="ch" forName="composite" refType="w"/>
      <dgm:constr type="h" for="des" forName="parentText" op="equ"/>
      <dgm:constr type="h" for="ch" forName="sp" val="-14.88"/>
      <dgm:constr type="h" for="ch" forName="sp" refType="w" refFor="des" refForName="parentText" op="gte" fact="-0.3"/>
      <dgm:constr type="primFontSz" for="des" forName="parentText" op="equ" val="65"/>
      <dgm:constr type="primFontSz" for="des" forName="descendantText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t" for="ch" forName="parentText"/>
              <dgm:constr type="l" for="ch" forName="parentText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 refType="w" refFor="ch" refForName="pare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if>
          <dgm:else name="Name3">
            <dgm:constrLst>
              <dgm:constr type="t" for="ch" forName="parentText"/>
              <dgm:constr type="r" for="ch" forName="parentText" refType="w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else>
        </dgm:choose>
        <dgm:ruleLst/>
        <dgm:layoutNode name="parentText" styleLbl="alignNode1">
          <dgm:varLst>
            <dgm:chMax val="1"/>
            <dgm:bulletEnabled val="1"/>
          </dgm:varLst>
          <dgm:alg type="tx"/>
          <dgm:shape xmlns:r="http://schemas.openxmlformats.org/officeDocument/2006/relationships" rot="90" type="chevron" r:blip="">
            <dgm:adjLst/>
          </dgm:shape>
          <dgm:presOf axis="self" ptType="node"/>
          <dgm:constrLst>
            <dgm:constr type="lMarg" refType="primFontSz" fact="0.05"/>
            <dgm:constr type="rMarg" refType="primFontSz" fact="0.05"/>
            <dgm:constr type="tMarg" refType="primFontSz" fact="0.05"/>
            <dgm:constr type="bMarg" refType="primFontSz" fact="0.05"/>
          </dgm:constrLst>
          <dgm:ruleLst>
            <dgm:rule type="h" val="100" fact="NaN" max="NaN"/>
            <dgm:rule type="primFontSz" val="24" fact="NaN" max="NaN"/>
            <dgm:rule type="h" val="110" fact="NaN" max="NaN"/>
            <dgm:rule type="primFontSz" val="18" fact="NaN" max="NaN"/>
            <dgm:rule type="h" val="INF" fact="NaN" max="NaN"/>
            <dgm:rule type="primFontSz" val="5" fact="NaN" max="NaN"/>
          </dgm:ruleLst>
        </dgm:layoutNode>
        <dgm:layoutNode name="descendantText" styleLbl="alignAcc1">
          <dgm:varLst>
            <dgm:bulletEnabled val="1"/>
          </dgm:varLst>
          <dgm:choose name="Name4">
            <dgm:if name="Name5" func="var" arg="dir" op="equ" val="norm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90" type="round2SameRect" r:blip="">
                <dgm:adjLst/>
              </dgm:shape>
            </dgm:if>
            <dgm:else name="Name6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-90" type="round2SameRect" r:blip="">
                <dgm:adjLst/>
              </dgm:shape>
            </dgm:else>
          </dgm:choose>
          <dgm:presOf axis="des" ptType="node"/>
          <dgm:choose name="Name7">
            <dgm:if name="Name8" func="var" arg="dir" op="equ" val="norm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rMarg" refType="primFontSz" fact="0.05"/>
              </dgm:constrLst>
            </dgm:if>
            <dgm:else name="Name9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lMarg" refType="primFontSz" fact="0.05"/>
              </dgm:constrLst>
            </dgm:else>
          </dgm:choose>
          <dgm:ruleLst>
            <dgm:rule type="primFontSz" val="5" fact="NaN" max="NaN"/>
          </dgm:ruleLst>
        </dgm:layoutNode>
      </dgm:layoutNode>
      <dgm:forEach name="Name10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>
            <dgm:constr type="w" val="1"/>
            <dgm:constr type="h" val="37.5"/>
          </dgm:constrLst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C8A1A2-CDFE-4596-A256-5E4D8D77B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827A74-7F1D-4877-94F2-A2393BFE96C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5094-0D3B-4F32-BFCF-94A266BE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DD9-10D3-4ED9-B4D1-EDD993C9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D57-1309-4C7D-B44D-208960F4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94B-69F0-4DFC-BAD0-0B5800B6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3DA5-B05D-4B93-B30F-6F837B3B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841D-8049-46B4-8E73-5D105C17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60FA-F5B2-4548-9D60-EF38A173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6A67-884C-44B0-BCDE-69D4194C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37C5-05B3-4D20-BA41-8E365935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2922-7B6C-4F84-BCE7-D61FCD2B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8531-A418-4EAF-AB7F-495192B2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C13-B682-4E16-AA86-B4FF2880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4353-86FE-49EC-A723-15AAA8F2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34B5-105C-41D9-9E83-9B7B8470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909C-A194-4F46-B13D-3C481D6F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996E-EC42-49A9-A23C-37ABAC4E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7E87-7D1C-4AD8-886A-497956F7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607-3739-4B7B-A1F9-F74B6356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555F-64EE-47A6-9CD4-33AB762D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B71-4FBE-4957-8D1C-5827802D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2FB1-2587-4290-84CC-3FCEB1FC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DB7-0D86-4614-8E15-A24C1C08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5558-23B6-47FB-BE2C-500BC62D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58E-50DB-4AD9-B20C-A51AADDE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A80CEE-EDC1-4199-8403-8CB6D9B1685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8B6567-ECED-4770-B3E5-F4CA8E230FE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040" cy="29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9644"/>
                </a:solidFill>
                <a:latin typeface="Times New Roman"/>
              </a:rPr>
              <a:t>Подготовка </a:t>
            </a:r>
            <a:br>
              <a:rPr sz="4000"/>
            </a:br>
            <a:r>
              <a:rPr b="1" lang="ru-RU" sz="4000" spc="-1" strike="noStrike">
                <a:solidFill>
                  <a:srgbClr val="009644"/>
                </a:solidFill>
                <a:latin typeface="Times New Roman"/>
              </a:rPr>
              <a:t>дошкольников</a:t>
            </a:r>
            <a:br>
              <a:rPr sz="4000"/>
            </a:br>
            <a:r>
              <a:rPr b="1" lang="ru-RU" sz="4000" spc="-1" strike="noStrike">
                <a:solidFill>
                  <a:srgbClr val="009644"/>
                </a:solidFill>
                <a:latin typeface="Times New Roman"/>
              </a:rPr>
              <a:t> к обучению грамоте</a:t>
            </a:r>
            <a:endParaRPr b="0" lang="ru-RU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Lucida Sans Unicode"/>
              </a:rPr>
              <a:t>Подготовила  воспита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Lucida Sans Unicode"/>
              </a:rPr>
              <a:t>Новиченкова И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Documents and Settings\Админ\Мои документы\Мои рисунки\_1_~3.JPG"/>
          <p:cNvPicPr/>
          <p:nvPr/>
        </p:nvPicPr>
        <p:blipFill>
          <a:blip r:embed="rId1"/>
          <a:stretch/>
        </p:blipFill>
        <p:spPr>
          <a:xfrm>
            <a:off x="428760" y="500040"/>
            <a:ext cx="2857320" cy="21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25596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 5-7 л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ап развития звуко - буквенного анализа и формирования первоначальных навыков чтения. </a:t>
            </a:r>
            <a:endParaRPr b="0" lang="ru-RU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25596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том возрасте дети учатся проводи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онетический разбор сл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25596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слогов;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25596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сные звуки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(ударные и безударные)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25596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гласные звуки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(твердые и мягкие, звонкие и глухие)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25596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звуков и букв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Старший дошкольный возраст</a:t>
            </a:r>
            <a:endParaRPr b="0" lang="ru-RU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379633692"/>
              </p:ext>
            </p:extLst>
          </p:nvPr>
        </p:nvGraphicFramePr>
        <p:xfrm>
          <a:off x="457200" y="1481040"/>
          <a:ext cx="82292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2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Старший дошкольный возраст</a:t>
            </a:r>
            <a:br>
              <a:rPr sz="4400"/>
            </a:br>
            <a:r>
              <a:rPr b="1" lang="ru-RU" sz="2700" spc="-1" strike="noStrike">
                <a:solidFill>
                  <a:srgbClr val="002060"/>
                </a:solidFill>
                <a:latin typeface="Times New Roman"/>
              </a:rPr>
              <a:t>Подготовка детей 5-7 лет к обучению грамоте включает два основных направления</a:t>
            </a:r>
            <a:br>
              <a:rPr sz="4400"/>
            </a:b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24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обучении старших дошкольников основам грамоты решаются основны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ru-RU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7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7560" indent="-2570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ь детей проводить звуковой анализ слов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(согласные и гласные, ударные и безударные, согласные твердые и мягкие)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;</a:t>
            </a:r>
            <a:endParaRPr b="0" lang="ru-RU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7560" indent="-2570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ь сравнивать слова по звучанию, подбирать слова на заданный звук;</a:t>
            </a:r>
            <a:endParaRPr b="0" lang="ru-RU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7560" indent="-2570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комить детей с графическим изображением буквы;</a:t>
            </a:r>
            <a:endParaRPr b="0" lang="ru-RU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7560" indent="-2570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учать чтению слогов;</a:t>
            </a:r>
            <a:endParaRPr b="0" lang="ru-RU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7560" indent="-2570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ть и укреплять мелкие мышцы рук.</a:t>
            </a:r>
            <a:endParaRPr b="0" lang="ru-RU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тарший дошкольный возраст</a:t>
            </a:r>
            <a:endParaRPr b="0" lang="ru-RU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2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роводится поэтапно:</a:t>
            </a:r>
            <a:endParaRPr b="0" lang="ru-RU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количества слогов в слове;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следовательное произношение каждого звука в слове;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пределение количества звуков в слове;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строение звуковых «домиков», где каждому звуку отводится своя клетка-«комнатка»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(количество клеток соответствует количеству звуков)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бозначение звуков их определенным цветом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(гласные - красным, твердые согласные - синим, мягкие согласные - зеленым)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ff0000"/>
                </a:solidFill>
                <a:latin typeface="Times New Roman"/>
              </a:rPr>
              <a:t>Развитие навыка звуко-буквенного анализа слов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071720"/>
            <a:ext cx="8229240" cy="49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научить ребенка различать понятия «звук» и «буква»: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вук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- то, что мы слышим и произносим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укв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- то, что мы видим и пишем. 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Букв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это «одежда» для зву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2000160"/>
            <a:ext cx="82292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25596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триховка буквы: гласные штрихуются красным цветом, согласные - сини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твердые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зеленым - мягкие. 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25596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и учатся писать печатную букву в рамках клетки одинаковой высоты и ширины. 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25596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 работа способствует развитию графических навыков, готовит руку ребенка к письму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5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Подготовка руки ребенка к письму - овладение некоторыми графическими умениями</a:t>
            </a: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лексеева М.М., Яшина В.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Методика развития и обучения родному языку дошкольников. М., 2007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. Журова Л.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ка к обучению грамоте детей 4-5 лет. Конспекты занятий. – М., Издательство: Вентана-Граф,  2011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3. Лосева И.И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ория и методика развития речи детей дошкольного возраста. Учебно-методическое пособие.- Ростов-на-Дону: Изд-во ПИ ЮФУ, 2009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4. Стародубова Н.А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ория и методика развития речи дошкольников М. 2006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</a:rPr>
              <a:t>Литература</a:t>
            </a:r>
            <a:endParaRPr b="0" lang="ru-RU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714320"/>
            <a:ext cx="8229240" cy="42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Lucida Sans Unicode"/>
              </a:rPr>
              <a:t>Благодарю за внимание!</a:t>
            </a:r>
            <a:endParaRPr b="0" lang="ru-RU" sz="5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500040"/>
            <a:ext cx="822924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34308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Развитие речи детей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а из ведущих задач, решаемых дошкольными образовательными учреждениями. 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34308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а осуществляется при разных видах деятельности, в том числе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на занятиях по обучению грамоте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. 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416763792"/>
              </p:ext>
            </p:extLst>
          </p:nvPr>
        </p:nvGraphicFramePr>
        <p:xfrm>
          <a:off x="500040" y="285840"/>
          <a:ext cx="8229240" cy="6071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640" y="1917000"/>
            <a:ext cx="8229240" cy="40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indent="23292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школьники не только видят буквы и слышат звуки, но и могут на практике в тетради применить полученные знания и умения, осуществить самоконтроль, самооценку своей работы. 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23292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евняя пословица гласит: «Я слышу - я забываю, я вижу - я запоминаю, я делаю - я понимаю».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ной метод обучения в работе с дошкольниками – 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это наглядность</a:t>
            </a: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71760"/>
            <a:ext cx="822924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34308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Знакомить детей со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звуковой стороной слов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, самыми простыми формами его анализа уже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со средней группы детского сад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, (с 4 лет), когда резко возрастает интерес к звуковому оформлению слов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343080" algn="just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 этом возрасте дети наиболее восприимчивы к звуковой стороне языка и проявляют особый интерес к словам и звукам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Содержание работы по возрастам</a:t>
            </a:r>
            <a:endParaRPr b="0" lang="ru-RU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49213366"/>
              </p:ext>
            </p:extLst>
          </p:nvPr>
        </p:nvGraphicFramePr>
        <p:xfrm>
          <a:off x="428760" y="1571760"/>
          <a:ext cx="82292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2060"/>
                </a:solidFill>
                <a:latin typeface="Lucida Sans Unicode"/>
              </a:rPr>
              <a:t>Средний дошкольный возраст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52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арные упраж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омогающие употреблять термин «слова»: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Образуй новые слова от слова образц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«зайчишка», «зайчик», «зайчонок»)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Назвать сюжетную картинку или группы предметов одним слово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игрушки, овощи, фрукт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Назвать слова, обозначающие качество предметов, например яблок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круглое, красное, кислое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адания на различение слов сходных по звучанию: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ишка-шишка, баран-банан и т. 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)». 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адания на ознакомление детей со слоговой структурой слов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слышать и называть количество слогов в слове, определять их последовательность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знакомление со словом 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285920"/>
            <a:ext cx="822924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знакомление с изучаемым звуком проходи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 этап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е сменяют друг друга: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В словах живут звуки окружающего мир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«Песенка Жука»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Интонационное выделение зву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интонационное произношение заданного звука в слове, изолированное произношение звука, изолированное произношение первого звука в слове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Формирование умения различать твердые, мягкие согласные;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Названия слов с заданным звуком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Ознакомление со звуками</a:t>
            </a:r>
            <a:endParaRPr b="0" lang="ru-RU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714320"/>
            <a:ext cx="8229240" cy="42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мелкой мотори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гимнастика для пальцев рук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есно связанно с речью детей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этой целью проводятся специальны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пражнения для пальцев ру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состоящие из последовательных действий, которые сопровождаются стихотворениями, считалками, потешками. 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ение упражнений способствует тренировке пальцев, которые становятся подвижными, гибкими. Исчезает скованность движений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гие эффективные средства: мазайка, лепка, штриховка, вязание, конструирование из мелких элементов и др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Развитие моторики и графических навыков с целью подготовки руки ребенка к письму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132</TotalTime>
  <Application>LibreOffice/7.4.7.2$Linux_X86_64 LibreOffice_project/40$Build-2</Application>
  <AppVersion>15.0000</AppVersion>
  <Words>903</Words>
  <Paragraphs>95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06:10:48Z</dcterms:created>
  <dc:creator>Админ</dc:creator>
  <dc:description/>
  <dc:language>en-US</dc:language>
  <cp:lastModifiedBy>User</cp:lastModifiedBy>
  <dcterms:modified xsi:type="dcterms:W3CDTF">2022-09-26T18:56:09Z</dcterms:modified>
  <cp:revision>23</cp:revision>
  <dc:subject/>
  <dc:title>Подготовка дошкольников к обучению грамот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7</vt:r8>
  </property>
</Properties>
</file>