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54C5-922B-42E5-B749-DB4A8003B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716E-E554-4E85-AD27-1044F511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1D3735-14B4-47E3-86CB-A3650B58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1523A6-4B96-4FB0-AE38-8FAB398A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6598A0-2B9B-433C-9589-7F87F5B5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F4FDE8-03D6-4399-AFD2-58B3B3A5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AA65E7-CF13-4E6A-B4F0-3D7D8B70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0EF2E4-FD46-4E53-B743-51679427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632BBE-E152-400E-AEA0-913A2AFF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C8E404-DEDF-4C7B-BA70-4B5F80E5A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D09FFB-D9DC-4D0C-8489-12BA2DBDF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D84784-F231-4586-A808-8AB39F6DF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D14A-4592-4F33-B518-9179EFD18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9894AB-55BD-472D-A5A9-B39FB386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AF4DA3-2CD9-49C3-AC18-042AD8B7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1C54F8-632B-4B03-A93C-F31587D4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458F04-2846-46C1-B2F0-C49EB1CF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020C31-BF25-4D0E-94F9-C6A779FC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CABF35-8E5B-4065-8D1B-D84C9A84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AA07C2-7BEA-4F6B-8FDC-1B2472A1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09F0AB-039A-4BBB-8413-7DC36702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30F1F8-7B87-484C-B3D8-37901978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E8C9D5-630B-451A-88D6-7AB3532AC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196D-E85E-4DA2-B939-E67785484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26D013-8FDD-4905-9BB4-020260681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B51D49-B68C-4790-9D2E-F25377875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93DC9-A1B4-4A08-9912-471F04ED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DA1EFE-7CBD-457E-AAC7-167E19F8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24BB6-E3CB-460F-A038-246AE4C9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0CBE2D-99A2-4B35-A804-B60994F2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DD202-A21A-4896-A318-D28F8763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41E3C9-32E5-4085-BBB5-B96F8176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8A8CC8-AA64-4B4F-8E1B-4E89AC86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C0C7E-E3D1-4D9C-94A6-E2C5EB8B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D71C-71C4-43DD-836B-46362FEBD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C3DFB-A1C9-4310-99BA-179059BA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8D7D1D-5AF1-4806-9CB3-C3ACCB15B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728391-12BD-4C11-8FAE-B9982B1A4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B15535-332C-4DBA-B3A2-A9D825432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E719D8-2EBC-4EF0-BFF7-5E2A1264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D32AF1-1A8A-44CF-ABC5-50B155FA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EBC0A1-926A-4CFC-873A-E6FFB65A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357C85-3815-47F0-B455-367D3386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946CE9-DD77-4747-8514-7150DFF0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89879E-14E7-4907-B0F2-918ED4BD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4F8A-1733-46C8-BC53-2F883A4B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BBDA0C-6F59-4E81-B708-F43E8FD0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628A01-F565-45E1-99A2-973E2EEA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AEB46E-8E07-41A5-90A8-334077BC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EE2696-DEDA-4930-B0D3-64CE8325F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C40872-83CE-4608-B539-A132044C4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FBA09-6C92-43F6-9437-DB100707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E2FA5-6F4F-427C-9BCB-9D46870D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74F0-CD90-45D3-95AF-AE17F4F2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F870-644A-4F5E-A967-C2C754A7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C0D0-FFDA-41C9-9607-549924D9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CF5A-4C7C-439F-8018-4E2795B0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8F45-F2D2-4004-BE69-ABBACA01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6B27-BA56-470A-9341-AFB55D38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BDE9-BE27-4AC1-9323-E9CCCE84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B7E2-F9B3-4386-9CDE-7F699CA1E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6FF4-3488-46C7-9698-9B4D26646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60C2E-3DC3-4F4C-A1FF-D9FABF6A6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B5666-6AE0-4491-8B88-77F3B04F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9F853-35A1-4DBB-AFD9-947B733D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0A3B3-C289-42B7-B308-DEF85675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BF48F-74A8-4AF7-9621-0A343FAE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11D9-ADF7-4B9D-AE73-68B1866E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76EE8-4699-47E2-B091-B8603270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A18DC-4F95-4447-A2D3-A19A6B00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E975E-B32D-4ADD-BBDC-0D5AF2D8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D0DA8-27A3-4C89-A743-5485229D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24470-C38E-4A08-BD06-C97DC192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6A9F9-9828-4ED4-B7E9-55BC0788B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3CA1F-311B-4360-A340-B9020C929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27D3E-BB1C-46A8-B5FC-9B4487072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6B2D6-AB00-4833-B5A5-8A4F14C9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15783-EBD6-4939-9CB8-545D6996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0520-CA9E-4243-AD57-C85787A9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4E9A9-2341-466E-BBCA-C93C0A3F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70ED6-BCE3-40AE-B1A3-8E7F2484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D3063-5410-4D4A-BE01-927C5308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8685C-C152-4530-B9C5-08BC46F4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5A29A-78D1-43CC-AC51-E1A581B0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BA2B0-8DF8-4D3A-8811-5F771C60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82F4E-B0AC-4993-AE28-8BA8BE716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8128C-1C37-4A63-9B17-29A22DA7B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BB062-ED51-47D3-8E75-AF8D17EF8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A8484-D885-4D14-8336-C923C602E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BD72-C3B9-4B23-AF10-031EA5CD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BA3C9-5458-4720-A0B8-235B4D9C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5912F-21F7-4782-AF69-5D5F84C8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B1FCC-B719-4B5B-BE1D-C0034C46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A995F-EBD5-46B9-912F-F221B2F9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C73BA-4665-477F-BF6A-1756E1C2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DF0C7-642B-43AA-9766-BEB66421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4F601-6266-426F-8379-1563D8C7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2B599-4D53-42CC-9E08-E3138617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5A4A0-58B2-40CF-A345-7173FC2A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A2303-0471-42F9-9EC2-8AC6FBEDC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4991-0F08-49F1-AD45-2C9C8407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D6BA6-917D-4245-8CAA-9E729A194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6F41D-31A2-4F79-915E-190F7FFBA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D0CF5-9C10-4947-BD18-CDEEF89A6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87CC0-6E8F-4193-A6F4-868DE8EA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E426D-3ACE-4BE2-832A-1355FA53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FEBB2-530A-4EDA-A03F-C70A3657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314D6-5C69-4925-B776-6CFF774F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7F31B-8099-4735-9675-A01B2A37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884DF-5079-49EC-B477-131BBC3E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32730-DE23-47E2-A124-393D7EF8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FD53-6074-4938-B787-6735A2A4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3F26D-39AB-4632-8DD5-506DD172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7791E-85CE-41DE-821C-4C652ED85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F3D14-9844-4DF5-9374-A0380873E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EBCED-86EF-4BCC-9D02-E6060D392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1182F-BC63-40EE-9E16-10FEB2DC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F35CD-BE5A-4089-9F87-73AB4FDC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08BF1-37C1-4E6B-AF86-FB4418EDD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38B88-A7AF-4A22-A46A-09293B84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CDA47-A000-4C91-821F-99953691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5CE60-6C63-4B83-963B-0769443A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7B9C-37CD-47B4-835E-F85A098A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CA853-32C3-4903-B829-3A9C229C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DF966-673B-47A0-B524-F9BDD8CA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7688D-E593-4648-8099-356C1C50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3158D-F515-4781-BE61-F5B1844F7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EB32B-20C0-4F27-95C0-997F23306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60C6A-87F1-4789-B0F5-E58A52C3E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856FA-29B3-41F1-84D0-442CCBDF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D742E-AD97-4405-A1CA-7433A4BF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511F6-2E9B-4496-B502-29F10D03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66236-BB52-428B-A5B8-78FB446D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B6D4-F304-4487-9B6F-4CE3BD64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114BA-C826-4220-BF95-33CCEB40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41888-5C48-4EF2-9FDE-277D6FCB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CA325-ACB3-4EC6-B4EE-65BD84EE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417EF-9342-4549-A627-F5FB21E0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A4C6C-0EFB-45B4-8B88-7FDBB91E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17AA7-D88F-4595-98FA-2205CA2DF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8F9AE-7F5A-430F-A859-E431DB982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C41996-1F9E-4986-BB0B-885ED0ED3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01EA29-209A-471F-85C8-44663AE1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EDE71A-D632-437A-9102-4825AB23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1B7B-545E-4351-BFEF-6C4C1946BE8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traight Connector 20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19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11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12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A536-44F7-4633-8B46-6FC5225FB6A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889C-E4F7-48BB-9C9A-29E1E728D3B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1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1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traight Connector 1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1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1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6BC5-DC68-4ECD-8854-68683904B95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8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2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3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091A-E1FA-4746-982D-03B1C0D68134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1695-D7BA-4695-9DA9-D94FD75EC5E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7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8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7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3AD6-C66F-4238-9C9A-19DFD30DEC3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7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D33D-8B59-4109-AC8D-C3D7BBE634B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traight Connector 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traight Connector 14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24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E14C-CE95-45D0-9105-D957DDE99EB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5991-E8BB-4C32-B702-DB09D29D38A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9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F24B-CFC7-463B-A2EB-E719BE94D29C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8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7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5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traight Connector 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1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D2CE-0F57-4F07-B7F6-21596495E89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16349"/>
                </a:solidFill>
                <a:latin typeface="Georgia"/>
              </a:rPr>
              <a:t>Present Simple. </a:t>
            </a:r>
            <a:br>
              <a:rPr sz="4800"/>
            </a:br>
            <a:r>
              <a:rPr b="1" lang="en-US" sz="4800" spc="-1" strike="noStrike">
                <a:solidFill>
                  <a:srgbClr val="d16349"/>
                </a:solidFill>
                <a:latin typeface="Georgia"/>
              </a:rPr>
              <a:t>Special Questions.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/>
          </p:nvPr>
        </p:nvSpPr>
        <p:spPr>
          <a:xfrm>
            <a:off x="609480" y="2743200"/>
            <a:ext cx="79250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b86"/>
                </a:solidFill>
                <a:latin typeface="Georgia"/>
              </a:rPr>
              <a:t>WHAT DO THE STUDENTS DO AT MATHS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The students count at Maths. (What?)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5" name="TextBox 6"/>
          <p:cNvSpPr/>
          <p:nvPr/>
        </p:nvSpPr>
        <p:spPr>
          <a:xfrm>
            <a:off x="-535680" y="304920"/>
            <a:ext cx="24271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  <a:ea typeface="Arial"/>
              </a:rPr>
              <a:t>#</a:t>
            </a:r>
            <a:fld id="{63AA56A5-0488-4ADB-9F91-2DBF0934E052}" type="slidenum">
              <a:rPr b="0" lang="en-US" sz="3200" spc="-1" strike="noStrike">
                <a:solidFill>
                  <a:srgbClr val="ffffff"/>
                </a:solidFill>
                <a:latin typeface="Georgia"/>
                <a:ea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TextBox 7"/>
          <p:cNvGrpSpPr/>
          <p:nvPr/>
        </p:nvGrpSpPr>
        <p:grpSpPr>
          <a:xfrm>
            <a:off x="969840" y="5595840"/>
            <a:ext cx="1717920" cy="628920"/>
            <a:chOff x="969840" y="5595840"/>
            <a:chExt cx="1717920" cy="628920"/>
          </a:xfrm>
        </p:grpSpPr>
        <p:pic>
          <p:nvPicPr>
            <p:cNvPr id="787" name="TextBox 7" descr=""/>
            <p:cNvPicPr/>
            <p:nvPr/>
          </p:nvPicPr>
          <p:blipFill>
            <a:blip r:embed="rId1"/>
            <a:stretch/>
          </p:blipFill>
          <p:spPr>
            <a:xfrm>
              <a:off x="969840" y="5595840"/>
              <a:ext cx="171792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8" name=""/>
            <p:cNvSpPr/>
            <p:nvPr/>
          </p:nvSpPr>
          <p:spPr>
            <a:xfrm>
              <a:off x="990720" y="5616720"/>
              <a:ext cx="167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eorgia"/>
                </a:rPr>
                <a:t>SHO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9" name="TextBox 8"/>
          <p:cNvGrpSpPr/>
          <p:nvPr/>
        </p:nvGrpSpPr>
        <p:grpSpPr>
          <a:xfrm>
            <a:off x="3633840" y="5595840"/>
            <a:ext cx="1492200" cy="628920"/>
            <a:chOff x="3633840" y="5595840"/>
            <a:chExt cx="1492200" cy="628920"/>
          </a:xfrm>
        </p:grpSpPr>
        <p:pic>
          <p:nvPicPr>
            <p:cNvPr id="790" name="TextBox 8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3633840" y="5595840"/>
              <a:ext cx="149220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1" name=""/>
            <p:cNvSpPr/>
            <p:nvPr/>
          </p:nvSpPr>
          <p:spPr>
            <a:xfrm>
              <a:off x="3657600" y="561672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eorgia"/>
                </a:rPr>
                <a:t>N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TextBox 9"/>
          <p:cNvGrpSpPr/>
          <p:nvPr/>
        </p:nvGrpSpPr>
        <p:grpSpPr>
          <a:xfrm>
            <a:off x="6072120" y="5473800"/>
            <a:ext cx="2102040" cy="871560"/>
            <a:chOff x="6072120" y="5473800"/>
            <a:chExt cx="2102040" cy="871560"/>
          </a:xfrm>
        </p:grpSpPr>
        <p:pic>
          <p:nvPicPr>
            <p:cNvPr id="793" name="TextBox 9" descr=""/>
            <p:cNvPicPr/>
            <p:nvPr/>
          </p:nvPicPr>
          <p:blipFill>
            <a:blip r:embed="rId3"/>
            <a:stretch/>
          </p:blipFill>
          <p:spPr>
            <a:xfrm>
              <a:off x="6072120" y="5473800"/>
              <a:ext cx="2102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"/>
            <p:cNvSpPr/>
            <p:nvPr/>
          </p:nvSpPr>
          <p:spPr>
            <a:xfrm>
              <a:off x="6095880" y="549432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eorgia"/>
                </a:rPr>
                <a:t>MARK FOR REVIE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5" name="TextBox 10"/>
          <p:cNvSpPr/>
          <p:nvPr/>
        </p:nvSpPr>
        <p:spPr>
          <a:xfrm>
            <a:off x="93240" y="1600200"/>
            <a:ext cx="195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  <a:ea typeface="Arial"/>
              </a:rPr>
              <a:t>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15" descr="C:\Users\samsung\Pictures\SCHOOL\C41-11 копия.jpg"/>
          <p:cNvPicPr/>
          <p:nvPr/>
        </p:nvPicPr>
        <p:blipFill>
          <a:blip r:embed="rId4"/>
          <a:stretch/>
        </p:blipFill>
        <p:spPr>
          <a:xfrm>
            <a:off x="6143760" y="3500280"/>
            <a:ext cx="1990440" cy="19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786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786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8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792"/>
                    </p:tgtEl>
                  </p:cond>
                </p:stCondLst>
                <p:childTnLst>
                  <p:par>
                    <p:cTn id="129" nodeType="clickEffect" fill="hold">
                      <p:stCondLst>
                        <p:cond evt="onClick">
                          <p:tgtEl>
                            <p:spTgt spid="792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80"/>
                                  </p:iterate>
                                  <p:childTnLst>
                                    <p:animEffect filter="wipe(left)" transition="out">
                                      <p:cBhvr additive="repl">
                                        <p:cTn id="132" dur="200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/>
          </p:nvPr>
        </p:nvSpPr>
        <p:spPr>
          <a:xfrm>
            <a:off x="609480" y="2743200"/>
            <a:ext cx="79250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b86"/>
                </a:solidFill>
                <a:latin typeface="Georgia"/>
              </a:rPr>
              <a:t>HOW MANY QUESTIONS DOES JACK ASK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title"/>
          </p:nvPr>
        </p:nvSpPr>
        <p:spPr>
          <a:xfrm>
            <a:off x="1071720" y="304560"/>
            <a:ext cx="792936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Jack asks a lot of questions at the lesson. (How many?)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9" name="TextBox 6"/>
          <p:cNvSpPr/>
          <p:nvPr/>
        </p:nvSpPr>
        <p:spPr>
          <a:xfrm>
            <a:off x="-535680" y="304920"/>
            <a:ext cx="24271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  <a:ea typeface="Arial"/>
              </a:rPr>
              <a:t>#</a:t>
            </a:r>
            <a:fld id="{96EC9004-841C-4688-921D-17746AF97967}" type="slidenum">
              <a:rPr b="0" lang="en-US" sz="3200" spc="-1" strike="noStrike">
                <a:solidFill>
                  <a:srgbClr val="ffffff"/>
                </a:solidFill>
                <a:latin typeface="Georgia"/>
                <a:ea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0" name="TextBox 7"/>
          <p:cNvGrpSpPr/>
          <p:nvPr/>
        </p:nvGrpSpPr>
        <p:grpSpPr>
          <a:xfrm>
            <a:off x="969840" y="5595840"/>
            <a:ext cx="1717920" cy="628920"/>
            <a:chOff x="969840" y="5595840"/>
            <a:chExt cx="1717920" cy="628920"/>
          </a:xfrm>
        </p:grpSpPr>
        <p:pic>
          <p:nvPicPr>
            <p:cNvPr id="801" name="TextBox 7" descr=""/>
            <p:cNvPicPr/>
            <p:nvPr/>
          </p:nvPicPr>
          <p:blipFill>
            <a:blip r:embed="rId1"/>
            <a:stretch/>
          </p:blipFill>
          <p:spPr>
            <a:xfrm>
              <a:off x="969840" y="5595840"/>
              <a:ext cx="171792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2" name=""/>
            <p:cNvSpPr/>
            <p:nvPr/>
          </p:nvSpPr>
          <p:spPr>
            <a:xfrm>
              <a:off x="990720" y="5616720"/>
              <a:ext cx="167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eorgia"/>
                </a:rPr>
                <a:t>SHO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TextBox 8"/>
          <p:cNvGrpSpPr/>
          <p:nvPr/>
        </p:nvGrpSpPr>
        <p:grpSpPr>
          <a:xfrm>
            <a:off x="3633840" y="5595840"/>
            <a:ext cx="1492200" cy="628920"/>
            <a:chOff x="3633840" y="5595840"/>
            <a:chExt cx="1492200" cy="628920"/>
          </a:xfrm>
        </p:grpSpPr>
        <p:pic>
          <p:nvPicPr>
            <p:cNvPr id="804" name="TextBox 8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3633840" y="5595840"/>
              <a:ext cx="149220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5" name=""/>
            <p:cNvSpPr/>
            <p:nvPr/>
          </p:nvSpPr>
          <p:spPr>
            <a:xfrm>
              <a:off x="3657600" y="561672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eorgia"/>
                </a:rPr>
                <a:t>N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TextBox 9"/>
          <p:cNvGrpSpPr/>
          <p:nvPr/>
        </p:nvGrpSpPr>
        <p:grpSpPr>
          <a:xfrm>
            <a:off x="6072120" y="5473800"/>
            <a:ext cx="2102040" cy="871560"/>
            <a:chOff x="6072120" y="5473800"/>
            <a:chExt cx="2102040" cy="871560"/>
          </a:xfrm>
        </p:grpSpPr>
        <p:pic>
          <p:nvPicPr>
            <p:cNvPr id="807" name="TextBox 9" descr=""/>
            <p:cNvPicPr/>
            <p:nvPr/>
          </p:nvPicPr>
          <p:blipFill>
            <a:blip r:embed="rId3"/>
            <a:stretch/>
          </p:blipFill>
          <p:spPr>
            <a:xfrm>
              <a:off x="6072120" y="5473800"/>
              <a:ext cx="2102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8" name=""/>
            <p:cNvSpPr/>
            <p:nvPr/>
          </p:nvSpPr>
          <p:spPr>
            <a:xfrm>
              <a:off x="6095880" y="549432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eorgia"/>
                </a:rPr>
                <a:t>MARK FOR REVIE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" name="TextBox 10"/>
          <p:cNvSpPr/>
          <p:nvPr/>
        </p:nvSpPr>
        <p:spPr>
          <a:xfrm>
            <a:off x="93240" y="1600200"/>
            <a:ext cx="195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  <a:ea typeface="Arial"/>
              </a:rPr>
              <a:t>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Picture 15" descr=""/>
          <p:cNvPicPr/>
          <p:nvPr/>
        </p:nvPicPr>
        <p:blipFill>
          <a:blip r:embed="rId4"/>
          <a:stretch/>
        </p:blipFill>
        <p:spPr>
          <a:xfrm>
            <a:off x="6357960" y="3214800"/>
            <a:ext cx="164304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restart="whenNotActive" nodeType="interactiveSeq" fill="hold">
                <p:stCondLst>
                  <p:cond evt="onClick">
                    <p:tgtEl>
                      <p:spTgt spid="800"/>
                    </p:tgtEl>
                  </p:cond>
                </p:stCondLst>
                <p:childTnLst>
                  <p:par>
                    <p:cTn id="138" nodeType="clickEffect" fill="hold">
                      <p:stCondLst>
                        <p:cond evt="onClick">
                          <p:tgtEl>
                            <p:spTgt spid="800"/>
                          </p:tgtEl>
                        </p:cond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8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806"/>
                    </p:tgtEl>
                  </p:cond>
                </p:stCondLst>
                <p:childTnLst>
                  <p:par>
                    <p:cTn id="144" nodeType="clickEffect" fill="hold">
                      <p:stCondLst>
                        <p:cond evt="onClick">
                          <p:tgtEl>
                            <p:spTgt spid="806"/>
                          </p:tgtEl>
                        </p:cond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80"/>
                                  </p:iterate>
                                  <p:childTnLst>
                                    <p:animEffect filter="wipe(left)" transition="out">
                                      <p:cBhvr additive="repl">
                                        <p:cTn id="147" dur="200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/>
          </p:nvPr>
        </p:nvSpPr>
        <p:spPr>
          <a:xfrm>
            <a:off x="609480" y="2743200"/>
            <a:ext cx="79250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b86"/>
                </a:solidFill>
                <a:latin typeface="Georgia"/>
              </a:rPr>
              <a:t>HOW MUCH HOMEWORK DOES PETE USUALLY HAVE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Pete usually has a lot of homework (How much?)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13" name="TextBox 6"/>
          <p:cNvSpPr/>
          <p:nvPr/>
        </p:nvSpPr>
        <p:spPr>
          <a:xfrm>
            <a:off x="-535680" y="304920"/>
            <a:ext cx="24271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  <a:ea typeface="Arial"/>
              </a:rPr>
              <a:t>#</a:t>
            </a:r>
            <a:fld id="{FCB22C7B-7E71-414F-AD9C-5D0F7A7F4379}" type="slidenum">
              <a:rPr b="0" lang="en-US" sz="3200" spc="-1" strike="noStrike">
                <a:solidFill>
                  <a:srgbClr val="ffffff"/>
                </a:solidFill>
                <a:latin typeface="Georgia"/>
                <a:ea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TextBox 7"/>
          <p:cNvGrpSpPr/>
          <p:nvPr/>
        </p:nvGrpSpPr>
        <p:grpSpPr>
          <a:xfrm>
            <a:off x="969840" y="5595840"/>
            <a:ext cx="1717920" cy="628920"/>
            <a:chOff x="969840" y="5595840"/>
            <a:chExt cx="1717920" cy="628920"/>
          </a:xfrm>
        </p:grpSpPr>
        <p:pic>
          <p:nvPicPr>
            <p:cNvPr id="815" name="TextBox 7" descr=""/>
            <p:cNvPicPr/>
            <p:nvPr/>
          </p:nvPicPr>
          <p:blipFill>
            <a:blip r:embed="rId1"/>
            <a:stretch/>
          </p:blipFill>
          <p:spPr>
            <a:xfrm>
              <a:off x="969840" y="5595840"/>
              <a:ext cx="171792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6" name=""/>
            <p:cNvSpPr/>
            <p:nvPr/>
          </p:nvSpPr>
          <p:spPr>
            <a:xfrm>
              <a:off x="990720" y="5616720"/>
              <a:ext cx="167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eorgia"/>
                </a:rPr>
                <a:t>SHO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TextBox 8"/>
          <p:cNvGrpSpPr/>
          <p:nvPr/>
        </p:nvGrpSpPr>
        <p:grpSpPr>
          <a:xfrm>
            <a:off x="3633840" y="5595840"/>
            <a:ext cx="1492200" cy="628920"/>
            <a:chOff x="3633840" y="5595840"/>
            <a:chExt cx="1492200" cy="628920"/>
          </a:xfrm>
        </p:grpSpPr>
        <p:pic>
          <p:nvPicPr>
            <p:cNvPr id="818" name="TextBox 8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3633840" y="5595840"/>
              <a:ext cx="149220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9" name=""/>
            <p:cNvSpPr/>
            <p:nvPr/>
          </p:nvSpPr>
          <p:spPr>
            <a:xfrm>
              <a:off x="3657600" y="561672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eorgia"/>
                </a:rPr>
                <a:t>N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TextBox 9"/>
          <p:cNvGrpSpPr/>
          <p:nvPr/>
        </p:nvGrpSpPr>
        <p:grpSpPr>
          <a:xfrm>
            <a:off x="6072120" y="5473800"/>
            <a:ext cx="2102040" cy="871560"/>
            <a:chOff x="6072120" y="5473800"/>
            <a:chExt cx="2102040" cy="871560"/>
          </a:xfrm>
        </p:grpSpPr>
        <p:pic>
          <p:nvPicPr>
            <p:cNvPr id="821" name="TextBox 9" descr=""/>
            <p:cNvPicPr/>
            <p:nvPr/>
          </p:nvPicPr>
          <p:blipFill>
            <a:blip r:embed="rId3"/>
            <a:stretch/>
          </p:blipFill>
          <p:spPr>
            <a:xfrm>
              <a:off x="6072120" y="5473800"/>
              <a:ext cx="2102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2" name=""/>
            <p:cNvSpPr/>
            <p:nvPr/>
          </p:nvSpPr>
          <p:spPr>
            <a:xfrm>
              <a:off x="6095880" y="549432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eorgia"/>
                </a:rPr>
                <a:t>MARK FOR REVIE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TextBox 10"/>
          <p:cNvSpPr/>
          <p:nvPr/>
        </p:nvSpPr>
        <p:spPr>
          <a:xfrm>
            <a:off x="93240" y="1600200"/>
            <a:ext cx="195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  <a:ea typeface="Arial"/>
              </a:rPr>
              <a:t>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Picture 15" descr="C:\Users\samsung\Pictures\SCHOOL\Рисунок6.png"/>
          <p:cNvPicPr/>
          <p:nvPr/>
        </p:nvPicPr>
        <p:blipFill>
          <a:blip r:embed="rId4"/>
          <a:stretch/>
        </p:blipFill>
        <p:spPr>
          <a:xfrm>
            <a:off x="5572080" y="3786120"/>
            <a:ext cx="285768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814"/>
                    </p:tgtEl>
                  </p:cond>
                </p:stCondLst>
                <p:childTnLst>
                  <p:par>
                    <p:cTn id="153" nodeType="clickEffect" fill="hold">
                      <p:stCondLst>
                        <p:cond evt="onClick">
                          <p:tgtEl>
                            <p:spTgt spid="814"/>
                          </p:tgtEl>
                        </p:cond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8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200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820"/>
                    </p:tgtEl>
                  </p:cond>
                </p:stCondLst>
                <p:childTnLst>
                  <p:par>
                    <p:cTn id="159" nodeType="clickEffect" fill="hold">
                      <p:stCondLst>
                        <p:cond evt="onClick">
                          <p:tgtEl>
                            <p:spTgt spid="820"/>
                          </p:tgtEl>
                        </p:cond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80"/>
                                  </p:iterate>
                                  <p:childTnLst>
                                    <p:animEffect filter="wipe(left)" transition="out">
                                      <p:cBhvr additive="repl">
                                        <p:cTn id="162" dur="200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The End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grpSp>
        <p:nvGrpSpPr>
          <p:cNvPr id="827" name="TextBox 3"/>
          <p:cNvGrpSpPr/>
          <p:nvPr/>
        </p:nvGrpSpPr>
        <p:grpSpPr>
          <a:xfrm>
            <a:off x="4827600" y="3054240"/>
            <a:ext cx="2633760" cy="749520"/>
            <a:chOff x="4827600" y="3054240"/>
            <a:chExt cx="2633760" cy="749520"/>
          </a:xfrm>
        </p:grpSpPr>
        <p:pic>
          <p:nvPicPr>
            <p:cNvPr id="828" name="TextBox 3" descr=""/>
            <p:cNvPicPr/>
            <p:nvPr/>
          </p:nvPicPr>
          <p:blipFill>
            <a:blip r:embed="rId1"/>
            <a:stretch/>
          </p:blipFill>
          <p:spPr>
            <a:xfrm>
              <a:off x="4827600" y="3054240"/>
              <a:ext cx="263376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>
              <a:off x="4851360" y="3075120"/>
              <a:ext cx="259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Georgia"/>
                </a:rPr>
                <a:t>REVIEW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0" name="TextBox 4"/>
          <p:cNvGrpSpPr/>
          <p:nvPr/>
        </p:nvGrpSpPr>
        <p:grpSpPr>
          <a:xfrm>
            <a:off x="1682640" y="3054240"/>
            <a:ext cx="1487520" cy="749520"/>
            <a:chOff x="1682640" y="3054240"/>
            <a:chExt cx="1487520" cy="749520"/>
          </a:xfrm>
        </p:grpSpPr>
        <p:pic>
          <p:nvPicPr>
            <p:cNvPr id="831" name="TextBox 4" descr="">
              <a:hlinkClick r:id="" action="ppaction://hlinkshowjump?jump=endshow"/>
            </p:cNvPr>
            <p:cNvPicPr/>
            <p:nvPr/>
          </p:nvPicPr>
          <p:blipFill>
            <a:blip r:embed="rId2"/>
            <a:stretch/>
          </p:blipFill>
          <p:spPr>
            <a:xfrm>
              <a:off x="1682640" y="3054240"/>
              <a:ext cx="148752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2" name=""/>
            <p:cNvSpPr/>
            <p:nvPr/>
          </p:nvSpPr>
          <p:spPr>
            <a:xfrm>
              <a:off x="1701720" y="3075120"/>
              <a:ext cx="1447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Georgia"/>
                </a:rPr>
                <a:t>END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/>
          </p:nvPr>
        </p:nvSpPr>
        <p:spPr>
          <a:xfrm>
            <a:off x="609480" y="2743200"/>
            <a:ext cx="79250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b86"/>
                </a:solidFill>
                <a:latin typeface="Georgia"/>
              </a:rPr>
              <a:t>WHEN DOES THE SCHOOL YEAR START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The school year starts on the    first of September. (When?)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3" name="TextBox 6"/>
          <p:cNvSpPr/>
          <p:nvPr/>
        </p:nvSpPr>
        <p:spPr>
          <a:xfrm>
            <a:off x="-535680" y="304920"/>
            <a:ext cx="24271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  <a:ea typeface="Arial"/>
              </a:rPr>
              <a:t>#</a:t>
            </a:r>
            <a:fld id="{396A57EC-3B81-4B2C-8FD0-CD2F387AEE5F}" type="slidenum">
              <a:rPr b="0" lang="en-US" sz="3200" spc="-1" strike="noStrike">
                <a:solidFill>
                  <a:srgbClr val="ffffff"/>
                </a:solidFill>
                <a:latin typeface="Georgia"/>
                <a:ea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TextBox 7"/>
          <p:cNvGrpSpPr/>
          <p:nvPr/>
        </p:nvGrpSpPr>
        <p:grpSpPr>
          <a:xfrm>
            <a:off x="969840" y="5595840"/>
            <a:ext cx="1717920" cy="628920"/>
            <a:chOff x="969840" y="5595840"/>
            <a:chExt cx="1717920" cy="628920"/>
          </a:xfrm>
        </p:grpSpPr>
        <p:pic>
          <p:nvPicPr>
            <p:cNvPr id="675" name="TextBox 7" descr=""/>
            <p:cNvPicPr/>
            <p:nvPr/>
          </p:nvPicPr>
          <p:blipFill>
            <a:blip r:embed="rId1"/>
            <a:stretch/>
          </p:blipFill>
          <p:spPr>
            <a:xfrm>
              <a:off x="969840" y="5595840"/>
              <a:ext cx="171792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"/>
            <p:cNvSpPr/>
            <p:nvPr/>
          </p:nvSpPr>
          <p:spPr>
            <a:xfrm>
              <a:off x="990720" y="5616720"/>
              <a:ext cx="167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eorgia"/>
                </a:rPr>
                <a:t>SHO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TextBox 8"/>
          <p:cNvGrpSpPr/>
          <p:nvPr/>
        </p:nvGrpSpPr>
        <p:grpSpPr>
          <a:xfrm>
            <a:off x="3633840" y="5595840"/>
            <a:ext cx="1492200" cy="628920"/>
            <a:chOff x="3633840" y="5595840"/>
            <a:chExt cx="1492200" cy="628920"/>
          </a:xfrm>
        </p:grpSpPr>
        <p:pic>
          <p:nvPicPr>
            <p:cNvPr id="678" name="TextBox 8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3633840" y="5595840"/>
              <a:ext cx="149220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>
              <a:off x="3657600" y="561672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eorgia"/>
                </a:rPr>
                <a:t>N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TextBox 9"/>
          <p:cNvGrpSpPr/>
          <p:nvPr/>
        </p:nvGrpSpPr>
        <p:grpSpPr>
          <a:xfrm>
            <a:off x="6072120" y="5473800"/>
            <a:ext cx="2102040" cy="871560"/>
            <a:chOff x="6072120" y="5473800"/>
            <a:chExt cx="2102040" cy="871560"/>
          </a:xfrm>
        </p:grpSpPr>
        <p:pic>
          <p:nvPicPr>
            <p:cNvPr id="681" name="TextBox 9" descr=""/>
            <p:cNvPicPr/>
            <p:nvPr/>
          </p:nvPicPr>
          <p:blipFill>
            <a:blip r:embed="rId3"/>
            <a:stretch/>
          </p:blipFill>
          <p:spPr>
            <a:xfrm>
              <a:off x="6072120" y="5473800"/>
              <a:ext cx="2102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"/>
            <p:cNvSpPr/>
            <p:nvPr/>
          </p:nvSpPr>
          <p:spPr>
            <a:xfrm>
              <a:off x="6095880" y="549432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eorgia"/>
                </a:rPr>
                <a:t>MARK FOR REVIE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3" name="TextBox 10"/>
          <p:cNvSpPr/>
          <p:nvPr/>
        </p:nvSpPr>
        <p:spPr>
          <a:xfrm>
            <a:off x="93240" y="1600200"/>
            <a:ext cx="195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  <a:ea typeface="Arial"/>
              </a:rPr>
              <a:t>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16" descr="C:\Users\samsung\Pictures\SCHOOL\school3.gif"/>
          <p:cNvPicPr/>
          <p:nvPr/>
        </p:nvPicPr>
        <p:blipFill>
          <a:blip r:embed="rId4"/>
          <a:stretch/>
        </p:blipFill>
        <p:spPr>
          <a:xfrm>
            <a:off x="6357960" y="3286080"/>
            <a:ext cx="14288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7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7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680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680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80"/>
                                  </p:iterate>
                                  <p:childTnLst>
                                    <p:animEffect filter="wipe(left)" transition="out">
                                      <p:cBhvr additive="repl">
                                        <p:cTn id="12" dur="200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609480" y="2743200"/>
            <a:ext cx="79250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b86"/>
                </a:solidFill>
                <a:latin typeface="Georgia"/>
              </a:rPr>
              <a:t>HOW DO MANY STUDENTS GET TO SCHOOL?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Many students get to school by bus. (How?)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7" name="TextBox 6"/>
          <p:cNvSpPr/>
          <p:nvPr/>
        </p:nvSpPr>
        <p:spPr>
          <a:xfrm>
            <a:off x="-535680" y="304920"/>
            <a:ext cx="24271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  <a:ea typeface="Arial"/>
              </a:rPr>
              <a:t>#</a:t>
            </a:r>
            <a:fld id="{6AA0B97A-DCF0-4091-8936-A8ABA41E8609}" type="slidenum">
              <a:rPr b="0" lang="en-US" sz="3200" spc="-1" strike="noStrike">
                <a:solidFill>
                  <a:srgbClr val="ffffff"/>
                </a:solidFill>
                <a:latin typeface="Georgia"/>
                <a:ea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TextBox 7"/>
          <p:cNvGrpSpPr/>
          <p:nvPr/>
        </p:nvGrpSpPr>
        <p:grpSpPr>
          <a:xfrm>
            <a:off x="969840" y="5595840"/>
            <a:ext cx="1717920" cy="628920"/>
            <a:chOff x="969840" y="5595840"/>
            <a:chExt cx="1717920" cy="628920"/>
          </a:xfrm>
        </p:grpSpPr>
        <p:pic>
          <p:nvPicPr>
            <p:cNvPr id="689" name="TextBox 7" descr=""/>
            <p:cNvPicPr/>
            <p:nvPr/>
          </p:nvPicPr>
          <p:blipFill>
            <a:blip r:embed="rId1"/>
            <a:stretch/>
          </p:blipFill>
          <p:spPr>
            <a:xfrm>
              <a:off x="969840" y="5595840"/>
              <a:ext cx="171792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0" name=""/>
            <p:cNvSpPr/>
            <p:nvPr/>
          </p:nvSpPr>
          <p:spPr>
            <a:xfrm>
              <a:off x="990720" y="5616720"/>
              <a:ext cx="167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eorgia"/>
                </a:rPr>
                <a:t>SHO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TextBox 8"/>
          <p:cNvGrpSpPr/>
          <p:nvPr/>
        </p:nvGrpSpPr>
        <p:grpSpPr>
          <a:xfrm>
            <a:off x="3633840" y="5595840"/>
            <a:ext cx="1492200" cy="628920"/>
            <a:chOff x="3633840" y="5595840"/>
            <a:chExt cx="1492200" cy="628920"/>
          </a:xfrm>
        </p:grpSpPr>
        <p:pic>
          <p:nvPicPr>
            <p:cNvPr id="692" name="TextBox 8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3633840" y="5595840"/>
              <a:ext cx="149220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3" name=""/>
            <p:cNvSpPr/>
            <p:nvPr/>
          </p:nvSpPr>
          <p:spPr>
            <a:xfrm>
              <a:off x="3657600" y="561672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eorgia"/>
                </a:rPr>
                <a:t>N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TextBox 9"/>
          <p:cNvGrpSpPr/>
          <p:nvPr/>
        </p:nvGrpSpPr>
        <p:grpSpPr>
          <a:xfrm>
            <a:off x="6072120" y="5473800"/>
            <a:ext cx="2102040" cy="871560"/>
            <a:chOff x="6072120" y="5473800"/>
            <a:chExt cx="2102040" cy="871560"/>
          </a:xfrm>
        </p:grpSpPr>
        <p:pic>
          <p:nvPicPr>
            <p:cNvPr id="695" name="TextBox 9" descr=""/>
            <p:cNvPicPr/>
            <p:nvPr/>
          </p:nvPicPr>
          <p:blipFill>
            <a:blip r:embed="rId3"/>
            <a:stretch/>
          </p:blipFill>
          <p:spPr>
            <a:xfrm>
              <a:off x="6072120" y="5473800"/>
              <a:ext cx="2102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"/>
            <p:cNvSpPr/>
            <p:nvPr/>
          </p:nvSpPr>
          <p:spPr>
            <a:xfrm>
              <a:off x="6095880" y="549432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eorgia"/>
                </a:rPr>
                <a:t>MARK FOR REVIE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TextBox 10"/>
          <p:cNvSpPr/>
          <p:nvPr/>
        </p:nvSpPr>
        <p:spPr>
          <a:xfrm>
            <a:off x="93240" y="1600200"/>
            <a:ext cx="195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  <a:ea typeface="Arial"/>
              </a:rPr>
              <a:t>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Picture 15" descr="C:\Users\samsung\Pictures\SCHOOL\Рисунок17.png"/>
          <p:cNvPicPr/>
          <p:nvPr/>
        </p:nvPicPr>
        <p:blipFill>
          <a:blip r:embed="rId4"/>
          <a:stretch/>
        </p:blipFill>
        <p:spPr>
          <a:xfrm>
            <a:off x="6143760" y="3571920"/>
            <a:ext cx="184284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evt="onClick">
                    <p:tgtEl>
                      <p:spTgt spid="688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688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8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694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694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80"/>
                                  </p:iterate>
                                  <p:childTnLst>
                                    <p:animEffect filter="wipe(left)" transition="out">
                                      <p:cBhvr additive="repl">
                                        <p:cTn id="27" dur="20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/>
          </p:nvPr>
        </p:nvSpPr>
        <p:spPr>
          <a:xfrm>
            <a:off x="609480" y="2743200"/>
            <a:ext cx="79250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b86"/>
                </a:solidFill>
                <a:latin typeface="Georgia"/>
              </a:rPr>
              <a:t>WHEN DOES SAM GO TO SCHOOL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Sam goes to school in the morning. (When?)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1" name="TextBox 6"/>
          <p:cNvSpPr/>
          <p:nvPr/>
        </p:nvSpPr>
        <p:spPr>
          <a:xfrm>
            <a:off x="-535680" y="304920"/>
            <a:ext cx="24271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  <a:ea typeface="Arial"/>
              </a:rPr>
              <a:t>#</a:t>
            </a:r>
            <a:fld id="{94B7119B-CF2A-4C13-908A-5A6A1AB04369}" type="slidenum">
              <a:rPr b="0" lang="en-US" sz="3200" spc="-1" strike="noStrike">
                <a:solidFill>
                  <a:srgbClr val="ffffff"/>
                </a:solidFill>
                <a:latin typeface="Georgia"/>
                <a:ea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TextBox 7"/>
          <p:cNvGrpSpPr/>
          <p:nvPr/>
        </p:nvGrpSpPr>
        <p:grpSpPr>
          <a:xfrm>
            <a:off x="969840" y="5595840"/>
            <a:ext cx="1717920" cy="628920"/>
            <a:chOff x="969840" y="5595840"/>
            <a:chExt cx="1717920" cy="628920"/>
          </a:xfrm>
        </p:grpSpPr>
        <p:pic>
          <p:nvPicPr>
            <p:cNvPr id="703" name="TextBox 7" descr=""/>
            <p:cNvPicPr/>
            <p:nvPr/>
          </p:nvPicPr>
          <p:blipFill>
            <a:blip r:embed="rId1"/>
            <a:stretch/>
          </p:blipFill>
          <p:spPr>
            <a:xfrm>
              <a:off x="969840" y="5595840"/>
              <a:ext cx="171792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990720" y="5616720"/>
              <a:ext cx="167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eorgia"/>
                </a:rPr>
                <a:t>SHO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TextBox 8"/>
          <p:cNvGrpSpPr/>
          <p:nvPr/>
        </p:nvGrpSpPr>
        <p:grpSpPr>
          <a:xfrm>
            <a:off x="3633840" y="5595840"/>
            <a:ext cx="1492200" cy="628920"/>
            <a:chOff x="3633840" y="5595840"/>
            <a:chExt cx="1492200" cy="628920"/>
          </a:xfrm>
        </p:grpSpPr>
        <p:pic>
          <p:nvPicPr>
            <p:cNvPr id="706" name="TextBox 8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3633840" y="5595840"/>
              <a:ext cx="149220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"/>
            <p:cNvSpPr/>
            <p:nvPr/>
          </p:nvSpPr>
          <p:spPr>
            <a:xfrm>
              <a:off x="3657600" y="561672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eorgia"/>
                </a:rPr>
                <a:t>N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TextBox 9"/>
          <p:cNvGrpSpPr/>
          <p:nvPr/>
        </p:nvGrpSpPr>
        <p:grpSpPr>
          <a:xfrm>
            <a:off x="6072120" y="5473800"/>
            <a:ext cx="2102040" cy="871560"/>
            <a:chOff x="6072120" y="5473800"/>
            <a:chExt cx="2102040" cy="871560"/>
          </a:xfrm>
        </p:grpSpPr>
        <p:pic>
          <p:nvPicPr>
            <p:cNvPr id="709" name="TextBox 9" descr=""/>
            <p:cNvPicPr/>
            <p:nvPr/>
          </p:nvPicPr>
          <p:blipFill>
            <a:blip r:embed="rId3"/>
            <a:stretch/>
          </p:blipFill>
          <p:spPr>
            <a:xfrm>
              <a:off x="6072120" y="5473800"/>
              <a:ext cx="2102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6095880" y="549432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eorgia"/>
                </a:rPr>
                <a:t>MARK FOR REVIE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TextBox 10"/>
          <p:cNvSpPr/>
          <p:nvPr/>
        </p:nvSpPr>
        <p:spPr>
          <a:xfrm>
            <a:off x="93240" y="1600200"/>
            <a:ext cx="195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  <a:ea typeface="Arial"/>
              </a:rPr>
              <a:t>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15" descr=""/>
          <p:cNvPicPr/>
          <p:nvPr/>
        </p:nvPicPr>
        <p:blipFill>
          <a:blip r:embed="rId4"/>
          <a:stretch/>
        </p:blipFill>
        <p:spPr>
          <a:xfrm>
            <a:off x="6497640" y="3286080"/>
            <a:ext cx="128736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702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702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8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708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708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80"/>
                                  </p:iterate>
                                  <p:childTnLst>
                                    <p:animEffect filter="wipe(left)" transition="out">
                                      <p:cBhvr additive="repl">
                                        <p:cTn id="42" dur="20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/>
          </p:nvPr>
        </p:nvSpPr>
        <p:spPr>
          <a:xfrm>
            <a:off x="609480" y="2743200"/>
            <a:ext cx="79250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b86"/>
                </a:solidFill>
                <a:latin typeface="Georgia"/>
              </a:rPr>
              <a:t>WHAT LANGUAGE DO YOU SPEAK AT THE LESSONS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We speak English at the lessons. (What language ?)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5" name="TextBox 6"/>
          <p:cNvSpPr/>
          <p:nvPr/>
        </p:nvSpPr>
        <p:spPr>
          <a:xfrm>
            <a:off x="-535680" y="304920"/>
            <a:ext cx="24271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  <a:ea typeface="Arial"/>
              </a:rPr>
              <a:t>#</a:t>
            </a:r>
            <a:fld id="{45D7855D-50ED-4B2B-8B32-B8CC9A07D5CF}" type="slidenum">
              <a:rPr b="0" lang="en-US" sz="3200" spc="-1" strike="noStrike">
                <a:solidFill>
                  <a:srgbClr val="ffffff"/>
                </a:solidFill>
                <a:latin typeface="Georgia"/>
                <a:ea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TextBox 7"/>
          <p:cNvGrpSpPr/>
          <p:nvPr/>
        </p:nvGrpSpPr>
        <p:grpSpPr>
          <a:xfrm>
            <a:off x="969840" y="5595840"/>
            <a:ext cx="1717920" cy="628920"/>
            <a:chOff x="969840" y="5595840"/>
            <a:chExt cx="1717920" cy="628920"/>
          </a:xfrm>
        </p:grpSpPr>
        <p:pic>
          <p:nvPicPr>
            <p:cNvPr id="717" name="TextBox 7" descr=""/>
            <p:cNvPicPr/>
            <p:nvPr/>
          </p:nvPicPr>
          <p:blipFill>
            <a:blip r:embed="rId1"/>
            <a:stretch/>
          </p:blipFill>
          <p:spPr>
            <a:xfrm>
              <a:off x="969840" y="5595840"/>
              <a:ext cx="171792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"/>
            <p:cNvSpPr/>
            <p:nvPr/>
          </p:nvSpPr>
          <p:spPr>
            <a:xfrm>
              <a:off x="990720" y="5616720"/>
              <a:ext cx="167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eorgia"/>
                </a:rPr>
                <a:t>SHO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TextBox 8"/>
          <p:cNvGrpSpPr/>
          <p:nvPr/>
        </p:nvGrpSpPr>
        <p:grpSpPr>
          <a:xfrm>
            <a:off x="3633840" y="5595840"/>
            <a:ext cx="1492200" cy="628920"/>
            <a:chOff x="3633840" y="5595840"/>
            <a:chExt cx="1492200" cy="628920"/>
          </a:xfrm>
        </p:grpSpPr>
        <p:pic>
          <p:nvPicPr>
            <p:cNvPr id="720" name="TextBox 8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3633840" y="5595840"/>
              <a:ext cx="149220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"/>
            <p:cNvSpPr/>
            <p:nvPr/>
          </p:nvSpPr>
          <p:spPr>
            <a:xfrm>
              <a:off x="3657600" y="561672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eorgia"/>
                </a:rPr>
                <a:t>N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TextBox 9"/>
          <p:cNvGrpSpPr/>
          <p:nvPr/>
        </p:nvGrpSpPr>
        <p:grpSpPr>
          <a:xfrm>
            <a:off x="6072120" y="5473800"/>
            <a:ext cx="2102040" cy="871560"/>
            <a:chOff x="6072120" y="5473800"/>
            <a:chExt cx="2102040" cy="871560"/>
          </a:xfrm>
        </p:grpSpPr>
        <p:pic>
          <p:nvPicPr>
            <p:cNvPr id="723" name="TextBox 9" descr=""/>
            <p:cNvPicPr/>
            <p:nvPr/>
          </p:nvPicPr>
          <p:blipFill>
            <a:blip r:embed="rId3"/>
            <a:stretch/>
          </p:blipFill>
          <p:spPr>
            <a:xfrm>
              <a:off x="6072120" y="5473800"/>
              <a:ext cx="2102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"/>
            <p:cNvSpPr/>
            <p:nvPr/>
          </p:nvSpPr>
          <p:spPr>
            <a:xfrm>
              <a:off x="6095880" y="549432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eorgia"/>
                </a:rPr>
                <a:t>MARK FOR REVIE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TextBox 10"/>
          <p:cNvSpPr/>
          <p:nvPr/>
        </p:nvSpPr>
        <p:spPr>
          <a:xfrm>
            <a:off x="93240" y="1600200"/>
            <a:ext cx="195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  <a:ea typeface="Arial"/>
              </a:rPr>
              <a:t>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Picture 17" descr=""/>
          <p:cNvPicPr/>
          <p:nvPr/>
        </p:nvPicPr>
        <p:blipFill>
          <a:blip r:embed="rId4"/>
          <a:stretch/>
        </p:blipFill>
        <p:spPr>
          <a:xfrm rot="512400">
            <a:off x="6532200" y="3855960"/>
            <a:ext cx="105732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716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716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8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722"/>
                    </p:tgtEl>
                  </p:cond>
                </p:stCondLst>
                <p:childTnLst>
                  <p:par>
                    <p:cTn id="54" nodeType="clickEffect" fill="hold">
                      <p:stCondLst>
                        <p:cond evt="onClick">
                          <p:tgtEl>
                            <p:spTgt spid="722"/>
                          </p:tgtEl>
                        </p:cond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80"/>
                                  </p:iterate>
                                  <p:childTnLst>
                                    <p:animEffect filter="wipe(left)" transition="out">
                                      <p:cBhvr additive="repl">
                                        <p:cTn id="57" dur="200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/>
          </p:nvPr>
        </p:nvSpPr>
        <p:spPr>
          <a:xfrm>
            <a:off x="609480" y="2743200"/>
            <a:ext cx="79250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b86"/>
                </a:solidFill>
                <a:latin typeface="Georgia"/>
              </a:rPr>
              <a:t>HOW OFTEN DOES ANN GET GOOD MARKS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Ann gets good marks every day. (How often?)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9" name="TextBox 6"/>
          <p:cNvSpPr/>
          <p:nvPr/>
        </p:nvSpPr>
        <p:spPr>
          <a:xfrm>
            <a:off x="-535680" y="304920"/>
            <a:ext cx="24271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  <a:ea typeface="Arial"/>
              </a:rPr>
              <a:t>#</a:t>
            </a:r>
            <a:fld id="{B81F4028-9EB1-431A-8B82-833B14A46C61}" type="slidenum">
              <a:rPr b="0" lang="en-US" sz="3200" spc="-1" strike="noStrike">
                <a:solidFill>
                  <a:srgbClr val="ffffff"/>
                </a:solidFill>
                <a:latin typeface="Georgia"/>
                <a:ea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TextBox 7"/>
          <p:cNvGrpSpPr/>
          <p:nvPr/>
        </p:nvGrpSpPr>
        <p:grpSpPr>
          <a:xfrm>
            <a:off x="969840" y="5595840"/>
            <a:ext cx="1717920" cy="628920"/>
            <a:chOff x="969840" y="5595840"/>
            <a:chExt cx="1717920" cy="628920"/>
          </a:xfrm>
        </p:grpSpPr>
        <p:pic>
          <p:nvPicPr>
            <p:cNvPr id="731" name="TextBox 7" descr=""/>
            <p:cNvPicPr/>
            <p:nvPr/>
          </p:nvPicPr>
          <p:blipFill>
            <a:blip r:embed="rId1"/>
            <a:stretch/>
          </p:blipFill>
          <p:spPr>
            <a:xfrm>
              <a:off x="969840" y="5595840"/>
              <a:ext cx="171792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"/>
            <p:cNvSpPr/>
            <p:nvPr/>
          </p:nvSpPr>
          <p:spPr>
            <a:xfrm>
              <a:off x="990720" y="5616720"/>
              <a:ext cx="167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eorgia"/>
                </a:rPr>
                <a:t>SHO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TextBox 8"/>
          <p:cNvGrpSpPr/>
          <p:nvPr/>
        </p:nvGrpSpPr>
        <p:grpSpPr>
          <a:xfrm>
            <a:off x="3633840" y="5595840"/>
            <a:ext cx="1492200" cy="628920"/>
            <a:chOff x="3633840" y="5595840"/>
            <a:chExt cx="1492200" cy="628920"/>
          </a:xfrm>
        </p:grpSpPr>
        <p:pic>
          <p:nvPicPr>
            <p:cNvPr id="734" name="TextBox 8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3633840" y="5595840"/>
              <a:ext cx="149220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5" name=""/>
            <p:cNvSpPr/>
            <p:nvPr/>
          </p:nvSpPr>
          <p:spPr>
            <a:xfrm>
              <a:off x="3657600" y="561672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eorgia"/>
                </a:rPr>
                <a:t>N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TextBox 9"/>
          <p:cNvGrpSpPr/>
          <p:nvPr/>
        </p:nvGrpSpPr>
        <p:grpSpPr>
          <a:xfrm>
            <a:off x="6072120" y="5473800"/>
            <a:ext cx="2102040" cy="871560"/>
            <a:chOff x="6072120" y="5473800"/>
            <a:chExt cx="2102040" cy="871560"/>
          </a:xfrm>
        </p:grpSpPr>
        <p:pic>
          <p:nvPicPr>
            <p:cNvPr id="737" name="TextBox 9" descr=""/>
            <p:cNvPicPr/>
            <p:nvPr/>
          </p:nvPicPr>
          <p:blipFill>
            <a:blip r:embed="rId3"/>
            <a:stretch/>
          </p:blipFill>
          <p:spPr>
            <a:xfrm>
              <a:off x="6072120" y="5473800"/>
              <a:ext cx="2102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"/>
            <p:cNvSpPr/>
            <p:nvPr/>
          </p:nvSpPr>
          <p:spPr>
            <a:xfrm>
              <a:off x="6095880" y="549432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eorgia"/>
                </a:rPr>
                <a:t>MARK FOR REVIE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TextBox 10"/>
          <p:cNvSpPr/>
          <p:nvPr/>
        </p:nvSpPr>
        <p:spPr>
          <a:xfrm>
            <a:off x="93240" y="1600200"/>
            <a:ext cx="195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  <a:ea typeface="Arial"/>
              </a:rPr>
              <a:t>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15" descr=""/>
          <p:cNvPicPr/>
          <p:nvPr/>
        </p:nvPicPr>
        <p:blipFill>
          <a:blip r:embed="rId4"/>
          <a:stretch/>
        </p:blipFill>
        <p:spPr>
          <a:xfrm>
            <a:off x="6218280" y="3859200"/>
            <a:ext cx="17193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730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730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8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736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80"/>
                                  </p:iterate>
                                  <p:childTnLst>
                                    <p:animEffect filter="wipe(left)" transition="out">
                                      <p:cBhvr additive="repl">
                                        <p:cTn id="72" dur="2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/>
          </p:nvPr>
        </p:nvSpPr>
        <p:spPr>
          <a:xfrm>
            <a:off x="609480" y="2743200"/>
            <a:ext cx="79250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b86"/>
                </a:solidFill>
                <a:latin typeface="Georgia"/>
              </a:rPr>
              <a:t>HOW MANY LESSONS A DAY DO YOU USUALLY HAVE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We usually have 5 or 6 lessons a day. (How many?)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3" name="TextBox 6"/>
          <p:cNvSpPr/>
          <p:nvPr/>
        </p:nvSpPr>
        <p:spPr>
          <a:xfrm>
            <a:off x="-535680" y="304920"/>
            <a:ext cx="24271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  <a:ea typeface="Arial"/>
              </a:rPr>
              <a:t>#</a:t>
            </a:r>
            <a:fld id="{EA3B62B9-3A1D-46CF-A567-1EDC96D1BE84}" type="slidenum">
              <a:rPr b="0" lang="en-US" sz="3200" spc="-1" strike="noStrike">
                <a:solidFill>
                  <a:srgbClr val="ffffff"/>
                </a:solidFill>
                <a:latin typeface="Georgia"/>
                <a:ea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TextBox 7"/>
          <p:cNvGrpSpPr/>
          <p:nvPr/>
        </p:nvGrpSpPr>
        <p:grpSpPr>
          <a:xfrm>
            <a:off x="969840" y="5595840"/>
            <a:ext cx="1717920" cy="628920"/>
            <a:chOff x="969840" y="5595840"/>
            <a:chExt cx="1717920" cy="628920"/>
          </a:xfrm>
        </p:grpSpPr>
        <p:pic>
          <p:nvPicPr>
            <p:cNvPr id="745" name="TextBox 7" descr=""/>
            <p:cNvPicPr/>
            <p:nvPr/>
          </p:nvPicPr>
          <p:blipFill>
            <a:blip r:embed="rId1"/>
            <a:stretch/>
          </p:blipFill>
          <p:spPr>
            <a:xfrm>
              <a:off x="969840" y="5595840"/>
              <a:ext cx="171792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6" name=""/>
            <p:cNvSpPr/>
            <p:nvPr/>
          </p:nvSpPr>
          <p:spPr>
            <a:xfrm>
              <a:off x="990720" y="5616720"/>
              <a:ext cx="167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eorgia"/>
                </a:rPr>
                <a:t>SHO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TextBox 8"/>
          <p:cNvGrpSpPr/>
          <p:nvPr/>
        </p:nvGrpSpPr>
        <p:grpSpPr>
          <a:xfrm>
            <a:off x="3633840" y="5595840"/>
            <a:ext cx="1492200" cy="628920"/>
            <a:chOff x="3633840" y="5595840"/>
            <a:chExt cx="1492200" cy="628920"/>
          </a:xfrm>
        </p:grpSpPr>
        <p:pic>
          <p:nvPicPr>
            <p:cNvPr id="748" name="TextBox 8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3633840" y="5595840"/>
              <a:ext cx="149220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"/>
            <p:cNvSpPr/>
            <p:nvPr/>
          </p:nvSpPr>
          <p:spPr>
            <a:xfrm>
              <a:off x="3657600" y="561672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eorgia"/>
                </a:rPr>
                <a:t>N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TextBox 9"/>
          <p:cNvGrpSpPr/>
          <p:nvPr/>
        </p:nvGrpSpPr>
        <p:grpSpPr>
          <a:xfrm>
            <a:off x="6072120" y="5473800"/>
            <a:ext cx="2102040" cy="871560"/>
            <a:chOff x="6072120" y="5473800"/>
            <a:chExt cx="2102040" cy="871560"/>
          </a:xfrm>
        </p:grpSpPr>
        <p:pic>
          <p:nvPicPr>
            <p:cNvPr id="751" name="TextBox 9" descr=""/>
            <p:cNvPicPr/>
            <p:nvPr/>
          </p:nvPicPr>
          <p:blipFill>
            <a:blip r:embed="rId3"/>
            <a:stretch/>
          </p:blipFill>
          <p:spPr>
            <a:xfrm>
              <a:off x="6072120" y="5473800"/>
              <a:ext cx="2102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"/>
            <p:cNvSpPr/>
            <p:nvPr/>
          </p:nvSpPr>
          <p:spPr>
            <a:xfrm>
              <a:off x="6095880" y="549432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eorgia"/>
                </a:rPr>
                <a:t>MARK FOR REVIE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3" name="TextBox 10"/>
          <p:cNvSpPr/>
          <p:nvPr/>
        </p:nvSpPr>
        <p:spPr>
          <a:xfrm>
            <a:off x="93240" y="1600200"/>
            <a:ext cx="195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  <a:ea typeface="Arial"/>
              </a:rPr>
              <a:t>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16" descr="C:\Users\samsung\Pictures\SCHOOL\C41-07 копия.jpg"/>
          <p:cNvPicPr/>
          <p:nvPr/>
        </p:nvPicPr>
        <p:blipFill>
          <a:blip r:embed="rId4"/>
          <a:stretch/>
        </p:blipFill>
        <p:spPr>
          <a:xfrm>
            <a:off x="6215040" y="3786120"/>
            <a:ext cx="164304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744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744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8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200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750"/>
                    </p:tgtEl>
                  </p:cond>
                </p:stCondLst>
                <p:childTnLst>
                  <p:par>
                    <p:cTn id="84" nodeType="clickEffect" fill="hold">
                      <p:stCondLst>
                        <p:cond evt="onClick">
                          <p:tgtEl>
                            <p:spTgt spid="750"/>
                          </p:tgtEl>
                        </p:cond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80"/>
                                  </p:iterate>
                                  <p:childTnLst>
                                    <p:animEffect filter="wipe(left)" transition="out">
                                      <p:cBhvr additive="repl">
                                        <p:cTn id="87" dur="200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609480" y="2743200"/>
            <a:ext cx="79250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b86"/>
                </a:solidFill>
                <a:latin typeface="Georgia"/>
              </a:rPr>
              <a:t>WHAT DO YOU DO DURING THE BREAK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We have lunch during the break. (What?)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7" name="TextBox 6"/>
          <p:cNvSpPr/>
          <p:nvPr/>
        </p:nvSpPr>
        <p:spPr>
          <a:xfrm>
            <a:off x="-535680" y="304920"/>
            <a:ext cx="24271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  <a:ea typeface="Arial"/>
              </a:rPr>
              <a:t>#</a:t>
            </a:r>
            <a:fld id="{A20EA2CB-9988-4797-A411-A10D453D7F1C}" type="slidenum">
              <a:rPr b="0" lang="en-US" sz="3200" spc="-1" strike="noStrike">
                <a:solidFill>
                  <a:srgbClr val="ffffff"/>
                </a:solidFill>
                <a:latin typeface="Georgia"/>
                <a:ea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8" name="TextBox 7"/>
          <p:cNvGrpSpPr/>
          <p:nvPr/>
        </p:nvGrpSpPr>
        <p:grpSpPr>
          <a:xfrm>
            <a:off x="969840" y="5595840"/>
            <a:ext cx="1717920" cy="628920"/>
            <a:chOff x="969840" y="5595840"/>
            <a:chExt cx="1717920" cy="628920"/>
          </a:xfrm>
        </p:grpSpPr>
        <p:pic>
          <p:nvPicPr>
            <p:cNvPr id="759" name="TextBox 7" descr=""/>
            <p:cNvPicPr/>
            <p:nvPr/>
          </p:nvPicPr>
          <p:blipFill>
            <a:blip r:embed="rId1"/>
            <a:stretch/>
          </p:blipFill>
          <p:spPr>
            <a:xfrm>
              <a:off x="969840" y="5595840"/>
              <a:ext cx="171792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"/>
            <p:cNvSpPr/>
            <p:nvPr/>
          </p:nvSpPr>
          <p:spPr>
            <a:xfrm>
              <a:off x="990720" y="5616720"/>
              <a:ext cx="167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eorgia"/>
                </a:rPr>
                <a:t>SHO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TextBox 8"/>
          <p:cNvGrpSpPr/>
          <p:nvPr/>
        </p:nvGrpSpPr>
        <p:grpSpPr>
          <a:xfrm>
            <a:off x="3633840" y="5595840"/>
            <a:ext cx="1492200" cy="628920"/>
            <a:chOff x="3633840" y="5595840"/>
            <a:chExt cx="1492200" cy="628920"/>
          </a:xfrm>
        </p:grpSpPr>
        <p:pic>
          <p:nvPicPr>
            <p:cNvPr id="762" name="TextBox 8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3633840" y="5595840"/>
              <a:ext cx="149220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>
              <a:off x="3657600" y="561672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eorgia"/>
                </a:rPr>
                <a:t>N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TextBox 9"/>
          <p:cNvGrpSpPr/>
          <p:nvPr/>
        </p:nvGrpSpPr>
        <p:grpSpPr>
          <a:xfrm>
            <a:off x="6072120" y="5473800"/>
            <a:ext cx="2102040" cy="871560"/>
            <a:chOff x="6072120" y="5473800"/>
            <a:chExt cx="2102040" cy="871560"/>
          </a:xfrm>
        </p:grpSpPr>
        <p:pic>
          <p:nvPicPr>
            <p:cNvPr id="765" name="TextBox 9" descr=""/>
            <p:cNvPicPr/>
            <p:nvPr/>
          </p:nvPicPr>
          <p:blipFill>
            <a:blip r:embed="rId3"/>
            <a:stretch/>
          </p:blipFill>
          <p:spPr>
            <a:xfrm>
              <a:off x="6072120" y="5473800"/>
              <a:ext cx="2102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>
              <a:off x="6095880" y="549432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eorgia"/>
                </a:rPr>
                <a:t>MARK FOR REVIE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TextBox 10"/>
          <p:cNvSpPr/>
          <p:nvPr/>
        </p:nvSpPr>
        <p:spPr>
          <a:xfrm>
            <a:off x="93240" y="1600200"/>
            <a:ext cx="195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  <a:ea typeface="Arial"/>
              </a:rPr>
              <a:t>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Picture 17" descr=""/>
          <p:cNvPicPr/>
          <p:nvPr/>
        </p:nvPicPr>
        <p:blipFill>
          <a:blip r:embed="rId4"/>
          <a:stretch/>
        </p:blipFill>
        <p:spPr>
          <a:xfrm>
            <a:off x="6145200" y="3346560"/>
            <a:ext cx="185904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758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758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8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"/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764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evt="onClick">
                          <p:tgtEl>
                            <p:spTgt spid="764"/>
                          </p:tgtEl>
                        </p:cond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80"/>
                                  </p:iterate>
                                  <p:childTnLst>
                                    <p:animEffect filter="wipe(left)" transition="out">
                                      <p:cBhvr additive="repl">
                                        <p:cTn id="102" dur="200"/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/>
          </p:nvPr>
        </p:nvSpPr>
        <p:spPr>
          <a:xfrm>
            <a:off x="609480" y="2743200"/>
            <a:ext cx="79250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b86"/>
                </a:solidFill>
                <a:latin typeface="Georgia"/>
              </a:rPr>
              <a:t>HOW LONG DOES A LESSON LAST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A lesson lasts 45 minutes. (How long?)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1" name="TextBox 6"/>
          <p:cNvSpPr/>
          <p:nvPr/>
        </p:nvSpPr>
        <p:spPr>
          <a:xfrm>
            <a:off x="-535680" y="304920"/>
            <a:ext cx="24271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  <a:ea typeface="Arial"/>
              </a:rPr>
              <a:t>#</a:t>
            </a:r>
            <a:fld id="{D6C8CAA9-AB43-42D2-9FC7-47A815D78626}" type="slidenum">
              <a:rPr b="0" lang="en-US" sz="3200" spc="-1" strike="noStrike">
                <a:solidFill>
                  <a:srgbClr val="ffffff"/>
                </a:solidFill>
                <a:latin typeface="Georgia"/>
                <a:ea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TextBox 7"/>
          <p:cNvGrpSpPr/>
          <p:nvPr/>
        </p:nvGrpSpPr>
        <p:grpSpPr>
          <a:xfrm>
            <a:off x="969840" y="5595840"/>
            <a:ext cx="1717920" cy="628920"/>
            <a:chOff x="969840" y="5595840"/>
            <a:chExt cx="1717920" cy="628920"/>
          </a:xfrm>
        </p:grpSpPr>
        <p:pic>
          <p:nvPicPr>
            <p:cNvPr id="773" name="TextBox 7" descr=""/>
            <p:cNvPicPr/>
            <p:nvPr/>
          </p:nvPicPr>
          <p:blipFill>
            <a:blip r:embed="rId1"/>
            <a:stretch/>
          </p:blipFill>
          <p:spPr>
            <a:xfrm>
              <a:off x="969840" y="5595840"/>
              <a:ext cx="171792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"/>
            <p:cNvSpPr/>
            <p:nvPr/>
          </p:nvSpPr>
          <p:spPr>
            <a:xfrm>
              <a:off x="990720" y="5616720"/>
              <a:ext cx="167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eorgia"/>
                </a:rPr>
                <a:t>SHO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TextBox 8"/>
          <p:cNvGrpSpPr/>
          <p:nvPr/>
        </p:nvGrpSpPr>
        <p:grpSpPr>
          <a:xfrm>
            <a:off x="3633840" y="5595840"/>
            <a:ext cx="1492200" cy="628920"/>
            <a:chOff x="3633840" y="5595840"/>
            <a:chExt cx="1492200" cy="628920"/>
          </a:xfrm>
        </p:grpSpPr>
        <p:pic>
          <p:nvPicPr>
            <p:cNvPr id="776" name="TextBox 8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3633840" y="5595840"/>
              <a:ext cx="149220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"/>
            <p:cNvSpPr/>
            <p:nvPr/>
          </p:nvSpPr>
          <p:spPr>
            <a:xfrm>
              <a:off x="3657600" y="561672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eorgia"/>
                </a:rPr>
                <a:t>N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TextBox 9"/>
          <p:cNvGrpSpPr/>
          <p:nvPr/>
        </p:nvGrpSpPr>
        <p:grpSpPr>
          <a:xfrm>
            <a:off x="6072120" y="5473800"/>
            <a:ext cx="2102040" cy="871560"/>
            <a:chOff x="6072120" y="5473800"/>
            <a:chExt cx="2102040" cy="871560"/>
          </a:xfrm>
        </p:grpSpPr>
        <p:pic>
          <p:nvPicPr>
            <p:cNvPr id="779" name="TextBox 9" descr=""/>
            <p:cNvPicPr/>
            <p:nvPr/>
          </p:nvPicPr>
          <p:blipFill>
            <a:blip r:embed="rId3"/>
            <a:stretch/>
          </p:blipFill>
          <p:spPr>
            <a:xfrm>
              <a:off x="6072120" y="5473800"/>
              <a:ext cx="2102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"/>
            <p:cNvSpPr/>
            <p:nvPr/>
          </p:nvSpPr>
          <p:spPr>
            <a:xfrm>
              <a:off x="6095880" y="549432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eorgia"/>
                </a:rPr>
                <a:t>MARK FOR REVIE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TextBox 10"/>
          <p:cNvSpPr/>
          <p:nvPr/>
        </p:nvSpPr>
        <p:spPr>
          <a:xfrm>
            <a:off x="93240" y="1600200"/>
            <a:ext cx="195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  <a:ea typeface="Arial"/>
              </a:rPr>
              <a:t>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15" descr="C:\Users\samsung\Pictures\SCHOOL\Clipart-Cartoon-Design-04.png"/>
          <p:cNvPicPr/>
          <p:nvPr/>
        </p:nvPicPr>
        <p:blipFill>
          <a:blip r:embed="rId4"/>
          <a:stretch/>
        </p:blipFill>
        <p:spPr>
          <a:xfrm>
            <a:off x="5786280" y="3143160"/>
            <a:ext cx="250056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restart="whenNotActive" nodeType="interactiveSeq" fill="hold">
                <p:stCondLst>
                  <p:cond evt="onClick">
                    <p:tgtEl>
                      <p:spTgt spid="772"/>
                    </p:tgtEl>
                  </p:cond>
                </p:stCondLst>
                <p:childTnLst>
                  <p:par>
                    <p:cTn id="108" nodeType="clickEffect" fill="hold">
                      <p:stCondLst>
                        <p:cond evt="onClick">
                          <p:tgtEl>
                            <p:spTgt spid="772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8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2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778"/>
                    </p:tgtEl>
                  </p:cond>
                </p:stCondLst>
                <p:childTnLst>
                  <p:par>
                    <p:cTn id="114" nodeType="clickEffect" fill="hold">
                      <p:stCondLst>
                        <p:cond evt="onClick">
                          <p:tgtEl>
                            <p:spTgt spid="778"/>
                          </p:tgtEl>
                        </p:cond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80"/>
                                  </p:iterate>
                                  <p:childTnLst>
                                    <p:animEffect filter="wipe(left)" transition="out">
                                      <p:cBhvr additive="repl">
                                        <p:cTn id="117" dur="2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21:41:47Z</dcterms:created>
  <dc:creator>samsung</dc:creator>
  <dc:description/>
  <dc:language>en-US</dc:language>
  <cp:lastModifiedBy>Пользователь</cp:lastModifiedBy>
  <dcterms:modified xsi:type="dcterms:W3CDTF">2023-04-25T16:10:23Z</dcterms:modified>
  <cp:revision>20</cp:revision>
  <dc:subject/>
  <dc:title>Course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37261033</vt:lpwstr>
  </property>
</Properties>
</file>