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E12-43F4-47F3-A197-DB3EB094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F19-B5F7-4AC2-8D6E-058C871F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32991-05FE-48AF-B3AA-DA10546E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FEA9E-6980-4A55-B628-F21181CD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471ED-ECB6-419B-870A-4D76B965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38534-711B-4DE7-A4B5-60FA4BB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8FEAB-EA2D-4864-BD74-5515CB7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92BFE-C931-43F2-9AAB-4322D1C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E7F96-CE98-449F-8693-69306E3F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094B2-361A-494C-9843-381E89CF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B8573-08EA-43F8-B3FF-38DA8520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50F17-F08F-43BF-A4BC-BAF088F6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F4C-A400-4459-B4A3-D5C3E891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69C77-613A-4FEA-A20F-2E5F4D7A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F3400-2909-452F-93C2-E78ED83E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D7EF6-0755-4940-AACD-CA86FD0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EF8F5-9D30-49DF-BB5D-B609937D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AF31B-9D58-42CF-9ADD-13D5DE40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244BC-E698-4B11-8A92-91A513C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0B6DD-3772-43CC-B9E0-886A5EE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2FE17-3710-4AFE-9FE3-62FB5966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04A8F-F5E6-476B-A224-ABDD0082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E0DB3-A578-4A7D-8C37-E2FA455B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109-EA00-4973-9BFD-B067DEB8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F4B5F-C24B-4EF0-A38E-DFDC73DE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9DE9C-A6A0-46FD-ABE1-39613D90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AE695-ECF4-4BC0-9EFD-B9633D7C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462E3-FB49-4191-ADC4-B92BC83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D2F8-33A5-4A2D-BAF0-733AF15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291A-D136-4749-AA97-BBEC4E9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2982B-D5F3-41E4-8D69-9785A0B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D8685-70F5-4560-87D0-AFBFEE36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A467-71B3-4B10-B62B-1F1C692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421AC-4E49-40D4-8355-3412366C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9274-0211-4EA5-9676-7266EEAC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D7E40-FE3C-4A40-8482-43DF289E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C7251-7B05-4FF5-93B8-A242656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DF140-3F1E-42BF-968F-5A05663F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5CF91-1F80-4345-B8A7-5F725F02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CECE1-6EA9-4B7B-9FF6-E60CD398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2629D-D237-4669-954B-14287A4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9B13D-2A05-4049-B43A-F3E75DBA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01357-438D-46ED-87C9-9D67BC7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9ACC7-632F-4010-A976-15388D7D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0C27B-B744-4B5A-8E86-5BF39F6A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D6A-7590-4611-A7FA-490ADC0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3414C-03A3-45BF-803B-C4D08BB8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CABCC-9638-4BF7-A91B-50D81CD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B3845-F018-40C7-BFAE-7E04967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DBF20-7ABD-40E2-8B8D-08CD9189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61075-E088-45C5-92FD-895F9C5E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99D-E4F6-4A18-9C44-A542B05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E1E2-C485-4427-81D8-7FE0920D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6411-FB23-4ED6-9E60-AE9535E3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28E4-DB05-4D6C-B325-C9B94C6B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68E-594A-4EA2-8B74-19F496B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BDA-BAB5-4952-9B69-D7CEDF6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75C7-3CB2-4E03-8380-6A73529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B770-2D01-4BBC-83F1-D0D5AB2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C8FF-10B5-4EB0-A39A-C0C802B7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EC3-DEA9-4B90-AC35-E98EB18C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6396-6E5C-4090-95CA-BF9EE8B1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1EDE-695F-499A-8158-1B2603BD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E129-B07B-467E-AD0F-52E9344E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6A0D-150E-4A6B-890D-698B8DCF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32C3-37A4-45C0-8D74-096DD277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3047-13BE-49C5-A7DC-4B334330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1FF-3389-40B4-B048-77AFB37F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7E1E-3B1A-42E1-9902-0A5C971E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2772-416D-4463-B592-43F9084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DA80-96F5-4887-8CAF-603C527C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CFC2-23ED-4032-82AE-2ED38220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3FCE-75F3-4A7B-8871-EFE738BF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E89C-1044-4966-9394-F1A4E80E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59E6-5359-4BB5-8DE2-1E225163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FCC8-FA85-4994-A50F-6828E431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0D1A-85B3-47B1-8ABC-DF2B375D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06DC-A84F-4D16-81C9-84771E1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CDF-BD5F-4193-8388-26AE9A2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329E-70B2-4118-A8C0-9B8521E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CB61-A029-4487-AAF2-085EB0A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7453-509D-41FF-9F69-FA32914D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52C3-533B-454E-BC58-3F43A92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581E-BE72-4E0C-91EC-3683078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8036-0110-425D-9855-1F83BB9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EF3D-C08C-4144-8DA2-E07460F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03F5-8D36-40A8-82B5-FD6AC48F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9B13-DAF1-4B34-9F74-FAB29A18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20AC-32ED-41C8-AF30-5D622711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692-6D3D-4918-A9BD-6090358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C28E-3E90-4BE2-893B-05F18B1C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D500-96DF-483A-8C22-C3F9D18C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DF47-3D81-4D95-911F-CBE599E1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BEB5-B3D2-41C6-9DF5-B3F3D18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EFB8-4456-4C76-88D2-AD55827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DCD1-8999-4987-8AE7-8CF866D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95F4-80EE-4B82-A325-ADDEEEB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A2DE1-5E62-42DF-B2D3-16D31A8F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9770-7831-4AB1-A8C9-725DC74B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5DC11-E29D-4933-8504-D4272F51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85A-BAA1-4713-A0DA-0C58D13A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6AD73-4F60-4E0F-BB21-3CBC0B7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CE3B-62B7-44C4-83D6-BFE64343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C3898-D517-4A2B-A69B-6D412BE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626F-DCCB-426A-BC21-3EB5ABEF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E4BF-D1FC-4821-87FD-D07D895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11F75-0E8D-491F-903C-C5D2E23C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97A4-BA4F-4F73-94CB-AC2AB0F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2936-5496-4AE3-B2E7-CAB57D0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25BA-F01E-42EF-A80A-F3649DD0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34F6-1F01-40DC-A179-16F867C0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E41-F8C5-4E90-BB0B-417AFC5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7948-69F6-4116-8120-5C71AC5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02095-7811-4491-8BBE-A7CB8BCB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102E-48AD-4ACC-A555-5C3BBE74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642E5-1860-4D7E-B40B-583C9CE9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D408-9256-4D58-A7BF-CD4F6196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D487-FE0D-42D2-9BC1-146C509C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B20C-AEEC-4BE5-9C80-E9BF78E9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8E28B-7F84-4F9B-B671-7E811E8D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07F5-4C40-4DE4-A33C-197C756B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62329-013B-4FCC-8448-E6D6A64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DE3-7950-4E2B-B232-5ED9F80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BD1E-7F8F-4D63-9203-00F11B2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2BE2-194C-4443-9AD5-56E83F1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13F17-98A5-46AE-97F3-0AACD072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3262-65F4-4E8B-818F-BB1379AC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EA23-0D35-4C61-B3E4-B04ECDED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A6131-BE29-4F4A-B9C7-E1F9BF81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C8BFE-40DF-4EDA-93D8-DF28BA15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AD02-54F9-4CF7-A918-EAE9E842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0DE05-5C8D-441E-B89C-556B39BB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4936-547A-406A-9B41-730F2588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535-55C7-43C9-9F92-217DA30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F87D-4B59-4F4F-8CF4-8A85A5B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A8F59-9856-4A80-A75A-D1854A1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AA79A-5A3F-4E86-8CBC-BDCE1CB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FF92-088E-4DBA-BD22-E1131815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3A8F4-68C7-4BA6-88CF-E9E92E5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8BCE-2147-4EC3-89F0-EBC418E4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51905-AB59-4556-9DAC-E519237A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4261B-AD36-4E5A-846C-754F0C71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D9E4D-6448-4A17-BD2F-434A65B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18780-A4CC-4CA8-8028-01CD6BAE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9E85-EB15-4E1E-AA42-FD2387275FF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8768-C5D0-46AE-858E-6FDA00F7F7D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45F3-4F6A-461F-986A-07AB0EFA00C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83F2-336B-4EE6-BAF9-D995FB17F77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57B-96D2-4578-83FD-41BA91B43ED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93C7-7E58-4426-ACDD-0605396849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483-D7E5-488E-949F-F82B323AD67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3419-F2CF-4D67-A470-C370391F4B4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03C8-FFA2-475C-9D76-F8C88141F89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91C-87FE-4AD4-AE3C-41741297625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188-D58A-4FE2-9CB3-60EA03B2450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CA1-6307-424F-BBDF-4D75B7B1FE8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6349"/>
                </a:solidFill>
                <a:latin typeface="Georgia"/>
              </a:rPr>
              <a:t>Present Simple. </a:t>
            </a:r>
            <a:br>
              <a:rPr sz="4800"/>
            </a:br>
            <a:r>
              <a:rPr b="1" lang="en-US" sz="4800" spc="-1" strike="noStrike">
                <a:solidFill>
                  <a:srgbClr val="d16349"/>
                </a:solidFill>
                <a:latin typeface="Georgia"/>
              </a:rPr>
              <a:t>Special Questions.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AT DO THE STUDENTS DO AT MATH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e students count at Maths. (What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832A467E-2EC3-4D2E-998B-F0F18A6F5C74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87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90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93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5" descr="C:\Users\samsung\Pictures\SCHOOL\C41-11 копия.jpg"/>
          <p:cNvPicPr/>
          <p:nvPr/>
        </p:nvPicPr>
        <p:blipFill>
          <a:blip r:embed="rId4"/>
          <a:stretch/>
        </p:blipFill>
        <p:spPr>
          <a:xfrm>
            <a:off x="6143760" y="3500280"/>
            <a:ext cx="199044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32" dur="2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MANY QUESTIONS DOES JACK ASK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1071720" y="304560"/>
            <a:ext cx="792936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Jack asks a lot of questions at the lesson. (How many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09C0AA06-7579-4470-BE0A-8F75534C7592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801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804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807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15" descr=""/>
          <p:cNvPicPr/>
          <p:nvPr/>
        </p:nvPicPr>
        <p:blipFill>
          <a:blip r:embed="rId4"/>
          <a:stretch/>
        </p:blipFill>
        <p:spPr>
          <a:xfrm>
            <a:off x="6357960" y="3214800"/>
            <a:ext cx="1643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47" dur="2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MUCH HOMEWORK DOES PETE USUALLY HAV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ete usually has a lot of homework (How much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3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ABE0EFD2-AEEB-494E-8160-AF9C76724AC2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815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818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821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5" descr="C:\Users\samsung\Pictures\SCHOOL\Рисунок6.png"/>
          <p:cNvPicPr/>
          <p:nvPr/>
        </p:nvPicPr>
        <p:blipFill>
          <a:blip r:embed="rId4"/>
          <a:stretch/>
        </p:blipFill>
        <p:spPr>
          <a:xfrm>
            <a:off x="5572080" y="3786120"/>
            <a:ext cx="28576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62" dur="2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he End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827" name="TextBox 3"/>
          <p:cNvGrpSpPr/>
          <p:nvPr/>
        </p:nvGrpSpPr>
        <p:grpSpPr>
          <a:xfrm>
            <a:off x="4827600" y="3054240"/>
            <a:ext cx="2633760" cy="749520"/>
            <a:chOff x="4827600" y="3054240"/>
            <a:chExt cx="2633760" cy="749520"/>
          </a:xfrm>
        </p:grpSpPr>
        <p:pic>
          <p:nvPicPr>
            <p:cNvPr id="828" name="TextBox 3" descr=""/>
            <p:cNvPicPr/>
            <p:nvPr/>
          </p:nvPicPr>
          <p:blipFill>
            <a:blip r:embed="rId1"/>
            <a:stretch/>
          </p:blipFill>
          <p:spPr>
            <a:xfrm>
              <a:off x="4827600" y="3054240"/>
              <a:ext cx="26337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4851360" y="3075120"/>
              <a:ext cx="25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REVIE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TextBox 4"/>
          <p:cNvGrpSpPr/>
          <p:nvPr/>
        </p:nvGrpSpPr>
        <p:grpSpPr>
          <a:xfrm>
            <a:off x="1682640" y="3054240"/>
            <a:ext cx="1487520" cy="749520"/>
            <a:chOff x="1682640" y="3054240"/>
            <a:chExt cx="1487520" cy="749520"/>
          </a:xfrm>
        </p:grpSpPr>
        <p:pic>
          <p:nvPicPr>
            <p:cNvPr id="831" name="TextBox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1682640" y="3054240"/>
              <a:ext cx="14875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701720" y="307512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E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EN DOES THE SCHOOL YEAR START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e school year starts on the    first of September. (When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362031CD-4418-4823-B8B2-34E0191DC9BD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675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678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681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6" descr="C:\Users\samsung\Pictures\SCHOOL\school3.gif"/>
          <p:cNvPicPr/>
          <p:nvPr/>
        </p:nvPicPr>
        <p:blipFill>
          <a:blip r:embed="rId4"/>
          <a:stretch/>
        </p:blipFill>
        <p:spPr>
          <a:xfrm>
            <a:off x="6357960" y="3286080"/>
            <a:ext cx="1428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2" dur="2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DO MANY STUDENTS GET TO SCHOOL?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Many students get to school by bus. (How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F2A25320-8C44-4172-8C56-6310B2CAE0B5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689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692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695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5" descr="C:\Users\samsung\Pictures\SCHOOL\Рисунок17.png"/>
          <p:cNvPicPr/>
          <p:nvPr/>
        </p:nvPicPr>
        <p:blipFill>
          <a:blip r:embed="rId4"/>
          <a:stretch/>
        </p:blipFill>
        <p:spPr>
          <a:xfrm>
            <a:off x="6143760" y="3571920"/>
            <a:ext cx="18428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27" dur="2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EN DOES SAM GO TO SCHOOL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Sam goes to school in the morning. (When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C8A07378-DFF2-4221-9A89-26659753D6E4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03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06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09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15" descr=""/>
          <p:cNvPicPr/>
          <p:nvPr/>
        </p:nvPicPr>
        <p:blipFill>
          <a:blip r:embed="rId4"/>
          <a:stretch/>
        </p:blipFill>
        <p:spPr>
          <a:xfrm>
            <a:off x="6497640" y="3286080"/>
            <a:ext cx="1287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2" dur="2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AT LANGUAGE DO YOU SPEAK AT THE LESSON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We speak English at the lessons. (What language 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2EE80810-34F9-4472-9A40-8500D94BAE77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17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20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23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7" descr=""/>
          <p:cNvPicPr/>
          <p:nvPr/>
        </p:nvPicPr>
        <p:blipFill>
          <a:blip r:embed="rId4"/>
          <a:stretch/>
        </p:blipFill>
        <p:spPr>
          <a:xfrm rot="512400">
            <a:off x="6532200" y="3855960"/>
            <a:ext cx="1057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57" dur="2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OFTEN DOES ANN GET GOOD MARK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nn gets good marks every day. (How often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9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8D395475-5FC7-4298-A4E2-559366A6A7CA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31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34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37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5" descr=""/>
          <p:cNvPicPr/>
          <p:nvPr/>
        </p:nvPicPr>
        <p:blipFill>
          <a:blip r:embed="rId4"/>
          <a:stretch/>
        </p:blipFill>
        <p:spPr>
          <a:xfrm>
            <a:off x="6218280" y="3859200"/>
            <a:ext cx="1719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72" dur="2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MANY LESSONS A DAY DO YOU USUALLY HAV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We usually have 5 or 6 lessons a day. (How many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3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9AD4A252-B230-4415-A865-C7276FD3067F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45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48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51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6" descr="C:\Users\samsung\Pictures\SCHOOL\C41-07 копия.jpg"/>
          <p:cNvPicPr/>
          <p:nvPr/>
        </p:nvPicPr>
        <p:blipFill>
          <a:blip r:embed="rId4"/>
          <a:stretch/>
        </p:blipFill>
        <p:spPr>
          <a:xfrm>
            <a:off x="6215040" y="3786120"/>
            <a:ext cx="16430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87" dur="2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WHAT DO YOU DO DURING THE BREAK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We have lunch during the break. (What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7F8BEFDE-34A2-4BF4-B635-8A024CB7BDB0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59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62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65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7" descr=""/>
          <p:cNvPicPr/>
          <p:nvPr/>
        </p:nvPicPr>
        <p:blipFill>
          <a:blip r:embed="rId4"/>
          <a:stretch/>
        </p:blipFill>
        <p:spPr>
          <a:xfrm>
            <a:off x="6145200" y="3346560"/>
            <a:ext cx="18590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02" dur="2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HOW LONG DOES A LESSON LAST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 lesson lasts 45 minutes. (How long?)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1" name="TextBox 6"/>
          <p:cNvSpPr/>
          <p:nvPr/>
        </p:nvSpPr>
        <p:spPr>
          <a:xfrm>
            <a:off x="-535680" y="304920"/>
            <a:ext cx="242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#</a:t>
            </a:r>
            <a:fld id="{12BE8FED-394D-48FD-8F68-ECB1F3193967}" type="slidenum"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TextBox 7"/>
          <p:cNvGrpSpPr/>
          <p:nvPr/>
        </p:nvGrpSpPr>
        <p:grpSpPr>
          <a:xfrm>
            <a:off x="969840" y="5595840"/>
            <a:ext cx="1717920" cy="628920"/>
            <a:chOff x="969840" y="5595840"/>
            <a:chExt cx="1717920" cy="628920"/>
          </a:xfrm>
        </p:grpSpPr>
        <p:pic>
          <p:nvPicPr>
            <p:cNvPr id="773" name="TextBox 7" descr=""/>
            <p:cNvPicPr/>
            <p:nvPr/>
          </p:nvPicPr>
          <p:blipFill>
            <a:blip r:embed="rId1"/>
            <a:stretch/>
          </p:blipFill>
          <p:spPr>
            <a:xfrm>
              <a:off x="969840" y="5595840"/>
              <a:ext cx="17179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990720" y="56167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SHO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TextBox 8"/>
          <p:cNvGrpSpPr/>
          <p:nvPr/>
        </p:nvGrpSpPr>
        <p:grpSpPr>
          <a:xfrm>
            <a:off x="3633840" y="5595840"/>
            <a:ext cx="1492200" cy="628920"/>
            <a:chOff x="3633840" y="5595840"/>
            <a:chExt cx="1492200" cy="628920"/>
          </a:xfrm>
        </p:grpSpPr>
        <p:pic>
          <p:nvPicPr>
            <p:cNvPr id="776" name="TextBox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633840" y="5595840"/>
              <a:ext cx="1492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657600" y="5616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eorgia"/>
                </a:rPr>
                <a:t>N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TextBox 9"/>
          <p:cNvGrpSpPr/>
          <p:nvPr/>
        </p:nvGrpSpPr>
        <p:grpSpPr>
          <a:xfrm>
            <a:off x="6072120" y="5473800"/>
            <a:ext cx="2102040" cy="871560"/>
            <a:chOff x="6072120" y="5473800"/>
            <a:chExt cx="2102040" cy="871560"/>
          </a:xfrm>
        </p:grpSpPr>
        <p:pic>
          <p:nvPicPr>
            <p:cNvPr id="779" name="TextBox 9" descr=""/>
            <p:cNvPicPr/>
            <p:nvPr/>
          </p:nvPicPr>
          <p:blipFill>
            <a:blip r:embed="rId3"/>
            <a:stretch/>
          </p:blipFill>
          <p:spPr>
            <a:xfrm>
              <a:off x="6072120" y="5473800"/>
              <a:ext cx="210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095880" y="54943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orgia"/>
                </a:rPr>
                <a:t>MARK FOR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TextBox 10"/>
          <p:cNvSpPr/>
          <p:nvPr/>
        </p:nvSpPr>
        <p:spPr>
          <a:xfrm>
            <a:off x="93240" y="160020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5" descr="C:\Users\samsung\Pictures\SCHOOL\Clipart-Cartoon-Design-04.png"/>
          <p:cNvPicPr/>
          <p:nvPr/>
        </p:nvPicPr>
        <p:blipFill>
          <a:blip r:embed="rId4"/>
          <a:stretch/>
        </p:blipFill>
        <p:spPr>
          <a:xfrm>
            <a:off x="5786280" y="314316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17" dur="2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21:41:47Z</dcterms:created>
  <dc:creator>samsung</dc:creator>
  <dc:description/>
  <dc:language>en-US</dc:language>
  <cp:lastModifiedBy>Пользователь</cp:lastModifiedBy>
  <dcterms:modified xsi:type="dcterms:W3CDTF">2023-04-25T16:10:23Z</dcterms:modified>
  <cp:revision>20</cp:revision>
  <dc:subject/>
  <dc:title>Course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7261033</vt:lpwstr>
  </property>
</Properties>
</file>