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444C-C0D5-4995-B76B-88E0B2BD66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92CE-047E-4DA5-8E8B-914839D742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65B-CDCD-4E95-92EF-C497DC6D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951-8B33-41A5-AE2E-B95A0D3F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655-7BD0-4443-B55E-D4CE9374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5FF-0370-4688-96B6-363502AD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8A4-6BA1-4F08-8BBF-20757EFD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604-0039-4D5E-A77B-C4A5F3DC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9B1-B3C7-484D-B3BF-71A55D05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8DE-9E9C-4868-BC55-4452E92E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7D8-44CD-45F2-A902-5B9764E4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A8F-008B-4429-B788-FF3F9EF8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0E0-ADA8-43BA-8603-481F3A5E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814-4757-4B06-B114-EB4CD41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17BC-B7ED-43DC-A8EA-6EBEEC7DE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523880" y="1822320"/>
            <a:ext cx="9144000" cy="890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944640" y="5000760"/>
            <a:ext cx="5580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уппы  ЭГС-1-2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мил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я От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7459560" y="5000760"/>
            <a:ext cx="3784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Геннадь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0920" y="438120"/>
            <a:ext cx="1285920" cy="1589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3381480" y="35712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10091880" y="336600"/>
            <a:ext cx="1152360" cy="1660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944640" y="2786040"/>
            <a:ext cx="10677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СВАРОЧНЫЕ РАБОТЫ. РУЧНАЯ СВАРК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СВАРОЧНЫЕ РАБОТЫ. МЕХАНИЗИРОВАННАЯ СВА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2448000" y="743040"/>
            <a:ext cx="73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15.01.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щ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чной и частично механизированной сварки (наплавки)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472840" y="1537920"/>
            <a:ext cx="91695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СВАРОЧНЫЕ РАБОТЫ РУЧНАЯ СВАР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72960" y="1537920"/>
            <a:ext cx="1059804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СВАРОЧНЫЕ РАБОТЫ. МЕХАНИЗИРОВАННАЯ СВАР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655280" y="1275840"/>
            <a:ext cx="878364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чле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9T06:09:38Z</dcterms:created>
  <dc:creator>Admin</dc:creator>
  <dc:description/>
  <dc:language>en-US</dc:language>
  <cp:lastModifiedBy>Admin</cp:lastModifiedBy>
  <dcterms:modified xsi:type="dcterms:W3CDTF">2023-04-25T13:09:56Z</dcterms:modified>
  <cp:revision>8</cp:revision>
  <dc:subject/>
  <dc:title>ВЫПУСКНАЯ  КВАЛИФИКАЦИОННАЯ РАБОТА</dc:title>
</cp:coreProperties>
</file>