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42.wmf" ContentType="image/x-wmf"/>
  <Override PartName="/ppt/media/image43.wmf" ContentType="image/x-wmf"/>
  <Override PartName="/ppt/media/image45.png" ContentType="image/png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156-9B71-4DDB-95AB-9577C102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5B5-E067-490B-B0C7-B0F6260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B57-40CB-4BAC-B83C-2782527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310-1AA8-4D84-8E04-8C9CAA8E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BDA-0067-4490-BEBB-424F58F2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ED3-6D1C-41AC-8FB6-21E84508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A78-9DB0-4857-AC1A-3B8681A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BAF-8057-4AD9-9192-12AFB7D2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F45-0132-4B35-BB5D-BA09D4E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C2F-70B4-4CA8-A8AC-666B9C4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8B8-9360-4D91-AE69-8716C845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81F-9E17-46E1-9A23-640C893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F4B-CD89-4C5E-B2C2-6F39795EA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3.wmf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image" Target="../media/image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576360" y="2549520"/>
            <a:ext cx="795636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глы, связанные с окружностью</a:t>
            </a:r>
            <a:endParaRPr b="1" lang="en-US" sz="36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3295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есекающимися хор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826920" y="4941720"/>
            <a:ext cx="763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двумя пересекающимися хордами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сумм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ых между ними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971640" y="1952640"/>
            <a:ext cx="2879640" cy="28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871640" y="299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1008000" y="270828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"/>
          <p:cNvSpPr/>
          <p:nvPr/>
        </p:nvSpPr>
        <p:spPr>
          <a:xfrm>
            <a:off x="1619280" y="454500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1187280" y="2852640"/>
            <a:ext cx="2016360" cy="161928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1726920" y="3824280"/>
            <a:ext cx="1979640" cy="792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6"/>
          <p:cNvSpPr/>
          <p:nvPr/>
        </p:nvSpPr>
        <p:spPr>
          <a:xfrm rot="15628800">
            <a:off x="1052280" y="2736000"/>
            <a:ext cx="1695240" cy="1784520"/>
          </a:xfrm>
          <a:custGeom>
            <a:avLst/>
            <a:gdLst>
              <a:gd name="textAreaLeft" fmla="*/ 0 w 1695240"/>
              <a:gd name="textAreaRight" fmla="*/ 1695600 w 1695240"/>
              <a:gd name="textAreaTop" fmla="*/ 0 h 1784520"/>
              <a:gd name="textAreaBottom" fmla="*/ 1784880 h 1784520"/>
            </a:gdLst>
            <a:ahLst/>
            <a:rect l="textAreaLeft" t="textAreaTop" r="textAreaRight" b="textAreaBottom"/>
            <a:pathLst>
              <a:path fill="none" w="24596" h="21600">
                <a:moveTo>
                  <a:pt x="0" y="5505"/>
                </a:moveTo>
                <a:cubicBezTo>
                  <a:pt x="3961" y="1960"/>
                  <a:pt x="9090" y="-1"/>
                  <a:pt x="14406" y="0"/>
                </a:cubicBezTo>
                <a:cubicBezTo>
                  <a:pt x="17961" y="0"/>
                  <a:pt x="21461" y="877"/>
                  <a:pt x="24596" y="2554"/>
                </a:cubicBezTo>
              </a:path>
              <a:path stroke="0" w="24596" h="21600">
                <a:moveTo>
                  <a:pt x="0" y="5505"/>
                </a:moveTo>
                <a:cubicBezTo>
                  <a:pt x="3961" y="1960"/>
                  <a:pt x="9090" y="-1"/>
                  <a:pt x="14406" y="0"/>
                </a:cubicBezTo>
                <a:cubicBezTo>
                  <a:pt x="17961" y="0"/>
                  <a:pt x="21461" y="877"/>
                  <a:pt x="24596" y="2554"/>
                </a:cubicBezTo>
                <a:lnTo>
                  <a:pt x="14406" y="21600"/>
                </a:lnTo>
                <a:lnTo>
                  <a:pt x="0" y="5505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8" descr="Рисунок19"/>
          <p:cNvPicPr/>
          <p:nvPr/>
        </p:nvPicPr>
        <p:blipFill>
          <a:blip r:embed="rId1"/>
          <a:stretch/>
        </p:blipFill>
        <p:spPr>
          <a:xfrm rot="9549600">
            <a:off x="1871280" y="3715920"/>
            <a:ext cx="782640" cy="631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7"/>
          <p:cNvSpPr/>
          <p:nvPr/>
        </p:nvSpPr>
        <p:spPr>
          <a:xfrm>
            <a:off x="21589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0"/>
          <p:cNvSpPr/>
          <p:nvPr/>
        </p:nvSpPr>
        <p:spPr>
          <a:xfrm rot="6753000">
            <a:off x="2867760" y="3764520"/>
            <a:ext cx="863640" cy="696960"/>
          </a:xfrm>
          <a:custGeom>
            <a:avLst/>
            <a:gdLst>
              <a:gd name="textAreaLeft" fmla="*/ 0 w 863640"/>
              <a:gd name="textAreaRight" fmla="*/ 864000 w 86364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fill="none" w="23469" h="21600">
                <a:moveTo>
                  <a:pt x="0" y="1139"/>
                </a:moveTo>
                <a:cubicBezTo>
                  <a:pt x="2229" y="384"/>
                  <a:pt x="4568" y="-1"/>
                  <a:pt x="6922" y="0"/>
                </a:cubicBezTo>
                <a:cubicBezTo>
                  <a:pt x="13306" y="0"/>
                  <a:pt x="19364" y="2824"/>
                  <a:pt x="23468" y="7716"/>
                </a:cubicBezTo>
              </a:path>
              <a:path stroke="0" w="23469" h="21600">
                <a:moveTo>
                  <a:pt x="0" y="1139"/>
                </a:moveTo>
                <a:cubicBezTo>
                  <a:pt x="2229" y="384"/>
                  <a:pt x="4568" y="-1"/>
                  <a:pt x="6922" y="0"/>
                </a:cubicBezTo>
                <a:cubicBezTo>
                  <a:pt x="13306" y="0"/>
                  <a:pt x="19364" y="2824"/>
                  <a:pt x="23468" y="7716"/>
                </a:cubicBezTo>
                <a:lnTo>
                  <a:pt x="6922" y="21600"/>
                </a:lnTo>
                <a:lnTo>
                  <a:pt x="0" y="113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4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3635280" y="375300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3132000" y="443700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309564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258920" y="447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3672000" y="357336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5"/>
          <p:cNvGraphicFramePr/>
          <p:nvPr/>
        </p:nvGraphicFramePr>
        <p:xfrm>
          <a:off x="4067280" y="1844640"/>
          <a:ext cx="468144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44640"/>
                    <a:ext cx="46814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6" descr="Рисунок19"/>
          <p:cNvPicPr/>
          <p:nvPr/>
        </p:nvPicPr>
        <p:blipFill>
          <a:blip r:embed="rId1"/>
          <a:stretch/>
        </p:blipFill>
        <p:spPr>
          <a:xfrm rot="10475400">
            <a:off x="3959280" y="3860280"/>
            <a:ext cx="1116000" cy="349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секущими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900000" y="5192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76360" y="5121360"/>
            <a:ext cx="7920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двумя секущими, проведенными из одной точки,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разностью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ых внутри него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971640" y="1989000"/>
            <a:ext cx="2844720" cy="284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979640" y="31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1332000" y="2023920"/>
            <a:ext cx="3816360" cy="2125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 flipH="1">
            <a:off x="1150920" y="4149720"/>
            <a:ext cx="3997440" cy="4665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1547640" y="2097000"/>
            <a:ext cx="179640" cy="179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3708360" y="328464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3"/>
          <p:cNvSpPr/>
          <p:nvPr/>
        </p:nvSpPr>
        <p:spPr>
          <a:xfrm>
            <a:off x="3384720" y="425772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1440000" y="4473720"/>
            <a:ext cx="179280" cy="179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5003640" y="4041720"/>
            <a:ext cx="179640" cy="179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4356000" y="37893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28"/>
          <p:cNvSpPr/>
          <p:nvPr/>
        </p:nvSpPr>
        <p:spPr>
          <a:xfrm flipH="1" rot="17155800">
            <a:off x="2147760" y="1469880"/>
            <a:ext cx="2233800" cy="4789440"/>
          </a:xfrm>
          <a:custGeom>
            <a:avLst/>
            <a:gdLst>
              <a:gd name="textAreaLeft" fmla="*/ -360 w 2233800"/>
              <a:gd name="textAreaRight" fmla="*/ 2233800 w 2233800"/>
              <a:gd name="textAreaTop" fmla="*/ 0 h 4789440"/>
              <a:gd name="textAreaBottom" fmla="*/ 4789800 h 4789440"/>
            </a:gdLst>
            <a:ahLst/>
            <a:rect l="textAreaLeft" t="textAreaTop" r="textAreaRight" b="textAreaBottom"/>
            <a:pathLst>
              <a:path fill="none" w="19801" h="21600">
                <a:moveTo>
                  <a:pt x="0" y="1356"/>
                </a:moveTo>
                <a:cubicBezTo>
                  <a:pt x="2410" y="459"/>
                  <a:pt x="4961" y="-1"/>
                  <a:pt x="7534" y="0"/>
                </a:cubicBezTo>
                <a:cubicBezTo>
                  <a:pt x="11916" y="0"/>
                  <a:pt x="16194" y="1332"/>
                  <a:pt x="19801" y="3821"/>
                </a:cubicBezTo>
              </a:path>
              <a:path stroke="0" w="19801" h="21600">
                <a:moveTo>
                  <a:pt x="0" y="1356"/>
                </a:moveTo>
                <a:cubicBezTo>
                  <a:pt x="2410" y="459"/>
                  <a:pt x="4961" y="-1"/>
                  <a:pt x="7534" y="0"/>
                </a:cubicBezTo>
                <a:cubicBezTo>
                  <a:pt x="11916" y="0"/>
                  <a:pt x="16194" y="1332"/>
                  <a:pt x="19801" y="3821"/>
                </a:cubicBezTo>
                <a:lnTo>
                  <a:pt x="7534" y="21600"/>
                </a:lnTo>
                <a:lnTo>
                  <a:pt x="0" y="1356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29"/>
          <p:cNvSpPr/>
          <p:nvPr/>
        </p:nvSpPr>
        <p:spPr>
          <a:xfrm rot="6998400">
            <a:off x="2600280" y="2663640"/>
            <a:ext cx="828720" cy="1711440"/>
          </a:xfrm>
          <a:custGeom>
            <a:avLst/>
            <a:gdLst>
              <a:gd name="textAreaLeft" fmla="*/ 0 w 828720"/>
              <a:gd name="textAreaRight" fmla="*/ 829080 w 8287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fill="none" w="14164" h="21600">
                <a:moveTo>
                  <a:pt x="0" y="2446"/>
                </a:moveTo>
                <a:cubicBezTo>
                  <a:pt x="3083" y="839"/>
                  <a:pt x="6508" y="-1"/>
                  <a:pt x="9985" y="0"/>
                </a:cubicBezTo>
                <a:cubicBezTo>
                  <a:pt x="11387" y="0"/>
                  <a:pt x="12787" y="136"/>
                  <a:pt x="14163" y="408"/>
                </a:cubicBezTo>
              </a:path>
              <a:path stroke="0" w="14164" h="21600">
                <a:moveTo>
                  <a:pt x="0" y="2446"/>
                </a:moveTo>
                <a:cubicBezTo>
                  <a:pt x="3083" y="839"/>
                  <a:pt x="6508" y="-1"/>
                  <a:pt x="9985" y="0"/>
                </a:cubicBezTo>
                <a:cubicBezTo>
                  <a:pt x="11387" y="0"/>
                  <a:pt x="12787" y="136"/>
                  <a:pt x="14163" y="408"/>
                </a:cubicBezTo>
                <a:lnTo>
                  <a:pt x="9985" y="21600"/>
                </a:lnTo>
                <a:lnTo>
                  <a:pt x="0" y="2446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4896000" y="404172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3635280" y="3033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1295280" y="1736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3240000" y="4292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719280" y="4184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5"/>
          <p:cNvGraphicFramePr/>
          <p:nvPr/>
        </p:nvGraphicFramePr>
        <p:xfrm>
          <a:off x="3924360" y="1592280"/>
          <a:ext cx="486072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592280"/>
                    <a:ext cx="48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касательной и секущей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76360" y="522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касательной и секущей, проведенными из одной точки, измеряется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ураз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ключенных внутри него д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934920" y="2097000"/>
            <a:ext cx="2916360" cy="26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2340000" y="3357720"/>
            <a:ext cx="108000" cy="10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016000" y="31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2771280" y="1773000"/>
            <a:ext cx="2413080" cy="25556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 flipH="1" flipV="1">
            <a:off x="576000" y="3607920"/>
            <a:ext cx="4608360" cy="684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0"/>
          <p:cNvSpPr/>
          <p:nvPr/>
        </p:nvSpPr>
        <p:spPr>
          <a:xfrm>
            <a:off x="3527280" y="396864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Рисунок19"/>
          <p:cNvPicPr/>
          <p:nvPr/>
        </p:nvPicPr>
        <p:blipFill>
          <a:blip r:embed="rId1"/>
          <a:stretch/>
        </p:blipFill>
        <p:spPr>
          <a:xfrm rot="11574600">
            <a:off x="3924000" y="3752280"/>
            <a:ext cx="1187280" cy="371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6"/>
          <p:cNvSpPr/>
          <p:nvPr/>
        </p:nvSpPr>
        <p:spPr>
          <a:xfrm>
            <a:off x="4427640" y="3753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27"/>
          <p:cNvSpPr/>
          <p:nvPr/>
        </p:nvSpPr>
        <p:spPr>
          <a:xfrm flipH="1" rot="19534800">
            <a:off x="898920" y="2060640"/>
            <a:ext cx="2719440" cy="2120760"/>
          </a:xfrm>
          <a:custGeom>
            <a:avLst/>
            <a:gdLst>
              <a:gd name="textAreaLeft" fmla="*/ 360 w 2719440"/>
              <a:gd name="textAreaRight" fmla="*/ 2720160 w 2719440"/>
              <a:gd name="textAreaTop" fmla="*/ 0 h 2120760"/>
              <a:gd name="textAreaBottom" fmla="*/ 2121120 h 2120760"/>
            </a:gdLst>
            <a:ahLst/>
            <a:rect l="textAreaLeft" t="textAreaTop" r="textAreaRight" b="textAreaBottom"/>
            <a:pathLst>
              <a:path fill="none" w="35541" h="21600">
                <a:moveTo>
                  <a:pt x="-1" y="12237"/>
                </a:moveTo>
                <a:cubicBezTo>
                  <a:pt x="3597" y="4757"/>
                  <a:pt x="11164" y="-1"/>
                  <a:pt x="19465" y="0"/>
                </a:cubicBezTo>
                <a:cubicBezTo>
                  <a:pt x="25599" y="0"/>
                  <a:pt x="31444" y="2608"/>
                  <a:pt x="35541" y="7173"/>
                </a:cubicBezTo>
              </a:path>
              <a:path stroke="0" w="35541" h="21600">
                <a:moveTo>
                  <a:pt x="-1" y="12237"/>
                </a:moveTo>
                <a:cubicBezTo>
                  <a:pt x="3597" y="4757"/>
                  <a:pt x="11164" y="-1"/>
                  <a:pt x="19465" y="0"/>
                </a:cubicBezTo>
                <a:cubicBezTo>
                  <a:pt x="25599" y="0"/>
                  <a:pt x="31444" y="2608"/>
                  <a:pt x="35541" y="7173"/>
                </a:cubicBezTo>
                <a:lnTo>
                  <a:pt x="19465" y="21600"/>
                </a:lnTo>
                <a:lnTo>
                  <a:pt x="-1" y="12237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8"/>
          <p:cNvSpPr/>
          <p:nvPr/>
        </p:nvSpPr>
        <p:spPr>
          <a:xfrm flipH="1" rot="5242200">
            <a:off x="1005480" y="1233720"/>
            <a:ext cx="1441440" cy="4247640"/>
          </a:xfrm>
          <a:custGeom>
            <a:avLst/>
            <a:gdLst>
              <a:gd name="textAreaLeft" fmla="*/ 360 w 1441440"/>
              <a:gd name="textAreaRight" fmla="*/ 1442160 w 1441440"/>
              <a:gd name="textAreaTop" fmla="*/ 0 h 4247640"/>
              <a:gd name="textAreaBottom" fmla="*/ 4248000 h 4247640"/>
            </a:gdLst>
            <a:ahLst/>
            <a:rect l="textAreaLeft" t="textAreaTop" r="textAreaRight" b="textAreaBottom"/>
            <a:pathLst>
              <a:path fill="none" w="14183" h="21600">
                <a:moveTo>
                  <a:pt x="0" y="774"/>
                </a:moveTo>
                <a:cubicBezTo>
                  <a:pt x="1867" y="260"/>
                  <a:pt x="3794" y="-1"/>
                  <a:pt x="5731" y="0"/>
                </a:cubicBezTo>
                <a:cubicBezTo>
                  <a:pt x="8635" y="0"/>
                  <a:pt x="11510" y="585"/>
                  <a:pt x="14182" y="1722"/>
                </a:cubicBezTo>
              </a:path>
              <a:path stroke="0" w="14183" h="21600">
                <a:moveTo>
                  <a:pt x="0" y="774"/>
                </a:moveTo>
                <a:cubicBezTo>
                  <a:pt x="1867" y="260"/>
                  <a:pt x="3794" y="-1"/>
                  <a:pt x="5731" y="0"/>
                </a:cubicBezTo>
                <a:cubicBezTo>
                  <a:pt x="8635" y="0"/>
                  <a:pt x="11510" y="585"/>
                  <a:pt x="14182" y="1722"/>
                </a:cubicBezTo>
                <a:lnTo>
                  <a:pt x="5731" y="21600"/>
                </a:lnTo>
                <a:lnTo>
                  <a:pt x="0" y="77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863640" y="357336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419640" y="2457360"/>
            <a:ext cx="21564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5076720" y="422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51847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1"/>
          <p:cNvSpPr/>
          <p:nvPr/>
        </p:nvSpPr>
        <p:spPr>
          <a:xfrm>
            <a:off x="331164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3311640" y="40053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3"/>
          <p:cNvSpPr/>
          <p:nvPr/>
        </p:nvSpPr>
        <p:spPr>
          <a:xfrm>
            <a:off x="324000" y="3645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34"/>
          <p:cNvGraphicFramePr/>
          <p:nvPr/>
        </p:nvGraphicFramePr>
        <p:xfrm>
          <a:off x="4176720" y="1628640"/>
          <a:ext cx="4498920" cy="16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720" y="1628640"/>
                    <a:ext cx="44989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двумя касательными, проведенными из од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03280" y="4869000"/>
            <a:ext cx="81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двумя касательными, проведенными из одной точки, равен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80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н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личина заключенной внутри него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г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меньшей полу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1655640" y="1989000"/>
            <a:ext cx="2195640" cy="216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2664000" y="2960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2124000" y="2816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755640" y="1449000"/>
            <a:ext cx="1944720" cy="2195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755640" y="3645000"/>
            <a:ext cx="3095640" cy="863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1"/>
          <p:cNvSpPr/>
          <p:nvPr/>
        </p:nvSpPr>
        <p:spPr>
          <a:xfrm>
            <a:off x="2376360" y="4041720"/>
            <a:ext cx="14472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Рисунок19"/>
          <p:cNvPicPr/>
          <p:nvPr/>
        </p:nvPicPr>
        <p:blipFill>
          <a:blip r:embed="rId1"/>
          <a:stretch/>
        </p:blipFill>
        <p:spPr>
          <a:xfrm rot="18832200">
            <a:off x="924480" y="3225240"/>
            <a:ext cx="743040" cy="576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3"/>
          <p:cNvSpPr/>
          <p:nvPr/>
        </p:nvSpPr>
        <p:spPr>
          <a:xfrm>
            <a:off x="1008000" y="328464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24"/>
          <p:cNvSpPr/>
          <p:nvPr/>
        </p:nvSpPr>
        <p:spPr>
          <a:xfrm flipH="1" rot="15868800">
            <a:off x="2798640" y="1062000"/>
            <a:ext cx="1766880" cy="4052880"/>
          </a:xfrm>
          <a:custGeom>
            <a:avLst/>
            <a:gdLst>
              <a:gd name="textAreaLeft" fmla="*/ 360 w 1766880"/>
              <a:gd name="textAreaRight" fmla="*/ 1767600 w 1766880"/>
              <a:gd name="textAreaTop" fmla="*/ 0 h 4052880"/>
              <a:gd name="textAreaBottom" fmla="*/ 4053240 h 4052880"/>
            </a:gdLst>
            <a:ahLst/>
            <a:rect l="textAreaLeft" t="textAreaTop" r="textAreaRight" b="textAreaBottom"/>
            <a:pathLst>
              <a:path fill="none" w="19711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2456" y="0"/>
                  <a:pt x="16332" y="1084"/>
                  <a:pt x="19710" y="3134"/>
                </a:cubicBezTo>
              </a:path>
              <a:path stroke="0" w="19711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2456" y="0"/>
                  <a:pt x="16332" y="1084"/>
                  <a:pt x="19710" y="3134"/>
                </a:cubicBezTo>
                <a:lnTo>
                  <a:pt x="8505" y="21600"/>
                </a:lnTo>
                <a:lnTo>
                  <a:pt x="-1" y="1744"/>
                </a:lnTo>
                <a:close/>
              </a:path>
            </a:pathLst>
          </a:custGeom>
          <a:noFill/>
          <a:ln w="572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"/>
          <p:cNvSpPr/>
          <p:nvPr/>
        </p:nvSpPr>
        <p:spPr>
          <a:xfrm>
            <a:off x="1835280" y="2276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5"/>
          <p:cNvSpPr/>
          <p:nvPr/>
        </p:nvSpPr>
        <p:spPr>
          <a:xfrm>
            <a:off x="684360" y="35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358920" y="360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154764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087640" y="41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9"/>
          <p:cNvGraphicFramePr/>
          <p:nvPr/>
        </p:nvGraphicFramePr>
        <p:xfrm>
          <a:off x="3924360" y="2565360"/>
          <a:ext cx="47163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565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стные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503280" y="1557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503280" y="34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4967280" y="3500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cc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1008000" y="1413000"/>
            <a:ext cx="3527640" cy="1331640"/>
            <a:chOff x="1008000" y="1413000"/>
            <a:chExt cx="3527640" cy="1331640"/>
          </a:xfrm>
        </p:grpSpPr>
        <p:sp>
          <p:nvSpPr>
            <p:cNvPr id="259" name="Text Box 19"/>
            <p:cNvSpPr/>
            <p:nvPr/>
          </p:nvSpPr>
          <p:spPr>
            <a:xfrm>
              <a:off x="1187280" y="144936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20"/>
            <p:cNvGraphicFramePr/>
            <p:nvPr/>
          </p:nvGraphicFramePr>
          <p:xfrm>
            <a:off x="1008000" y="1881360"/>
            <a:ext cx="2374920" cy="38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8000" y="1881360"/>
                      <a:ext cx="2374920" cy="38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Text Box 21"/>
            <p:cNvSpPr/>
            <p:nvPr/>
          </p:nvSpPr>
          <p:spPr>
            <a:xfrm>
              <a:off x="3384720" y="1881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 2 р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Object 22"/>
            <p:cNvGraphicFramePr/>
            <p:nvPr/>
          </p:nvGraphicFramePr>
          <p:xfrm>
            <a:off x="2158920" y="1413000"/>
            <a:ext cx="172872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2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8920" y="141300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Text Box 23"/>
            <p:cNvSpPr/>
            <p:nvPr/>
          </p:nvSpPr>
          <p:spPr>
            <a:xfrm>
              <a:off x="1079640" y="227664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Object 24"/>
            <p:cNvGraphicFramePr/>
            <p:nvPr/>
          </p:nvGraphicFramePr>
          <p:xfrm>
            <a:off x="2232000" y="2313000"/>
            <a:ext cx="226872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32000" y="2313000"/>
                      <a:ext cx="22687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Group 37"/>
          <p:cNvGrpSpPr/>
          <p:nvPr/>
        </p:nvGrpSpPr>
        <p:grpSpPr>
          <a:xfrm>
            <a:off x="5040360" y="1197000"/>
            <a:ext cx="2374920" cy="2241720"/>
            <a:chOff x="5040360" y="1197000"/>
            <a:chExt cx="2374920" cy="2241720"/>
          </a:xfrm>
        </p:grpSpPr>
        <p:sp>
          <p:nvSpPr>
            <p:cNvPr id="269" name="Oval 26"/>
            <p:cNvSpPr/>
            <p:nvPr/>
          </p:nvSpPr>
          <p:spPr>
            <a:xfrm>
              <a:off x="5400720" y="1378080"/>
              <a:ext cx="1871640" cy="172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7"/>
            <p:cNvSpPr/>
            <p:nvPr/>
          </p:nvSpPr>
          <p:spPr>
            <a:xfrm>
              <a:off x="6264360" y="2170080"/>
              <a:ext cx="144360" cy="142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8"/>
            <p:cNvSpPr/>
            <p:nvPr/>
          </p:nvSpPr>
          <p:spPr>
            <a:xfrm>
              <a:off x="6336000" y="30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9"/>
            <p:cNvSpPr/>
            <p:nvPr/>
          </p:nvSpPr>
          <p:spPr>
            <a:xfrm>
              <a:off x="5472360" y="263844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0"/>
            <p:cNvSpPr/>
            <p:nvPr/>
          </p:nvSpPr>
          <p:spPr>
            <a:xfrm>
              <a:off x="6875640" y="2817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1"/>
            <p:cNvSpPr/>
            <p:nvPr/>
          </p:nvSpPr>
          <p:spPr>
            <a:xfrm>
              <a:off x="6588360" y="13780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5867640" y="2025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6588360" y="1197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875640" y="2781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5940360" y="307044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5040360" y="2565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08"/>
          <p:cNvGrpSpPr/>
          <p:nvPr/>
        </p:nvGrpSpPr>
        <p:grpSpPr>
          <a:xfrm>
            <a:off x="5241240" y="1227240"/>
            <a:ext cx="2107440" cy="1912680"/>
            <a:chOff x="5241240" y="1227240"/>
            <a:chExt cx="2107440" cy="1912680"/>
          </a:xfrm>
        </p:grpSpPr>
        <p:sp>
          <p:nvSpPr>
            <p:cNvPr id="281" name="Arc 38"/>
            <p:cNvSpPr/>
            <p:nvPr/>
          </p:nvSpPr>
          <p:spPr>
            <a:xfrm flipH="1" rot="5788800">
              <a:off x="5618880" y="1733040"/>
              <a:ext cx="1332000" cy="133848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1338480"/>
                <a:gd name="textAreaBottom" fmla="*/ 1338840 h 1338480"/>
              </a:gdLst>
              <a:ahLst/>
              <a:rect l="textAreaLeft" t="textAreaTop" r="textAreaRight" b="textAreaBottom"/>
              <a:pathLst>
                <a:path fill="none" w="21600" h="24671">
                  <a:moveTo>
                    <a:pt x="3686" y="24671"/>
                  </a:moveTo>
                  <a:cubicBezTo>
                    <a:pt x="1283" y="21104"/>
                    <a:pt x="0" y="16902"/>
                    <a:pt x="0" y="12602"/>
                  </a:cubicBezTo>
                  <a:cubicBezTo>
                    <a:pt x="-1" y="8080"/>
                    <a:pt x="1419" y="3672"/>
                    <a:pt x="4057" y="0"/>
                  </a:cubicBezTo>
                </a:path>
                <a:path stroke="0" w="21600" h="24671">
                  <a:moveTo>
                    <a:pt x="3686" y="24671"/>
                  </a:moveTo>
                  <a:cubicBezTo>
                    <a:pt x="1283" y="21104"/>
                    <a:pt x="0" y="16902"/>
                    <a:pt x="0" y="12602"/>
                  </a:cubicBezTo>
                  <a:cubicBezTo>
                    <a:pt x="-1" y="8080"/>
                    <a:pt x="1419" y="3672"/>
                    <a:pt x="4057" y="0"/>
                  </a:cubicBezTo>
                  <a:lnTo>
                    <a:pt x="21600" y="12602"/>
                  </a:lnTo>
                  <a:lnTo>
                    <a:pt x="3686" y="24671"/>
                  </a:lnTo>
                  <a:close/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rc 39"/>
            <p:cNvSpPr/>
            <p:nvPr/>
          </p:nvSpPr>
          <p:spPr>
            <a:xfrm flipH="1" rot="15604200">
              <a:off x="5505840" y="1233360"/>
              <a:ext cx="1577880" cy="1863360"/>
            </a:xfrm>
            <a:custGeom>
              <a:avLst/>
              <a:gdLst>
                <a:gd name="textAreaLeft" fmla="*/ -360 w 1577880"/>
                <a:gd name="textAreaRight" fmla="*/ 1577880 w 1577880"/>
                <a:gd name="textAreaTop" fmla="*/ 0 h 1863360"/>
                <a:gd name="textAreaBottom" fmla="*/ 1863720 h 1863360"/>
              </a:gdLst>
              <a:ahLst/>
              <a:rect l="textAreaLeft" t="textAreaTop" r="textAreaRight" b="textAreaBottom"/>
              <a:pathLst>
                <a:path fill="none" w="38680" h="43200">
                  <a:moveTo>
                    <a:pt x="38680" y="34822"/>
                  </a:moveTo>
                  <a:cubicBezTo>
                    <a:pt x="34589" y="40106"/>
                    <a:pt x="282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939" y="-1"/>
                    <a:pt x="26262" y="379"/>
                    <a:pt x="28479" y="1125"/>
                  </a:cubicBezTo>
                </a:path>
                <a:path stroke="0" w="38680" h="43200">
                  <a:moveTo>
                    <a:pt x="38680" y="34822"/>
                  </a:moveTo>
                  <a:cubicBezTo>
                    <a:pt x="34589" y="40106"/>
                    <a:pt x="282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939" y="-1"/>
                    <a:pt x="26262" y="379"/>
                    <a:pt x="28479" y="1125"/>
                  </a:cubicBezTo>
                  <a:lnTo>
                    <a:pt x="21600" y="21600"/>
                  </a:lnTo>
                  <a:lnTo>
                    <a:pt x="38680" y="34822"/>
                  </a:lnTo>
                  <a:close/>
                </a:path>
              </a:pathLst>
            </a:custGeom>
            <a:noFill/>
            <a:ln w="5724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7"/>
          <p:cNvGrpSpPr/>
          <p:nvPr/>
        </p:nvGrpSpPr>
        <p:grpSpPr>
          <a:xfrm>
            <a:off x="1116000" y="3357720"/>
            <a:ext cx="2771640" cy="880920"/>
            <a:chOff x="1116000" y="3357720"/>
            <a:chExt cx="2771640" cy="880920"/>
          </a:xfrm>
        </p:grpSpPr>
        <p:sp>
          <p:nvSpPr>
            <p:cNvPr id="284" name="Text Box 41"/>
            <p:cNvSpPr/>
            <p:nvPr/>
          </p:nvSpPr>
          <p:spPr>
            <a:xfrm>
              <a:off x="1187280" y="3394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44"/>
            <p:cNvGraphicFramePr/>
            <p:nvPr/>
          </p:nvGraphicFramePr>
          <p:xfrm>
            <a:off x="2158920" y="3357720"/>
            <a:ext cx="1728720" cy="565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6" name="Object 4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58920" y="335772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Text Box 45"/>
            <p:cNvSpPr/>
            <p:nvPr/>
          </p:nvSpPr>
          <p:spPr>
            <a:xfrm>
              <a:off x="1116000" y="382608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Object 46"/>
            <p:cNvGraphicFramePr/>
            <p:nvPr/>
          </p:nvGraphicFramePr>
          <p:xfrm>
            <a:off x="2266920" y="3861000"/>
            <a:ext cx="1033560" cy="37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9" name="Object 4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66920" y="3861000"/>
                      <a:ext cx="103356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0" name="Group 64"/>
          <p:cNvGrpSpPr/>
          <p:nvPr/>
        </p:nvGrpSpPr>
        <p:grpSpPr>
          <a:xfrm>
            <a:off x="1187280" y="4221000"/>
            <a:ext cx="2195640" cy="2195640"/>
            <a:chOff x="1187280" y="4221000"/>
            <a:chExt cx="2195640" cy="2195640"/>
          </a:xfrm>
        </p:grpSpPr>
        <p:sp>
          <p:nvSpPr>
            <p:cNvPr id="291" name="Oval 48"/>
            <p:cNvSpPr/>
            <p:nvPr/>
          </p:nvSpPr>
          <p:spPr>
            <a:xfrm>
              <a:off x="1331640" y="4545000"/>
              <a:ext cx="1908360" cy="187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9"/>
            <p:cNvSpPr/>
            <p:nvPr/>
          </p:nvSpPr>
          <p:spPr>
            <a:xfrm>
              <a:off x="2232000" y="537372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50"/>
            <p:cNvSpPr/>
            <p:nvPr/>
          </p:nvSpPr>
          <p:spPr>
            <a:xfrm>
              <a:off x="1582560" y="6129360"/>
              <a:ext cx="144360" cy="1443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53"/>
            <p:cNvSpPr/>
            <p:nvPr/>
          </p:nvSpPr>
          <p:spPr>
            <a:xfrm>
              <a:off x="2195280" y="5121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4"/>
            <p:cNvSpPr/>
            <p:nvPr/>
          </p:nvSpPr>
          <p:spPr>
            <a:xfrm flipH="1">
              <a:off x="1690560" y="5445000"/>
              <a:ext cx="612720" cy="755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5"/>
            <p:cNvSpPr/>
            <p:nvPr/>
          </p:nvSpPr>
          <p:spPr>
            <a:xfrm>
              <a:off x="2303280" y="5408640"/>
              <a:ext cx="647640" cy="757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6"/>
            <p:cNvSpPr/>
            <p:nvPr/>
          </p:nvSpPr>
          <p:spPr>
            <a:xfrm flipH="1">
              <a:off x="1655640" y="4581360"/>
              <a:ext cx="720720" cy="1584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7"/>
            <p:cNvSpPr/>
            <p:nvPr/>
          </p:nvSpPr>
          <p:spPr>
            <a:xfrm>
              <a:off x="2303280" y="4545000"/>
              <a:ext cx="647640" cy="1584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52"/>
            <p:cNvSpPr/>
            <p:nvPr/>
          </p:nvSpPr>
          <p:spPr>
            <a:xfrm>
              <a:off x="2266920" y="4508280"/>
              <a:ext cx="144360" cy="1447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51"/>
            <p:cNvSpPr/>
            <p:nvPr/>
          </p:nvSpPr>
          <p:spPr>
            <a:xfrm>
              <a:off x="2879640" y="6021360"/>
              <a:ext cx="144360" cy="1443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8"/>
            <p:cNvSpPr/>
            <p:nvPr/>
          </p:nvSpPr>
          <p:spPr>
            <a:xfrm flipH="1" rot="5575200">
              <a:off x="2249280" y="4921200"/>
              <a:ext cx="176040" cy="35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9"/>
            <p:cNvSpPr/>
            <p:nvPr/>
          </p:nvSpPr>
          <p:spPr>
            <a:xfrm flipH="1" rot="5575200">
              <a:off x="2214360" y="5532840"/>
              <a:ext cx="176400" cy="35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0"/>
            <p:cNvSpPr/>
            <p:nvPr/>
          </p:nvSpPr>
          <p:spPr>
            <a:xfrm>
              <a:off x="1871640" y="576900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1"/>
            <p:cNvSpPr/>
            <p:nvPr/>
          </p:nvSpPr>
          <p:spPr>
            <a:xfrm>
              <a:off x="1187280" y="5984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2"/>
            <p:cNvSpPr/>
            <p:nvPr/>
          </p:nvSpPr>
          <p:spPr>
            <a:xfrm>
              <a:off x="2266920" y="422100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3"/>
            <p:cNvSpPr/>
            <p:nvPr/>
          </p:nvSpPr>
          <p:spPr>
            <a:xfrm>
              <a:off x="2914560" y="6021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65"/>
          <p:cNvGrpSpPr/>
          <p:nvPr/>
        </p:nvGrpSpPr>
        <p:grpSpPr>
          <a:xfrm>
            <a:off x="5543640" y="3392640"/>
            <a:ext cx="2771640" cy="880920"/>
            <a:chOff x="5543640" y="3392640"/>
            <a:chExt cx="2771640" cy="880920"/>
          </a:xfrm>
        </p:grpSpPr>
        <p:sp>
          <p:nvSpPr>
            <p:cNvPr id="308" name="Text Box 66"/>
            <p:cNvSpPr/>
            <p:nvPr/>
          </p:nvSpPr>
          <p:spPr>
            <a:xfrm>
              <a:off x="5614920" y="3429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Object 67"/>
            <p:cNvGraphicFramePr/>
            <p:nvPr/>
          </p:nvGraphicFramePr>
          <p:xfrm>
            <a:off x="6586560" y="3392640"/>
            <a:ext cx="1728720" cy="56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0" name="Object 6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86560" y="3392640"/>
                      <a:ext cx="17287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Text Box 68"/>
            <p:cNvSpPr/>
            <p:nvPr/>
          </p:nvSpPr>
          <p:spPr>
            <a:xfrm>
              <a:off x="5543640" y="386100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2" name="Object 69"/>
            <p:cNvGraphicFramePr/>
            <p:nvPr/>
          </p:nvGraphicFramePr>
          <p:xfrm>
            <a:off x="6694560" y="3895920"/>
            <a:ext cx="1033560" cy="37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3" name="Object 6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94560" y="3895920"/>
                      <a:ext cx="103356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Group 107"/>
          <p:cNvGrpSpPr/>
          <p:nvPr/>
        </p:nvGrpSpPr>
        <p:grpSpPr>
          <a:xfrm>
            <a:off x="5256360" y="4329000"/>
            <a:ext cx="2987640" cy="2016000"/>
            <a:chOff x="5256360" y="4329000"/>
            <a:chExt cx="2987640" cy="2016000"/>
          </a:xfrm>
        </p:grpSpPr>
        <p:sp>
          <p:nvSpPr>
            <p:cNvPr id="315" name="Oval 70"/>
            <p:cNvSpPr/>
            <p:nvPr/>
          </p:nvSpPr>
          <p:spPr>
            <a:xfrm>
              <a:off x="5832360" y="4516200"/>
              <a:ext cx="1908360" cy="1828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1"/>
            <p:cNvSpPr/>
            <p:nvPr/>
          </p:nvSpPr>
          <p:spPr>
            <a:xfrm>
              <a:off x="6732720" y="5337720"/>
              <a:ext cx="144360" cy="149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7"/>
            <p:cNvSpPr/>
            <p:nvPr/>
          </p:nvSpPr>
          <p:spPr>
            <a:xfrm flipH="1">
              <a:off x="6048000" y="4590360"/>
              <a:ext cx="1079640" cy="14184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8"/>
            <p:cNvSpPr/>
            <p:nvPr/>
          </p:nvSpPr>
          <p:spPr>
            <a:xfrm>
              <a:off x="5832360" y="5225760"/>
              <a:ext cx="1764000" cy="6714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 flipV="1">
              <a:off x="5832360" y="4590360"/>
              <a:ext cx="1295640" cy="6350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2"/>
            <p:cNvSpPr/>
            <p:nvPr/>
          </p:nvSpPr>
          <p:spPr>
            <a:xfrm>
              <a:off x="7056360" y="4516200"/>
              <a:ext cx="144720" cy="14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3"/>
            <p:cNvSpPr/>
            <p:nvPr/>
          </p:nvSpPr>
          <p:spPr>
            <a:xfrm>
              <a:off x="5796000" y="515016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75"/>
            <p:cNvSpPr/>
            <p:nvPr/>
          </p:nvSpPr>
          <p:spPr>
            <a:xfrm>
              <a:off x="7488360" y="582336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4"/>
            <p:cNvSpPr/>
            <p:nvPr/>
          </p:nvSpPr>
          <p:spPr>
            <a:xfrm>
              <a:off x="6372360" y="537408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rc 80"/>
            <p:cNvSpPr/>
            <p:nvPr/>
          </p:nvSpPr>
          <p:spPr>
            <a:xfrm flipH="1" rot="9708000">
              <a:off x="5832000" y="5038200"/>
              <a:ext cx="1332000" cy="82116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fill="none" w="21600" h="15030">
                  <a:moveTo>
                    <a:pt x="1184" y="15029"/>
                  </a:moveTo>
                  <a:cubicBezTo>
                    <a:pt x="400" y="12760"/>
                    <a:pt x="0" y="10376"/>
                    <a:pt x="0" y="7976"/>
                  </a:cubicBezTo>
                  <a:cubicBezTo>
                    <a:pt x="-1" y="5244"/>
                    <a:pt x="517" y="2538"/>
                    <a:pt x="1526" y="0"/>
                  </a:cubicBezTo>
                </a:path>
                <a:path stroke="0" w="21600" h="15030">
                  <a:moveTo>
                    <a:pt x="1184" y="15029"/>
                  </a:moveTo>
                  <a:cubicBezTo>
                    <a:pt x="400" y="12760"/>
                    <a:pt x="0" y="10376"/>
                    <a:pt x="0" y="7976"/>
                  </a:cubicBezTo>
                  <a:cubicBezTo>
                    <a:pt x="-1" y="5244"/>
                    <a:pt x="517" y="2538"/>
                    <a:pt x="1526" y="0"/>
                  </a:cubicBezTo>
                  <a:lnTo>
                    <a:pt x="21600" y="7976"/>
                  </a:lnTo>
                  <a:lnTo>
                    <a:pt x="1184" y="15029"/>
                  </a:lnTo>
                  <a:close/>
                </a:path>
              </a:pathLst>
            </a:custGeom>
            <a:noFill/>
            <a:ln w="5724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6"/>
            <p:cNvSpPr/>
            <p:nvPr/>
          </p:nvSpPr>
          <p:spPr>
            <a:xfrm>
              <a:off x="5977080" y="5935320"/>
              <a:ext cx="14436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81"/>
            <p:cNvSpPr/>
            <p:nvPr/>
          </p:nvSpPr>
          <p:spPr>
            <a:xfrm flipH="1" rot="20720400">
              <a:off x="6427440" y="4666320"/>
              <a:ext cx="1312920" cy="1305000"/>
            </a:xfrm>
            <a:custGeom>
              <a:avLst/>
              <a:gdLst>
                <a:gd name="textAreaLeft" fmla="*/ -360 w 1312920"/>
                <a:gd name="textAreaRight" fmla="*/ 1312920 w 1312920"/>
                <a:gd name="textAreaTop" fmla="*/ 0 h 1305000"/>
                <a:gd name="textAreaBottom" fmla="*/ 1305360 h 1305000"/>
              </a:gdLst>
              <a:ahLst/>
              <a:rect l="textAreaLeft" t="textAreaTop" r="textAreaRight" b="textAreaBottom"/>
              <a:pathLst>
                <a:path fill="none" w="21600" h="29599">
                  <a:moveTo>
                    <a:pt x="4842" y="29599"/>
                  </a:moveTo>
                  <a:cubicBezTo>
                    <a:pt x="1710" y="25747"/>
                    <a:pt x="0" y="20934"/>
                    <a:pt x="0" y="15970"/>
                  </a:cubicBezTo>
                  <a:cubicBezTo>
                    <a:pt x="-1" y="9890"/>
                    <a:pt x="2561" y="4093"/>
                    <a:pt x="7056" y="0"/>
                  </a:cubicBezTo>
                </a:path>
                <a:path stroke="0" w="21600" h="29599">
                  <a:moveTo>
                    <a:pt x="4842" y="29599"/>
                  </a:moveTo>
                  <a:cubicBezTo>
                    <a:pt x="1710" y="25747"/>
                    <a:pt x="0" y="20934"/>
                    <a:pt x="0" y="15970"/>
                  </a:cubicBezTo>
                  <a:cubicBezTo>
                    <a:pt x="-1" y="9890"/>
                    <a:pt x="2561" y="4093"/>
                    <a:pt x="7056" y="0"/>
                  </a:cubicBezTo>
                  <a:lnTo>
                    <a:pt x="21600" y="15970"/>
                  </a:lnTo>
                  <a:lnTo>
                    <a:pt x="4842" y="29599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2"/>
            <p:cNvSpPr/>
            <p:nvPr/>
          </p:nvSpPr>
          <p:spPr>
            <a:xfrm>
              <a:off x="5256360" y="54496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3"/>
            <p:cNvSpPr/>
            <p:nvPr/>
          </p:nvSpPr>
          <p:spPr>
            <a:xfrm>
              <a:off x="7667640" y="49640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4"/>
            <p:cNvSpPr/>
            <p:nvPr/>
          </p:nvSpPr>
          <p:spPr>
            <a:xfrm>
              <a:off x="6767640" y="51879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6"/>
            <p:cNvSpPr/>
            <p:nvPr/>
          </p:nvSpPr>
          <p:spPr>
            <a:xfrm flipH="1" rot="9919800">
              <a:off x="6112440" y="5411160"/>
              <a:ext cx="142920" cy="2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953" y="1849"/>
                    <a:pt x="10305" y="5080"/>
                    <a:pt x="10305" y="10800"/>
                  </a:cubicBezTo>
                  <a:cubicBezTo>
                    <a:pt x="10305" y="16520"/>
                    <a:pt x="15953" y="197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03"/>
            <p:cNvSpPr/>
            <p:nvPr/>
          </p:nvSpPr>
          <p:spPr>
            <a:xfrm>
              <a:off x="5400720" y="49640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04"/>
            <p:cNvSpPr/>
            <p:nvPr/>
          </p:nvSpPr>
          <p:spPr>
            <a:xfrm>
              <a:off x="5580000" y="5859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5"/>
            <p:cNvSpPr/>
            <p:nvPr/>
          </p:nvSpPr>
          <p:spPr>
            <a:xfrm>
              <a:off x="7524720" y="5673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06"/>
            <p:cNvSpPr/>
            <p:nvPr/>
          </p:nvSpPr>
          <p:spPr>
            <a:xfrm>
              <a:off x="7093080" y="4329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63"/>
          <p:cNvGrpSpPr/>
          <p:nvPr/>
        </p:nvGrpSpPr>
        <p:grpSpPr>
          <a:xfrm>
            <a:off x="4067280" y="1628640"/>
            <a:ext cx="3780720" cy="1008000"/>
            <a:chOff x="4067280" y="1628640"/>
            <a:chExt cx="3780720" cy="1008000"/>
          </a:xfrm>
        </p:grpSpPr>
        <p:graphicFrame>
          <p:nvGraphicFramePr>
            <p:cNvPr id="337" name="Object 26"/>
            <p:cNvGraphicFramePr/>
            <p:nvPr/>
          </p:nvGraphicFramePr>
          <p:xfrm>
            <a:off x="5505480" y="1671120"/>
            <a:ext cx="2342520" cy="3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8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5480" y="1671120"/>
                      <a:ext cx="23425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25"/>
            <p:cNvSpPr/>
            <p:nvPr/>
          </p:nvSpPr>
          <p:spPr>
            <a:xfrm>
              <a:off x="4067280" y="1628640"/>
              <a:ext cx="197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4150440" y="2260800"/>
              <a:ext cx="197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1" name="Object 28"/>
            <p:cNvGraphicFramePr/>
            <p:nvPr/>
          </p:nvGraphicFramePr>
          <p:xfrm>
            <a:off x="5752080" y="2303640"/>
            <a:ext cx="1273680" cy="33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2080" y="2303640"/>
                      <a:ext cx="127368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3" name="AutoShape 31"/>
          <p:cNvSpPr/>
          <p:nvPr/>
        </p:nvSpPr>
        <p:spPr>
          <a:xfrm>
            <a:off x="468360" y="2097000"/>
            <a:ext cx="720720" cy="540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2"/>
          <p:cNvSpPr/>
          <p:nvPr/>
        </p:nvSpPr>
        <p:spPr>
          <a:xfrm>
            <a:off x="503280" y="4616280"/>
            <a:ext cx="720720" cy="540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4"/>
          <p:cNvGrpSpPr/>
          <p:nvPr/>
        </p:nvGrpSpPr>
        <p:grpSpPr>
          <a:xfrm>
            <a:off x="1440000" y="3860640"/>
            <a:ext cx="2700360" cy="2268720"/>
            <a:chOff x="1440000" y="3860640"/>
            <a:chExt cx="2700360" cy="2268720"/>
          </a:xfrm>
        </p:grpSpPr>
        <p:sp>
          <p:nvSpPr>
            <p:cNvPr id="346" name="Text Box 41"/>
            <p:cNvSpPr/>
            <p:nvPr/>
          </p:nvSpPr>
          <p:spPr>
            <a:xfrm>
              <a:off x="2049480" y="566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3299040" y="5667120"/>
              <a:ext cx="7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58"/>
            <p:cNvGrpSpPr/>
            <p:nvPr/>
          </p:nvGrpSpPr>
          <p:grpSpPr>
            <a:xfrm>
              <a:off x="1440000" y="3860640"/>
              <a:ext cx="2700360" cy="2241720"/>
              <a:chOff x="1440000" y="3860640"/>
              <a:chExt cx="2700360" cy="2241720"/>
            </a:xfrm>
          </p:grpSpPr>
          <p:sp>
            <p:nvSpPr>
              <p:cNvPr id="349" name="Oval 33"/>
              <p:cNvSpPr/>
              <p:nvPr/>
            </p:nvSpPr>
            <p:spPr>
              <a:xfrm>
                <a:off x="1526760" y="3860640"/>
                <a:ext cx="2061360" cy="185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34"/>
              <p:cNvSpPr/>
              <p:nvPr/>
            </p:nvSpPr>
            <p:spPr>
              <a:xfrm>
                <a:off x="2514240" y="4790520"/>
                <a:ext cx="86760" cy="770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35"/>
              <p:cNvSpPr/>
              <p:nvPr/>
            </p:nvSpPr>
            <p:spPr>
              <a:xfrm>
                <a:off x="2139120" y="4661640"/>
                <a:ext cx="40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6"/>
              <p:cNvSpPr/>
              <p:nvPr/>
            </p:nvSpPr>
            <p:spPr>
              <a:xfrm>
                <a:off x="2543400" y="4867920"/>
                <a:ext cx="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7"/>
              <p:cNvSpPr/>
              <p:nvPr/>
            </p:nvSpPr>
            <p:spPr>
              <a:xfrm>
                <a:off x="1440000" y="5719320"/>
                <a:ext cx="27003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38"/>
              <p:cNvSpPr/>
              <p:nvPr/>
            </p:nvSpPr>
            <p:spPr>
              <a:xfrm flipV="1">
                <a:off x="2543400" y="4118760"/>
                <a:ext cx="726120" cy="16005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rc 40"/>
              <p:cNvSpPr/>
              <p:nvPr/>
            </p:nvSpPr>
            <p:spPr>
              <a:xfrm rot="3610200">
                <a:off x="2290680" y="5230800"/>
                <a:ext cx="248040" cy="102024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2"/>
              <p:cNvSpPr/>
              <p:nvPr/>
            </p:nvSpPr>
            <p:spPr>
              <a:xfrm>
                <a:off x="3095640" y="3885480"/>
                <a:ext cx="7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44"/>
              <p:cNvSpPr/>
              <p:nvPr/>
            </p:nvSpPr>
            <p:spPr>
              <a:xfrm>
                <a:off x="3327120" y="4894200"/>
                <a:ext cx="69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5"/>
              <p:cNvSpPr/>
              <p:nvPr/>
            </p:nvSpPr>
            <p:spPr>
              <a:xfrm>
                <a:off x="3240000" y="4067640"/>
                <a:ext cx="86760" cy="77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46"/>
              <p:cNvSpPr/>
              <p:nvPr/>
            </p:nvSpPr>
            <p:spPr>
              <a:xfrm>
                <a:off x="2514240" y="5694480"/>
                <a:ext cx="86760" cy="77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62"/>
          <p:cNvGrpSpPr/>
          <p:nvPr/>
        </p:nvGrpSpPr>
        <p:grpSpPr>
          <a:xfrm>
            <a:off x="4319640" y="4437000"/>
            <a:ext cx="4247640" cy="1085040"/>
            <a:chOff x="4319640" y="4437000"/>
            <a:chExt cx="4247640" cy="1085040"/>
          </a:xfrm>
        </p:grpSpPr>
        <p:graphicFrame>
          <p:nvGraphicFramePr>
            <p:cNvPr id="361" name="Object 49"/>
            <p:cNvGraphicFramePr/>
            <p:nvPr/>
          </p:nvGraphicFramePr>
          <p:xfrm>
            <a:off x="5709960" y="4485240"/>
            <a:ext cx="2857320" cy="37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2" name="Object 4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9960" y="4485240"/>
                      <a:ext cx="285732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Text Box 47"/>
            <p:cNvSpPr/>
            <p:nvPr/>
          </p:nvSpPr>
          <p:spPr>
            <a:xfrm>
              <a:off x="4319640" y="44370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4435200" y="510336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56"/>
            <p:cNvGraphicFramePr/>
            <p:nvPr/>
          </p:nvGraphicFramePr>
          <p:xfrm>
            <a:off x="5902200" y="5151240"/>
            <a:ext cx="810000" cy="370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02200" y="5151240"/>
                      <a:ext cx="810000" cy="37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7" name="Group 60"/>
          <p:cNvGrpSpPr/>
          <p:nvPr/>
        </p:nvGrpSpPr>
        <p:grpSpPr>
          <a:xfrm>
            <a:off x="1533600" y="1089000"/>
            <a:ext cx="2498400" cy="2483280"/>
            <a:chOff x="1533600" y="1089000"/>
            <a:chExt cx="2498400" cy="2483280"/>
          </a:xfrm>
        </p:grpSpPr>
        <p:sp>
          <p:nvSpPr>
            <p:cNvPr id="368" name="Text Box 22"/>
            <p:cNvSpPr/>
            <p:nvPr/>
          </p:nvSpPr>
          <p:spPr>
            <a:xfrm>
              <a:off x="3357720" y="227808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3"/>
            <p:cNvSpPr/>
            <p:nvPr/>
          </p:nvSpPr>
          <p:spPr>
            <a:xfrm>
              <a:off x="1741320" y="3112560"/>
              <a:ext cx="6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59"/>
            <p:cNvGrpSpPr/>
            <p:nvPr/>
          </p:nvGrpSpPr>
          <p:grpSpPr>
            <a:xfrm>
              <a:off x="1533600" y="1089000"/>
              <a:ext cx="2343240" cy="2120040"/>
              <a:chOff x="1533600" y="1089000"/>
              <a:chExt cx="2343240" cy="2120040"/>
            </a:xfrm>
          </p:grpSpPr>
          <p:sp>
            <p:nvSpPr>
              <p:cNvPr id="371" name="Oval 13"/>
              <p:cNvSpPr/>
              <p:nvPr/>
            </p:nvSpPr>
            <p:spPr>
              <a:xfrm>
                <a:off x="1539720" y="1409760"/>
                <a:ext cx="2021400" cy="1799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4"/>
              <p:cNvSpPr/>
              <p:nvPr/>
            </p:nvSpPr>
            <p:spPr>
              <a:xfrm>
                <a:off x="2516400" y="2246040"/>
                <a:ext cx="100800" cy="954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5"/>
              <p:cNvSpPr/>
              <p:nvPr/>
            </p:nvSpPr>
            <p:spPr>
              <a:xfrm>
                <a:off x="2213640" y="2214360"/>
                <a:ext cx="37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6"/>
              <p:cNvSpPr/>
              <p:nvPr/>
            </p:nvSpPr>
            <p:spPr>
              <a:xfrm>
                <a:off x="2146320" y="1474560"/>
                <a:ext cx="1380240" cy="10274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7"/>
              <p:cNvSpPr/>
              <p:nvPr/>
            </p:nvSpPr>
            <p:spPr>
              <a:xfrm>
                <a:off x="2146320" y="1506240"/>
                <a:ext cx="133920" cy="16693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8"/>
              <p:cNvSpPr/>
              <p:nvPr/>
            </p:nvSpPr>
            <p:spPr>
              <a:xfrm>
                <a:off x="3494520" y="246924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9"/>
              <p:cNvSpPr/>
              <p:nvPr/>
            </p:nvSpPr>
            <p:spPr>
              <a:xfrm>
                <a:off x="2246760" y="314532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0"/>
              <p:cNvSpPr/>
              <p:nvPr/>
            </p:nvSpPr>
            <p:spPr>
              <a:xfrm>
                <a:off x="2112840" y="1442520"/>
                <a:ext cx="66240" cy="63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1"/>
              <p:cNvSpPr/>
              <p:nvPr/>
            </p:nvSpPr>
            <p:spPr>
              <a:xfrm>
                <a:off x="1741320" y="1089000"/>
                <a:ext cx="6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4"/>
              <p:cNvSpPr/>
              <p:nvPr/>
            </p:nvSpPr>
            <p:spPr>
              <a:xfrm rot="2513400">
                <a:off x="2874600" y="1367280"/>
                <a:ext cx="97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r>
                  <a:rPr b="1" i="1" lang="ru-RU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rc 57"/>
              <p:cNvSpPr/>
              <p:nvPr/>
            </p:nvSpPr>
            <p:spPr>
              <a:xfrm rot="7586400">
                <a:off x="1877400" y="1082880"/>
                <a:ext cx="247680" cy="9806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>
            <a:off x="431640" y="227664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1"/>
          <p:cNvGrpSpPr/>
          <p:nvPr/>
        </p:nvGrpSpPr>
        <p:grpSpPr>
          <a:xfrm>
            <a:off x="1002600" y="1022400"/>
            <a:ext cx="3424680" cy="2585520"/>
            <a:chOff x="1002600" y="1022400"/>
            <a:chExt cx="3424680" cy="2585520"/>
          </a:xfrm>
        </p:grpSpPr>
        <p:sp>
          <p:nvSpPr>
            <p:cNvPr id="385" name="Oval 15"/>
            <p:cNvSpPr/>
            <p:nvPr/>
          </p:nvSpPr>
          <p:spPr>
            <a:xfrm>
              <a:off x="1688040" y="1507320"/>
              <a:ext cx="2363040" cy="210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>
              <a:off x="2819160" y="2490480"/>
              <a:ext cx="102600" cy="1011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2370600" y="2455920"/>
              <a:ext cx="3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1310760" y="228564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4051440" y="2320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1928160" y="1303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1"/>
            <p:cNvSpPr/>
            <p:nvPr/>
          </p:nvSpPr>
          <p:spPr>
            <a:xfrm>
              <a:off x="1414800" y="286272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1688040" y="2524680"/>
              <a:ext cx="236304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 flipH="1">
              <a:off x="1825560" y="1710720"/>
              <a:ext cx="342720" cy="1321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5"/>
            <p:cNvSpPr/>
            <p:nvPr/>
          </p:nvSpPr>
          <p:spPr>
            <a:xfrm>
              <a:off x="3983760" y="2455920"/>
              <a:ext cx="13572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6"/>
            <p:cNvSpPr/>
            <p:nvPr/>
          </p:nvSpPr>
          <p:spPr>
            <a:xfrm>
              <a:off x="1620360" y="2455920"/>
              <a:ext cx="13536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7"/>
            <p:cNvSpPr/>
            <p:nvPr/>
          </p:nvSpPr>
          <p:spPr>
            <a:xfrm>
              <a:off x="2100600" y="1677600"/>
              <a:ext cx="135720" cy="135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8"/>
            <p:cNvSpPr/>
            <p:nvPr/>
          </p:nvSpPr>
          <p:spPr>
            <a:xfrm>
              <a:off x="1757520" y="2963880"/>
              <a:ext cx="135720" cy="13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29"/>
            <p:cNvSpPr/>
            <p:nvPr/>
          </p:nvSpPr>
          <p:spPr>
            <a:xfrm rot="8409600">
              <a:off x="934560" y="2626200"/>
              <a:ext cx="1455480" cy="315000"/>
            </a:xfrm>
            <a:custGeom>
              <a:avLst/>
              <a:gdLst>
                <a:gd name="textAreaLeft" fmla="*/ 0 w 1455480"/>
                <a:gd name="textAreaRight" fmla="*/ 1455840 w 145548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 rot="2260200">
              <a:off x="1945440" y="19076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1"/>
            <p:cNvSpPr/>
            <p:nvPr/>
          </p:nvSpPr>
          <p:spPr>
            <a:xfrm rot="1316400">
              <a:off x="2806560" y="1267920"/>
              <a:ext cx="14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2"/>
            <p:cNvSpPr/>
            <p:nvPr/>
          </p:nvSpPr>
          <p:spPr>
            <a:xfrm>
              <a:off x="1895040" y="2421720"/>
              <a:ext cx="135720" cy="135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3"/>
            <p:cNvSpPr/>
            <p:nvPr/>
          </p:nvSpPr>
          <p:spPr>
            <a:xfrm>
              <a:off x="1758960" y="2490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64"/>
          <p:cNvGrpSpPr/>
          <p:nvPr/>
        </p:nvGrpSpPr>
        <p:grpSpPr>
          <a:xfrm>
            <a:off x="4500720" y="1592280"/>
            <a:ext cx="3634920" cy="1557000"/>
            <a:chOff x="4500720" y="1592280"/>
            <a:chExt cx="3634920" cy="1557000"/>
          </a:xfrm>
        </p:grpSpPr>
        <p:sp>
          <p:nvSpPr>
            <p:cNvPr id="404" name="Text Box 34"/>
            <p:cNvSpPr/>
            <p:nvPr/>
          </p:nvSpPr>
          <p:spPr>
            <a:xfrm>
              <a:off x="4500720" y="163224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4581720" y="275436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6" name="Object 36"/>
            <p:cNvGraphicFramePr/>
            <p:nvPr/>
          </p:nvGraphicFramePr>
          <p:xfrm>
            <a:off x="5979960" y="1592280"/>
            <a:ext cx="2155680" cy="99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9960" y="1592280"/>
                      <a:ext cx="2155680" cy="9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Object 37"/>
            <p:cNvGraphicFramePr/>
            <p:nvPr/>
          </p:nvGraphicFramePr>
          <p:xfrm>
            <a:off x="6059160" y="2754360"/>
            <a:ext cx="879120" cy="39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160" y="2754360"/>
                      <a:ext cx="87912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0" name="AutoShape 39"/>
          <p:cNvSpPr/>
          <p:nvPr/>
        </p:nvSpPr>
        <p:spPr>
          <a:xfrm>
            <a:off x="468360" y="447372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63"/>
          <p:cNvGrpSpPr/>
          <p:nvPr/>
        </p:nvGrpSpPr>
        <p:grpSpPr>
          <a:xfrm>
            <a:off x="1368360" y="4005360"/>
            <a:ext cx="2736720" cy="2498760"/>
            <a:chOff x="1368360" y="4005360"/>
            <a:chExt cx="2736720" cy="2498760"/>
          </a:xfrm>
        </p:grpSpPr>
        <p:sp>
          <p:nvSpPr>
            <p:cNvPr id="412" name="Text Box 52"/>
            <p:cNvSpPr/>
            <p:nvPr/>
          </p:nvSpPr>
          <p:spPr>
            <a:xfrm>
              <a:off x="3590280" y="4529880"/>
              <a:ext cx="5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62"/>
            <p:cNvGrpSpPr/>
            <p:nvPr/>
          </p:nvGrpSpPr>
          <p:grpSpPr>
            <a:xfrm>
              <a:off x="1368360" y="4005360"/>
              <a:ext cx="2639160" cy="2268720"/>
              <a:chOff x="1368360" y="4005360"/>
              <a:chExt cx="2639160" cy="2268720"/>
            </a:xfrm>
          </p:grpSpPr>
          <p:sp>
            <p:nvSpPr>
              <p:cNvPr id="414" name="Oval 40"/>
              <p:cNvSpPr/>
              <p:nvPr/>
            </p:nvSpPr>
            <p:spPr>
              <a:xfrm>
                <a:off x="1368360" y="4354200"/>
                <a:ext cx="1869840" cy="1802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41"/>
              <p:cNvSpPr/>
              <p:nvPr/>
            </p:nvSpPr>
            <p:spPr>
              <a:xfrm>
                <a:off x="2235600" y="5198040"/>
                <a:ext cx="107280" cy="1162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2"/>
              <p:cNvSpPr/>
              <p:nvPr/>
            </p:nvSpPr>
            <p:spPr>
              <a:xfrm>
                <a:off x="1914480" y="5110560"/>
                <a:ext cx="29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43"/>
              <p:cNvSpPr/>
              <p:nvPr/>
            </p:nvSpPr>
            <p:spPr>
              <a:xfrm>
                <a:off x="3644280" y="4819680"/>
                <a:ext cx="107280" cy="11664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 flipV="1">
                <a:off x="1828800" y="4326120"/>
                <a:ext cx="1842120" cy="5522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45"/>
              <p:cNvSpPr/>
              <p:nvPr/>
            </p:nvSpPr>
            <p:spPr>
              <a:xfrm flipH="1">
                <a:off x="2425680" y="4878720"/>
                <a:ext cx="1245600" cy="13953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47"/>
              <p:cNvSpPr/>
              <p:nvPr/>
            </p:nvSpPr>
            <p:spPr>
              <a:xfrm>
                <a:off x="1964520" y="432612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48"/>
              <p:cNvSpPr/>
              <p:nvPr/>
            </p:nvSpPr>
            <p:spPr>
              <a:xfrm>
                <a:off x="2966760" y="461700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49"/>
              <p:cNvSpPr/>
              <p:nvPr/>
            </p:nvSpPr>
            <p:spPr>
              <a:xfrm>
                <a:off x="3184200" y="5314680"/>
                <a:ext cx="107280" cy="116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50"/>
              <p:cNvSpPr/>
              <p:nvPr/>
            </p:nvSpPr>
            <p:spPr>
              <a:xfrm>
                <a:off x="2479320" y="6071400"/>
                <a:ext cx="107280" cy="116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51"/>
              <p:cNvSpPr/>
              <p:nvPr/>
            </p:nvSpPr>
            <p:spPr>
              <a:xfrm rot="19768800">
                <a:off x="3346560" y="4617000"/>
                <a:ext cx="636480" cy="27036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fill="none" w="21600" h="13122">
                    <a:moveTo>
                      <a:pt x="1132" y="13122"/>
                    </a:moveTo>
                    <a:cubicBezTo>
                      <a:pt x="382" y="10897"/>
                      <a:pt x="0" y="8566"/>
                      <a:pt x="0" y="6219"/>
                    </a:cubicBezTo>
                    <a:cubicBezTo>
                      <a:pt x="-1" y="4112"/>
                      <a:pt x="308" y="2017"/>
                      <a:pt x="914" y="-1"/>
                    </a:cubicBezTo>
                  </a:path>
                  <a:path stroke="0" w="21600" h="13122">
                    <a:moveTo>
                      <a:pt x="1132" y="13122"/>
                    </a:moveTo>
                    <a:cubicBezTo>
                      <a:pt x="382" y="10897"/>
                      <a:pt x="0" y="8566"/>
                      <a:pt x="0" y="6219"/>
                    </a:cubicBezTo>
                    <a:cubicBezTo>
                      <a:pt x="-1" y="4112"/>
                      <a:pt x="308" y="2017"/>
                      <a:pt x="914" y="-1"/>
                    </a:cubicBezTo>
                    <a:lnTo>
                      <a:pt x="21600" y="6219"/>
                    </a:lnTo>
                    <a:lnTo>
                      <a:pt x="1132" y="13122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53"/>
              <p:cNvSpPr/>
              <p:nvPr/>
            </p:nvSpPr>
            <p:spPr>
              <a:xfrm>
                <a:off x="2966760" y="4265640"/>
                <a:ext cx="30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1883160" y="400536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5"/>
              <p:cNvSpPr/>
              <p:nvPr/>
            </p:nvSpPr>
            <p:spPr>
              <a:xfrm>
                <a:off x="3267720" y="5255640"/>
                <a:ext cx="29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56"/>
            <p:cNvSpPr/>
            <p:nvPr/>
          </p:nvSpPr>
          <p:spPr>
            <a:xfrm>
              <a:off x="2508120" y="6044400"/>
              <a:ext cx="2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5"/>
          <p:cNvGrpSpPr/>
          <p:nvPr/>
        </p:nvGrpSpPr>
        <p:grpSpPr>
          <a:xfrm>
            <a:off x="3780000" y="4365720"/>
            <a:ext cx="4752360" cy="1572840"/>
            <a:chOff x="3780000" y="4365720"/>
            <a:chExt cx="4752360" cy="1572840"/>
          </a:xfrm>
        </p:grpSpPr>
        <p:sp>
          <p:nvSpPr>
            <p:cNvPr id="430" name="Text Box 57"/>
            <p:cNvSpPr/>
            <p:nvPr/>
          </p:nvSpPr>
          <p:spPr>
            <a:xfrm>
              <a:off x="3780000" y="4365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8"/>
            <p:cNvSpPr/>
            <p:nvPr/>
          </p:nvSpPr>
          <p:spPr>
            <a:xfrm>
              <a:off x="3851280" y="5543280"/>
              <a:ext cx="172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2" name="Object 59"/>
            <p:cNvGraphicFramePr/>
            <p:nvPr/>
          </p:nvGraphicFramePr>
          <p:xfrm>
            <a:off x="4175280" y="4893480"/>
            <a:ext cx="4357080" cy="36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Object 5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75280" y="4893480"/>
                      <a:ext cx="4357080" cy="36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Object 60"/>
            <p:cNvGraphicFramePr/>
            <p:nvPr/>
          </p:nvGraphicFramePr>
          <p:xfrm>
            <a:off x="5291640" y="5582880"/>
            <a:ext cx="136872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91640" y="5582880"/>
                      <a:ext cx="1368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03280" y="1844640"/>
            <a:ext cx="720720" cy="539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4"/>
          <p:cNvGrpSpPr/>
          <p:nvPr/>
        </p:nvGrpSpPr>
        <p:grpSpPr>
          <a:xfrm>
            <a:off x="-149040" y="2205000"/>
            <a:ext cx="4217400" cy="3126240"/>
            <a:chOff x="-149040" y="2205000"/>
            <a:chExt cx="4217400" cy="3126240"/>
          </a:xfrm>
        </p:grpSpPr>
        <p:sp>
          <p:nvSpPr>
            <p:cNvPr id="439" name="Oval 15"/>
            <p:cNvSpPr/>
            <p:nvPr/>
          </p:nvSpPr>
          <p:spPr>
            <a:xfrm>
              <a:off x="1460520" y="2633040"/>
              <a:ext cx="2487600" cy="2379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"/>
            <p:cNvSpPr/>
            <p:nvPr/>
          </p:nvSpPr>
          <p:spPr>
            <a:xfrm>
              <a:off x="2601720" y="3724920"/>
              <a:ext cx="163440" cy="1548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7"/>
            <p:cNvSpPr/>
            <p:nvPr/>
          </p:nvSpPr>
          <p:spPr>
            <a:xfrm>
              <a:off x="2560680" y="3566520"/>
              <a:ext cx="7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"/>
            <p:cNvSpPr/>
            <p:nvPr/>
          </p:nvSpPr>
          <p:spPr>
            <a:xfrm>
              <a:off x="727200" y="4543560"/>
              <a:ext cx="163440" cy="1548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 flipV="1">
              <a:off x="849240" y="2476800"/>
              <a:ext cx="3219120" cy="2106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 flipV="1">
              <a:off x="849240" y="2205000"/>
              <a:ext cx="1344240" cy="233856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1"/>
            <p:cNvSpPr/>
            <p:nvPr/>
          </p:nvSpPr>
          <p:spPr>
            <a:xfrm>
              <a:off x="1541160" y="3140280"/>
              <a:ext cx="16380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2"/>
            <p:cNvSpPr/>
            <p:nvPr/>
          </p:nvSpPr>
          <p:spPr>
            <a:xfrm>
              <a:off x="1419120" y="4075920"/>
              <a:ext cx="16344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3"/>
            <p:cNvSpPr/>
            <p:nvPr/>
          </p:nvSpPr>
          <p:spPr>
            <a:xfrm>
              <a:off x="3376800" y="2789280"/>
              <a:ext cx="163440" cy="15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4"/>
            <p:cNvSpPr/>
            <p:nvPr/>
          </p:nvSpPr>
          <p:spPr>
            <a:xfrm>
              <a:off x="153360" y="41155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971640" y="4156560"/>
              <a:ext cx="8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6"/>
            <p:cNvSpPr/>
            <p:nvPr/>
          </p:nvSpPr>
          <p:spPr>
            <a:xfrm>
              <a:off x="929880" y="294624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049560" y="235980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rc 29"/>
            <p:cNvSpPr/>
            <p:nvPr/>
          </p:nvSpPr>
          <p:spPr>
            <a:xfrm rot="8409600">
              <a:off x="-252000" y="4505760"/>
              <a:ext cx="1732320" cy="30600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306000"/>
                <a:gd name="textAreaBottom" fmla="*/ 306000 h 30600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35"/>
          <p:cNvGrpSpPr/>
          <p:nvPr/>
        </p:nvGrpSpPr>
        <p:grpSpPr>
          <a:xfrm>
            <a:off x="4211640" y="1989000"/>
            <a:ext cx="4572000" cy="1198800"/>
            <a:chOff x="4211640" y="1989000"/>
            <a:chExt cx="4572000" cy="1198800"/>
          </a:xfrm>
        </p:grpSpPr>
        <p:sp>
          <p:nvSpPr>
            <p:cNvPr id="454" name="Text Box 30"/>
            <p:cNvSpPr/>
            <p:nvPr/>
          </p:nvSpPr>
          <p:spPr>
            <a:xfrm>
              <a:off x="4211640" y="2062080"/>
              <a:ext cx="15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5" name="Object 32"/>
            <p:cNvGraphicFramePr/>
            <p:nvPr/>
          </p:nvGraphicFramePr>
          <p:xfrm>
            <a:off x="5472360" y="1989000"/>
            <a:ext cx="3311280" cy="11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6" name="Object 3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72360" y="1989000"/>
                      <a:ext cx="3311280" cy="119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7" name="Group 36"/>
          <p:cNvGrpSpPr/>
          <p:nvPr/>
        </p:nvGrpSpPr>
        <p:grpSpPr>
          <a:xfrm>
            <a:off x="4211640" y="3897360"/>
            <a:ext cx="2520720" cy="459720"/>
            <a:chOff x="4211640" y="3897360"/>
            <a:chExt cx="2520720" cy="459720"/>
          </a:xfrm>
        </p:grpSpPr>
        <p:sp>
          <p:nvSpPr>
            <p:cNvPr id="458" name="Text Box 31"/>
            <p:cNvSpPr/>
            <p:nvPr/>
          </p:nvSpPr>
          <p:spPr>
            <a:xfrm>
              <a:off x="4211640" y="389736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9" name="Object 33"/>
            <p:cNvGraphicFramePr/>
            <p:nvPr/>
          </p:nvGraphicFramePr>
          <p:xfrm>
            <a:off x="5759280" y="3968640"/>
            <a:ext cx="973080" cy="35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Object 3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9280" y="3968640"/>
                      <a:ext cx="973080" cy="35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 зада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431640" y="1160640"/>
            <a:ext cx="648000" cy="46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1"/>
          <p:cNvGrpSpPr/>
          <p:nvPr/>
        </p:nvGrpSpPr>
        <p:grpSpPr>
          <a:xfrm>
            <a:off x="3780000" y="1233360"/>
            <a:ext cx="4572000" cy="1972440"/>
            <a:chOff x="3780000" y="1233360"/>
            <a:chExt cx="4572000" cy="1972440"/>
          </a:xfrm>
        </p:grpSpPr>
        <p:sp>
          <p:nvSpPr>
            <p:cNvPr id="464" name="Text Box 34"/>
            <p:cNvSpPr/>
            <p:nvPr/>
          </p:nvSpPr>
          <p:spPr>
            <a:xfrm>
              <a:off x="3780000" y="1269720"/>
              <a:ext cx="15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5" name="Object 36"/>
            <p:cNvGraphicFramePr/>
            <p:nvPr/>
          </p:nvGraphicFramePr>
          <p:xfrm>
            <a:off x="5077080" y="1269720"/>
            <a:ext cx="125892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6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7080" y="1269720"/>
                      <a:ext cx="1258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7" name="Text Box 37"/>
            <p:cNvSpPr/>
            <p:nvPr/>
          </p:nvSpPr>
          <p:spPr>
            <a:xfrm>
              <a:off x="6264360" y="1233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- впис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8"/>
            <p:cNvSpPr/>
            <p:nvPr/>
          </p:nvSpPr>
          <p:spPr>
            <a:xfrm>
              <a:off x="3924360" y="1738080"/>
              <a:ext cx="43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АМ – биссектриса угла В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9"/>
            <p:cNvSpPr/>
            <p:nvPr/>
          </p:nvSpPr>
          <p:spPr>
            <a:xfrm>
              <a:off x="4069080" y="227772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МК </a:t>
              </a:r>
              <a:r>
                <a:rPr b="0" i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40"/>
            <p:cNvSpPr/>
            <p:nvPr/>
          </p:nvSpPr>
          <p:spPr>
            <a:xfrm>
              <a:off x="3816360" y="2746080"/>
              <a:ext cx="34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оказать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:  МК = 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42"/>
          <p:cNvSpPr/>
          <p:nvPr/>
        </p:nvSpPr>
        <p:spPr>
          <a:xfrm>
            <a:off x="3600360" y="328464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44"/>
          <p:cNvGraphicFramePr/>
          <p:nvPr/>
        </p:nvGraphicFramePr>
        <p:xfrm>
          <a:off x="3564000" y="3789360"/>
          <a:ext cx="50893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5089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52"/>
          <p:cNvGraphicFramePr/>
          <p:nvPr/>
        </p:nvGraphicFramePr>
        <p:xfrm>
          <a:off x="2484360" y="4221000"/>
          <a:ext cx="62643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221000"/>
                    <a:ext cx="6264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6" name="Group 62"/>
          <p:cNvGrpSpPr/>
          <p:nvPr/>
        </p:nvGrpSpPr>
        <p:grpSpPr>
          <a:xfrm>
            <a:off x="719280" y="4616280"/>
            <a:ext cx="7665480" cy="501840"/>
            <a:chOff x="719280" y="4616280"/>
            <a:chExt cx="7665480" cy="501840"/>
          </a:xfrm>
        </p:grpSpPr>
        <p:graphicFrame>
          <p:nvGraphicFramePr>
            <p:cNvPr id="477" name="Object 56"/>
            <p:cNvGraphicFramePr/>
            <p:nvPr/>
          </p:nvGraphicFramePr>
          <p:xfrm>
            <a:off x="2550240" y="4655880"/>
            <a:ext cx="735480" cy="46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8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0240" y="4655880"/>
                      <a:ext cx="73548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Object 58"/>
            <p:cNvGraphicFramePr/>
            <p:nvPr/>
          </p:nvGraphicFramePr>
          <p:xfrm>
            <a:off x="3186720" y="4697280"/>
            <a:ext cx="212616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0" name="Object 5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86720" y="4697280"/>
                      <a:ext cx="21261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1" name="Text Box 59"/>
            <p:cNvSpPr/>
            <p:nvPr/>
          </p:nvSpPr>
          <p:spPr>
            <a:xfrm>
              <a:off x="719280" y="4690800"/>
              <a:ext cx="202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3) Проведе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60"/>
            <p:cNvSpPr/>
            <p:nvPr/>
          </p:nvSpPr>
          <p:spPr>
            <a:xfrm>
              <a:off x="5109120" y="465588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(опираются 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3" name="Object 61"/>
            <p:cNvGraphicFramePr/>
            <p:nvPr/>
          </p:nvGraphicFramePr>
          <p:xfrm>
            <a:off x="7179840" y="4616280"/>
            <a:ext cx="1204920" cy="43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4" name="Object 6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79840" y="4616280"/>
                      <a:ext cx="1204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5" name="Text Box 64"/>
          <p:cNvSpPr/>
          <p:nvPr/>
        </p:nvSpPr>
        <p:spPr>
          <a:xfrm flipV="1">
            <a:off x="3419640" y="2206800"/>
            <a:ext cx="32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5"/>
          <p:cNvSpPr/>
          <p:nvPr/>
        </p:nvSpPr>
        <p:spPr>
          <a:xfrm>
            <a:off x="503280" y="1484280"/>
            <a:ext cx="2844720" cy="2736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6"/>
          <p:cNvSpPr/>
          <p:nvPr/>
        </p:nvSpPr>
        <p:spPr>
          <a:xfrm>
            <a:off x="1835280" y="28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7"/>
          <p:cNvSpPr/>
          <p:nvPr/>
        </p:nvSpPr>
        <p:spPr>
          <a:xfrm>
            <a:off x="1835280" y="27813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8"/>
          <p:cNvSpPr/>
          <p:nvPr/>
        </p:nvSpPr>
        <p:spPr>
          <a:xfrm>
            <a:off x="1295280" y="1628640"/>
            <a:ext cx="828720" cy="2592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9"/>
          <p:cNvSpPr/>
          <p:nvPr/>
        </p:nvSpPr>
        <p:spPr>
          <a:xfrm>
            <a:off x="1295280" y="1628640"/>
            <a:ext cx="2016360" cy="15130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2"/>
          <p:cNvSpPr/>
          <p:nvPr/>
        </p:nvSpPr>
        <p:spPr>
          <a:xfrm flipH="1" flipV="1">
            <a:off x="2050920" y="1484280"/>
            <a:ext cx="1260720" cy="16207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3"/>
          <p:cNvSpPr/>
          <p:nvPr/>
        </p:nvSpPr>
        <p:spPr>
          <a:xfrm>
            <a:off x="1224000" y="1557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74"/>
          <p:cNvSpPr/>
          <p:nvPr/>
        </p:nvSpPr>
        <p:spPr>
          <a:xfrm>
            <a:off x="2050920" y="414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75"/>
          <p:cNvSpPr/>
          <p:nvPr/>
        </p:nvSpPr>
        <p:spPr>
          <a:xfrm>
            <a:off x="3240000" y="3033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6"/>
          <p:cNvSpPr/>
          <p:nvPr/>
        </p:nvSpPr>
        <p:spPr>
          <a:xfrm>
            <a:off x="2843280" y="37530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7"/>
          <p:cNvSpPr/>
          <p:nvPr/>
        </p:nvSpPr>
        <p:spPr>
          <a:xfrm>
            <a:off x="2016000" y="1413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78"/>
          <p:cNvSpPr/>
          <p:nvPr/>
        </p:nvSpPr>
        <p:spPr>
          <a:xfrm>
            <a:off x="2376360" y="2421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9"/>
          <p:cNvSpPr/>
          <p:nvPr/>
        </p:nvSpPr>
        <p:spPr>
          <a:xfrm>
            <a:off x="3203640" y="292428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0"/>
          <p:cNvSpPr/>
          <p:nvPr/>
        </p:nvSpPr>
        <p:spPr>
          <a:xfrm>
            <a:off x="1042920" y="123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1"/>
          <p:cNvSpPr/>
          <p:nvPr/>
        </p:nvSpPr>
        <p:spPr>
          <a:xfrm>
            <a:off x="1979640" y="116064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2"/>
          <p:cNvSpPr/>
          <p:nvPr/>
        </p:nvSpPr>
        <p:spPr>
          <a:xfrm>
            <a:off x="1692360" y="422100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3"/>
          <p:cNvSpPr/>
          <p:nvPr/>
        </p:nvSpPr>
        <p:spPr>
          <a:xfrm>
            <a:off x="2843280" y="3681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4"/>
          <p:cNvSpPr/>
          <p:nvPr/>
        </p:nvSpPr>
        <p:spPr>
          <a:xfrm>
            <a:off x="1908000" y="2023920"/>
            <a:ext cx="6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5" descr="Рисунок19"/>
          <p:cNvPicPr/>
          <p:nvPr/>
        </p:nvPicPr>
        <p:blipFill>
          <a:blip r:embed="rId13"/>
          <a:stretch/>
        </p:blipFill>
        <p:spPr>
          <a:xfrm rot="3081000">
            <a:off x="1102320" y="2197800"/>
            <a:ext cx="1122120" cy="171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6" descr="Рисунок19"/>
          <p:cNvPicPr/>
          <p:nvPr/>
        </p:nvPicPr>
        <p:blipFill>
          <a:blip r:embed="rId14">
            <a:lum contrast="-6000"/>
          </a:blip>
          <a:stretch/>
        </p:blipFill>
        <p:spPr>
          <a:xfrm rot="13993800">
            <a:off x="2064240" y="3157920"/>
            <a:ext cx="1081080" cy="193680"/>
          </a:xfrm>
          <a:prstGeom prst="rect">
            <a:avLst/>
          </a:prstGeom>
          <a:ln w="0">
            <a:noFill/>
          </a:ln>
        </p:spPr>
      </p:pic>
      <p:sp>
        <p:nvSpPr>
          <p:cNvPr id="506" name="Line 71"/>
          <p:cNvSpPr/>
          <p:nvPr/>
        </p:nvSpPr>
        <p:spPr>
          <a:xfrm flipH="1" flipV="1">
            <a:off x="2050920" y="1484280"/>
            <a:ext cx="865440" cy="2340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0"/>
          <p:cNvSpPr/>
          <p:nvPr/>
        </p:nvSpPr>
        <p:spPr>
          <a:xfrm>
            <a:off x="1295280" y="1628640"/>
            <a:ext cx="1621080" cy="219564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7"/>
          <p:cNvSpPr/>
          <p:nvPr/>
        </p:nvSpPr>
        <p:spPr>
          <a:xfrm>
            <a:off x="1655640" y="188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800000"/>
                </a:solidFill>
                <a:latin typeface="Arial"/>
                <a:cs typeface="Arial"/>
              </a:rPr>
              <a:t>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8"/>
          <p:cNvSpPr/>
          <p:nvPr/>
        </p:nvSpPr>
        <p:spPr>
          <a:xfrm rot="5707200">
            <a:off x="2320560" y="27619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800000"/>
                </a:solidFill>
                <a:latin typeface="Arial"/>
                <a:cs typeface="Arial"/>
              </a:rPr>
              <a:t>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89"/>
          <p:cNvSpPr/>
          <p:nvPr/>
        </p:nvSpPr>
        <p:spPr>
          <a:xfrm flipH="1" rot="2449200">
            <a:off x="1186920" y="1341000"/>
            <a:ext cx="1087560" cy="1222560"/>
          </a:xfrm>
          <a:custGeom>
            <a:avLst/>
            <a:gdLst>
              <a:gd name="textAreaLeft" fmla="*/ -360 w 1087560"/>
              <a:gd name="textAreaRight" fmla="*/ 1087560 w 108756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fill="none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</a:path>
              <a:path stroke="0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  <a:lnTo>
                  <a:pt x="0" y="19580"/>
                </a:lnTo>
                <a:lnTo>
                  <a:pt x="9121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90" descr="Рисунок19"/>
          <p:cNvPicPr/>
          <p:nvPr/>
        </p:nvPicPr>
        <p:blipFill>
          <a:blip r:embed="rId15">
            <a:lum contrast="-6000"/>
          </a:blip>
          <a:stretch/>
        </p:blipFill>
        <p:spPr>
          <a:xfrm rot="13194000">
            <a:off x="2268000" y="2565360"/>
            <a:ext cx="1081440" cy="11592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105"/>
          <p:cNvGrpSpPr/>
          <p:nvPr/>
        </p:nvGrpSpPr>
        <p:grpSpPr>
          <a:xfrm>
            <a:off x="934920" y="5084640"/>
            <a:ext cx="6084360" cy="414360"/>
            <a:chOff x="934920" y="5084640"/>
            <a:chExt cx="6084360" cy="414360"/>
          </a:xfrm>
        </p:grpSpPr>
        <p:graphicFrame>
          <p:nvGraphicFramePr>
            <p:cNvPr id="513" name="Object 91"/>
            <p:cNvGraphicFramePr/>
            <p:nvPr/>
          </p:nvGraphicFramePr>
          <p:xfrm>
            <a:off x="934920" y="5084640"/>
            <a:ext cx="2815920" cy="4129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14" name="Object 9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934920" y="5084640"/>
                      <a:ext cx="281592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Text Box 97"/>
            <p:cNvSpPr/>
            <p:nvPr/>
          </p:nvSpPr>
          <p:spPr>
            <a:xfrm>
              <a:off x="3486960" y="5086440"/>
              <a:ext cx="22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(опираются 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6" name="Object 98"/>
            <p:cNvGraphicFramePr/>
            <p:nvPr/>
          </p:nvGraphicFramePr>
          <p:xfrm>
            <a:off x="5734440" y="5086440"/>
            <a:ext cx="1284840" cy="4125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17" name="Object 9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734440" y="5086440"/>
                      <a:ext cx="128484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8" name="Picture 106" descr="Рисунок19"/>
          <p:cNvPicPr/>
          <p:nvPr/>
        </p:nvPicPr>
        <p:blipFill>
          <a:blip r:embed="rId20">
            <a:lum contrast="-6000"/>
          </a:blip>
          <a:stretch/>
        </p:blipFill>
        <p:spPr>
          <a:xfrm rot="3235800">
            <a:off x="1846080" y="2014560"/>
            <a:ext cx="1081080" cy="1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Object 107"/>
          <p:cNvGraphicFramePr/>
          <p:nvPr/>
        </p:nvGraphicFramePr>
        <p:xfrm>
          <a:off x="934920" y="5516640"/>
          <a:ext cx="5545080" cy="430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0" name="Object 10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34920" y="5516640"/>
                    <a:ext cx="5545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 Box 108"/>
          <p:cNvSpPr/>
          <p:nvPr/>
        </p:nvSpPr>
        <p:spPr>
          <a:xfrm>
            <a:off x="237636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9"/>
          <p:cNvSpPr/>
          <p:nvPr/>
        </p:nvSpPr>
        <p:spPr>
          <a:xfrm rot="14142000">
            <a:off x="1802880" y="17676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l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0"/>
          <p:cNvSpPr/>
          <p:nvPr/>
        </p:nvSpPr>
        <p:spPr>
          <a:xfrm>
            <a:off x="792000" y="591336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6) МК = 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Oval 63"/>
          <p:cNvSpPr/>
          <p:nvPr/>
        </p:nvSpPr>
        <p:spPr>
          <a:xfrm>
            <a:off x="826920" y="1521000"/>
            <a:ext cx="2881440" cy="2881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4"/>
          <p:cNvSpPr/>
          <p:nvPr/>
        </p:nvSpPr>
        <p:spPr>
          <a:xfrm>
            <a:off x="2230560" y="2852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906560" y="1557360"/>
            <a:ext cx="792360" cy="2771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8"/>
          <p:cNvSpPr/>
          <p:nvPr/>
        </p:nvSpPr>
        <p:spPr>
          <a:xfrm flipH="1">
            <a:off x="1006200" y="1592280"/>
            <a:ext cx="865080" cy="2665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9"/>
          <p:cNvSpPr/>
          <p:nvPr/>
        </p:nvSpPr>
        <p:spPr>
          <a:xfrm flipH="1">
            <a:off x="971280" y="4292640"/>
            <a:ext cx="16923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70"/>
          <p:cNvSpPr/>
          <p:nvPr/>
        </p:nvSpPr>
        <p:spPr>
          <a:xfrm>
            <a:off x="2627280" y="425772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71"/>
          <p:cNvSpPr/>
          <p:nvPr/>
        </p:nvSpPr>
        <p:spPr>
          <a:xfrm>
            <a:off x="934920" y="422100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2"/>
          <p:cNvSpPr/>
          <p:nvPr/>
        </p:nvSpPr>
        <p:spPr>
          <a:xfrm>
            <a:off x="1835280" y="1557360"/>
            <a:ext cx="108000" cy="1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73"/>
          <p:cNvSpPr/>
          <p:nvPr/>
        </p:nvSpPr>
        <p:spPr>
          <a:xfrm>
            <a:off x="1655640" y="42210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74"/>
          <p:cNvSpPr/>
          <p:nvPr/>
        </p:nvSpPr>
        <p:spPr>
          <a:xfrm>
            <a:off x="104292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5"/>
          <p:cNvSpPr/>
          <p:nvPr/>
        </p:nvSpPr>
        <p:spPr>
          <a:xfrm rot="692400">
            <a:off x="208728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cc00ff"/>
                </a:solidFill>
                <a:latin typeface="Arial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1295280" y="43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7"/>
          <p:cNvSpPr/>
          <p:nvPr/>
        </p:nvSpPr>
        <p:spPr>
          <a:xfrm>
            <a:off x="539640" y="36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8"/>
          <p:cNvSpPr/>
          <p:nvPr/>
        </p:nvSpPr>
        <p:spPr>
          <a:xfrm>
            <a:off x="251928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9"/>
          <p:cNvSpPr/>
          <p:nvPr/>
        </p:nvSpPr>
        <p:spPr>
          <a:xfrm>
            <a:off x="1366920" y="13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1"/>
          <p:cNvSpPr/>
          <p:nvPr/>
        </p:nvSpPr>
        <p:spPr>
          <a:xfrm rot="19193400">
            <a:off x="898920" y="3067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cc00ff"/>
                </a:solidFill>
                <a:latin typeface="Arial"/>
                <a:cs typeface="Arial"/>
              </a:rPr>
              <a:t>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4"/>
          <p:cNvSpPr/>
          <p:nvPr/>
        </p:nvSpPr>
        <p:spPr>
          <a:xfrm rot="16200000">
            <a:off x="1852560" y="1971360"/>
            <a:ext cx="73080" cy="32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5"/>
          <p:cNvSpPr/>
          <p:nvPr/>
        </p:nvSpPr>
        <p:spPr>
          <a:xfrm>
            <a:off x="1547640" y="227664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4"/>
          <p:cNvSpPr/>
          <p:nvPr/>
        </p:nvSpPr>
        <p:spPr>
          <a:xfrm rot="7855800">
            <a:off x="1101600" y="4028760"/>
            <a:ext cx="1699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95"/>
          <p:cNvSpPr/>
          <p:nvPr/>
        </p:nvSpPr>
        <p:spPr>
          <a:xfrm rot="1294200">
            <a:off x="2374560" y="4005360"/>
            <a:ext cx="210960" cy="26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99"/>
          <p:cNvSpPr/>
          <p:nvPr/>
        </p:nvSpPr>
        <p:spPr>
          <a:xfrm flipH="1" rot="18656400">
            <a:off x="1122120" y="3182760"/>
            <a:ext cx="1559160" cy="682560"/>
          </a:xfrm>
          <a:custGeom>
            <a:avLst/>
            <a:gdLst>
              <a:gd name="textAreaLeft" fmla="*/ -360 w 1559160"/>
              <a:gd name="textAreaRight" fmla="*/ 1559160 w 1559160"/>
              <a:gd name="textAreaTop" fmla="*/ 0 h 682560"/>
              <a:gd name="textAreaBottom" fmla="*/ 682560 h 682560"/>
            </a:gdLst>
            <a:ahLst/>
            <a:rect l="textAreaLeft" t="textAreaTop" r="textAreaRight" b="textAreaBottom"/>
            <a:pathLst>
              <a:path fill="none" w="21600" h="11560">
                <a:moveTo>
                  <a:pt x="21038" y="0"/>
                </a:moveTo>
                <a:cubicBezTo>
                  <a:pt x="21411" y="1603"/>
                  <a:pt x="21600" y="3245"/>
                  <a:pt x="21600" y="4892"/>
                </a:cubicBezTo>
                <a:cubicBezTo>
                  <a:pt x="21600" y="7156"/>
                  <a:pt x="21243" y="9406"/>
                  <a:pt x="20545" y="11560"/>
                </a:cubicBezTo>
              </a:path>
              <a:path stroke="0" w="21600" h="11560">
                <a:moveTo>
                  <a:pt x="21038" y="0"/>
                </a:moveTo>
                <a:cubicBezTo>
                  <a:pt x="21411" y="1603"/>
                  <a:pt x="21600" y="3245"/>
                  <a:pt x="21600" y="4892"/>
                </a:cubicBezTo>
                <a:cubicBezTo>
                  <a:pt x="21600" y="7156"/>
                  <a:pt x="21243" y="9406"/>
                  <a:pt x="20545" y="11560"/>
                </a:cubicBezTo>
                <a:lnTo>
                  <a:pt x="0" y="4892"/>
                </a:lnTo>
                <a:lnTo>
                  <a:pt x="21038" y="0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431640" y="1160640"/>
            <a:ext cx="648000" cy="46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0"/>
          <p:cNvSpPr/>
          <p:nvPr/>
        </p:nvSpPr>
        <p:spPr>
          <a:xfrm>
            <a:off x="4683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96"/>
          <p:cNvGrpSpPr/>
          <p:nvPr/>
        </p:nvGrpSpPr>
        <p:grpSpPr>
          <a:xfrm>
            <a:off x="4211640" y="1268280"/>
            <a:ext cx="4033440" cy="2188440"/>
            <a:chOff x="4211640" y="1268280"/>
            <a:chExt cx="4033440" cy="2188440"/>
          </a:xfrm>
        </p:grpSpPr>
        <p:sp>
          <p:nvSpPr>
            <p:cNvPr id="549" name="Text Box 86"/>
            <p:cNvSpPr/>
            <p:nvPr/>
          </p:nvSpPr>
          <p:spPr>
            <a:xfrm>
              <a:off x="4211640" y="126828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87"/>
            <p:cNvSpPr/>
            <p:nvPr/>
          </p:nvSpPr>
          <p:spPr>
            <a:xfrm>
              <a:off x="5435280" y="1341360"/>
              <a:ext cx="16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Окр.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88"/>
            <p:cNvSpPr/>
            <p:nvPr/>
          </p:nvSpPr>
          <p:spPr>
            <a:xfrm>
              <a:off x="4608360" y="1665000"/>
              <a:ext cx="32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BC –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равнобедр. тр -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2" name="Object 89"/>
            <p:cNvGraphicFramePr/>
            <p:nvPr/>
          </p:nvGraphicFramePr>
          <p:xfrm>
            <a:off x="4679640" y="2025360"/>
            <a:ext cx="1944360" cy="42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3" name="Object 8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79640" y="2025360"/>
                      <a:ext cx="194436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Text Box 90"/>
            <p:cNvSpPr/>
            <p:nvPr/>
          </p:nvSpPr>
          <p:spPr>
            <a:xfrm>
              <a:off x="4284360" y="249228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Най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5" name="Object 91"/>
            <p:cNvGraphicFramePr/>
            <p:nvPr/>
          </p:nvGraphicFramePr>
          <p:xfrm>
            <a:off x="5652720" y="2565360"/>
            <a:ext cx="25923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Object 9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2720" y="2565360"/>
                      <a:ext cx="25923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Text Box 92"/>
            <p:cNvSpPr/>
            <p:nvPr/>
          </p:nvSpPr>
          <p:spPr>
            <a:xfrm>
              <a:off x="5184720" y="2997000"/>
              <a:ext cx="19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Object 93"/>
          <p:cNvGraphicFramePr/>
          <p:nvPr/>
        </p:nvGraphicFramePr>
        <p:xfrm>
          <a:off x="4067280" y="3429000"/>
          <a:ext cx="43923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Object 9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3429000"/>
                    <a:ext cx="43923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97"/>
          <p:cNvGraphicFramePr/>
          <p:nvPr/>
        </p:nvGraphicFramePr>
        <p:xfrm>
          <a:off x="3995640" y="4041720"/>
          <a:ext cx="439272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1" name="Object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4041720"/>
                    <a:ext cx="4392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Arc 98"/>
          <p:cNvSpPr/>
          <p:nvPr/>
        </p:nvSpPr>
        <p:spPr>
          <a:xfrm flipH="1" rot="11135400">
            <a:off x="1797480" y="1558800"/>
            <a:ext cx="1892520" cy="2760480"/>
          </a:xfrm>
          <a:custGeom>
            <a:avLst/>
            <a:gdLst>
              <a:gd name="textAreaLeft" fmla="*/ -360 w 1892520"/>
              <a:gd name="textAreaRight" fmla="*/ 1892520 w 189252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fill="none" w="27270" h="41009">
                <a:moveTo>
                  <a:pt x="15148" y="0"/>
                </a:moveTo>
                <a:cubicBezTo>
                  <a:pt x="22565" y="3622"/>
                  <a:pt x="27270" y="11154"/>
                  <a:pt x="27270" y="19409"/>
                </a:cubicBezTo>
                <a:cubicBezTo>
                  <a:pt x="27270" y="31338"/>
                  <a:pt x="17599" y="-24527"/>
                  <a:pt x="5670" y="-24527"/>
                </a:cubicBezTo>
                <a:cubicBezTo>
                  <a:pt x="3754" y="-24527"/>
                  <a:pt x="1848" y="-24782"/>
                  <a:pt x="0" y="-25285"/>
                </a:cubicBezTo>
              </a:path>
              <a:path stroke="0" w="27270" h="41009">
                <a:moveTo>
                  <a:pt x="15148" y="0"/>
                </a:moveTo>
                <a:cubicBezTo>
                  <a:pt x="22565" y="3622"/>
                  <a:pt x="27270" y="11154"/>
                  <a:pt x="27270" y="19409"/>
                </a:cubicBezTo>
                <a:cubicBezTo>
                  <a:pt x="27270" y="31338"/>
                  <a:pt x="17599" y="-24527"/>
                  <a:pt x="5670" y="-24527"/>
                </a:cubicBezTo>
                <a:cubicBezTo>
                  <a:pt x="3754" y="-24527"/>
                  <a:pt x="1848" y="-24782"/>
                  <a:pt x="0" y="-25285"/>
                </a:cubicBezTo>
                <a:lnTo>
                  <a:pt x="5670" y="19409"/>
                </a:lnTo>
                <a:lnTo>
                  <a:pt x="15148" y="0"/>
                </a:lnTo>
                <a:close/>
              </a:path>
            </a:pathLst>
          </a:custGeom>
          <a:noFill/>
          <a:ln w="5724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0"/>
          <p:cNvGraphicFramePr/>
          <p:nvPr/>
        </p:nvGraphicFramePr>
        <p:xfrm>
          <a:off x="431640" y="4761000"/>
          <a:ext cx="62280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Object 10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640" y="4761000"/>
                    <a:ext cx="622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01"/>
          <p:cNvGraphicFramePr/>
          <p:nvPr/>
        </p:nvGraphicFramePr>
        <p:xfrm>
          <a:off x="468360" y="5049720"/>
          <a:ext cx="4680000" cy="72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Object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5049720"/>
                    <a:ext cx="46800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Arc 103"/>
          <p:cNvSpPr/>
          <p:nvPr/>
        </p:nvSpPr>
        <p:spPr>
          <a:xfrm flipH="1" rot="16438800">
            <a:off x="1192320" y="2843640"/>
            <a:ext cx="1498680" cy="1531800"/>
          </a:xfrm>
          <a:custGeom>
            <a:avLst/>
            <a:gdLst>
              <a:gd name="textAreaLeft" fmla="*/ -360 w 1498680"/>
              <a:gd name="textAreaRight" fmla="*/ 1498680 w 149868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fill="none" w="21600" h="22755">
                <a:moveTo>
                  <a:pt x="14700" y="0"/>
                </a:moveTo>
                <a:cubicBezTo>
                  <a:pt x="19100" y="4087"/>
                  <a:pt x="21600" y="9821"/>
                  <a:pt x="21600" y="15826"/>
                </a:cubicBezTo>
                <a:cubicBezTo>
                  <a:pt x="21600" y="18182"/>
                  <a:pt x="21214" y="20522"/>
                  <a:pt x="20458" y="22754"/>
                </a:cubicBezTo>
              </a:path>
              <a:path stroke="0" w="21600" h="22755">
                <a:moveTo>
                  <a:pt x="14700" y="0"/>
                </a:moveTo>
                <a:cubicBezTo>
                  <a:pt x="19100" y="4087"/>
                  <a:pt x="21600" y="9821"/>
                  <a:pt x="21600" y="15826"/>
                </a:cubicBezTo>
                <a:cubicBezTo>
                  <a:pt x="21600" y="18182"/>
                  <a:pt x="21214" y="20522"/>
                  <a:pt x="20458" y="22754"/>
                </a:cubicBezTo>
                <a:lnTo>
                  <a:pt x="0" y="15826"/>
                </a:lnTo>
                <a:lnTo>
                  <a:pt x="14700" y="0"/>
                </a:lnTo>
                <a:close/>
              </a:path>
            </a:pathLst>
          </a:custGeom>
          <a:noFill/>
          <a:ln w="5724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04" descr="Рисунок19"/>
          <p:cNvPicPr/>
          <p:nvPr/>
        </p:nvPicPr>
        <p:blipFill>
          <a:blip r:embed="rId13"/>
          <a:stretch/>
        </p:blipFill>
        <p:spPr>
          <a:xfrm rot="4299000">
            <a:off x="1338840" y="2053440"/>
            <a:ext cx="1122120" cy="34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9" name="Object 105"/>
          <p:cNvGraphicFramePr/>
          <p:nvPr/>
        </p:nvGraphicFramePr>
        <p:xfrm>
          <a:off x="5148360" y="5157720"/>
          <a:ext cx="356400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0" name="Object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5157720"/>
                    <a:ext cx="3564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106"/>
          <p:cNvGraphicFramePr/>
          <p:nvPr/>
        </p:nvGraphicFramePr>
        <p:xfrm>
          <a:off x="468360" y="5697360"/>
          <a:ext cx="4140000" cy="39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2" name="Object 10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5697360"/>
                    <a:ext cx="41400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3" name="Group 109"/>
          <p:cNvGrpSpPr/>
          <p:nvPr/>
        </p:nvGrpSpPr>
        <p:grpSpPr>
          <a:xfrm>
            <a:off x="755640" y="5985000"/>
            <a:ext cx="5580000" cy="503280"/>
            <a:chOff x="755640" y="5985000"/>
            <a:chExt cx="5580000" cy="503280"/>
          </a:xfrm>
        </p:grpSpPr>
        <p:sp>
          <p:nvSpPr>
            <p:cNvPr id="574" name="Text Box 107"/>
            <p:cNvSpPr/>
            <p:nvPr/>
          </p:nvSpPr>
          <p:spPr>
            <a:xfrm>
              <a:off x="755640" y="598500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5" name="Object 108"/>
            <p:cNvGraphicFramePr/>
            <p:nvPr/>
          </p:nvGraphicFramePr>
          <p:xfrm>
            <a:off x="2411280" y="6058080"/>
            <a:ext cx="3924360" cy="430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76" name="Object 10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411280" y="6058080"/>
                      <a:ext cx="39243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3"/>
          <p:cNvSpPr txBox="1"/>
          <p:nvPr/>
        </p:nvSpPr>
        <p:spPr>
          <a:xfrm>
            <a:off x="755640" y="1628640"/>
            <a:ext cx="7705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Учиться можно только весело.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Чтобы переварить знания, надо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оглощать их с аппетитом.</a:t>
            </a:r>
            <a:endParaRPr b="1" i="1" lang="en-US" sz="36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4572000" y="4581360"/>
            <a:ext cx="3657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Анатоль Франс</a:t>
            </a:r>
            <a:endParaRPr b="1" i="1" lang="en-US" sz="3600" spc="1" strike="noStrike">
              <a:ln w="9360">
                <a:solidFill>
                  <a:srgbClr val="333399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1640" y="123336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Закончи ф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5" descr="Рисунок2"/>
          <p:cNvPicPr/>
          <p:nvPr/>
        </p:nvPicPr>
        <p:blipFill>
          <a:blip r:embed="rId1"/>
          <a:stretch/>
        </p:blipFill>
        <p:spPr>
          <a:xfrm>
            <a:off x="684360" y="1665360"/>
            <a:ext cx="2555640" cy="4428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6"/>
          <p:cNvSpPr/>
          <p:nvPr/>
        </p:nvSpPr>
        <p:spPr>
          <a:xfrm>
            <a:off x="503280" y="180828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 между касательной и хордой, проходящей через точку касания, измеряется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503280" y="256536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) Угол между двумя пересекающимися хордами    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503280" y="3321000"/>
            <a:ext cx="80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Угол между двумя секущими, проведенными из одной точки,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539640" y="411336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4) Угол между касательной и секущей, проведенными из одной точки, измеря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539640" y="490536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Угол между двумя касательными, проведенными из одной точки, раве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589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750600" y="1268280"/>
            <a:ext cx="3389400" cy="3181320"/>
            <a:chOff x="750600" y="1268280"/>
            <a:chExt cx="3389400" cy="3181320"/>
          </a:xfrm>
        </p:grpSpPr>
        <p:sp>
          <p:nvSpPr>
            <p:cNvPr id="598" name="Text Box 14"/>
            <p:cNvSpPr/>
            <p:nvPr/>
          </p:nvSpPr>
          <p:spPr>
            <a:xfrm>
              <a:off x="3225240" y="2868120"/>
              <a:ext cx="9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031400" y="3989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16"/>
            <p:cNvGrpSpPr/>
            <p:nvPr/>
          </p:nvGrpSpPr>
          <p:grpSpPr>
            <a:xfrm>
              <a:off x="750600" y="1268280"/>
              <a:ext cx="3171240" cy="2851560"/>
              <a:chOff x="750600" y="1268280"/>
              <a:chExt cx="3171240" cy="2851560"/>
            </a:xfrm>
          </p:grpSpPr>
          <p:sp>
            <p:nvSpPr>
              <p:cNvPr id="601" name="Oval 17"/>
              <p:cNvSpPr/>
              <p:nvPr/>
            </p:nvSpPr>
            <p:spPr>
              <a:xfrm>
                <a:off x="757800" y="1699560"/>
                <a:ext cx="2742840" cy="2420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8"/>
              <p:cNvSpPr/>
              <p:nvPr/>
            </p:nvSpPr>
            <p:spPr>
              <a:xfrm>
                <a:off x="2083320" y="2824920"/>
                <a:ext cx="136800" cy="128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19"/>
              <p:cNvSpPr/>
              <p:nvPr/>
            </p:nvSpPr>
            <p:spPr>
              <a:xfrm>
                <a:off x="1672560" y="27820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20"/>
              <p:cNvSpPr/>
              <p:nvPr/>
            </p:nvSpPr>
            <p:spPr>
              <a:xfrm>
                <a:off x="1580760" y="1787040"/>
                <a:ext cx="1872720" cy="138204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1"/>
              <p:cNvSpPr/>
              <p:nvPr/>
            </p:nvSpPr>
            <p:spPr>
              <a:xfrm>
                <a:off x="1580760" y="1829880"/>
                <a:ext cx="181440" cy="224568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22"/>
              <p:cNvSpPr/>
              <p:nvPr/>
            </p:nvSpPr>
            <p:spPr>
              <a:xfrm>
                <a:off x="3410640" y="312516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23"/>
              <p:cNvSpPr/>
              <p:nvPr/>
            </p:nvSpPr>
            <p:spPr>
              <a:xfrm>
                <a:off x="1717560" y="403416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24"/>
              <p:cNvSpPr/>
              <p:nvPr/>
            </p:nvSpPr>
            <p:spPr>
              <a:xfrm>
                <a:off x="1535760" y="1744200"/>
                <a:ext cx="90000" cy="8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5"/>
              <p:cNvSpPr/>
              <p:nvPr/>
            </p:nvSpPr>
            <p:spPr>
              <a:xfrm>
                <a:off x="1031400" y="1268280"/>
                <a:ext cx="91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26"/>
              <p:cNvSpPr/>
              <p:nvPr/>
            </p:nvSpPr>
            <p:spPr>
              <a:xfrm rot="2513400">
                <a:off x="2616120" y="165960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r>
                  <a:rPr b="1" i="1" lang="ru-RU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rc 27"/>
              <p:cNvSpPr/>
              <p:nvPr/>
            </p:nvSpPr>
            <p:spPr>
              <a:xfrm rot="7586400">
                <a:off x="1217880" y="1254600"/>
                <a:ext cx="333360" cy="13305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1330560"/>
                  <a:gd name="textAreaBottom" fmla="*/ 1330920 h 1330560"/>
                </a:gdLst>
                <a:ahLst/>
                <a:rect l="textAreaLeft" t="textAreaTop" r="textAreaRight" b="textAreaBottom"/>
                <a:pathLst>
                  <a:path fill="none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</a:path>
                  <a:path stroke="0" w="22659" h="21600">
                    <a:moveTo>
                      <a:pt x="0" y="2446"/>
                    </a:moveTo>
                    <a:cubicBezTo>
                      <a:pt x="3083" y="839"/>
                      <a:pt x="6508" y="-1"/>
                      <a:pt x="9985" y="0"/>
                    </a:cubicBezTo>
                    <a:cubicBezTo>
                      <a:pt x="14537" y="0"/>
                      <a:pt x="18972" y="1438"/>
                      <a:pt x="22658" y="4109"/>
                    </a:cubicBezTo>
                    <a:lnTo>
                      <a:pt x="9985" y="21600"/>
                    </a:lnTo>
                    <a:lnTo>
                      <a:pt x="0" y="2446"/>
                    </a:ln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Text Box 28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Object 29"/>
          <p:cNvGraphicFramePr/>
          <p:nvPr/>
        </p:nvGraphicFramePr>
        <p:xfrm>
          <a:off x="4140360" y="2276640"/>
          <a:ext cx="40687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276640"/>
                    <a:ext cx="4068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Arc 30"/>
          <p:cNvSpPr/>
          <p:nvPr/>
        </p:nvSpPr>
        <p:spPr>
          <a:xfrm flipH="1" rot="10719600">
            <a:off x="718560" y="1797840"/>
            <a:ext cx="2720880" cy="2320920"/>
          </a:xfrm>
          <a:custGeom>
            <a:avLst/>
            <a:gdLst>
              <a:gd name="textAreaLeft" fmla="*/ 0 w 2720880"/>
              <a:gd name="textAreaRight" fmla="*/ 2720880 w 272088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fill="none" w="42523" h="41239">
                <a:moveTo>
                  <a:pt x="12606" y="41238"/>
                </a:moveTo>
                <a:cubicBezTo>
                  <a:pt x="4925" y="37720"/>
                  <a:pt x="0" y="3004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462" y="-1"/>
                  <a:pt x="40072" y="6680"/>
                  <a:pt x="42522" y="16234"/>
                </a:cubicBezTo>
              </a:path>
              <a:path stroke="0" w="42523" h="41239">
                <a:moveTo>
                  <a:pt x="12606" y="41238"/>
                </a:moveTo>
                <a:cubicBezTo>
                  <a:pt x="4925" y="37720"/>
                  <a:pt x="0" y="3004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462" y="-1"/>
                  <a:pt x="40072" y="6680"/>
                  <a:pt x="42522" y="16234"/>
                </a:cubicBezTo>
                <a:lnTo>
                  <a:pt x="21600" y="21600"/>
                </a:lnTo>
                <a:lnTo>
                  <a:pt x="12606" y="41238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31"/>
          <p:cNvGraphicFramePr/>
          <p:nvPr/>
        </p:nvGraphicFramePr>
        <p:xfrm>
          <a:off x="4032360" y="2924280"/>
          <a:ext cx="475128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360" y="2924280"/>
                    <a:ext cx="4751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Arc 32"/>
          <p:cNvSpPr/>
          <p:nvPr/>
        </p:nvSpPr>
        <p:spPr>
          <a:xfrm flipH="1" rot="10719600">
            <a:off x="1725120" y="2962080"/>
            <a:ext cx="1729080" cy="1150920"/>
          </a:xfrm>
          <a:custGeom>
            <a:avLst/>
            <a:gdLst>
              <a:gd name="textAreaLeft" fmla="*/ -360 w 1729080"/>
              <a:gd name="textAreaRight" fmla="*/ 1729080 w 17290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fill="none" w="30073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9012" y="0"/>
                  <a:pt x="27622" y="6680"/>
                  <a:pt x="30072" y="16234"/>
                </a:cubicBezTo>
              </a:path>
              <a:path stroke="0" w="30073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9012" y="0"/>
                  <a:pt x="27622" y="6680"/>
                  <a:pt x="30072" y="16234"/>
                </a:cubicBezTo>
                <a:lnTo>
                  <a:pt x="9150" y="21600"/>
                </a:lnTo>
                <a:lnTo>
                  <a:pt x="-1" y="2033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33"/>
          <p:cNvGraphicFramePr/>
          <p:nvPr/>
        </p:nvGraphicFramePr>
        <p:xfrm>
          <a:off x="2616120" y="1981080"/>
          <a:ext cx="914400" cy="19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0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198108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Text Box 34"/>
          <p:cNvSpPr/>
          <p:nvPr/>
        </p:nvSpPr>
        <p:spPr>
          <a:xfrm>
            <a:off x="4032360" y="4400640"/>
            <a:ext cx="45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3) По теореме о вписанном угл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Object 35"/>
          <p:cNvGraphicFramePr/>
          <p:nvPr/>
        </p:nvGraphicFramePr>
        <p:xfrm>
          <a:off x="4067280" y="4689360"/>
          <a:ext cx="460836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689360"/>
                    <a:ext cx="4608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36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50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626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1258920" y="389088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2808360" y="388944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7"/>
          <p:cNvGrpSpPr/>
          <p:nvPr/>
        </p:nvGrpSpPr>
        <p:grpSpPr>
          <a:xfrm>
            <a:off x="503280" y="1592280"/>
            <a:ext cx="3348000" cy="2842920"/>
            <a:chOff x="503280" y="1592280"/>
            <a:chExt cx="3348000" cy="2842920"/>
          </a:xfrm>
        </p:grpSpPr>
        <p:sp>
          <p:nvSpPr>
            <p:cNvPr id="638" name="Oval 18"/>
            <p:cNvSpPr/>
            <p:nvPr/>
          </p:nvSpPr>
          <p:spPr>
            <a:xfrm>
              <a:off x="611280" y="1592280"/>
              <a:ext cx="2556000" cy="2364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9"/>
            <p:cNvSpPr/>
            <p:nvPr/>
          </p:nvSpPr>
          <p:spPr>
            <a:xfrm>
              <a:off x="1835280" y="2775240"/>
              <a:ext cx="108000" cy="97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0"/>
            <p:cNvSpPr/>
            <p:nvPr/>
          </p:nvSpPr>
          <p:spPr>
            <a:xfrm>
              <a:off x="1370160" y="2611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1"/>
            <p:cNvSpPr/>
            <p:nvPr/>
          </p:nvSpPr>
          <p:spPr>
            <a:xfrm>
              <a:off x="1871640" y="2873160"/>
              <a:ext cx="0" cy="1082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2"/>
            <p:cNvSpPr/>
            <p:nvPr/>
          </p:nvSpPr>
          <p:spPr>
            <a:xfrm>
              <a:off x="503280" y="3956400"/>
              <a:ext cx="3348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3"/>
            <p:cNvSpPr/>
            <p:nvPr/>
          </p:nvSpPr>
          <p:spPr>
            <a:xfrm flipV="1">
              <a:off x="1871640" y="1920600"/>
              <a:ext cx="900360" cy="2035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rc 24"/>
            <p:cNvSpPr/>
            <p:nvPr/>
          </p:nvSpPr>
          <p:spPr>
            <a:xfrm rot="3610200">
              <a:off x="1554120" y="3350880"/>
              <a:ext cx="315360" cy="1265040"/>
            </a:xfrm>
            <a:custGeom>
              <a:avLst/>
              <a:gdLst>
                <a:gd name="textAreaLeft" fmla="*/ 0 w 315360"/>
                <a:gd name="textAreaRight" fmla="*/ 315360 w 3153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fill="none" w="22659" h="21600">
                  <a:moveTo>
                    <a:pt x="0" y="2446"/>
                  </a:moveTo>
                  <a:cubicBezTo>
                    <a:pt x="3083" y="839"/>
                    <a:pt x="6508" y="-1"/>
                    <a:pt x="9985" y="0"/>
                  </a:cubicBezTo>
                  <a:cubicBezTo>
                    <a:pt x="14537" y="0"/>
                    <a:pt x="18972" y="1438"/>
                    <a:pt x="22658" y="4109"/>
                  </a:cubicBezTo>
                </a:path>
                <a:path stroke="0" w="22659" h="21600">
                  <a:moveTo>
                    <a:pt x="0" y="2446"/>
                  </a:moveTo>
                  <a:cubicBezTo>
                    <a:pt x="3083" y="839"/>
                    <a:pt x="6508" y="-1"/>
                    <a:pt x="9985" y="0"/>
                  </a:cubicBezTo>
                  <a:cubicBezTo>
                    <a:pt x="14537" y="0"/>
                    <a:pt x="18972" y="1438"/>
                    <a:pt x="22658" y="4109"/>
                  </a:cubicBezTo>
                  <a:lnTo>
                    <a:pt x="9985" y="21600"/>
                  </a:lnTo>
                  <a:lnTo>
                    <a:pt x="0" y="2446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2556000" y="1623960"/>
              <a:ext cx="86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6"/>
            <p:cNvSpPr/>
            <p:nvPr/>
          </p:nvSpPr>
          <p:spPr>
            <a:xfrm>
              <a:off x="2843280" y="290664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7"/>
            <p:cNvSpPr/>
            <p:nvPr/>
          </p:nvSpPr>
          <p:spPr>
            <a:xfrm>
              <a:off x="2735280" y="1855440"/>
              <a:ext cx="10800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8"/>
            <p:cNvSpPr/>
            <p:nvPr/>
          </p:nvSpPr>
          <p:spPr>
            <a:xfrm>
              <a:off x="1835280" y="3924720"/>
              <a:ext cx="10800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Arc 29"/>
          <p:cNvSpPr/>
          <p:nvPr/>
        </p:nvSpPr>
        <p:spPr>
          <a:xfrm flipH="1" rot="11788800">
            <a:off x="2059560" y="1900080"/>
            <a:ext cx="1073520" cy="2176560"/>
          </a:xfrm>
          <a:custGeom>
            <a:avLst/>
            <a:gdLst>
              <a:gd name="textAreaLeft" fmla="*/ 360 w 1073520"/>
              <a:gd name="textAreaRight" fmla="*/ 1074240 w 1073520"/>
              <a:gd name="textAreaTop" fmla="*/ 0 h 2176560"/>
              <a:gd name="textAreaBottom" fmla="*/ 2176920 h 2176560"/>
            </a:gdLst>
            <a:ahLst/>
            <a:rect l="textAreaLeft" t="textAreaTop" r="textAreaRight" b="textAreaBottom"/>
            <a:pathLst>
              <a:path fill="none" w="21600" h="40911">
                <a:moveTo>
                  <a:pt x="4238" y="0"/>
                </a:moveTo>
                <a:cubicBezTo>
                  <a:pt x="14333" y="2020"/>
                  <a:pt x="21600" y="10884"/>
                  <a:pt x="21600" y="21180"/>
                </a:cubicBezTo>
                <a:cubicBezTo>
                  <a:pt x="21600" y="29709"/>
                  <a:pt x="16580" y="-28096"/>
                  <a:pt x="8789" y="-24625"/>
                </a:cubicBezTo>
              </a:path>
              <a:path stroke="0" w="21600" h="40911">
                <a:moveTo>
                  <a:pt x="4238" y="0"/>
                </a:moveTo>
                <a:cubicBezTo>
                  <a:pt x="14333" y="2020"/>
                  <a:pt x="21600" y="10884"/>
                  <a:pt x="21600" y="21180"/>
                </a:cubicBezTo>
                <a:cubicBezTo>
                  <a:pt x="21600" y="29709"/>
                  <a:pt x="16580" y="-28096"/>
                  <a:pt x="8789" y="-24625"/>
                </a:cubicBezTo>
                <a:lnTo>
                  <a:pt x="0" y="21180"/>
                </a:lnTo>
                <a:lnTo>
                  <a:pt x="4238" y="0"/>
                </a:lnTo>
                <a:close/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0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31"/>
          <p:cNvGraphicFramePr/>
          <p:nvPr/>
        </p:nvGraphicFramePr>
        <p:xfrm>
          <a:off x="4248000" y="2168640"/>
          <a:ext cx="3708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2168640"/>
                    <a:ext cx="3708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32"/>
          <p:cNvGraphicFramePr/>
          <p:nvPr/>
        </p:nvGraphicFramePr>
        <p:xfrm>
          <a:off x="4211640" y="2997360"/>
          <a:ext cx="444492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997360"/>
                    <a:ext cx="4444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33"/>
          <p:cNvGraphicFramePr/>
          <p:nvPr/>
        </p:nvGraphicFramePr>
        <p:xfrm>
          <a:off x="4211640" y="3824280"/>
          <a:ext cx="421308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3824280"/>
                    <a:ext cx="42130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Text Box 34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67,5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10"/>
          <p:cNvGrpSpPr/>
          <p:nvPr/>
        </p:nvGrpSpPr>
        <p:grpSpPr>
          <a:xfrm>
            <a:off x="266760" y="279360"/>
            <a:ext cx="8585280" cy="6244920"/>
            <a:chOff x="266760" y="279360"/>
            <a:chExt cx="8585280" cy="6244920"/>
          </a:xfrm>
        </p:grpSpPr>
        <p:sp>
          <p:nvSpPr>
            <p:cNvPr id="659" name="Freeform 11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"/>
            <p:cNvSpPr/>
            <p:nvPr/>
          </p:nvSpPr>
          <p:spPr>
            <a:xfrm>
              <a:off x="749160" y="6511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3"/>
            <p:cNvSpPr/>
            <p:nvPr/>
          </p:nvSpPr>
          <p:spPr>
            <a:xfrm>
              <a:off x="8813880" y="711720"/>
              <a:ext cx="1440" cy="53766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"/>
            <p:cNvSpPr/>
            <p:nvPr/>
          </p:nvSpPr>
          <p:spPr>
            <a:xfrm>
              <a:off x="317520" y="711720"/>
              <a:ext cx="25560" cy="53766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5"/>
            <p:cNvSpPr/>
            <p:nvPr/>
          </p:nvSpPr>
          <p:spPr>
            <a:xfrm>
              <a:off x="317520" y="606672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6"/>
            <p:cNvSpPr/>
            <p:nvPr/>
          </p:nvSpPr>
          <p:spPr>
            <a:xfrm flipH="1">
              <a:off x="8420040" y="605376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"/>
            <p:cNvSpPr/>
            <p:nvPr/>
          </p:nvSpPr>
          <p:spPr>
            <a:xfrm flipH="1" rot="16200000">
              <a:off x="8407080" y="26676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"/>
            <p:cNvSpPr/>
            <p:nvPr/>
          </p:nvSpPr>
          <p:spPr>
            <a:xfrm rot="5400000">
              <a:off x="279000" y="26676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4"/>
          <p:cNvGrpSpPr/>
          <p:nvPr/>
        </p:nvGrpSpPr>
        <p:grpSpPr>
          <a:xfrm>
            <a:off x="72000" y="1157400"/>
            <a:ext cx="4031280" cy="3207960"/>
            <a:chOff x="72000" y="1157400"/>
            <a:chExt cx="4031280" cy="3207960"/>
          </a:xfrm>
        </p:grpSpPr>
        <p:sp>
          <p:nvSpPr>
            <p:cNvPr id="669" name="Oval 15"/>
            <p:cNvSpPr/>
            <p:nvPr/>
          </p:nvSpPr>
          <p:spPr>
            <a:xfrm>
              <a:off x="884880" y="1743840"/>
              <a:ext cx="2776320" cy="262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6"/>
            <p:cNvSpPr/>
            <p:nvPr/>
          </p:nvSpPr>
          <p:spPr>
            <a:xfrm>
              <a:off x="2214000" y="2971080"/>
              <a:ext cx="120600" cy="126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1686960" y="2927880"/>
              <a:ext cx="4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8"/>
            <p:cNvSpPr/>
            <p:nvPr/>
          </p:nvSpPr>
          <p:spPr>
            <a:xfrm>
              <a:off x="441720" y="271512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9"/>
            <p:cNvSpPr/>
            <p:nvPr/>
          </p:nvSpPr>
          <p:spPr>
            <a:xfrm>
              <a:off x="3661560" y="2758320"/>
              <a:ext cx="4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0"/>
            <p:cNvSpPr/>
            <p:nvPr/>
          </p:nvSpPr>
          <p:spPr>
            <a:xfrm>
              <a:off x="1167120" y="14900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1"/>
            <p:cNvSpPr/>
            <p:nvPr/>
          </p:nvSpPr>
          <p:spPr>
            <a:xfrm>
              <a:off x="563760" y="343512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2"/>
            <p:cNvSpPr/>
            <p:nvPr/>
          </p:nvSpPr>
          <p:spPr>
            <a:xfrm>
              <a:off x="884880" y="3013560"/>
              <a:ext cx="277632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3"/>
            <p:cNvSpPr/>
            <p:nvPr/>
          </p:nvSpPr>
          <p:spPr>
            <a:xfrm flipH="1">
              <a:off x="1046520" y="1997640"/>
              <a:ext cx="402480" cy="1649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4"/>
            <p:cNvSpPr/>
            <p:nvPr/>
          </p:nvSpPr>
          <p:spPr>
            <a:xfrm>
              <a:off x="3582000" y="2927880"/>
              <a:ext cx="15948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5"/>
            <p:cNvSpPr/>
            <p:nvPr/>
          </p:nvSpPr>
          <p:spPr>
            <a:xfrm>
              <a:off x="805320" y="2927880"/>
              <a:ext cx="15912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6"/>
            <p:cNvSpPr/>
            <p:nvPr/>
          </p:nvSpPr>
          <p:spPr>
            <a:xfrm>
              <a:off x="1369440" y="1956600"/>
              <a:ext cx="159480" cy="16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7"/>
            <p:cNvSpPr/>
            <p:nvPr/>
          </p:nvSpPr>
          <p:spPr>
            <a:xfrm>
              <a:off x="966600" y="3561840"/>
              <a:ext cx="159480" cy="16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rc 28"/>
            <p:cNvSpPr/>
            <p:nvPr/>
          </p:nvSpPr>
          <p:spPr>
            <a:xfrm rot="8409600">
              <a:off x="-360" y="3140640"/>
              <a:ext cx="1710360" cy="393120"/>
            </a:xfrm>
            <a:custGeom>
              <a:avLst/>
              <a:gdLst>
                <a:gd name="textAreaLeft" fmla="*/ 0 w 1710360"/>
                <a:gd name="textAreaRight" fmla="*/ 1710720 w 171036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9"/>
            <p:cNvSpPr/>
            <p:nvPr/>
          </p:nvSpPr>
          <p:spPr>
            <a:xfrm rot="2260200">
              <a:off x="1222920" y="2254320"/>
              <a:ext cx="104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0"/>
            <p:cNvSpPr/>
            <p:nvPr/>
          </p:nvSpPr>
          <p:spPr>
            <a:xfrm rot="1316400">
              <a:off x="2220480" y="144900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31"/>
            <p:cNvSpPr/>
            <p:nvPr/>
          </p:nvSpPr>
          <p:spPr>
            <a:xfrm>
              <a:off x="1127880" y="2885040"/>
              <a:ext cx="159480" cy="169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968400" y="2971080"/>
              <a:ext cx="7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33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rc 34"/>
          <p:cNvSpPr/>
          <p:nvPr/>
        </p:nvSpPr>
        <p:spPr>
          <a:xfrm flipH="1" rot="5239200">
            <a:off x="1917000" y="1366920"/>
            <a:ext cx="1315800" cy="2041560"/>
          </a:xfrm>
          <a:custGeom>
            <a:avLst/>
            <a:gdLst>
              <a:gd name="textAreaLeft" fmla="*/ -360 w 1315800"/>
              <a:gd name="textAreaRight" fmla="*/ 1315800 w 131580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fill="none" w="23542" h="32703">
                <a:moveTo>
                  <a:pt x="0" y="87"/>
                </a:moveTo>
                <a:cubicBezTo>
                  <a:pt x="645" y="29"/>
                  <a:pt x="1293" y="-1"/>
                  <a:pt x="1942" y="0"/>
                </a:cubicBezTo>
                <a:cubicBezTo>
                  <a:pt x="13871" y="0"/>
                  <a:pt x="23542" y="9670"/>
                  <a:pt x="23542" y="21600"/>
                </a:cubicBezTo>
                <a:cubicBezTo>
                  <a:pt x="23542" y="25510"/>
                  <a:pt x="22480" y="29348"/>
                  <a:pt x="20469" y="32702"/>
                </a:cubicBezTo>
              </a:path>
              <a:path stroke="0" w="23542" h="32703">
                <a:moveTo>
                  <a:pt x="0" y="87"/>
                </a:moveTo>
                <a:cubicBezTo>
                  <a:pt x="645" y="29"/>
                  <a:pt x="1293" y="-1"/>
                  <a:pt x="1942" y="0"/>
                </a:cubicBezTo>
                <a:cubicBezTo>
                  <a:pt x="13871" y="0"/>
                  <a:pt x="23542" y="9670"/>
                  <a:pt x="23542" y="21600"/>
                </a:cubicBezTo>
                <a:cubicBezTo>
                  <a:pt x="23542" y="25510"/>
                  <a:pt x="22480" y="29348"/>
                  <a:pt x="20469" y="32702"/>
                </a:cubicBezTo>
                <a:lnTo>
                  <a:pt x="1942" y="21600"/>
                </a:lnTo>
                <a:lnTo>
                  <a:pt x="0" y="87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rc 35"/>
          <p:cNvSpPr/>
          <p:nvPr/>
        </p:nvSpPr>
        <p:spPr>
          <a:xfrm flipH="1" rot="15283200">
            <a:off x="694080" y="3252600"/>
            <a:ext cx="590400" cy="142920"/>
          </a:xfrm>
          <a:custGeom>
            <a:avLst/>
            <a:gdLst>
              <a:gd name="textAreaLeft" fmla="*/ 360 w 590400"/>
              <a:gd name="textAreaRight" fmla="*/ 591120 w 5904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fill="none" w="21897" h="21600">
                <a:moveTo>
                  <a:pt x="-1" y="1362"/>
                </a:moveTo>
                <a:cubicBezTo>
                  <a:pt x="2415" y="461"/>
                  <a:pt x="4972" y="-1"/>
                  <a:pt x="7551" y="0"/>
                </a:cubicBezTo>
                <a:cubicBezTo>
                  <a:pt x="12839" y="0"/>
                  <a:pt x="17943" y="1939"/>
                  <a:pt x="21896" y="5452"/>
                </a:cubicBezTo>
              </a:path>
              <a:path stroke="0" w="21897" h="21600">
                <a:moveTo>
                  <a:pt x="-1" y="1362"/>
                </a:moveTo>
                <a:cubicBezTo>
                  <a:pt x="2415" y="461"/>
                  <a:pt x="4972" y="-1"/>
                  <a:pt x="7551" y="0"/>
                </a:cubicBezTo>
                <a:cubicBezTo>
                  <a:pt x="12839" y="0"/>
                  <a:pt x="17943" y="1939"/>
                  <a:pt x="21896" y="5452"/>
                </a:cubicBezTo>
                <a:lnTo>
                  <a:pt x="7551" y="21600"/>
                </a:lnTo>
                <a:lnTo>
                  <a:pt x="-1" y="1362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rc 36"/>
          <p:cNvSpPr/>
          <p:nvPr/>
        </p:nvSpPr>
        <p:spPr>
          <a:xfrm flipH="1" rot="13495200">
            <a:off x="1577160" y="2327040"/>
            <a:ext cx="1763640" cy="234468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2344680"/>
              <a:gd name="textAreaBottom" fmla="*/ 2345040 h 2344680"/>
            </a:gdLst>
            <a:ahLst/>
            <a:rect l="textAreaLeft" t="textAreaTop" r="textAreaRight" b="textAreaBottom"/>
            <a:pathLst>
              <a:path fill="none" w="25356" h="34925">
                <a:moveTo>
                  <a:pt x="0" y="329"/>
                </a:moveTo>
                <a:cubicBezTo>
                  <a:pt x="1240" y="110"/>
                  <a:pt x="2496" y="-1"/>
                  <a:pt x="3756" y="0"/>
                </a:cubicBezTo>
                <a:cubicBezTo>
                  <a:pt x="15685" y="0"/>
                  <a:pt x="25356" y="9670"/>
                  <a:pt x="25356" y="21600"/>
                </a:cubicBezTo>
                <a:cubicBezTo>
                  <a:pt x="25356" y="26431"/>
                  <a:pt x="23736" y="31122"/>
                  <a:pt x="20756" y="34925"/>
                </a:cubicBezTo>
              </a:path>
              <a:path stroke="0" w="25356" h="34925">
                <a:moveTo>
                  <a:pt x="0" y="329"/>
                </a:moveTo>
                <a:cubicBezTo>
                  <a:pt x="1240" y="110"/>
                  <a:pt x="2496" y="-1"/>
                  <a:pt x="3756" y="0"/>
                </a:cubicBezTo>
                <a:cubicBezTo>
                  <a:pt x="15685" y="0"/>
                  <a:pt x="25356" y="9670"/>
                  <a:pt x="25356" y="21600"/>
                </a:cubicBezTo>
                <a:cubicBezTo>
                  <a:pt x="25356" y="26431"/>
                  <a:pt x="23736" y="31122"/>
                  <a:pt x="20756" y="34925"/>
                </a:cubicBezTo>
                <a:lnTo>
                  <a:pt x="3756" y="21600"/>
                </a:lnTo>
                <a:lnTo>
                  <a:pt x="0" y="329"/>
                </a:lnTo>
                <a:close/>
              </a:path>
            </a:pathLst>
          </a:custGeom>
          <a:noFill/>
          <a:ln w="5724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37"/>
          <p:cNvGraphicFramePr/>
          <p:nvPr/>
        </p:nvGraphicFramePr>
        <p:xfrm>
          <a:off x="4392720" y="2023920"/>
          <a:ext cx="3924360" cy="8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2023920"/>
                    <a:ext cx="3924360" cy="8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8"/>
          <p:cNvGraphicFramePr/>
          <p:nvPr/>
        </p:nvGraphicFramePr>
        <p:xfrm>
          <a:off x="4356000" y="2889360"/>
          <a:ext cx="39960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889360"/>
                    <a:ext cx="3996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9"/>
          <p:cNvGraphicFramePr/>
          <p:nvPr/>
        </p:nvGraphicFramePr>
        <p:xfrm>
          <a:off x="4356000" y="4076640"/>
          <a:ext cx="392436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6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076640"/>
                    <a:ext cx="39243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4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146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10"/>
          <p:cNvGrpSpPr/>
          <p:nvPr/>
        </p:nvGrpSpPr>
        <p:grpSpPr>
          <a:xfrm>
            <a:off x="250920" y="297000"/>
            <a:ext cx="8585280" cy="6244560"/>
            <a:chOff x="250920" y="297000"/>
            <a:chExt cx="8585280" cy="6244560"/>
          </a:xfrm>
        </p:grpSpPr>
        <p:sp>
          <p:nvSpPr>
            <p:cNvPr id="699" name="Freeform 11"/>
            <p:cNvSpPr/>
            <p:nvPr/>
          </p:nvSpPr>
          <p:spPr>
            <a:xfrm>
              <a:off x="695520" y="32256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733320" y="652860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8798040" y="729360"/>
              <a:ext cx="1440" cy="53762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301680" y="729360"/>
              <a:ext cx="25560" cy="53762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301680" y="608400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 flipH="1">
              <a:off x="8404200" y="607104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 flipH="1" rot="16200000">
              <a:off x="8391240" y="28440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 rot="5400000">
              <a:off x="263160" y="28440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3730680" y="22766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6"/>
          <p:cNvGrpSpPr/>
          <p:nvPr/>
        </p:nvGrpSpPr>
        <p:grpSpPr>
          <a:xfrm>
            <a:off x="719280" y="1557360"/>
            <a:ext cx="3577320" cy="3107880"/>
            <a:chOff x="719280" y="1557360"/>
            <a:chExt cx="3577320" cy="3107880"/>
          </a:xfrm>
        </p:grpSpPr>
        <p:sp>
          <p:nvSpPr>
            <p:cNvPr id="710" name="Oval 17"/>
            <p:cNvSpPr/>
            <p:nvPr/>
          </p:nvSpPr>
          <p:spPr>
            <a:xfrm>
              <a:off x="719280" y="2035440"/>
              <a:ext cx="2533320" cy="246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8"/>
            <p:cNvSpPr/>
            <p:nvPr/>
          </p:nvSpPr>
          <p:spPr>
            <a:xfrm>
              <a:off x="1894320" y="3191040"/>
              <a:ext cx="145440" cy="159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1459080" y="307152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0"/>
            <p:cNvSpPr/>
            <p:nvPr/>
          </p:nvSpPr>
          <p:spPr>
            <a:xfrm>
              <a:off x="3802680" y="2672640"/>
              <a:ext cx="145440" cy="1598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 flipH="1" flipV="1">
              <a:off x="1343520" y="1996560"/>
              <a:ext cx="2495880" cy="756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2"/>
            <p:cNvSpPr/>
            <p:nvPr/>
          </p:nvSpPr>
          <p:spPr>
            <a:xfrm flipH="1">
              <a:off x="2151360" y="2753640"/>
              <a:ext cx="1688040" cy="19116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23"/>
            <p:cNvSpPr/>
            <p:nvPr/>
          </p:nvSpPr>
          <p:spPr>
            <a:xfrm>
              <a:off x="1527120" y="1996560"/>
              <a:ext cx="14544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4"/>
            <p:cNvSpPr/>
            <p:nvPr/>
          </p:nvSpPr>
          <p:spPr>
            <a:xfrm>
              <a:off x="2885040" y="2395440"/>
              <a:ext cx="14508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25"/>
            <p:cNvSpPr/>
            <p:nvPr/>
          </p:nvSpPr>
          <p:spPr>
            <a:xfrm>
              <a:off x="3179520" y="3350880"/>
              <a:ext cx="145440" cy="15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26"/>
            <p:cNvSpPr/>
            <p:nvPr/>
          </p:nvSpPr>
          <p:spPr>
            <a:xfrm>
              <a:off x="2224440" y="4387680"/>
              <a:ext cx="145440" cy="15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rc 27"/>
            <p:cNvSpPr/>
            <p:nvPr/>
          </p:nvSpPr>
          <p:spPr>
            <a:xfrm rot="19768800">
              <a:off x="3399480" y="2395440"/>
              <a:ext cx="862560" cy="37044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fill="none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</a:path>
                <a:path stroke="0" w="21600" h="13122">
                  <a:moveTo>
                    <a:pt x="1132" y="13122"/>
                  </a:moveTo>
                  <a:cubicBezTo>
                    <a:pt x="382" y="10897"/>
                    <a:pt x="0" y="8566"/>
                    <a:pt x="0" y="6219"/>
                  </a:cubicBezTo>
                  <a:cubicBezTo>
                    <a:pt x="-1" y="4112"/>
                    <a:pt x="308" y="2017"/>
                    <a:pt x="914" y="-1"/>
                  </a:cubicBezTo>
                  <a:lnTo>
                    <a:pt x="21600" y="6219"/>
                  </a:lnTo>
                  <a:lnTo>
                    <a:pt x="1132" y="13122"/>
                  </a:ln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8"/>
            <p:cNvSpPr/>
            <p:nvPr/>
          </p:nvSpPr>
          <p:spPr>
            <a:xfrm>
              <a:off x="2885040" y="191376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29"/>
            <p:cNvSpPr/>
            <p:nvPr/>
          </p:nvSpPr>
          <p:spPr>
            <a:xfrm>
              <a:off x="1416960" y="15573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30"/>
            <p:cNvSpPr/>
            <p:nvPr/>
          </p:nvSpPr>
          <p:spPr>
            <a:xfrm>
              <a:off x="3292920" y="327060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Text Box 31"/>
          <p:cNvSpPr/>
          <p:nvPr/>
        </p:nvSpPr>
        <p:spPr>
          <a:xfrm>
            <a:off x="2263680" y="435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rc 33"/>
          <p:cNvSpPr/>
          <p:nvPr/>
        </p:nvSpPr>
        <p:spPr>
          <a:xfrm flipH="1" rot="10719600">
            <a:off x="718200" y="2096640"/>
            <a:ext cx="1574640" cy="2438640"/>
          </a:xfrm>
          <a:custGeom>
            <a:avLst/>
            <a:gdLst>
              <a:gd name="textAreaLeft" fmla="*/ 360 w 1574640"/>
              <a:gd name="textAreaRight" fmla="*/ 1575360 w 15746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fill="none" w="28620" h="42340">
                <a:moveTo>
                  <a:pt x="15564" y="42339"/>
                </a:moveTo>
                <a:cubicBezTo>
                  <a:pt x="6342" y="39655"/>
                  <a:pt x="0" y="3120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988" y="-1"/>
                  <a:pt x="26361" y="396"/>
                  <a:pt x="28620" y="1172"/>
                </a:cubicBezTo>
              </a:path>
              <a:path stroke="0" w="28620" h="42340">
                <a:moveTo>
                  <a:pt x="15564" y="42339"/>
                </a:moveTo>
                <a:cubicBezTo>
                  <a:pt x="6342" y="39655"/>
                  <a:pt x="0" y="3120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988" y="-1"/>
                  <a:pt x="26361" y="396"/>
                  <a:pt x="28620" y="1172"/>
                </a:cubicBezTo>
                <a:lnTo>
                  <a:pt x="21600" y="21600"/>
                </a:lnTo>
                <a:lnTo>
                  <a:pt x="15564" y="42339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rc 34"/>
          <p:cNvSpPr/>
          <p:nvPr/>
        </p:nvSpPr>
        <p:spPr>
          <a:xfrm flipH="1" rot="4755000">
            <a:off x="2483640" y="2636280"/>
            <a:ext cx="863640" cy="6480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fill="none" w="23538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4457" y="0"/>
                  <a:pt x="19579" y="1954"/>
                  <a:pt x="23538" y="5489"/>
                </a:cubicBezTo>
              </a:path>
              <a:path stroke="0" w="23538" h="21600">
                <a:moveTo>
                  <a:pt x="-1" y="2033"/>
                </a:moveTo>
                <a:cubicBezTo>
                  <a:pt x="2864" y="694"/>
                  <a:pt x="5987" y="-1"/>
                  <a:pt x="9150" y="0"/>
                </a:cubicBezTo>
                <a:cubicBezTo>
                  <a:pt x="14457" y="0"/>
                  <a:pt x="19579" y="1954"/>
                  <a:pt x="23538" y="5489"/>
                </a:cubicBezTo>
                <a:lnTo>
                  <a:pt x="9150" y="21600"/>
                </a:lnTo>
                <a:lnTo>
                  <a:pt x="-1" y="2033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5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Object 36"/>
          <p:cNvGraphicFramePr/>
          <p:nvPr/>
        </p:nvGraphicFramePr>
        <p:xfrm>
          <a:off x="4608360" y="2133720"/>
          <a:ext cx="38880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2133720"/>
                    <a:ext cx="38880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37"/>
          <p:cNvGraphicFramePr/>
          <p:nvPr/>
        </p:nvGraphicFramePr>
        <p:xfrm>
          <a:off x="4535640" y="2997360"/>
          <a:ext cx="3997080" cy="86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5640" y="2997360"/>
                    <a:ext cx="3997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8"/>
          <p:cNvGraphicFramePr/>
          <p:nvPr/>
        </p:nvGraphicFramePr>
        <p:xfrm>
          <a:off x="4535640" y="3860640"/>
          <a:ext cx="3997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5640" y="3860640"/>
                    <a:ext cx="3997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39"/>
          <p:cNvGraphicFramePr/>
          <p:nvPr/>
        </p:nvGraphicFramePr>
        <p:xfrm>
          <a:off x="4535640" y="4761000"/>
          <a:ext cx="414000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4761000"/>
                    <a:ext cx="4140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Text Box 4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7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0"/>
          <p:cNvGrpSpPr/>
          <p:nvPr/>
        </p:nvGrpSpPr>
        <p:grpSpPr>
          <a:xfrm>
            <a:off x="250920" y="297000"/>
            <a:ext cx="8585280" cy="6244560"/>
            <a:chOff x="250920" y="297000"/>
            <a:chExt cx="8585280" cy="6244560"/>
          </a:xfrm>
        </p:grpSpPr>
        <p:sp>
          <p:nvSpPr>
            <p:cNvPr id="738" name="Freeform 11"/>
            <p:cNvSpPr/>
            <p:nvPr/>
          </p:nvSpPr>
          <p:spPr>
            <a:xfrm>
              <a:off x="695520" y="32256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33320" y="652860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798040" y="729360"/>
              <a:ext cx="1440" cy="53762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301680" y="729360"/>
              <a:ext cx="25560" cy="53762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301680" y="6084000"/>
              <a:ext cx="43164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6"/>
            <p:cNvSpPr/>
            <p:nvPr/>
          </p:nvSpPr>
          <p:spPr>
            <a:xfrm flipH="1">
              <a:off x="8404200" y="6071040"/>
              <a:ext cx="432000" cy="457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7"/>
            <p:cNvSpPr/>
            <p:nvPr/>
          </p:nvSpPr>
          <p:spPr>
            <a:xfrm flipH="1" rot="16200000">
              <a:off x="8391240" y="284400"/>
              <a:ext cx="432360" cy="457200"/>
            </a:xfrm>
            <a:custGeom>
              <a:avLst/>
              <a:gdLst>
                <a:gd name="textAreaLeft" fmla="*/ -360 w 432360"/>
                <a:gd name="textAreaRight" fmla="*/ 43236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 rot="5400000">
              <a:off x="263160" y="284400"/>
              <a:ext cx="432360" cy="45720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4"/>
          <p:cNvSpPr/>
          <p:nvPr/>
        </p:nvSpPr>
        <p:spPr>
          <a:xfrm>
            <a:off x="287280" y="429264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9"/>
          <p:cNvSpPr/>
          <p:nvPr/>
        </p:nvSpPr>
        <p:spPr>
          <a:xfrm>
            <a:off x="5256360" y="1521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0"/>
          <p:cNvSpPr/>
          <p:nvPr/>
        </p:nvSpPr>
        <p:spPr>
          <a:xfrm>
            <a:off x="1258920" y="5734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      7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5"/>
          <p:cNvSpPr/>
          <p:nvPr/>
        </p:nvSpPr>
        <p:spPr>
          <a:xfrm rot="20899800">
            <a:off x="1306440" y="1890360"/>
            <a:ext cx="2487600" cy="2379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6"/>
          <p:cNvSpPr/>
          <p:nvPr/>
        </p:nvSpPr>
        <p:spPr>
          <a:xfrm rot="20899800">
            <a:off x="2444400" y="2987280"/>
            <a:ext cx="163440" cy="154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7"/>
          <p:cNvSpPr/>
          <p:nvPr/>
        </p:nvSpPr>
        <p:spPr>
          <a:xfrm rot="20899800">
            <a:off x="2397600" y="277920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18"/>
          <p:cNvSpPr/>
          <p:nvPr/>
        </p:nvSpPr>
        <p:spPr>
          <a:xfrm rot="20899800">
            <a:off x="774360" y="4167000"/>
            <a:ext cx="163440" cy="1555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"/>
          <p:cNvSpPr/>
          <p:nvPr/>
        </p:nvSpPr>
        <p:spPr>
          <a:xfrm flipV="1">
            <a:off x="887400" y="1485360"/>
            <a:ext cx="2727000" cy="27133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0"/>
          <p:cNvSpPr/>
          <p:nvPr/>
        </p:nvSpPr>
        <p:spPr>
          <a:xfrm flipV="1">
            <a:off x="880560" y="1599840"/>
            <a:ext cx="844200" cy="25617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1"/>
          <p:cNvSpPr/>
          <p:nvPr/>
        </p:nvSpPr>
        <p:spPr>
          <a:xfrm rot="20899800">
            <a:off x="1287000" y="2628720"/>
            <a:ext cx="16344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2"/>
          <p:cNvSpPr/>
          <p:nvPr/>
        </p:nvSpPr>
        <p:spPr>
          <a:xfrm rot="20899800">
            <a:off x="1356840" y="3569760"/>
            <a:ext cx="163800" cy="15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3"/>
          <p:cNvSpPr/>
          <p:nvPr/>
        </p:nvSpPr>
        <p:spPr>
          <a:xfrm rot="20899800">
            <a:off x="3014280" y="1914120"/>
            <a:ext cx="16344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5"/>
          <p:cNvSpPr/>
          <p:nvPr/>
        </p:nvSpPr>
        <p:spPr>
          <a:xfrm rot="20899800">
            <a:off x="958680" y="36619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6"/>
          <p:cNvSpPr/>
          <p:nvPr/>
        </p:nvSpPr>
        <p:spPr>
          <a:xfrm rot="20899800">
            <a:off x="673200" y="248400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7"/>
          <p:cNvSpPr/>
          <p:nvPr/>
        </p:nvSpPr>
        <p:spPr>
          <a:xfrm rot="20899800">
            <a:off x="2630520" y="1480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28"/>
          <p:cNvSpPr/>
          <p:nvPr/>
        </p:nvSpPr>
        <p:spPr>
          <a:xfrm rot="7709400">
            <a:off x="-194400" y="4169520"/>
            <a:ext cx="1733400" cy="3063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fill="none" w="21600" h="13122">
                <a:moveTo>
                  <a:pt x="1132" y="13122"/>
                </a:moveTo>
                <a:cubicBezTo>
                  <a:pt x="382" y="10897"/>
                  <a:pt x="0" y="8566"/>
                  <a:pt x="0" y="6219"/>
                </a:cubicBezTo>
                <a:cubicBezTo>
                  <a:pt x="-1" y="4112"/>
                  <a:pt x="308" y="2017"/>
                  <a:pt x="914" y="-1"/>
                </a:cubicBezTo>
              </a:path>
              <a:path stroke="0" w="21600" h="13122">
                <a:moveTo>
                  <a:pt x="1132" y="13122"/>
                </a:moveTo>
                <a:cubicBezTo>
                  <a:pt x="382" y="10897"/>
                  <a:pt x="0" y="8566"/>
                  <a:pt x="0" y="6219"/>
                </a:cubicBezTo>
                <a:cubicBezTo>
                  <a:pt x="-1" y="4112"/>
                  <a:pt x="308" y="2017"/>
                  <a:pt x="914" y="-1"/>
                </a:cubicBezTo>
                <a:lnTo>
                  <a:pt x="21600" y="6219"/>
                </a:lnTo>
                <a:lnTo>
                  <a:pt x="1132" y="13122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rc 31"/>
          <p:cNvSpPr/>
          <p:nvPr/>
        </p:nvSpPr>
        <p:spPr>
          <a:xfrm flipH="1" rot="2680200">
            <a:off x="1741320" y="1596960"/>
            <a:ext cx="1208160" cy="1676520"/>
          </a:xfrm>
          <a:custGeom>
            <a:avLst/>
            <a:gdLst>
              <a:gd name="textAreaLeft" fmla="*/ 360 w 1208160"/>
              <a:gd name="textAreaRight" fmla="*/ 1208880 w 12081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7414">
                <a:moveTo>
                  <a:pt x="8150" y="-1"/>
                </a:moveTo>
                <a:cubicBezTo>
                  <a:pt x="16282" y="3313"/>
                  <a:pt x="21600" y="11221"/>
                  <a:pt x="21600" y="20003"/>
                </a:cubicBezTo>
                <a:cubicBezTo>
                  <a:pt x="21600" y="22531"/>
                  <a:pt x="21156" y="25039"/>
                  <a:pt x="20288" y="27413"/>
                </a:cubicBezTo>
              </a:path>
              <a:path stroke="0" w="21600" h="27414">
                <a:moveTo>
                  <a:pt x="8150" y="-1"/>
                </a:moveTo>
                <a:cubicBezTo>
                  <a:pt x="16282" y="3313"/>
                  <a:pt x="21600" y="11221"/>
                  <a:pt x="21600" y="20003"/>
                </a:cubicBezTo>
                <a:cubicBezTo>
                  <a:pt x="21600" y="22531"/>
                  <a:pt x="21156" y="25039"/>
                  <a:pt x="20288" y="27413"/>
                </a:cubicBezTo>
                <a:lnTo>
                  <a:pt x="0" y="20003"/>
                </a:lnTo>
                <a:lnTo>
                  <a:pt x="8150" y="-1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rc 32"/>
          <p:cNvSpPr/>
          <p:nvPr/>
        </p:nvSpPr>
        <p:spPr>
          <a:xfrm flipH="1" rot="18930600">
            <a:off x="1231200" y="2619360"/>
            <a:ext cx="1087560" cy="1222560"/>
          </a:xfrm>
          <a:custGeom>
            <a:avLst/>
            <a:gdLst>
              <a:gd name="textAreaLeft" fmla="*/ -360 w 1087560"/>
              <a:gd name="textAreaRight" fmla="*/ 1087560 w 108756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fill="none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</a:path>
              <a:path stroke="0" w="19452" h="19580">
                <a:moveTo>
                  <a:pt x="9121" y="0"/>
                </a:moveTo>
                <a:cubicBezTo>
                  <a:pt x="13636" y="2104"/>
                  <a:pt x="17286" y="5703"/>
                  <a:pt x="19451" y="10189"/>
                </a:cubicBezTo>
                <a:lnTo>
                  <a:pt x="0" y="19580"/>
                </a:lnTo>
                <a:lnTo>
                  <a:pt x="9121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Object 33"/>
          <p:cNvGraphicFramePr/>
          <p:nvPr/>
        </p:nvGraphicFramePr>
        <p:xfrm>
          <a:off x="4140360" y="2060640"/>
          <a:ext cx="38163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3816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34"/>
          <p:cNvGraphicFramePr/>
          <p:nvPr/>
        </p:nvGraphicFramePr>
        <p:xfrm>
          <a:off x="4140360" y="2889360"/>
          <a:ext cx="46083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89360"/>
                    <a:ext cx="4608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36"/>
          <p:cNvGraphicFramePr/>
          <p:nvPr/>
        </p:nvGraphicFramePr>
        <p:xfrm>
          <a:off x="4140360" y="3860640"/>
          <a:ext cx="45370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3860640"/>
                    <a:ext cx="4537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37"/>
          <p:cNvGraphicFramePr/>
          <p:nvPr/>
        </p:nvGraphicFramePr>
        <p:xfrm>
          <a:off x="4032360" y="4761000"/>
          <a:ext cx="432108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360" y="4761000"/>
                    <a:ext cx="4321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13"/>
          <p:cNvSpPr/>
          <p:nvPr/>
        </p:nvSpPr>
        <p:spPr>
          <a:xfrm>
            <a:off x="611280" y="1413000"/>
            <a:ext cx="4789440" cy="4465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251928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4788000" y="21686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8"/>
          <p:cNvSpPr/>
          <p:nvPr/>
        </p:nvSpPr>
        <p:spPr>
          <a:xfrm>
            <a:off x="2916360" y="1341360"/>
            <a:ext cx="18072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0"/>
          <p:cNvSpPr/>
          <p:nvPr/>
        </p:nvSpPr>
        <p:spPr>
          <a:xfrm>
            <a:off x="4176720" y="54086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1"/>
          <p:cNvSpPr/>
          <p:nvPr/>
        </p:nvSpPr>
        <p:spPr>
          <a:xfrm>
            <a:off x="5292720" y="364500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 flipV="1">
            <a:off x="2987640" y="2313000"/>
            <a:ext cx="1836720" cy="1332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3"/>
          <p:cNvSpPr/>
          <p:nvPr/>
        </p:nvSpPr>
        <p:spPr>
          <a:xfrm>
            <a:off x="5724360" y="2781360"/>
            <a:ext cx="2880000" cy="684000"/>
          </a:xfrm>
          <a:prstGeom prst="wedgeRoundRectCallout">
            <a:avLst>
              <a:gd name="adj1" fmla="val -102810"/>
              <a:gd name="adj2" fmla="val -379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ди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2987640" y="1521000"/>
            <a:ext cx="0" cy="428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332000" y="5877000"/>
            <a:ext cx="486072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879640" y="360828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2879640" y="576900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7"/>
          <p:cNvSpPr/>
          <p:nvPr/>
        </p:nvSpPr>
        <p:spPr>
          <a:xfrm>
            <a:off x="5688000" y="4365720"/>
            <a:ext cx="2951280" cy="718920"/>
          </a:xfrm>
          <a:prstGeom prst="wedgeRoundRectCallout">
            <a:avLst>
              <a:gd name="adj1" fmla="val -70495"/>
              <a:gd name="adj2" fmla="val 142495"/>
              <a:gd name="adj3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с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8"/>
          <p:cNvSpPr/>
          <p:nvPr/>
        </p:nvSpPr>
        <p:spPr>
          <a:xfrm flipH="1">
            <a:off x="4284360" y="3824280"/>
            <a:ext cx="1042920" cy="162072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5724360" y="3573360"/>
            <a:ext cx="2880000" cy="684360"/>
          </a:xfrm>
          <a:prstGeom prst="wedgeRoundRectCallout">
            <a:avLst>
              <a:gd name="adj1" fmla="val -71004"/>
              <a:gd name="adj2" fmla="val 43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 flipV="1">
            <a:off x="611280" y="1483920"/>
            <a:ext cx="4716360" cy="108108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4176720" y="162864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863640" y="2384280"/>
            <a:ext cx="181080" cy="1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5724360" y="1197000"/>
            <a:ext cx="2808360" cy="612720"/>
          </a:xfrm>
          <a:prstGeom prst="wedgeRoundRectCallout">
            <a:avLst>
              <a:gd name="adj1" fmla="val -69444"/>
              <a:gd name="adj2" fmla="val 18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5796000" y="1916280"/>
            <a:ext cx="2843280" cy="720720"/>
          </a:xfrm>
          <a:prstGeom prst="wedgeRoundRectCallout">
            <a:avLst>
              <a:gd name="adj1" fmla="val -145754"/>
              <a:gd name="adj2" fmla="val -196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диа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36"/>
          <p:cNvSpPr/>
          <p:nvPr/>
        </p:nvSpPr>
        <p:spPr>
          <a:xfrm rot="13634400">
            <a:off x="166680" y="3625920"/>
            <a:ext cx="2819520" cy="15364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fill="none" w="32769" h="21600">
                <a:moveTo>
                  <a:pt x="0" y="4773"/>
                </a:moveTo>
                <a:cubicBezTo>
                  <a:pt x="3837" y="1684"/>
                  <a:pt x="8616" y="-1"/>
                  <a:pt x="13543" y="0"/>
                </a:cubicBezTo>
                <a:cubicBezTo>
                  <a:pt x="21649" y="0"/>
                  <a:pt x="29073" y="4539"/>
                  <a:pt x="32768" y="11755"/>
                </a:cubicBezTo>
              </a:path>
              <a:path stroke="0" w="32769" h="21600">
                <a:moveTo>
                  <a:pt x="0" y="4773"/>
                </a:moveTo>
                <a:cubicBezTo>
                  <a:pt x="3837" y="1684"/>
                  <a:pt x="8616" y="-1"/>
                  <a:pt x="13543" y="0"/>
                </a:cubicBezTo>
                <a:cubicBezTo>
                  <a:pt x="21649" y="0"/>
                  <a:pt x="29073" y="4539"/>
                  <a:pt x="32768" y="11755"/>
                </a:cubicBezTo>
                <a:lnTo>
                  <a:pt x="13543" y="21600"/>
                </a:lnTo>
                <a:lnTo>
                  <a:pt x="0" y="477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5832360" y="5265720"/>
            <a:ext cx="2772000" cy="649440"/>
          </a:xfrm>
          <a:prstGeom prst="wedgeRoundRectCallout">
            <a:avLst>
              <a:gd name="adj1" fmla="val -215407"/>
              <a:gd name="adj2" fmla="val -954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0"/>
          <p:cNvSpPr/>
          <p:nvPr/>
        </p:nvSpPr>
        <p:spPr>
          <a:xfrm>
            <a:off x="539640" y="32497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2087640" y="56246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нтраль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92000" y="468936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 с вершиной в центре окружности называется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центральным уг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3"/>
          <p:cNvGrpSpPr/>
          <p:nvPr/>
        </p:nvGrpSpPr>
        <p:grpSpPr>
          <a:xfrm>
            <a:off x="3059280" y="1449360"/>
            <a:ext cx="3006720" cy="3015720"/>
            <a:chOff x="3059280" y="1449360"/>
            <a:chExt cx="3006720" cy="3015720"/>
          </a:xfrm>
        </p:grpSpPr>
        <p:sp>
          <p:nvSpPr>
            <p:cNvPr id="73" name="Oval 64"/>
            <p:cNvSpPr/>
            <p:nvPr/>
          </p:nvSpPr>
          <p:spPr>
            <a:xfrm>
              <a:off x="3059280" y="1449360"/>
              <a:ext cx="3006720" cy="2908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1"/>
            <p:cNvSpPr/>
            <p:nvPr/>
          </p:nvSpPr>
          <p:spPr>
            <a:xfrm>
              <a:off x="3402000" y="4098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53"/>
            <p:cNvSpPr/>
            <p:nvPr/>
          </p:nvSpPr>
          <p:spPr>
            <a:xfrm>
              <a:off x="5845320" y="3768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5"/>
            <p:cNvSpPr/>
            <p:nvPr/>
          </p:nvSpPr>
          <p:spPr>
            <a:xfrm flipH="1">
              <a:off x="3660480" y="2921040"/>
              <a:ext cx="903240" cy="117792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6"/>
            <p:cNvSpPr/>
            <p:nvPr/>
          </p:nvSpPr>
          <p:spPr>
            <a:xfrm>
              <a:off x="4564080" y="2921040"/>
              <a:ext cx="938160" cy="10684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70" descr="Рисунок19"/>
            <p:cNvPicPr/>
            <p:nvPr/>
          </p:nvPicPr>
          <p:blipFill>
            <a:blip r:embed="rId1"/>
            <a:stretch/>
          </p:blipFill>
          <p:spPr>
            <a:xfrm rot="3307200">
              <a:off x="3942360" y="3048840"/>
              <a:ext cx="909720" cy="109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62"/>
            <p:cNvGrpSpPr/>
            <p:nvPr/>
          </p:nvGrpSpPr>
          <p:grpSpPr>
            <a:xfrm>
              <a:off x="4487760" y="2847960"/>
              <a:ext cx="187200" cy="183960"/>
              <a:chOff x="4487760" y="2847960"/>
              <a:chExt cx="187200" cy="183960"/>
            </a:xfrm>
          </p:grpSpPr>
          <p:sp>
            <p:nvSpPr>
              <p:cNvPr id="80" name="Oval 60"/>
              <p:cNvSpPr/>
              <p:nvPr/>
            </p:nvSpPr>
            <p:spPr>
              <a:xfrm>
                <a:off x="4487760" y="2847960"/>
                <a:ext cx="187200" cy="183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61"/>
              <p:cNvSpPr/>
              <p:nvPr/>
            </p:nvSpPr>
            <p:spPr>
              <a:xfrm>
                <a:off x="4487760" y="2847960"/>
                <a:ext cx="187200" cy="183960"/>
              </a:xfrm>
              <a:prstGeom prst="ellipse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71"/>
            <p:cNvSpPr/>
            <p:nvPr/>
          </p:nvSpPr>
          <p:spPr>
            <a:xfrm>
              <a:off x="4260960" y="3106800"/>
              <a:ext cx="6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3"/>
            <p:cNvSpPr/>
            <p:nvPr/>
          </p:nvSpPr>
          <p:spPr>
            <a:xfrm>
              <a:off x="3959280" y="2600280"/>
              <a:ext cx="6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писан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68360" y="425772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, вершина которого лежит на окружности, а стороны пересекают окружность, называется             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писанным уг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9"/>
          <p:cNvGrpSpPr/>
          <p:nvPr/>
        </p:nvGrpSpPr>
        <p:grpSpPr>
          <a:xfrm>
            <a:off x="3059280" y="1268280"/>
            <a:ext cx="2952720" cy="2808360"/>
            <a:chOff x="3059280" y="1268280"/>
            <a:chExt cx="2952720" cy="2808360"/>
          </a:xfrm>
        </p:grpSpPr>
        <p:sp>
          <p:nvSpPr>
            <p:cNvPr id="87" name="Oval 58"/>
            <p:cNvSpPr/>
            <p:nvPr/>
          </p:nvSpPr>
          <p:spPr>
            <a:xfrm>
              <a:off x="3059280" y="1333440"/>
              <a:ext cx="2952720" cy="2743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9"/>
            <p:cNvSpPr/>
            <p:nvPr/>
          </p:nvSpPr>
          <p:spPr>
            <a:xfrm>
              <a:off x="4427640" y="2635200"/>
              <a:ext cx="215640" cy="204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1"/>
            <p:cNvSpPr/>
            <p:nvPr/>
          </p:nvSpPr>
          <p:spPr>
            <a:xfrm>
              <a:off x="4500720" y="1333440"/>
              <a:ext cx="1006200" cy="2398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65" descr="Рисунок19"/>
            <p:cNvPicPr/>
            <p:nvPr/>
          </p:nvPicPr>
          <p:blipFill>
            <a:blip r:embed="rId1"/>
            <a:stretch/>
          </p:blipFill>
          <p:spPr>
            <a:xfrm rot="4056600">
              <a:off x="4020840" y="1639800"/>
              <a:ext cx="88596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Line 60"/>
            <p:cNvSpPr/>
            <p:nvPr/>
          </p:nvSpPr>
          <p:spPr>
            <a:xfrm flipH="1">
              <a:off x="3455640" y="1305000"/>
              <a:ext cx="1009800" cy="23288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7"/>
            <p:cNvSpPr/>
            <p:nvPr/>
          </p:nvSpPr>
          <p:spPr>
            <a:xfrm>
              <a:off x="3708360" y="14842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62"/>
            <p:cNvSpPr/>
            <p:nvPr/>
          </p:nvSpPr>
          <p:spPr>
            <a:xfrm>
              <a:off x="4356000" y="1268280"/>
              <a:ext cx="216000" cy="20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 о центральном уг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ценр"/>
          <p:cNvPicPr/>
          <p:nvPr/>
        </p:nvPicPr>
        <p:blipFill>
          <a:blip r:embed="rId1"/>
          <a:stretch/>
        </p:blipFill>
        <p:spPr>
          <a:xfrm>
            <a:off x="719280" y="1305000"/>
            <a:ext cx="3089160" cy="327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3924360" y="1557360"/>
            <a:ext cx="47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дусная мера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центрального уг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в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адусной мер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дуг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 на которую он опир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5"/>
          <p:cNvGrpSpPr/>
          <p:nvPr/>
        </p:nvGrpSpPr>
        <p:grpSpPr>
          <a:xfrm>
            <a:off x="1368360" y="1515240"/>
            <a:ext cx="2163240" cy="2857320"/>
            <a:chOff x="1368360" y="1515240"/>
            <a:chExt cx="2163240" cy="2857320"/>
          </a:xfrm>
        </p:grpSpPr>
        <p:sp>
          <p:nvSpPr>
            <p:cNvPr id="98" name="Arc 52"/>
            <p:cNvSpPr/>
            <p:nvPr/>
          </p:nvSpPr>
          <p:spPr>
            <a:xfrm flipH="1" rot="10948800">
              <a:off x="1476360" y="1557000"/>
              <a:ext cx="1995480" cy="2773440"/>
            </a:xfrm>
            <a:custGeom>
              <a:avLst/>
              <a:gdLst>
                <a:gd name="textAreaLeft" fmla="*/ -360 w 1995480"/>
                <a:gd name="textAreaRight" fmla="*/ 1995480 w 199548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fill="none" w="21348" h="21600">
                  <a:moveTo>
                    <a:pt x="-1" y="1744"/>
                  </a:moveTo>
                  <a:cubicBezTo>
                    <a:pt x="2687" y="593"/>
                    <a:pt x="5581" y="-1"/>
                    <a:pt x="8505" y="0"/>
                  </a:cubicBezTo>
                  <a:cubicBezTo>
                    <a:pt x="13128" y="0"/>
                    <a:pt x="17630" y="1483"/>
                    <a:pt x="21348" y="4232"/>
                  </a:cubicBezTo>
                </a:path>
                <a:path stroke="0" w="21348" h="21600">
                  <a:moveTo>
                    <a:pt x="-1" y="1744"/>
                  </a:moveTo>
                  <a:cubicBezTo>
                    <a:pt x="2687" y="593"/>
                    <a:pt x="5581" y="-1"/>
                    <a:pt x="8505" y="0"/>
                  </a:cubicBezTo>
                  <a:cubicBezTo>
                    <a:pt x="13128" y="0"/>
                    <a:pt x="17630" y="1483"/>
                    <a:pt x="21348" y="4232"/>
                  </a:cubicBezTo>
                  <a:lnTo>
                    <a:pt x="8505" y="21600"/>
                  </a:lnTo>
                  <a:lnTo>
                    <a:pt x="-1" y="1744"/>
                  </a:lnTo>
                  <a:close/>
                </a:path>
              </a:pathLst>
            </a:custGeom>
            <a:noFill/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3"/>
            <p:cNvSpPr/>
            <p:nvPr/>
          </p:nvSpPr>
          <p:spPr>
            <a:xfrm>
              <a:off x="1368360" y="4005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4"/>
            <p:cNvSpPr/>
            <p:nvPr/>
          </p:nvSpPr>
          <p:spPr>
            <a:xfrm>
              <a:off x="3384360" y="371628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" name="Object 56"/>
          <p:cNvGraphicFramePr/>
          <p:nvPr/>
        </p:nvGraphicFramePr>
        <p:xfrm>
          <a:off x="1187280" y="4797360"/>
          <a:ext cx="630108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4797360"/>
                    <a:ext cx="6301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 о вписанном уг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Вписан"/>
          <p:cNvPicPr/>
          <p:nvPr/>
        </p:nvPicPr>
        <p:blipFill>
          <a:blip r:embed="rId1"/>
          <a:stretch/>
        </p:blipFill>
        <p:spPr>
          <a:xfrm>
            <a:off x="900000" y="1233360"/>
            <a:ext cx="2737080" cy="3203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780000" y="1773360"/>
            <a:ext cx="48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исанный угол измеряется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ловиной дуг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а которую он опир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2376360" y="1557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8"/>
          <p:cNvSpPr/>
          <p:nvPr/>
        </p:nvSpPr>
        <p:spPr>
          <a:xfrm flipH="1" rot="10948800">
            <a:off x="1510200" y="1483920"/>
            <a:ext cx="1836720" cy="2741760"/>
          </a:xfrm>
          <a:custGeom>
            <a:avLst/>
            <a:gdLst>
              <a:gd name="textAreaLeft" fmla="*/ 360 w 1836720"/>
              <a:gd name="textAreaRight" fmla="*/ 1837440 w 183672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fill="none" w="21348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3128" y="0"/>
                  <a:pt x="17630" y="1483"/>
                  <a:pt x="21348" y="4232"/>
                </a:cubicBezTo>
              </a:path>
              <a:path stroke="0" w="21348" h="21600">
                <a:moveTo>
                  <a:pt x="-1" y="1744"/>
                </a:moveTo>
                <a:cubicBezTo>
                  <a:pt x="2687" y="593"/>
                  <a:pt x="5581" y="-1"/>
                  <a:pt x="8505" y="0"/>
                </a:cubicBezTo>
                <a:cubicBezTo>
                  <a:pt x="13128" y="0"/>
                  <a:pt x="17630" y="1483"/>
                  <a:pt x="21348" y="4232"/>
                </a:cubicBezTo>
                <a:lnTo>
                  <a:pt x="8505" y="21600"/>
                </a:lnTo>
                <a:lnTo>
                  <a:pt x="-1" y="1744"/>
                </a:lnTo>
                <a:close/>
              </a:path>
            </a:pathLst>
          </a:custGeom>
          <a:noFill/>
          <a:ln w="572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3240000" y="3681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1440000" y="393372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9"/>
          <p:cNvGraphicFramePr/>
          <p:nvPr/>
        </p:nvGraphicFramePr>
        <p:xfrm>
          <a:off x="1403280" y="4329000"/>
          <a:ext cx="5688000" cy="209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329000"/>
                    <a:ext cx="5688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едствия о вписанных угл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8"/>
          <p:cNvGrpSpPr/>
          <p:nvPr/>
        </p:nvGrpSpPr>
        <p:grpSpPr>
          <a:xfrm>
            <a:off x="647640" y="1449360"/>
            <a:ext cx="2087640" cy="2339640"/>
            <a:chOff x="647640" y="1449360"/>
            <a:chExt cx="2087640" cy="2339640"/>
          </a:xfrm>
        </p:grpSpPr>
        <p:sp>
          <p:nvSpPr>
            <p:cNvPr id="114" name="Oval 39"/>
            <p:cNvSpPr/>
            <p:nvPr/>
          </p:nvSpPr>
          <p:spPr>
            <a:xfrm>
              <a:off x="647640" y="1449360"/>
              <a:ext cx="2087640" cy="205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0"/>
            <p:cNvSpPr/>
            <p:nvPr/>
          </p:nvSpPr>
          <p:spPr>
            <a:xfrm>
              <a:off x="1607400" y="242676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1"/>
            <p:cNvSpPr/>
            <p:nvPr/>
          </p:nvSpPr>
          <p:spPr>
            <a:xfrm>
              <a:off x="1272600" y="2298240"/>
              <a:ext cx="47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cc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4"/>
            <p:cNvSpPr/>
            <p:nvPr/>
          </p:nvSpPr>
          <p:spPr>
            <a:xfrm>
              <a:off x="1126800" y="332676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5"/>
            <p:cNvSpPr/>
            <p:nvPr/>
          </p:nvSpPr>
          <p:spPr>
            <a:xfrm>
              <a:off x="2303640" y="3197520"/>
              <a:ext cx="96120" cy="10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56"/>
            <p:cNvSpPr/>
            <p:nvPr/>
          </p:nvSpPr>
          <p:spPr>
            <a:xfrm rot="10038600">
              <a:off x="1216800" y="3068280"/>
              <a:ext cx="1136160" cy="4363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7"/>
            <p:cNvSpPr/>
            <p:nvPr/>
          </p:nvSpPr>
          <p:spPr>
            <a:xfrm flipH="1">
              <a:off x="1103760" y="1449360"/>
              <a:ext cx="455760" cy="22888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8"/>
            <p:cNvSpPr/>
            <p:nvPr/>
          </p:nvSpPr>
          <p:spPr>
            <a:xfrm>
              <a:off x="1535400" y="1475280"/>
              <a:ext cx="959760" cy="2133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9"/>
            <p:cNvSpPr/>
            <p:nvPr/>
          </p:nvSpPr>
          <p:spPr>
            <a:xfrm flipH="1">
              <a:off x="862920" y="2246040"/>
              <a:ext cx="1847160" cy="133776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0"/>
            <p:cNvSpPr/>
            <p:nvPr/>
          </p:nvSpPr>
          <p:spPr>
            <a:xfrm flipH="1">
              <a:off x="2183040" y="2246040"/>
              <a:ext cx="527760" cy="149184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1"/>
            <p:cNvSpPr/>
            <p:nvPr/>
          </p:nvSpPr>
          <p:spPr>
            <a:xfrm>
              <a:off x="671760" y="2246040"/>
              <a:ext cx="2015280" cy="1208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2"/>
            <p:cNvSpPr/>
            <p:nvPr/>
          </p:nvSpPr>
          <p:spPr>
            <a:xfrm>
              <a:off x="671760" y="2246040"/>
              <a:ext cx="671760" cy="1542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63"/>
            <p:cNvSpPr/>
            <p:nvPr/>
          </p:nvSpPr>
          <p:spPr>
            <a:xfrm rot="10038600">
              <a:off x="2397960" y="2323080"/>
              <a:ext cx="183960" cy="257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66"/>
            <p:cNvSpPr/>
            <p:nvPr/>
          </p:nvSpPr>
          <p:spPr>
            <a:xfrm rot="10038600">
              <a:off x="1487160" y="1655280"/>
              <a:ext cx="183960" cy="257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67"/>
            <p:cNvSpPr/>
            <p:nvPr/>
          </p:nvSpPr>
          <p:spPr>
            <a:xfrm rot="7115400">
              <a:off x="763920" y="2379600"/>
              <a:ext cx="181440" cy="22284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fill="none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</a:path>
                <a:path stroke="0" w="32769" h="21600">
                  <a:moveTo>
                    <a:pt x="0" y="4773"/>
                  </a:moveTo>
                  <a:cubicBezTo>
                    <a:pt x="3837" y="1684"/>
                    <a:pt x="8616" y="-1"/>
                    <a:pt x="13543" y="0"/>
                  </a:cubicBezTo>
                  <a:cubicBezTo>
                    <a:pt x="21649" y="0"/>
                    <a:pt x="29073" y="4539"/>
                    <a:pt x="32768" y="11755"/>
                  </a:cubicBezTo>
                  <a:lnTo>
                    <a:pt x="13543" y="21600"/>
                  </a:lnTo>
                  <a:lnTo>
                    <a:pt x="0" y="4773"/>
                  </a:lnTo>
                  <a:close/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69"/>
          <p:cNvSpPr/>
          <p:nvPr/>
        </p:nvSpPr>
        <p:spPr>
          <a:xfrm>
            <a:off x="3166920" y="1736640"/>
            <a:ext cx="51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писанные уг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ирающиеся на одну и ту же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ду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2"/>
          <p:cNvGrpSpPr/>
          <p:nvPr/>
        </p:nvGrpSpPr>
        <p:grpSpPr>
          <a:xfrm>
            <a:off x="5796000" y="3789360"/>
            <a:ext cx="2989080" cy="2095200"/>
            <a:chOff x="5796000" y="3789360"/>
            <a:chExt cx="2989080" cy="2095200"/>
          </a:xfrm>
        </p:grpSpPr>
        <p:sp>
          <p:nvSpPr>
            <p:cNvPr id="131" name="Oval 70"/>
            <p:cNvSpPr/>
            <p:nvPr/>
          </p:nvSpPr>
          <p:spPr>
            <a:xfrm>
              <a:off x="6192720" y="3789360"/>
              <a:ext cx="2195640" cy="20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7235640" y="4725720"/>
              <a:ext cx="10800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7164360" y="483372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cc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3"/>
            <p:cNvSpPr/>
            <p:nvPr/>
          </p:nvSpPr>
          <p:spPr>
            <a:xfrm>
              <a:off x="6192720" y="4762440"/>
              <a:ext cx="21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4"/>
            <p:cNvSpPr/>
            <p:nvPr/>
          </p:nvSpPr>
          <p:spPr>
            <a:xfrm flipH="1">
              <a:off x="6011280" y="4041720"/>
              <a:ext cx="576360" cy="1044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5"/>
            <p:cNvSpPr/>
            <p:nvPr/>
          </p:nvSpPr>
          <p:spPr>
            <a:xfrm>
              <a:off x="6588000" y="4041720"/>
              <a:ext cx="2160720" cy="862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6"/>
            <p:cNvSpPr/>
            <p:nvPr/>
          </p:nvSpPr>
          <p:spPr>
            <a:xfrm flipH="1">
              <a:off x="5903640" y="3789360"/>
              <a:ext cx="1440000" cy="1188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7"/>
            <p:cNvSpPr/>
            <p:nvPr/>
          </p:nvSpPr>
          <p:spPr>
            <a:xfrm>
              <a:off x="7343640" y="3789360"/>
              <a:ext cx="1441440" cy="1368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8"/>
            <p:cNvSpPr/>
            <p:nvPr/>
          </p:nvSpPr>
          <p:spPr>
            <a:xfrm flipH="1">
              <a:off x="5796000" y="4149360"/>
              <a:ext cx="2340000" cy="720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9"/>
            <p:cNvSpPr/>
            <p:nvPr/>
          </p:nvSpPr>
          <p:spPr>
            <a:xfrm>
              <a:off x="8136000" y="4149360"/>
              <a:ext cx="396720" cy="1008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82"/>
            <p:cNvGrpSpPr/>
            <p:nvPr/>
          </p:nvGrpSpPr>
          <p:grpSpPr>
            <a:xfrm>
              <a:off x="7993080" y="4186080"/>
              <a:ext cx="142560" cy="142560"/>
              <a:chOff x="7993080" y="4186080"/>
              <a:chExt cx="142560" cy="142560"/>
            </a:xfrm>
          </p:grpSpPr>
          <p:sp>
            <p:nvSpPr>
              <p:cNvPr id="142" name="Line 80"/>
              <p:cNvSpPr/>
              <p:nvPr/>
            </p:nvSpPr>
            <p:spPr>
              <a:xfrm>
                <a:off x="7993080" y="4186080"/>
                <a:ext cx="13680" cy="131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81"/>
              <p:cNvSpPr/>
              <p:nvPr/>
            </p:nvSpPr>
            <p:spPr>
              <a:xfrm>
                <a:off x="8006760" y="4328640"/>
                <a:ext cx="12888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3"/>
            <p:cNvGrpSpPr/>
            <p:nvPr/>
          </p:nvGrpSpPr>
          <p:grpSpPr>
            <a:xfrm>
              <a:off x="6520320" y="4134960"/>
              <a:ext cx="280080" cy="156960"/>
              <a:chOff x="6520320" y="4134960"/>
              <a:chExt cx="280080" cy="156960"/>
            </a:xfrm>
          </p:grpSpPr>
          <p:sp>
            <p:nvSpPr>
              <p:cNvPr id="145" name="Line 84"/>
              <p:cNvSpPr/>
              <p:nvPr/>
            </p:nvSpPr>
            <p:spPr>
              <a:xfrm>
                <a:off x="6520320" y="4213800"/>
                <a:ext cx="188640" cy="7092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5"/>
              <p:cNvSpPr/>
              <p:nvPr/>
            </p:nvSpPr>
            <p:spPr>
              <a:xfrm flipV="1">
                <a:off x="6724080" y="4134960"/>
                <a:ext cx="76320" cy="156960"/>
              </a:xfrm>
              <a:prstGeom prst="line">
                <a:avLst/>
              </a:prstGeom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6"/>
            <p:cNvGrpSpPr/>
            <p:nvPr/>
          </p:nvGrpSpPr>
          <p:grpSpPr>
            <a:xfrm>
              <a:off x="7160040" y="3908520"/>
              <a:ext cx="273960" cy="142200"/>
              <a:chOff x="7160040" y="3908520"/>
              <a:chExt cx="273960" cy="142200"/>
            </a:xfrm>
          </p:grpSpPr>
          <p:sp>
            <p:nvSpPr>
              <p:cNvPr id="148" name="Line 87"/>
              <p:cNvSpPr/>
              <p:nvPr/>
            </p:nvSpPr>
            <p:spPr>
              <a:xfrm flipH="1">
                <a:off x="7304760" y="3908520"/>
                <a:ext cx="129240" cy="12996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8"/>
              <p:cNvSpPr/>
              <p:nvPr/>
            </p:nvSpPr>
            <p:spPr>
              <a:xfrm flipH="1" flipV="1">
                <a:off x="7160040" y="3941280"/>
                <a:ext cx="135000" cy="10944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Arc 89"/>
            <p:cNvSpPr/>
            <p:nvPr/>
          </p:nvSpPr>
          <p:spPr>
            <a:xfrm rot="10663200">
              <a:off x="6155640" y="4363560"/>
              <a:ext cx="2268360" cy="1476000"/>
            </a:xfrm>
            <a:custGeom>
              <a:avLst/>
              <a:gdLst>
                <a:gd name="textAreaLeft" fmla="*/ 0 w 2268360"/>
                <a:gd name="textAreaRight" fmla="*/ 2268720 w 2268360"/>
                <a:gd name="textAreaTop" fmla="*/ 0 h 1476000"/>
                <a:gd name="textAreaBottom" fmla="*/ 1476360 h 1476000"/>
              </a:gdLst>
              <a:ahLst/>
              <a:rect l="textAreaLeft" t="textAreaTop" r="textAreaRight" b="textAreaBottom"/>
              <a:pathLst>
                <a:path fill="none" w="41158" h="21600">
                  <a:moveTo>
                    <a:pt x="0" y="14235"/>
                  </a:moveTo>
                  <a:cubicBezTo>
                    <a:pt x="3099" y="5690"/>
                    <a:pt x="11216" y="-1"/>
                    <a:pt x="20306" y="0"/>
                  </a:cubicBezTo>
                  <a:cubicBezTo>
                    <a:pt x="30065" y="0"/>
                    <a:pt x="38612" y="6544"/>
                    <a:pt x="41158" y="15965"/>
                  </a:cubicBezTo>
                </a:path>
                <a:path stroke="0" w="41158" h="21600">
                  <a:moveTo>
                    <a:pt x="0" y="14235"/>
                  </a:moveTo>
                  <a:cubicBezTo>
                    <a:pt x="3099" y="5690"/>
                    <a:pt x="11216" y="-1"/>
                    <a:pt x="20306" y="0"/>
                  </a:cubicBezTo>
                  <a:cubicBezTo>
                    <a:pt x="30065" y="0"/>
                    <a:pt x="38612" y="6544"/>
                    <a:pt x="41158" y="15965"/>
                  </a:cubicBezTo>
                  <a:lnTo>
                    <a:pt x="20306" y="21600"/>
                  </a:lnTo>
                  <a:lnTo>
                    <a:pt x="0" y="14235"/>
                  </a:lnTo>
                  <a:close/>
                </a:path>
              </a:pathLst>
            </a:custGeom>
            <a:noFill/>
            <a:ln w="572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0"/>
            <p:cNvSpPr/>
            <p:nvPr/>
          </p:nvSpPr>
          <p:spPr>
            <a:xfrm>
              <a:off x="6119640" y="4725720"/>
              <a:ext cx="108000" cy="107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91"/>
            <p:cNvSpPr/>
            <p:nvPr/>
          </p:nvSpPr>
          <p:spPr>
            <a:xfrm>
              <a:off x="8351640" y="4725720"/>
              <a:ext cx="108000" cy="107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93"/>
          <p:cNvSpPr/>
          <p:nvPr/>
        </p:nvSpPr>
        <p:spPr>
          <a:xfrm>
            <a:off x="503280" y="43657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писанный уг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ирающийся на полуокружность –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ям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гол между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сательной и хор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934920" y="1736640"/>
            <a:ext cx="2880000" cy="28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340000" y="3068640"/>
            <a:ext cx="10800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763640" y="28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1150920" y="4545000"/>
            <a:ext cx="360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>
            <a:off x="2340000" y="3573360"/>
            <a:ext cx="1332000" cy="900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3059280" y="4041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23"/>
          <p:cNvSpPr/>
          <p:nvPr/>
        </p:nvSpPr>
        <p:spPr>
          <a:xfrm rot="7780200">
            <a:off x="2225520" y="3435120"/>
            <a:ext cx="1493640" cy="97632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fill="none" w="29215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8184" y="0"/>
                  <a:pt x="25398" y="4232"/>
                  <a:pt x="29215" y="11064"/>
                </a:cubicBezTo>
              </a:path>
              <a:path stroke="0" w="29215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8184" y="0"/>
                  <a:pt x="25398" y="4232"/>
                  <a:pt x="29215" y="11064"/>
                </a:cubicBezTo>
                <a:lnTo>
                  <a:pt x="10359" y="21600"/>
                </a:lnTo>
                <a:lnTo>
                  <a:pt x="0" y="2646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635280" y="3465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268360" y="4437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24"/>
          <p:cNvSpPr/>
          <p:nvPr/>
        </p:nvSpPr>
        <p:spPr>
          <a:xfrm rot="4814400">
            <a:off x="2341080" y="3893760"/>
            <a:ext cx="395280" cy="976320"/>
          </a:xfrm>
          <a:custGeom>
            <a:avLst/>
            <a:gdLst>
              <a:gd name="textAreaLeft" fmla="*/ 0 w 395280"/>
              <a:gd name="textAreaRight" fmla="*/ 395640 w 395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fill="none" w="17310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2723" y="0"/>
                  <a:pt x="15071" y="388"/>
                  <a:pt x="17310" y="1148"/>
                </a:cubicBezTo>
              </a:path>
              <a:path stroke="0" w="17310" h="21600">
                <a:moveTo>
                  <a:pt x="0" y="2646"/>
                </a:moveTo>
                <a:cubicBezTo>
                  <a:pt x="3176" y="909"/>
                  <a:pt x="6738" y="-1"/>
                  <a:pt x="10359" y="0"/>
                </a:cubicBezTo>
                <a:cubicBezTo>
                  <a:pt x="12723" y="0"/>
                  <a:pt x="15071" y="388"/>
                  <a:pt x="17310" y="1148"/>
                </a:cubicBezTo>
                <a:lnTo>
                  <a:pt x="10359" y="21600"/>
                </a:lnTo>
                <a:lnTo>
                  <a:pt x="0" y="264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11280" y="501336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гол между касательной и хордой, проходящей через точку касания, измеряется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овин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ключенной в нем д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2158920" y="447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3672000" y="33210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3"/>
          <p:cNvGraphicFramePr/>
          <p:nvPr/>
        </p:nvGraphicFramePr>
        <p:xfrm>
          <a:off x="4500720" y="2060640"/>
          <a:ext cx="396072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39607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7:35:03Z</dcterms:created>
  <dc:creator>Unattended</dc:creator>
  <dc:description/>
  <dc:language>en-US</dc:language>
  <cp:lastModifiedBy>Елена Ванденко</cp:lastModifiedBy>
  <dcterms:modified xsi:type="dcterms:W3CDTF">2023-04-25T10:01:15Z</dcterms:modified>
  <cp:revision>26</cp:revision>
  <dc:subject/>
  <dc:title>Кобзев Дмитрий Александрович учитель математики Идентификатор: 239-590-075</dc:title>
</cp:coreProperties>
</file>