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3AD-160A-4478-9E29-12FA4593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08B-3969-4E4E-B912-254255E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61E-B8A8-45D7-996F-ED5C042A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A3B-8EF9-465C-9F24-02C99B89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4CD8-D907-4C7F-B53A-34118B34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6273-CFEC-43CE-9319-D51F20B1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CA57-0074-4AEF-BB72-48493F5C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A1FD-2E72-4D2B-AAA5-8E8D8319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BD48-6879-4CFE-B5D7-48960062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CC83-555A-45EE-8D79-4A072234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02A7-0209-46B3-A7AD-AEA6D043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644-33E5-4899-99BD-DA8C4586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E14F-4714-435A-B540-B031338A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D16E-CCC3-424E-8744-41350779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03CD-C3A8-47E9-B6E8-1F149345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D291-47F5-437D-A0E5-DDD6A385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81CC-647E-4CD5-BA8F-784D56AF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AA9-4A61-45B1-8B95-E9FD7953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969-0455-4DCD-9751-59A36B1A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E91-7F84-4D15-8A0A-2E169702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39D-91BF-4668-B3F4-242ECC22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880-ED52-4FEA-BE4F-143D8A85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546-6378-434F-B7D5-13E65930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B8F-5EC5-4A9B-8F12-123F21B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36CC-359D-4312-8D6D-0CF56C3170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541B-7423-437D-AD9A-F909852B6F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1042920" y="170028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 не могут успешно кого-то учить, если в это же время усердно не учатся сам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Апшер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116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ловия организации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часов учебного пла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организации занятий отличная от урочн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ь с урочной деятельность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на личностные, предметные и метапредметные результ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ы внеурочной деятельности не входят в недельную нагруз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43"/>
          <p:cNvGrpSpPr/>
          <p:nvPr/>
        </p:nvGrpSpPr>
        <p:grpSpPr>
          <a:xfrm>
            <a:off x="252360" y="260280"/>
            <a:ext cx="8511840" cy="6480000"/>
            <a:chOff x="252360" y="260280"/>
            <a:chExt cx="8511840" cy="6480000"/>
          </a:xfrm>
        </p:grpSpPr>
        <p:sp>
          <p:nvSpPr>
            <p:cNvPr id="119" name="Rectangle 6"/>
            <p:cNvSpPr/>
            <p:nvPr/>
          </p:nvSpPr>
          <p:spPr>
            <a:xfrm>
              <a:off x="252360" y="1785960"/>
              <a:ext cx="1671480" cy="4954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306000" y="1834920"/>
              <a:ext cx="1600200" cy="46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чебный план образовательного учреж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Часть, формируемая участниками образовательного процесса (секции, школьные научные общества, научные исследования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8"/>
            <p:cNvSpPr/>
            <p:nvPr/>
          </p:nvSpPr>
          <p:spPr>
            <a:xfrm>
              <a:off x="2342880" y="1800000"/>
              <a:ext cx="1600200" cy="441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2266920" y="1878120"/>
              <a:ext cx="1752480" cy="40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Дополнительное образование образовательного учреж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Организация кружков, спортивно-оздоровительных секций, поисковых и научных исследований и т.д.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2"/>
            <p:cNvSpPr/>
            <p:nvPr/>
          </p:nvSpPr>
          <p:spPr>
            <a:xfrm>
              <a:off x="4971960" y="1800000"/>
              <a:ext cx="1600200" cy="441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4971960" y="1878120"/>
              <a:ext cx="160020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Группы продлённого 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Деятельность воспитателей ГПД, например в рамках «школы полного дн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4"/>
            <p:cNvSpPr/>
            <p:nvPr/>
          </p:nvSpPr>
          <p:spPr>
            <a:xfrm>
              <a:off x="7164000" y="1800000"/>
              <a:ext cx="1600200" cy="441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5"/>
            <p:cNvSpPr/>
            <p:nvPr/>
          </p:nvSpPr>
          <p:spPr>
            <a:xfrm>
              <a:off x="7164000" y="1834920"/>
              <a:ext cx="1600200" cy="40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Классное руково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Деятельность классных руководителей (экскурсии, диспуты, круглые столы, соревнования, общественно полезные практики и т.д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4514760" y="1174680"/>
              <a:ext cx="167616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9"/>
            <p:cNvSpPr/>
            <p:nvPr/>
          </p:nvSpPr>
          <p:spPr>
            <a:xfrm>
              <a:off x="4514760" y="1174680"/>
              <a:ext cx="365760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0"/>
            <p:cNvSpPr/>
            <p:nvPr/>
          </p:nvSpPr>
          <p:spPr>
            <a:xfrm flipH="1">
              <a:off x="2799720" y="1174680"/>
              <a:ext cx="160020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1"/>
            <p:cNvSpPr/>
            <p:nvPr/>
          </p:nvSpPr>
          <p:spPr>
            <a:xfrm flipH="1">
              <a:off x="1237680" y="1174680"/>
              <a:ext cx="335268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42"/>
            <p:cNvGrpSpPr/>
            <p:nvPr/>
          </p:nvGrpSpPr>
          <p:grpSpPr>
            <a:xfrm>
              <a:off x="3066840" y="260280"/>
              <a:ext cx="2971800" cy="914400"/>
              <a:chOff x="3066840" y="260280"/>
              <a:chExt cx="2971800" cy="914400"/>
            </a:xfrm>
          </p:grpSpPr>
          <p:sp>
            <p:nvSpPr>
              <p:cNvPr id="132" name="Rectangle 4"/>
              <p:cNvSpPr/>
              <p:nvPr/>
            </p:nvSpPr>
            <p:spPr>
              <a:xfrm>
                <a:off x="3066840" y="260280"/>
                <a:ext cx="2971800" cy="914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5"/>
              <p:cNvSpPr/>
              <p:nvPr/>
            </p:nvSpPr>
            <p:spPr>
              <a:xfrm>
                <a:off x="3143160" y="260280"/>
                <a:ext cx="2819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ВНЕУРОЧНАЯ ДЕЯТЕЛЬНОСТ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дели плана внеурочной деятель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00160" y="1125000"/>
            <a:ext cx="7858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плана с преобладанием общественной самоорганизации обучающих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плана с преобладанием педагогической поддержки обучающих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плана с преобладанием работы по обеспечению благополучия обучающихся в пространстве общеобразовательной шко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плана с преобладанием воспитательных меропри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чность шк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13255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главный показатель эффективности процесса воспитания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собенности развития личностной, социальной, экологической, трудовой (профессиональной) и здоровье сберегающей  культуры обучающихся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</a:rPr>
              <a:t>Критерием качест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вляется динамика личностного роста обучающихся, а его показателям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обретение школьниками социально-значимых знан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тие социально-значимых отношен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копление школьниками опыта социально-значимого действ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Тестовая диагностика роста школьни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(Степанов П.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06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тский коллекти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5640" y="1341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к условие развития личности школьника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ff"/>
                </a:solidFill>
                <a:latin typeface="Times New Roman"/>
              </a:rPr>
              <a:t>Социально-педагогическая среда, общая психологическая атмосфера и нравственный уклад школьной жизни в образовательном учреждени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формированность детского коллектива (благоприятный психологический              микроклимат, сплоченность    коллектива,    высокий уровень развития коллективных взаимоотношений, развитость самоуправления,   наличие традиц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формированность мотивации воспитанников к участию в общественно полезной деятельности коллекти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формированность коммуникативной культуры учащихся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«Какой у нас коллектив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(А.Н.Лутошкина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Методика «Мой класс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Социометрическое изучение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межличностных отношений в детском коллективе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ая позиция педаг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050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Критерий качества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амотная организация воспитания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ответствие целей и задач, поставленных педагогом, возрастным особенностям детей, их интересам, запросам (также и родителей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ктуальным проблемам, возможностям образовательного учрежде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ответствие форм и содержания поставленным целям, задачам, ожидаемым результат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воспитательного потенциала учебной и внеурочной деятель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Д.В. Григорьев «Методика диагностик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профессиональной позиции педагога как воспитателя»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064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Только та школа становится очагом духовной жизни, где помимо интересных уроков имеются и успешно применяются самые разнообразные формы развития учащихся вне уроков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Новый Федеральный Закон «Об образовании в РФ».(принят Государственной Думой 21.12.12г., одобрен Советом Федерации 26.12.12г., вступил в силу с 01.09.13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едеральные государственные образовательный стандарт начального общего образования (утвержден приказом Минобрнауки России от 6 октября 2009 г. №373, зарегистрирован в Минюсте России 22 декабря 2009 г., регистрационный номер 17785) с изменениями ( утверждены приказом Минобрнауки России от 26 декабря 2010г. №1241, зарегистрированы в Минюсте России 4 февраля 2011г., регистрационный номер 197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едеральные требования к образовательным учреждениям в части минимальной оснащенности учебного процесса и оборудования учебных помещений (утверждены приказом Минобрнауки России от 4 октября 2010г. №986,зарегестрированы в Минюсте России 3 февраля 2010г., регистрационный номер 1968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ые документы регламентируют организацию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ьмо Министерства образования и науки РФ от 12 мая 2011 г. № 03-296 “Об организации внеурочной деятельности при введении федерального государственного образовательного стандарта общего образования”. (В письме раскрываются: </a:t>
            </a: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«Основные задачи внеурочной деятельности», «Организационные модели внеурочной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деятельности</a:t>
            </a: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», «Создани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условий</a:t>
            </a: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 для реализации внеурочной деятельност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анПин 2.4.2. 2821-10 «Санитарно-эпидемиологические требования к условиям и организации обучения в общеобразовательных учреждениях» (утверждены постановлением Главного государственного санитарного врача Российской Федерации от 29 декабря 2010г. №189, зарегистрированы в Минюсте России 3 марта 2011г., регистрационный номер 19993) «в учреждениях дополнительного образования детей наполняемость групп не рекомендуется превышать 15 детей</a:t>
            </a:r>
            <a:r>
              <a:rPr b="0" lang="ru-RU" sz="2000" spc="-1" strike="noStrike">
                <a:solidFill>
                  <a:srgbClr val="c0504d"/>
                </a:solidFill>
                <a:latin typeface="Times New Roman"/>
                <a:ea typeface="ＭＳ Ｐ明朝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за исключением хоровых, танцевальных, оркестровых и т.п.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е требования к образовательным учреждениям в части охраны здоровья обучающихся, воспитанников (утверждены приказом Минобрнауки России от 28 декабря 2010г. №2106,зарегестрированы в Минюсте России 2 февраля 2011г., регистрационный номер 1967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бразовательная деятельнос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мая в формах, отличных 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но-урочной, и направленная 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ения основной образова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4680"/>
          <a:ext cx="9144000" cy="731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ИЗАЦИО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портив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доро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Духовно-нрав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щеинтеллекту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бщекультур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Соц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но-ценнос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угово-развлек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 (досуг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ествен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оциально преобразую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воль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изводствен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о-оздоров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ско-краевед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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глые ст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пу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е нау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рев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овые и нау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зные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т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герные см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ние 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55520" y="218880"/>
            <a:ext cx="763128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и ценностные основы духовно – нравственного развит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3"/>
          <p:cNvSpPr/>
          <p:nvPr/>
        </p:nvSpPr>
        <p:spPr>
          <a:xfrm>
            <a:off x="457200" y="1600200"/>
            <a:ext cx="2502000" cy="18543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я трудолюбия, творческого отношения к учению, труду,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3681360" y="1866960"/>
            <a:ext cx="2043000" cy="14572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логическое 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6130800" y="1568520"/>
            <a:ext cx="2610000" cy="1728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стетическое 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6"/>
          <p:cNvSpPr/>
          <p:nvPr/>
        </p:nvSpPr>
        <p:spPr>
          <a:xfrm>
            <a:off x="457200" y="4238640"/>
            <a:ext cx="2430360" cy="19191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патриотизма, граждан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7"/>
          <p:cNvSpPr/>
          <p:nvPr/>
        </p:nvSpPr>
        <p:spPr>
          <a:xfrm>
            <a:off x="3672000" y="4437000"/>
            <a:ext cx="1836720" cy="1513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нравственных чувств и этического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8"/>
          <p:cNvSpPr/>
          <p:nvPr/>
        </p:nvSpPr>
        <p:spPr>
          <a:xfrm>
            <a:off x="6130800" y="4238640"/>
            <a:ext cx="2532240" cy="190332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ценностного отношения к здоровому образу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1070640" y="391680"/>
            <a:ext cx="67327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и формы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альтернативный процесс 2"/>
          <p:cNvSpPr/>
          <p:nvPr/>
        </p:nvSpPr>
        <p:spPr>
          <a:xfrm>
            <a:off x="861840" y="1330200"/>
            <a:ext cx="2622600" cy="1127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знаний о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альтернативный процесс 3"/>
          <p:cNvSpPr/>
          <p:nvPr/>
        </p:nvSpPr>
        <p:spPr>
          <a:xfrm>
            <a:off x="873000" y="2867040"/>
            <a:ext cx="2622600" cy="1208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беседах о значении занятий физ. упражн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альтернативный процесс 4"/>
          <p:cNvSpPr/>
          <p:nvPr/>
        </p:nvSpPr>
        <p:spPr>
          <a:xfrm>
            <a:off x="861840" y="4797360"/>
            <a:ext cx="2622600" cy="12765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освоение методов и форм физ.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альтернативный процесс 5">
            <a:hlinkClick r:id="rId1" action="ppaction://hlinksldjump"/>
          </p:cNvPr>
          <p:cNvSpPr/>
          <p:nvPr/>
        </p:nvSpPr>
        <p:spPr>
          <a:xfrm>
            <a:off x="5057640" y="1557360"/>
            <a:ext cx="2954520" cy="40323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уроков физ. культуры, бесед, просмотра учебных фильмов, в системе внеклассных мероприятий, включая встречи с спортсменами, трене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8"/>
          <p:cNvSpPr/>
          <p:nvPr/>
        </p:nvSpPr>
        <p:spPr>
          <a:xfrm rot="753000">
            <a:off x="3978360" y="2560320"/>
            <a:ext cx="971640" cy="108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9"/>
          <p:cNvSpPr/>
          <p:nvPr/>
        </p:nvSpPr>
        <p:spPr>
          <a:xfrm>
            <a:off x="3978360" y="3267000"/>
            <a:ext cx="917640" cy="1080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 rot="20352600">
            <a:off x="4022640" y="4173120"/>
            <a:ext cx="863640" cy="108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блако 2"/>
          <p:cNvSpPr/>
          <p:nvPr/>
        </p:nvSpPr>
        <p:spPr>
          <a:xfrm>
            <a:off x="611280" y="744480"/>
            <a:ext cx="4098960" cy="354816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УРОЧ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блако 3"/>
          <p:cNvSpPr/>
          <p:nvPr/>
        </p:nvSpPr>
        <p:spPr>
          <a:xfrm>
            <a:off x="5108400" y="600120"/>
            <a:ext cx="3784680" cy="40338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блако 4"/>
          <p:cNvSpPr/>
          <p:nvPr/>
        </p:nvSpPr>
        <p:spPr>
          <a:xfrm>
            <a:off x="2332080" y="3494160"/>
            <a:ext cx="4537080" cy="1873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555920" y="1909800"/>
            <a:ext cx="25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УРОЧ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816520" y="19098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ЧНАЯ ДЕЯТЕЛЬНО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54240" y="407664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НА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5"/>
          <p:cNvSpPr/>
          <p:nvPr/>
        </p:nvSpPr>
        <p:spPr>
          <a:xfrm>
            <a:off x="826920" y="189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ипы организационных моделей В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1908000" y="1028880"/>
            <a:ext cx="554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«Школа полного д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ационная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новационно – образовательная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699000" cy="25207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0000" y="3645000"/>
            <a:ext cx="3995640" cy="250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0"/>
          <p:cNvSpPr/>
          <p:nvPr/>
        </p:nvSpPr>
        <p:spPr>
          <a:xfrm>
            <a:off x="1746360" y="616752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5400000" y="618012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 педагоги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03:39:40Z</dcterms:created>
  <dc:creator>Переносной</dc:creator>
  <dc:description/>
  <dc:language>en-US</dc:language>
  <cp:lastModifiedBy>user</cp:lastModifiedBy>
  <dcterms:modified xsi:type="dcterms:W3CDTF">2023-04-25T07:27:24Z</dcterms:modified>
  <cp:revision>49</cp:revision>
  <dc:subject/>
  <dc:title>Презентация PowerPoint</dc:title>
</cp:coreProperties>
</file>