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EC5-0168-49A4-BB22-AB34FE4A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A7A-B86F-435A-91CB-4AF85D71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309-3A9D-48D8-8ADF-82E474B2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396-D0EC-4AC2-8E3D-5515DFFB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1D47-73B2-46D9-9EBD-C54F0B24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8E66-A2B4-4501-BD46-32CF43A5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9118-7740-4850-A8C6-9D2C6CAE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C49D-B57F-44A2-917D-BAEB671E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1E3E-D983-4CAC-AB76-D73D8ED5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9C4A-74EC-4EB9-A9A5-B6B6AA2A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42BF-BCBB-4050-BF46-EAC4D6E0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C96-56BB-4566-9917-8D0D1614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D8D4-F1FD-4ADB-B10C-E7CF4F3A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3125-0D84-4378-AC4D-71AA182B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06F8-0BF4-42C7-9AE3-CA591D5B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A519-E410-4526-A786-56D10262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2DA7-FDDB-44A7-A14E-1899CD4E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9FA1-384E-439C-AFA8-F38C9E97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BE7-8F51-48B2-AF11-66A48F1D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2AB-28B2-48AA-8605-8355A266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793-77A4-4A45-89A8-0CF8E22E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0208-0343-4B24-A4DD-F3A15645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AFF-C7D5-4BD9-A514-EAAB4415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75A-AFC6-44C2-B40B-61833837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6B08-D315-4EA4-8BCD-4CD553C915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6BD4-C271-4036-98C3-A6FD9D5E7D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1042920" y="1700280"/>
            <a:ext cx="74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 не могут успешно кого-то учить, если в это же время усердно не учатся сам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 Апшер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116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ловия организации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часов учебного пла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организации занятий отличная от урочно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язь с урочной деятельность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на личностные, предметные и метапредметные результа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ы внеурочной деятельности не входят в недельную нагруз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43"/>
          <p:cNvGrpSpPr/>
          <p:nvPr/>
        </p:nvGrpSpPr>
        <p:grpSpPr>
          <a:xfrm>
            <a:off x="252360" y="260280"/>
            <a:ext cx="8511840" cy="6480000"/>
            <a:chOff x="252360" y="260280"/>
            <a:chExt cx="8511840" cy="6480000"/>
          </a:xfrm>
        </p:grpSpPr>
        <p:sp>
          <p:nvSpPr>
            <p:cNvPr id="119" name="Rectangle 6"/>
            <p:cNvSpPr/>
            <p:nvPr/>
          </p:nvSpPr>
          <p:spPr>
            <a:xfrm>
              <a:off x="252360" y="1785960"/>
              <a:ext cx="1671480" cy="4954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306000" y="1834920"/>
              <a:ext cx="1600200" cy="46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Учебный план образовательного учреж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Часть, формируемая участниками образовательного процесса (секции, школьные научные общества, научные исследования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8"/>
            <p:cNvSpPr/>
            <p:nvPr/>
          </p:nvSpPr>
          <p:spPr>
            <a:xfrm>
              <a:off x="2342880" y="1800000"/>
              <a:ext cx="1600200" cy="441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2266920" y="1878120"/>
              <a:ext cx="1752480" cy="40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Дополнительное образование образовательного учреж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Организация кружков, спортивно-оздоровительных секций, поисковых и научных исследований и т.д.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2"/>
            <p:cNvSpPr/>
            <p:nvPr/>
          </p:nvSpPr>
          <p:spPr>
            <a:xfrm>
              <a:off x="4971960" y="1800000"/>
              <a:ext cx="1600200" cy="441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3"/>
            <p:cNvSpPr/>
            <p:nvPr/>
          </p:nvSpPr>
          <p:spPr>
            <a:xfrm>
              <a:off x="4971960" y="1878120"/>
              <a:ext cx="1600200" cy="29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Группы продлённого д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Деятельность воспитателей ГПД, например в рамках «школы полного дня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4"/>
            <p:cNvSpPr/>
            <p:nvPr/>
          </p:nvSpPr>
          <p:spPr>
            <a:xfrm>
              <a:off x="7164000" y="1800000"/>
              <a:ext cx="1600200" cy="441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5"/>
            <p:cNvSpPr/>
            <p:nvPr/>
          </p:nvSpPr>
          <p:spPr>
            <a:xfrm>
              <a:off x="7164000" y="1834920"/>
              <a:ext cx="1600200" cy="40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Классное руковод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Деятельность классных руководителей (экскурсии, диспуты, круглые столы, соревнования, общественно полезные практики и т.д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8"/>
            <p:cNvSpPr/>
            <p:nvPr/>
          </p:nvSpPr>
          <p:spPr>
            <a:xfrm>
              <a:off x="4514760" y="1174680"/>
              <a:ext cx="167616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9"/>
            <p:cNvSpPr/>
            <p:nvPr/>
          </p:nvSpPr>
          <p:spPr>
            <a:xfrm>
              <a:off x="4514760" y="1174680"/>
              <a:ext cx="365760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40"/>
            <p:cNvSpPr/>
            <p:nvPr/>
          </p:nvSpPr>
          <p:spPr>
            <a:xfrm flipH="1">
              <a:off x="2799720" y="1174680"/>
              <a:ext cx="160020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1"/>
            <p:cNvSpPr/>
            <p:nvPr/>
          </p:nvSpPr>
          <p:spPr>
            <a:xfrm flipH="1">
              <a:off x="1237680" y="1174680"/>
              <a:ext cx="335268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42"/>
            <p:cNvGrpSpPr/>
            <p:nvPr/>
          </p:nvGrpSpPr>
          <p:grpSpPr>
            <a:xfrm>
              <a:off x="3066840" y="260280"/>
              <a:ext cx="2971800" cy="914400"/>
              <a:chOff x="3066840" y="260280"/>
              <a:chExt cx="2971800" cy="914400"/>
            </a:xfrm>
          </p:grpSpPr>
          <p:sp>
            <p:nvSpPr>
              <p:cNvPr id="132" name="Rectangle 4"/>
              <p:cNvSpPr/>
              <p:nvPr/>
            </p:nvSpPr>
            <p:spPr>
              <a:xfrm>
                <a:off x="3066840" y="260280"/>
                <a:ext cx="2971800" cy="914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5"/>
              <p:cNvSpPr/>
              <p:nvPr/>
            </p:nvSpPr>
            <p:spPr>
              <a:xfrm>
                <a:off x="3143160" y="260280"/>
                <a:ext cx="2819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ВНЕУРОЧНАЯ ДЕЯТЕЛЬНОСТ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дели плана внеурочной деятельност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00160" y="1125000"/>
            <a:ext cx="7858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ь плана с преобладанием общественной самоорганизации обучающихс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ь плана с преобладанием педагогической поддержки обучающихс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ь плана с преобладанием работы по обеспечению благополучия обучающихся в пространстве общеобразовательной школ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ь плана с преобладанием воспитательных мероприят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чность школь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5640" y="132552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к главный показатель эффективности процесса воспитания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Особенности развития личностной, социальной, экологической, трудовой (профессиональной) и здоровье сберегающей  культуры обучающихся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</a:rPr>
              <a:t>Критерием качест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вляется динамика личностного роста обучающихся, а его показателям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обретение школьниками социально-значимых знани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витие социально-значимых отношени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копление школьниками опыта социально-значимого действ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Тестовая диагностика роста школьник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(Степанов П.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06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тский коллекти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55640" y="13413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ак условие развития личности школьника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ff"/>
                </a:solidFill>
                <a:latin typeface="Times New Roman"/>
              </a:rPr>
              <a:t>Социально-педагогическая среда, общая психологическая атмосфера и нравственный уклад школьной жизни в образовательном учреждени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формированность детского коллектива (благоприятный психологический              микроклимат, сплоченность    коллектива,    высокий уровень развития коллективных взаимоотношений, развитость самоуправления,   наличие традиц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формированность мотивации воспитанников к участию в общественно полезной деятельности коллектива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формированность коммуникативной культуры учащихся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Times New Roman"/>
              </a:rPr>
              <a:t>«Какой у нас коллектив»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Times New Roman"/>
              </a:rPr>
              <a:t>(А.Н.Лутошкина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Times New Roman"/>
              </a:rPr>
              <a:t>Методика «Мой класс»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Times New Roman"/>
              </a:rPr>
              <a:t>Социометрическое изучение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c00000"/>
                </a:solidFill>
                <a:latin typeface="Times New Roman"/>
              </a:rPr>
              <a:t>межличностных отношений в детском коллективе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ая позиция педаг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050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Критерий качества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амотная организация воспитания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ответствие целей и задач, поставленных педагогом, возрастным особенностям детей, их интересам, запросам (также и родителей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ктуальным проблемам, возможностям образовательного учреждения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ответствие форм и содержания поставленным целям, задачам, ожидаемым результата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ьзование воспитательного потенциала учебной и внеурочной деятель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</a:rPr>
              <a:t>Д.В. Григорьев «Методика диагностик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</a:rPr>
              <a:t>профессиональной позиции педагога как воспитателя»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9064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Только та школа становится очагом духовной жизни, где помимо интересных уроков имеются и успешно применяются самые разнообразные формы развития учащихся вне уроков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А. Сухомлин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Новый Федеральный Закон «Об образовании в РФ».(принят Государственной Думой 21.12.12г., одобрен Советом Федерации 26.12.12г., вступил в силу с 01.09.13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Федеральные государственные образовательный стандарт начального общего образования (утвержден приказом Минобрнауки России от 6 октября 2009 г. №373, зарегистрирован в Минюсте России 22 декабря 2009 г., регистрационный номер 17785) с изменениями ( утверждены приказом Минобрнауки России от 26 декабря 2010г. №1241, зарегистрированы в Минюсте России 4 февраля 2011г., регистрационный номер 1970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Федеральные требования к образовательным учреждениям в части минимальной оснащенности учебного процесса и оборудования учебных помещений (утверждены приказом Минобрнауки России от 4 октября 2010г. №986,зарегестрированы в Минюсте России 3 февраля 2010г., регистрационный номер 1968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рмативные документы регламентируют организацию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сьмо Министерства образования и науки РФ от 12 мая 2011 г. № 03-296 “Об организации внеурочной деятельности при введении федерального государственного образовательного стандарта общего образования”. (В письме раскрываются: </a:t>
            </a:r>
            <a:r>
              <a:rPr b="1" lang="ru-RU" sz="2000" spc="-1" strike="noStrike">
                <a:solidFill>
                  <a:srgbClr val="c0504d"/>
                </a:solidFill>
                <a:latin typeface="Times New Roman"/>
              </a:rPr>
              <a:t>«Основные задачи внеурочной деятельности», «Организационные модели внеурочной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деятельности</a:t>
            </a:r>
            <a:r>
              <a:rPr b="1" lang="ru-RU" sz="2000" spc="-1" strike="noStrike">
                <a:solidFill>
                  <a:srgbClr val="c0504d"/>
                </a:solidFill>
                <a:latin typeface="Times New Roman"/>
              </a:rPr>
              <a:t>», «Создани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условий</a:t>
            </a:r>
            <a:r>
              <a:rPr b="1" lang="ru-RU" sz="2000" spc="-1" strike="noStrike">
                <a:solidFill>
                  <a:srgbClr val="c0504d"/>
                </a:solidFill>
                <a:latin typeface="Times New Roman"/>
              </a:rPr>
              <a:t> для реализации внеурочной деятельност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СанПин 2.4.2. 2821-10 «Санитарно-эпидемиологические требования к условиям и организации обучения в общеобразовательных учреждениях» (утверждены постановлением Главного государственного санитарного врача Российской Федерации от 29 декабря 2010г. №189, зарегистрированы в Минюсте России 3 марта 2011г., регистрационный номер 19993) «в учреждениях дополнительного образования детей наполняемость групп не рекомендуется превышать 15 детей</a:t>
            </a:r>
            <a:r>
              <a:rPr b="0" lang="ru-RU" sz="2000" spc="-1" strike="noStrike">
                <a:solidFill>
                  <a:srgbClr val="c0504d"/>
                </a:solidFill>
                <a:latin typeface="Times New Roman"/>
                <a:ea typeface="ＭＳ Ｐ明朝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(за исключением хоровых, танцевальных, оркестровых и т.п.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е требования к образовательным учреждениям в части охраны здоровья обучающихся, воспитанников (утверждены приказом Минобрнауки России от 28 декабря 2010г. №2106,зарегестрированы в Минюсте России 2 февраля 2011г., регистрационный номер 19676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бразовательная деятельнос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уществляемая в формах, отличных 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но-урочной, и направленная 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планируемых результ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ения основной образова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4680"/>
          <a:ext cx="9144000" cy="7315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НО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РГАНИЗАЦИО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ЫЕ 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Спортив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здоров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Духовно-нравств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Общеинтеллекту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Общекультур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Соци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но-ценнос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угово-развлека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 (досуго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удожественн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оциально преобразующ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роволь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д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оизводствен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ртивно-оздорови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истско-краевед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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кур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глые ст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ер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пу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ые нау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импиа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рев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исковые и нау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езные прак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т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герные сме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ние 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ш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55520" y="218880"/>
            <a:ext cx="7631280" cy="12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и ценностные основы духовно – нравственного развития 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ый прямоугольник 3"/>
          <p:cNvSpPr/>
          <p:nvPr/>
        </p:nvSpPr>
        <p:spPr>
          <a:xfrm>
            <a:off x="457200" y="1600200"/>
            <a:ext cx="2502000" cy="185436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я трудолюбия, творческого отношения к учению, труду,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4"/>
          <p:cNvSpPr/>
          <p:nvPr/>
        </p:nvSpPr>
        <p:spPr>
          <a:xfrm>
            <a:off x="3681360" y="1866960"/>
            <a:ext cx="2043000" cy="14572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логическое 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5"/>
          <p:cNvSpPr/>
          <p:nvPr/>
        </p:nvSpPr>
        <p:spPr>
          <a:xfrm>
            <a:off x="6130800" y="1568520"/>
            <a:ext cx="2610000" cy="1728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стетическое 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6"/>
          <p:cNvSpPr/>
          <p:nvPr/>
        </p:nvSpPr>
        <p:spPr>
          <a:xfrm>
            <a:off x="457200" y="4238640"/>
            <a:ext cx="2430360" cy="19191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 патриотизма, граждан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7"/>
          <p:cNvSpPr/>
          <p:nvPr/>
        </p:nvSpPr>
        <p:spPr>
          <a:xfrm>
            <a:off x="3672000" y="4437000"/>
            <a:ext cx="1836720" cy="15130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 нравственных чувств и этического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8"/>
          <p:cNvSpPr/>
          <p:nvPr/>
        </p:nvSpPr>
        <p:spPr>
          <a:xfrm>
            <a:off x="6130800" y="4238640"/>
            <a:ext cx="2532240" cy="190332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ценностного отношения к здоровому образу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1070640" y="391680"/>
            <a:ext cx="673272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и формы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Блок-схема: альтернативный процесс 2"/>
          <p:cNvSpPr/>
          <p:nvPr/>
        </p:nvSpPr>
        <p:spPr>
          <a:xfrm>
            <a:off x="861840" y="1330200"/>
            <a:ext cx="2622600" cy="11271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знаний о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лок-схема: альтернативный процесс 3"/>
          <p:cNvSpPr/>
          <p:nvPr/>
        </p:nvSpPr>
        <p:spPr>
          <a:xfrm>
            <a:off x="873000" y="2867040"/>
            <a:ext cx="2622600" cy="12081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беседах о значении занятий физ. упражн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альтернативный процесс 4"/>
          <p:cNvSpPr/>
          <p:nvPr/>
        </p:nvSpPr>
        <p:spPr>
          <a:xfrm>
            <a:off x="861840" y="4797360"/>
            <a:ext cx="2622600" cy="12765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освоение методов и форм физ.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альтернативный процесс 5">
            <a:hlinkClick r:id="rId1" action="ppaction://hlinksldjump"/>
          </p:cNvPr>
          <p:cNvSpPr/>
          <p:nvPr/>
        </p:nvSpPr>
        <p:spPr>
          <a:xfrm>
            <a:off x="5057640" y="1557360"/>
            <a:ext cx="2954520" cy="40323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уроков физ. культуры, бесед, просмотра учебных фильмов, в системе внеклассных мероприятий, включая встречи с спортсменами, трене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8"/>
          <p:cNvSpPr/>
          <p:nvPr/>
        </p:nvSpPr>
        <p:spPr>
          <a:xfrm rot="753000">
            <a:off x="3978360" y="2560320"/>
            <a:ext cx="971640" cy="1080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право 9"/>
          <p:cNvSpPr/>
          <p:nvPr/>
        </p:nvSpPr>
        <p:spPr>
          <a:xfrm>
            <a:off x="3978360" y="3267000"/>
            <a:ext cx="917640" cy="1080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0"/>
          <p:cNvSpPr/>
          <p:nvPr/>
        </p:nvSpPr>
        <p:spPr>
          <a:xfrm rot="20352600">
            <a:off x="4022640" y="4173120"/>
            <a:ext cx="863640" cy="108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Облако 2"/>
          <p:cNvSpPr/>
          <p:nvPr/>
        </p:nvSpPr>
        <p:spPr>
          <a:xfrm>
            <a:off x="611280" y="744480"/>
            <a:ext cx="4098960" cy="354816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УРОЧ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блако 3"/>
          <p:cNvSpPr/>
          <p:nvPr/>
        </p:nvSpPr>
        <p:spPr>
          <a:xfrm>
            <a:off x="5108400" y="600120"/>
            <a:ext cx="3784680" cy="40338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блако 4"/>
          <p:cNvSpPr/>
          <p:nvPr/>
        </p:nvSpPr>
        <p:spPr>
          <a:xfrm>
            <a:off x="2332080" y="3494160"/>
            <a:ext cx="4537080" cy="18730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555920" y="1909800"/>
            <a:ext cx="258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НЕУРОЧН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5816520" y="190980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ЧНАЯ ДЕЯТЕЛЬНО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054240" y="407664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ТЕЛЬНА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5"/>
          <p:cNvSpPr/>
          <p:nvPr/>
        </p:nvSpPr>
        <p:spPr>
          <a:xfrm>
            <a:off x="826920" y="18900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ипы организационных моделей В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1908000" y="1028880"/>
            <a:ext cx="554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ь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ь «Школа полного дн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изационная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новационно – образовательная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7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699000" cy="25207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80000" y="3645000"/>
            <a:ext cx="3995640" cy="25002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0"/>
          <p:cNvSpPr/>
          <p:nvPr/>
        </p:nvSpPr>
        <p:spPr>
          <a:xfrm>
            <a:off x="1746360" y="616752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5400000" y="6180120"/>
            <a:ext cx="25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 педагоги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03:39:40Z</dcterms:created>
  <dc:creator>Переносной</dc:creator>
  <dc:description/>
  <dc:language>en-US</dc:language>
  <cp:lastModifiedBy>user</cp:lastModifiedBy>
  <dcterms:modified xsi:type="dcterms:W3CDTF">2023-04-25T07:27:24Z</dcterms:modified>
  <cp:revision>49</cp:revision>
  <dc:subject/>
  <dc:title>Презентация PowerPoint</dc:title>
</cp:coreProperties>
</file>