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D033-98B7-4D7A-AB5E-C2022BAB1A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A745-A886-4E95-9B9B-5216FB676F2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08D5-EF57-475F-861B-17667FAFDDB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1AE-EE94-4723-B2DF-AB158B27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B04-2215-4550-86AD-7CA96E83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2DF-BD51-4150-B00F-4E0BFEC7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4A6-E5B5-4512-AB8C-4FA24CE3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CF3C9-1174-4B1A-AEB7-C29BE7EA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689D9-3312-47F5-B099-B811B503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82384-30BD-4E30-9E01-656C471C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FAF0A-C7F8-4937-8525-8D196B09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C8F7E-CEE5-4CB3-BC07-880610D9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4B763-DED9-4D21-9A13-7983212D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5AB57-A6B9-4989-9893-A2214CBC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C12-CA7C-4DDB-84A8-69994FBB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D322-46B9-400E-9705-09DEB0B1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B48C-2849-4F1C-9C24-BE297058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92AF0-C3FC-4D60-B757-4AEE04F5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3BA95-E6C7-413D-81A7-3DA49801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95990-2D52-468A-BA19-DAD1B8C5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3254-E94F-41D2-9873-0784777F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3393-91E9-47B2-9198-D7A7E312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D2D3-EA79-4F24-9392-81032EE4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A5B4-BE74-4994-8B3C-8084B1C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8CDF-82B7-4CB2-B520-6605AB49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E8F-84C7-4ADC-9E12-68B3258E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E4C3-305E-4FF9-9086-8CD085B0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F8BD-83D6-4B48-889F-F982F033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FAFF-53EE-4994-A688-2F6CCC5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52BF-9BD6-476E-9725-04214D3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D5DF-09D3-4660-8CC4-B2B4DD78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7285-8378-4E27-96CE-2017558A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133F-2236-462A-838B-AADAA186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2E1614-0D39-4FED-B04C-81267C91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7C2A2-F9FB-4534-A2F0-4CF6946B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AFDE1-5813-4EA8-A708-93569014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037-ADE0-4F4F-AD4E-0D810221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715DBF-05F0-4110-A033-0C2AEDDF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B75ED-B724-4029-8D86-593AD384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6EBCE-E7A2-4037-99E0-8E9CD10F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AA2BA-BD1F-424F-9373-36C22A9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9990B-D9A3-407F-8609-B4A0738B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D6202-5C2D-4959-8DA1-1E17E02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EA52A0-DD35-4A71-8B0D-1D0EBB77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648106-1A87-4337-9E25-F82C4704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576C2-0A24-435B-89B1-F48EFFEA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5EE53-05CD-4D36-B727-A9E4D24D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1E3-6A00-4124-8BD2-939F9468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D7D1B-5FF7-40DB-B561-DD110EA2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FDC7F-F1B7-4D7C-97BF-8BF4D3B5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4E12D-D75E-4175-A37A-D1FDD562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4BE1B-C5D4-461D-B856-8331F2AF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75BDD-A1AA-40D4-A54E-FE15053D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97EAF-BC9F-4361-935F-746D59D7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7112B-5350-4AD5-9694-900CC57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CC215-EC06-442B-A585-038D9C5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FA4EE-DFB1-44C5-9D64-00313087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4820E-1435-4F77-A055-4F4F8249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BEA-B0F8-447B-9F2C-C0C1AD7A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2E794-3129-40E7-9906-2DCDE25F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E675E-CA34-4F4E-9C15-61087290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4A9D1-E631-474B-B80E-16044C12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33529-9194-402A-95CD-559196E9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F9B97-AF1C-4F08-9F90-A6F48532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8E136-32FF-47F3-84A4-BF4D2F83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28CC7-8183-404D-846A-98B7D129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C0665-4F66-4E84-B058-17E26B5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C6FFC-04FF-47B7-90A0-86ECFFD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64123-743F-4AF7-8150-7D6DADD0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2C8-39BC-4E51-804C-7CB5FF9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98902-B47B-437C-9010-65F956C9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4E7CA-A19C-4A0C-B9C6-AF02E39D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8CC4A-372D-4554-963B-2BBBC2DF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84D-9AAA-4429-8003-CC5A949B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E2A-B8ED-4AB4-BC44-C50C94E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49C-B92A-40ED-992F-CB30BEA35AD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53BE-1758-48A6-ABF5-7AA2FA19125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915A-E1FE-4A1F-937F-05DD4980EF9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A2B6-88FA-4FB8-B257-11A0C20C37D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3795-C037-4963-9682-6B00FD1CEB3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5BE0-F402-4BB8-9F6F-A3C2AEA5A7B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506520" y="1407960"/>
            <a:ext cx="82533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охрана важных государственных и военных объектов, объектов на коммуникациях и специальных грузов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защита граждан Российской Федерации за пределами Российской Федерации от вооружённого нападения на ни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Picture 3" descr="C:\Users\Андрей\Documents\e2753ed4fade0c492a7a51659f00d968.jpg"/>
          <p:cNvPicPr/>
          <p:nvPr/>
        </p:nvPicPr>
        <p:blipFill>
          <a:blip r:embed="rId2"/>
          <a:stretch/>
        </p:blipFill>
        <p:spPr>
          <a:xfrm>
            <a:off x="4660920" y="3860640"/>
            <a:ext cx="39909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участие в операциях по поддержанию (восстановлению) международного мира и безопасности, принятие мер для предотвращения (устранения) угрозы миру, подавление актов агрессии (нарушения мира) на основании решений Совета Безопасности ООН или иных органов, уполномоченных принимать такие решения в соответствии с международным правом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Picture 2" descr="C:\Users\Андрей\Documents\5LavAN_original.jpg"/>
          <p:cNvPicPr/>
          <p:nvPr/>
        </p:nvPicPr>
        <p:blipFill>
          <a:blip r:embed="rId2"/>
          <a:stretch/>
        </p:blipFill>
        <p:spPr>
          <a:xfrm>
            <a:off x="4746600" y="1523880"/>
            <a:ext cx="3862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борьба с пиратством, обеспечение безопасности судоходства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обеспечение безопасности экономической деятельности Российской Федерации в Мировом океане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борьба с терроризмом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0" name="Picture 4" descr="C:\Users\Андрей\Documents\picture.jpg"/>
          <p:cNvPicPr/>
          <p:nvPr/>
        </p:nvPicPr>
        <p:blipFill>
          <a:blip r:embed="rId2"/>
          <a:stretch/>
        </p:blipFill>
        <p:spPr>
          <a:xfrm>
            <a:off x="5003640" y="4221000"/>
            <a:ext cx="3167280" cy="243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C:\Users\Андрей\Documents\138754.jpg"/>
          <p:cNvPicPr/>
          <p:nvPr/>
        </p:nvPicPr>
        <p:blipFill>
          <a:blip r:embed="rId3"/>
          <a:stretch/>
        </p:blipFill>
        <p:spPr>
          <a:xfrm>
            <a:off x="4572000" y="1844640"/>
            <a:ext cx="41767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отражение агрессии против Российской Федерации и её союзников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нанесение поражения войскам (силам) агрессора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ринуждение его прекращению военных действий на условиях, отвечающих интересам Российской Федерации и её союзников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Picture 2" descr="C:\Users\Андрей\Documents\6073720.jpg"/>
          <p:cNvPicPr/>
          <p:nvPr/>
        </p:nvPicPr>
        <p:blipFill>
          <a:blip r:embed="rId2"/>
          <a:stretch/>
        </p:blipFill>
        <p:spPr>
          <a:xfrm>
            <a:off x="3780000" y="476280"/>
            <a:ext cx="2304720" cy="1608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Андрей\Documents\article-1043720-023EB21800000578-65_468x307_popup.jpg"/>
          <p:cNvPicPr/>
          <p:nvPr/>
        </p:nvPicPr>
        <p:blipFill>
          <a:blip r:embed="rId3"/>
          <a:stretch/>
        </p:blipFill>
        <p:spPr>
          <a:xfrm>
            <a:off x="4859280" y="2276640"/>
            <a:ext cx="3081240" cy="201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:\Users\Андрей\Documents\1286393072_11os.jpg"/>
          <p:cNvPicPr/>
          <p:nvPr/>
        </p:nvPicPr>
        <p:blipFill>
          <a:blip r:embed="rId4"/>
          <a:stretch/>
        </p:blipFill>
        <p:spPr>
          <a:xfrm>
            <a:off x="6012000" y="476280"/>
            <a:ext cx="298764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ресечение любого противоправного вооруженного насилия, направленного против государственного суверенитета и конституционного строя, территориальной целостности страны, прав, свобод и законных интересов граждан России, объектов Российской Федерации на территории страны и за ее пределами, в том числе в Мировом океане и космическом пространстве, в соответствии с нормами международного права и законодательством Российской Федерации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450720" y="139680"/>
            <a:ext cx="82425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обеспечение свободы деятельности в Мировом океане и космическом пространстве, доступа к важным для России международным экономическим зонам и коммуникациям в соответствии с нормами международного права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выполнение союзнических обязательств в рамках совместной обороны от внешней агрессии в соответствии с заключенными международными договорами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оддержание или восстановление мира и стабильности в важных для России регионах по решению Совета Безопасности ООН или других структур коллективной безопасности, членом которых Россия являетс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2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8242560" cy="142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ffffff"/>
                </a:solidFill>
                <a:latin typeface="Constantia"/>
              </a:rPr>
              <a:t>Военная доктрина (утверждена указом Президента Российской Федерации 5 февраля 2010 г. №146) является одним из основных документов стратегического планирования в Российской Федерации и представляет собой систему официально принятых в государстве взглядов на подготовку к вооружённой защите и вооружённую защиту нашей страны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Заголовок 2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2425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8242560" cy="1427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защита суверенитета Российской Федерации, целостности и неприкосновенности её территории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стратегическое сдерживание, в том числе предотвращение военных конфликтов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Picture 2" descr="C:\Users\Андрей\Documents\b-00138112-a-00020228.jpg"/>
          <p:cNvPicPr/>
          <p:nvPr/>
        </p:nvPicPr>
        <p:blipFill>
          <a:blip r:embed="rId3"/>
          <a:stretch/>
        </p:blipFill>
        <p:spPr>
          <a:xfrm>
            <a:off x="4643280" y="1413000"/>
            <a:ext cx="40593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оддержание состава, состояния боевой и мобилизационной готовности и подготовки стратегических ядерных сил, сил и средств, обеспечивающих их функционирование и применение, а также систем управления на уровне, гарантирующем нанесение заданного ущерба агрессору в любых условиях обстановки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Picture 3" descr="C:\Users\Андрей\Documents\MA9MTSM4.jpg"/>
          <p:cNvPicPr/>
          <p:nvPr/>
        </p:nvPicPr>
        <p:blipFill>
          <a:blip r:embed="rId2"/>
          <a:stretch/>
        </p:blipFill>
        <p:spPr>
          <a:xfrm>
            <a:off x="4572000" y="3645000"/>
            <a:ext cx="403560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поддержание способности Вооружённых Сил и других войск к заблаговременному развёртыванию группировок войск (сил) на потенциально опасных стратегических направлениях, а также их готовности к боевому применению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C:\Users\Андрей\Documents\121034.jpg"/>
          <p:cNvPicPr/>
          <p:nvPr/>
        </p:nvPicPr>
        <p:blipFill>
          <a:blip r:embed="rId2"/>
          <a:stretch/>
        </p:blipFill>
        <p:spPr>
          <a:xfrm>
            <a:off x="4572000" y="3522600"/>
            <a:ext cx="40766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обеспечение противовоздушной обороны важнейших объектов Российской Федерации и готовность к отражению ударов средств воздушно-космического нападения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2" descr="C:\Users\Андрей\Documents\vvs_zrk.jpg"/>
          <p:cNvPicPr/>
          <p:nvPr/>
        </p:nvPicPr>
        <p:blipFill>
          <a:blip r:embed="rId2"/>
          <a:stretch/>
        </p:blipFill>
        <p:spPr>
          <a:xfrm>
            <a:off x="4643280" y="3645000"/>
            <a:ext cx="4059360" cy="2878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Андрей\Documents\1349842787_pvo-8.jpg"/>
          <p:cNvPicPr/>
          <p:nvPr/>
        </p:nvPicPr>
        <p:blipFill>
          <a:blip r:embed="rId3"/>
          <a:stretch/>
        </p:blipFill>
        <p:spPr>
          <a:xfrm>
            <a:off x="4643280" y="620640"/>
            <a:ext cx="40467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развёртывание и поддержание в стратегической космической зоне орбитальных группировок космических аппаратов, обеспечивающих деятельность Вооружённых Сил Российской Федераци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Picture 2" descr="C:\Users\Андрей\Documents\x400_wp-content_uploads_2011_07_satellite-internet.jpg.jpeg"/>
          <p:cNvPicPr/>
          <p:nvPr/>
        </p:nvPicPr>
        <p:blipFill>
          <a:blip r:embed="rId2"/>
          <a:stretch/>
        </p:blipFill>
        <p:spPr>
          <a:xfrm>
            <a:off x="4643280" y="549360"/>
            <a:ext cx="41767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1:03:44Z</dcterms:created>
  <dc:creator>Андрей Слюсаренко</dc:creator>
  <dc:description/>
  <dc:language>en-US</dc:language>
  <cp:lastModifiedBy>User</cp:lastModifiedBy>
  <dcterms:modified xsi:type="dcterms:W3CDTF">2023-04-26T13:15:08Z</dcterms:modified>
  <cp:revision>30</cp:revision>
  <dc:subject/>
  <dc:title>Функции и основные задачи современных вооруженных сил РФ</dc:title>
</cp:coreProperties>
</file>