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6C8-FFF0-4F70-9E68-1176E2AC1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9806-ADAD-4274-BA22-56BCA4A3D0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81A6-1D67-43BE-858C-84DCB5096B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539-7E04-497D-91B5-CBC8044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2D2-3E3F-4B69-8583-7F089FF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F55-F63A-44E1-B610-20A540C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DD4-CB9B-414F-BE78-76452996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152F4-B91D-4CE4-8148-F0EEAD8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A703D-63C1-43E2-9ABD-B8C0098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68043-09F0-4208-B9F2-6BBA53E3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D0F7E-8C86-4F21-B1D1-E6CB5F3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CB936-F430-4391-BBE1-69F8F5C5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E405-289A-4D71-A806-812CB54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34B16-1C0D-4774-97F7-C036AAD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98D-C952-4EA9-A0FB-75E0A95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AB46-DE44-4185-8283-1355E23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9CEE-1C0B-4A7F-9E6E-59B36CB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E39A5-232A-4B3B-BC9A-9FFCD05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9F3EE-23B5-4ECA-8F5A-79AF9CDA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A65D-191E-40B7-90C8-A4A992F5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AE48-B88B-4F07-9513-78C2EFC8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74F7-D2ED-4211-882E-0194012D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1A91B-E479-4979-9C8B-60DD378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24BA-F4B7-483C-BD11-6164A0CA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9DA4-88EB-4FA9-8EE2-2829F73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178-DE2D-4B08-97AF-A76B7FF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07EF-4207-464A-8F08-152AF111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1181-E4EF-4ADB-A78B-9D0A275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C601-87C8-4C33-A40E-2B68D99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91EF-A659-4CEC-B4D5-1EEDDA1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2A1E-40D4-4043-8EEA-C54F1C7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70DF-AD4F-4919-BDF8-DEE61E6D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6C67-822E-4754-A1E4-FD997492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D7227-5419-40AC-9C65-4A3DC868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ACBF8-D656-4A87-BFB6-F477561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48453-53CB-45D5-8C19-D6B8F08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52B-DFF1-407C-9541-3C872E2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C7B8E-4FE9-4ECD-80D5-5AEBDED8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4A671-9997-4238-840A-307F9EC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CA871-4246-42D8-B295-B26595B4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09EB8-0937-4868-885E-9C47CB6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D1729-9B7C-4A20-93B7-9E00DEF7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08624-7169-4E4A-8FD3-EC6CF09E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46DCA-BB69-4DE0-9AC1-8275E89B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6FAB6-6F52-4EC6-A85E-B7CC7098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FAFA1-3198-451B-9198-84F9B32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F5AF3-3559-4018-82C5-C3D5A6F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FE2-0D1F-4A73-82C7-AD35ACC9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E4B7C-0216-416A-AC32-8C1DDAEA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677AA-3CA8-4DC0-A7A8-B3C9CE0E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E9990-70F1-4176-BBDE-9E0C30E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21D7A-245E-431F-B226-DBD8584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CA14C-D418-48AD-AF5D-F4B2EAC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1CCE7-F8B8-43E3-AAB9-DD17DE7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2F72D-66B7-48E5-A55B-F62DE31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0B208-06B1-4EAF-AD01-E32A2E5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2BF2B-A210-4122-946F-A73C812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2A28C-46EA-4028-8945-7E9A5EDA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7FF-0E80-41B6-82CA-3358F06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98C23-F35E-4D07-A944-96E177C5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24276-769F-40F8-A792-00D7112B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0AC3D-C9DC-4E2F-A32F-B54767CF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80B81-FDD9-4B05-9C31-427782F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1A75F-F06F-4F5E-8F7D-84707A4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8FCD6-E8C0-43F9-AEBB-29683B87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69AFC-4658-46BE-A0DC-05DCA5D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7029B-8C4D-470B-B6C4-C31D95C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86DC8-A4A1-4FD9-BE1B-C865B8C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94309-2903-419C-A70A-DE3A51F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CC4-10CD-4C04-912D-05C758C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81032-3E40-483F-937F-DEBF6449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4F0BA-2B70-4BA9-840F-1DA2D082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70426-C328-402F-B3BD-1882005C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58E-8338-412E-8AC8-CD2E8BF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C64-77B7-445A-8101-E80AC138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89B-CDF9-4A4F-A4B0-7679122D506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1A6-F850-491F-A815-42470551AF8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4D22-21CC-4AE9-95FB-DF10F449355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7BC-28CA-4887-89B0-8F6732456C8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4028-F35B-4F54-9725-9DAB9A97FF6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9D4-996E-4110-A87D-0A02968D5C5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506520" y="1407960"/>
            <a:ext cx="8253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храна важных государственных и военных объектов, объектов на коммуникациях и специальных грузов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защита граждан Российской Федерации за пределами Российской Федерации от вооружённого нападения на ни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Picture 3" descr="C:\Users\Андрей\Documents\e2753ed4fade0c492a7a51659f00d968.jpg"/>
          <p:cNvPicPr/>
          <p:nvPr/>
        </p:nvPicPr>
        <p:blipFill>
          <a:blip r:embed="rId2"/>
          <a:stretch/>
        </p:blipFill>
        <p:spPr>
          <a:xfrm>
            <a:off x="4660920" y="3860640"/>
            <a:ext cx="39909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участие в операциях по поддержанию (восстановлению) международного мира и безопасности, принятие мер для предотвращения (устранения) угрозы миру, подавление актов агрессии (нарушения мира) на основании решений Совета Безопасности ООН или иных органов, уполномоченных принимать такие решения в соответствии с международным правом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Picture 2" descr="C:\Users\Андрей\Documents\5LavAN_original.jpg"/>
          <p:cNvPicPr/>
          <p:nvPr/>
        </p:nvPicPr>
        <p:blipFill>
          <a:blip r:embed="rId2"/>
          <a:stretch/>
        </p:blipFill>
        <p:spPr>
          <a:xfrm>
            <a:off x="4746600" y="1523880"/>
            <a:ext cx="3862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борьба с пиратством, обеспечение безопасности судоходств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беспечение безопасности экономической деятельности Российской Федерации в Мировом океане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борьба с терроризмом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4" descr="C:\Users\Андрей\Documents\picture.jpg"/>
          <p:cNvPicPr/>
          <p:nvPr/>
        </p:nvPicPr>
        <p:blipFill>
          <a:blip r:embed="rId2"/>
          <a:stretch/>
        </p:blipFill>
        <p:spPr>
          <a:xfrm>
            <a:off x="5003640" y="4221000"/>
            <a:ext cx="3167280" cy="243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Users\Андрей\Documents\138754.jpg"/>
          <p:cNvPicPr/>
          <p:nvPr/>
        </p:nvPicPr>
        <p:blipFill>
          <a:blip r:embed="rId3"/>
          <a:stretch/>
        </p:blipFill>
        <p:spPr>
          <a:xfrm>
            <a:off x="4572000" y="1844640"/>
            <a:ext cx="4176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тражение агрессии против Российской Федерации и её союзников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анесение поражения войскам (силам) агрессор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ринуждение его прекращению военных действий на условиях, отвечающих интересам Российской Федерации и её союзник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Picture 2" descr="C:\Users\Андрей\Documents\6073720.jpg"/>
          <p:cNvPicPr/>
          <p:nvPr/>
        </p:nvPicPr>
        <p:blipFill>
          <a:blip r:embed="rId2"/>
          <a:stretch/>
        </p:blipFill>
        <p:spPr>
          <a:xfrm>
            <a:off x="3780000" y="476280"/>
            <a:ext cx="2304720" cy="1608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Андрей\Documents\article-1043720-023EB21800000578-65_468x307_popup.jpg"/>
          <p:cNvPicPr/>
          <p:nvPr/>
        </p:nvPicPr>
        <p:blipFill>
          <a:blip r:embed="rId3"/>
          <a:stretch/>
        </p:blipFill>
        <p:spPr>
          <a:xfrm>
            <a:off x="4859280" y="2276640"/>
            <a:ext cx="3081240" cy="201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Андрей\Documents\1286393072_11os.jpg"/>
          <p:cNvPicPr/>
          <p:nvPr/>
        </p:nvPicPr>
        <p:blipFill>
          <a:blip r:embed="rId4"/>
          <a:stretch/>
        </p:blipFill>
        <p:spPr>
          <a:xfrm>
            <a:off x="6012000" y="476280"/>
            <a:ext cx="29876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ресечение любого противоправного вооруженного насилия, направленного против государственного суверенитета и конституционного строя, территориальной целостности страны, прав, свобод и законных интересов граждан России, объектов Российской Федерации на территории страны и за ее пределами, в том числе в Мировом океане и космическом пространстве, в соответствии с нормами международного права и законодательством Российской Федераци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беспечение свободы деятельности в Мировом океане и космическом пространстве, доступа к важным для России международным экономическим зонам и коммуникациям в соответствии с нормами международного прав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ыполнение союзнических обязательств в рамках совместной обороны от внешней агрессии в соответствии с заключенными международными договорам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или восстановление мира и стабильности в важных для России регионах по решению Совета Безопасности ООН или других структур коллективной безопасности, членом которых Россия являетс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Constantia"/>
              </a:rPr>
              <a:t>Военная доктрина (утверждена указом Президента Российской Федерации 5 февраля 2010 г. №146) является одним из основных документов стратегического планирования в Российской Федерации и представляет собой систему официально принятых в государстве взглядов на подготовку к вооружённой защите и вооружённую защиту нашей страны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защита суверенитета Российской Федерации, целостности и неприкосновенности её территори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стратегическое сдерживание, в том числе предотвращение военных конфликтов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2" descr="C:\Users\Андрей\Documents\b-00138112-a-00020228.jpg"/>
          <p:cNvPicPr/>
          <p:nvPr/>
        </p:nvPicPr>
        <p:blipFill>
          <a:blip r:embed="rId3"/>
          <a:stretch/>
        </p:blipFill>
        <p:spPr>
          <a:xfrm>
            <a:off x="4643280" y="14130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состава, состояния боевой и мобилизационной готовности и подготовки стратегических ядерных сил, сил и средств, обеспечивающих их функционирование и применение, а также систем управления на уровне, гарантирующем нанесение заданного ущерба агрессору в любых условиях обстановк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Picture 3" descr="C:\Users\Андрей\Documents\MA9MTSM4.jpg"/>
          <p:cNvPicPr/>
          <p:nvPr/>
        </p:nvPicPr>
        <p:blipFill>
          <a:blip r:embed="rId2"/>
          <a:stretch/>
        </p:blipFill>
        <p:spPr>
          <a:xfrm>
            <a:off x="4572000" y="3645000"/>
            <a:ext cx="40356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способности Вооружённых Сил и других войск к заблаговременному развёртыванию группировок войск (сил) на потенциально опасных стратегических направлениях, а также их готовности к боевому применению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C:\Users\Андрей\Documents\121034.jpg"/>
          <p:cNvPicPr/>
          <p:nvPr/>
        </p:nvPicPr>
        <p:blipFill>
          <a:blip r:embed="rId2"/>
          <a:stretch/>
        </p:blipFill>
        <p:spPr>
          <a:xfrm>
            <a:off x="4572000" y="3522600"/>
            <a:ext cx="4076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беспечение противовоздушной обороны важнейших объектов Российской Федерации и готовность к отражению ударов средств воздушно-космического нападения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C:\Users\Андрей\Documents\vvs_zrk.jpg"/>
          <p:cNvPicPr/>
          <p:nvPr/>
        </p:nvPicPr>
        <p:blipFill>
          <a:blip r:embed="rId2"/>
          <a:stretch/>
        </p:blipFill>
        <p:spPr>
          <a:xfrm>
            <a:off x="4643280" y="3645000"/>
            <a:ext cx="4059360" cy="2878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Андрей\Documents\1349842787_pvo-8.jpg"/>
          <p:cNvPicPr/>
          <p:nvPr/>
        </p:nvPicPr>
        <p:blipFill>
          <a:blip r:embed="rId3"/>
          <a:stretch/>
        </p:blipFill>
        <p:spPr>
          <a:xfrm>
            <a:off x="4643280" y="620640"/>
            <a:ext cx="4046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развёртывание и поддержание в стратегической космической зоне орбитальных группировок космических аппаратов, обеспечивающих деятельность Вооружённых Сил Российской Федерац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2" descr="C:\Users\Андрей\Documents\x400_wp-content_uploads_2011_07_satellite-internet.jpg.jpeg"/>
          <p:cNvPicPr/>
          <p:nvPr/>
        </p:nvPicPr>
        <p:blipFill>
          <a:blip r:embed="rId2"/>
          <a:stretch/>
        </p:blipFill>
        <p:spPr>
          <a:xfrm>
            <a:off x="4643280" y="549360"/>
            <a:ext cx="41767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1:03:44Z</dcterms:created>
  <dc:creator>Андрей Слюсаренко</dc:creator>
  <dc:description/>
  <dc:language>en-US</dc:language>
  <cp:lastModifiedBy>User</cp:lastModifiedBy>
  <dcterms:modified xsi:type="dcterms:W3CDTF">2023-04-26T13:15:08Z</dcterms:modified>
  <cp:revision>30</cp:revision>
  <dc:subject/>
  <dc:title>Функции и основные задачи современных вооруженных сил РФ</dc:title>
</cp:coreProperties>
</file>