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331-5555-47DB-BAFE-6290E785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5FC-9DD7-4D27-A85F-86BA78D5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D5E-584E-4C62-A51F-BFD3105F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7FA-31FD-4F53-9310-A36E5799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A316-2BE3-462A-AF24-AA25BD4E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AA9C-9365-43E9-818A-5CD53CE8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42F9-1E37-4720-BEBC-4B8081C8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5740-194C-4F8B-8776-E6F02AB8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8171-4641-4AD6-8B92-E5B723AA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B38F-07ED-4EF2-8D3C-B0D1D8F3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DEA2-D33A-4923-AC10-6B0F97EC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9EC-A0E3-4719-A511-3518380C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1E79-5797-454C-BA55-FBF1B6F9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8436-C9C2-491D-A82E-771F6109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54F2-4125-46C5-8614-9651407A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0E95-F343-4BE3-A934-84EE63C8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5F47-1E26-46B8-B5A9-21E9EAAA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BD9-43CC-4EE3-80C2-BD9A4B25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190-D6B6-4B52-9EC5-0E8EEDA4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643-A154-4C8E-A86A-34D217EF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30E-75C2-458C-91A5-6E4680D8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4C26-4020-4F53-8E04-56F33DA2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D45-2091-4B6A-A5E5-6DB5AB4E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26A-EEC0-44FA-8CBD-0D899F17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F2AE-3736-4A4A-A017-FC8326ED95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D85A-625B-4F2B-8C49-A2C08684D2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Нравственно –         патриотическое воспитание младших школьников с нарушениями слух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59280" y="5373360"/>
            <a:ext cx="2103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рмажапова Н.Г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60264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28400" y="549000"/>
            <a:ext cx="81039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«Только тот, кто любит, ценит и уважает накопленное и сохраненное предшествующим поколением, может любить Родину, узнать ее, стать подлинным патриото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r>
              <a:rPr b="1" lang="ru-RU" sz="40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С.Миха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60264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3" name="Picture 2" descr="F:\клипарты\sun10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одзаголовок 6" descr=""/>
          <p:cNvPicPr/>
          <p:nvPr/>
        </p:nvPicPr>
        <p:blipFill>
          <a:blip r:embed="rId3"/>
          <a:stretch/>
        </p:blipFill>
        <p:spPr>
          <a:xfrm>
            <a:off x="420840" y="3365640"/>
            <a:ext cx="8515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42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сть – </a:t>
            </a:r>
            <a:r>
              <a:rPr b="0" lang="ru-RU" sz="27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это внутренняя мораль, принятие на себя ответственности за свои поступки, то есть действовать согласно своей совест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– </a:t>
            </a:r>
            <a:r>
              <a:rPr b="0" lang="ru-RU" sz="27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любовь к семье, дому,  родным местам, Родине, гордость за свой народ, толерантное отношение к другим людям, желание сохранить, приумножить богатство своей стран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-патриотическое  воспитание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заимодействие взрослого и детей в совместной деятельности и общении, направленное на раскрытие и формирование в ребенке общечеловеческих нравственных качеств личности, приобщение к истокам национальной региональной культуры, природе родного края, воспитание эмоционально-действенного отношения, чувства сопричастности, привязанности к окружающи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67676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i="1" lang="ru-RU" sz="1900" spc="-1" strike="noStrike">
                <a:solidFill>
                  <a:srgbClr val="006666"/>
                </a:solidFill>
                <a:latin typeface="Arial"/>
              </a:rPr>
              <a:t>В воспитании обучающихся младшего школьного возраста таким целевым приоритетом является</a:t>
            </a:r>
            <a:r>
              <a:rPr b="0" i="1" lang="ru-RU" sz="19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ля усвоения обучающимися социально значимых знаний – знаний основных норм и традиций того общества, в котором они живут.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9320" y="288720"/>
            <a:ext cx="7920000" cy="57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равственно-патриотического воспитания</a:t>
            </a:r>
            <a:br>
              <a:rPr sz="27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55280" y="1268280"/>
            <a:ext cx="6985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любви и привязанности к своей семье, дому, улице, городу, Родин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ережного отношения к природе и всему живом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имволами государства (герб, флаг, гимн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лементарных знаний о правах человек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чувства ответственности и гордости за достижения страны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толерантности, чувства уважения к другим народам, традиция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важения к труд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воспитание гуманного отношения (доброжелательности, уважения, внимательности, отзывчивост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воспитание коллективистских чувств и взаимоотношени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творческого начала, развитие воображения ребенка посредством вовлечения его в активный процесс позн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4920" y="549000"/>
            <a:ext cx="7677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нравственного развития младших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младший школьный возраст -период наибольшей обучаемости и податливости  педагогическим влиян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повышенная восприимчивость к социальным воздействиям, подражаем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потребность в общении-важная социальная потреб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врожденная привязанность к близким, эмоциональная зависимость от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0264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нравственно-патриотическог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5" descr=""/>
          <p:cNvPicPr/>
          <p:nvPr/>
        </p:nvPicPr>
        <p:blipFill>
          <a:blip r:embed="rId2"/>
          <a:stretch/>
        </p:blipFill>
        <p:spPr>
          <a:xfrm>
            <a:off x="963720" y="1365120"/>
            <a:ext cx="756432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856880" y="189000"/>
            <a:ext cx="667548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1" descr=""/>
          <p:cNvPicPr/>
          <p:nvPr/>
        </p:nvPicPr>
        <p:blipFill>
          <a:blip r:embed="rId2"/>
          <a:stretch/>
        </p:blipFill>
        <p:spPr>
          <a:xfrm>
            <a:off x="2157480" y="1090440"/>
            <a:ext cx="67914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95280" y="285480"/>
            <a:ext cx="7391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реализаци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создание предметно-развивающей ср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(символика государств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опора на личный опыт, ближайшее окружение (от любви к дому -до любви к Родине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эмоциональная окрашенность, воздействие на чувства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взаимодействие трех компонентов: интеллектуального, чувственно- эмоционального и действенно-практического (узнавать-созерцать-созида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организация творческой деятельности как средства выражения чувств и эмоций ( изо, драматизация, концерты и выступления перед публикой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60600"/>
                </a:solidFill>
                <a:latin typeface="Times New Roman"/>
                <a:ea typeface="Times New Roman"/>
              </a:rPr>
              <a:t>сотрудничество с семь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7215120" y="485784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4:44:45Z</dcterms:created>
  <dc:creator>Александр</dc:creator>
  <dc:description/>
  <dc:language>en-US</dc:language>
  <cp:lastModifiedBy>Оксана</cp:lastModifiedBy>
  <dcterms:modified xsi:type="dcterms:W3CDTF">2022-12-27T00:29:15Z</dcterms:modified>
  <cp:revision>73</cp:revision>
  <dc:subject/>
  <dc:title>Нравственно - патриотическое воспитание детей Дошкольного возраста Старший воспитатель Н.П. Ковалева</dc:title>
</cp:coreProperties>
</file>