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04A-BF40-4E17-ACAC-25E4AD9E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072-B7B5-44FE-A6B5-48A7633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EDC-C3C5-4124-B783-F761C79D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74-056B-40E6-BBAF-8F5E7204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C993-67E5-4367-8219-55818680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99F-9234-40B6-A8B7-A4ECAAF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492B-D7A2-478E-B074-509FCC7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558-A8AE-4194-A30A-DB1B8AB6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8124-FC3A-49BC-882D-0C35FA6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7A60-9C8A-4F06-9889-2741EB7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C0D-A51F-43AA-8B16-7976D59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07D-2CD1-4E94-89AA-46582FA8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D674-14B6-4BCE-98D0-CCF77C8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C116-670C-4372-B39F-4A146D0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B4F1-8351-4EC9-AFC9-6376551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A8B5-1895-4A99-8BC3-04013C8E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1C1-DB52-43F6-AB21-10D41FDD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5C6-BBDA-4947-8A90-E112B9F9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4F5-20AE-4F38-98AB-8AA72825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6EB-1417-468A-BDDA-A0C2FDCD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68D-9AC4-45E0-A2F2-DC9B559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BA1-FE8B-43EA-9A65-4EC7381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512-D386-440A-8CDF-86983E1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EAE-C823-4B40-87FB-E2A8B1C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CD9E-1AE1-4CDA-BA9F-EA310AC771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7E6-E4CA-4FB4-8066-5888E0278B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Нравственно –         патриотическое воспитание младших школьников с нарушениями слух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59280" y="5373360"/>
            <a:ext cx="2103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рмажапова Н.Г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8400" y="549000"/>
            <a:ext cx="81039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«Только тот, кто любит, ценит и уважает накопленное и сохраненное предшествующим поколением, может любить Родину, узнать ее, стать подлинным патриот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.Миха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3" name="Picture 2" descr="F:\клипарты\sun10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одзаголовок 6" descr=""/>
          <p:cNvPicPr/>
          <p:nvPr/>
        </p:nvPicPr>
        <p:blipFill>
          <a:blip r:embed="rId3"/>
          <a:stretch/>
        </p:blipFill>
        <p:spPr>
          <a:xfrm>
            <a:off x="420840" y="3365640"/>
            <a:ext cx="8515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</a:t>
            </a:r>
            <a:r>
              <a:rPr b="0" lang="ru-RU" sz="27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это внутренняя мораль, принятие на себя ответственности за свои поступки, то есть действовать согласно своей сове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– </a:t>
            </a:r>
            <a:r>
              <a:rPr b="0" lang="ru-RU" sz="27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любовь к семье, дому,  родным местам, Родине, гордость за свой народ, толерантное отношение к другим людям, желание сохранить, приумножить богатство своей стран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патриотическое  воспитание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заимодействие взрослого и детей в совместной деятельности и общении, направленное на раскрытие и формирование в ребенке общечеловеческих нравственных качеств личности, приобщение к истокам национальной региональной культуры, природе родного края, воспитание эмоционально-действенного отношения, чувства сопричастности, привязанности к окружающи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67676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i="1" lang="ru-RU" sz="1900" spc="-1" strike="noStrike">
                <a:solidFill>
                  <a:srgbClr val="006666"/>
                </a:solidFill>
                <a:latin typeface="Arial"/>
              </a:rPr>
              <a:t>В воспитании обучающихся младшего школьного возраста таким целевым приоритетом является</a:t>
            </a:r>
            <a:r>
              <a:rPr b="0" i="1" lang="ru-RU" sz="19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ля усвоения обучающимися социально значимых знаний – знаний основных норм и традиций того общества, в котором они живут.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9320" y="288720"/>
            <a:ext cx="7920000" cy="57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равственно-патриотического воспитания</a:t>
            </a:r>
            <a:br>
              <a:rPr sz="27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698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и привязанности к своей семье, дому, улице, городу, Родин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природе и всему живом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государства (герб, флаг, гимн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знаний о правах человек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 и гордости за достижения стран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сти, чувства уважения к другим народам, традиция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важения к труд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оспитание гуманного отношения (доброжелательности, уважения, внимательности, отзывчив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оспитание коллективистских чувств и взаимоотношен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7677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нравственного развит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младший школьный возраст -период наибольшей обучаемости и податливости  педагогическим влия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повышенная восприимчивость к социальным воздействиям, подражаем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потребность в общении-важная социальная потреб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рожденная привязанность к близким, эмоциональная зависимость от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нравственно-патриотическог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5" descr=""/>
          <p:cNvPicPr/>
          <p:nvPr/>
        </p:nvPicPr>
        <p:blipFill>
          <a:blip r:embed="rId2"/>
          <a:stretch/>
        </p:blipFill>
        <p:spPr>
          <a:xfrm>
            <a:off x="963720" y="1365120"/>
            <a:ext cx="756432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856880" y="189000"/>
            <a:ext cx="6675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1" descr=""/>
          <p:cNvPicPr/>
          <p:nvPr/>
        </p:nvPicPr>
        <p:blipFill>
          <a:blip r:embed="rId2"/>
          <a:stretch/>
        </p:blipFill>
        <p:spPr>
          <a:xfrm>
            <a:off x="2157480" y="1090440"/>
            <a:ext cx="67914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5280" y="285480"/>
            <a:ext cx="7391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еализаци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оздание предметно-развивающей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(символика государств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опора на личный опыт, ближайшее окружение (от любви к дому -до любви к Родине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эмоциональная окрашенность, воздействие на чувства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заимодействие трех компонентов: интеллектуального, чувственно- эмоционального и действенно-практического (узнавать-созерцать-созида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организация творческой деятельности как средства выражения чувств и эмоций ( изо, драматизация, концерты и выступления перед публико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отрудничество с сем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215120" y="485784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44:45Z</dcterms:created>
  <dc:creator>Александр</dc:creator>
  <dc:description/>
  <dc:language>en-US</dc:language>
  <cp:lastModifiedBy>Оксана</cp:lastModifiedBy>
  <dcterms:modified xsi:type="dcterms:W3CDTF">2022-12-27T00:29:15Z</dcterms:modified>
  <cp:revision>73</cp:revision>
  <dc:subject/>
  <dc:title>Нравственно - патриотическое воспитание детей Дошкольного возраста Старший воспитатель Н.П. Ковалева</dc:title>
</cp:coreProperties>
</file>