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A089-763B-4880-BA3B-87DE5F617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170-2BCA-4C58-9B74-62D341C77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D56-D871-487F-B408-9BCDFAC7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039-D29E-4DFF-B955-3634BBB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A56-1C72-4C29-98D6-2A169A70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7B3-C059-45C6-9292-DA7F953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FAE-97E5-4736-95E5-038410D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40C-EC7B-4B54-BA40-4D676CFC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570-00E0-4F87-925F-EB23747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3ED-3504-4F3F-8D03-4E76BB46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8BC-57B5-466C-9F91-DD22FE8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E07-1145-43B3-8E6D-6099F1E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105-BE8C-4CD1-B956-B71B8F1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BA9-4FB1-4596-8898-0F8590F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2B1-272D-437E-9B4D-2EB05AF98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500040" y="3071880"/>
            <a:ext cx="807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я. Из трех предложенных вариантов ответа, выберите один верный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ловами. Слова – ответы –  приметы двадцать пятого позвонка ов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57280" y="571680"/>
            <a:ext cx="47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авн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Читать &quot;Героический эпос народов СССР. Том первый&quot; - Автор н…"/>
          <p:cNvPicPr/>
          <p:nvPr/>
        </p:nvPicPr>
        <p:blipFill>
          <a:blip r:embed="rId1"/>
          <a:stretch/>
        </p:blipFill>
        <p:spPr>
          <a:xfrm>
            <a:off x="285840" y="214200"/>
            <a:ext cx="2492280" cy="2643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2"/>
          <a:stretch/>
        </p:blipFill>
        <p:spPr>
          <a:xfrm>
            <a:off x="6397560" y="246240"/>
            <a:ext cx="2351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3"/>
          <p:cNvSpPr/>
          <p:nvPr/>
        </p:nvSpPr>
        <p:spPr>
          <a:xfrm>
            <a:off x="3419640" y="2352600"/>
            <a:ext cx="5429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х = 3,9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эмә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3384720" y="3214800"/>
            <a:ext cx="55004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9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хаз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3354480" y="4143240"/>
            <a:ext cx="55720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3,9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ташм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7"/>
          <p:cNvSpPr/>
          <p:nvPr/>
        </p:nvSpPr>
        <p:spPr>
          <a:xfrm>
            <a:off x="1598760" y="500040"/>
            <a:ext cx="6121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,4 + 2у = 7(у – 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rcRect l="32053" t="22799" r="5416" b="20541"/>
          <a:stretch/>
        </p:blipFill>
        <p:spPr>
          <a:xfrm>
            <a:off x="250920" y="2397240"/>
            <a:ext cx="310356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684360" y="333360"/>
            <a:ext cx="70563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4(5х + 2) = 10(3х - 3) + 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2786040" y="2475000"/>
            <a:ext cx="5929200" cy="64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һа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2"/>
          <p:cNvSpPr/>
          <p:nvPr/>
        </p:nvSpPr>
        <p:spPr>
          <a:xfrm>
            <a:off x="2786040" y="4572000"/>
            <a:ext cx="59292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,3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 сәә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3"/>
          <p:cNvSpPr/>
          <p:nvPr/>
        </p:nvSpPr>
        <p:spPr>
          <a:xfrm>
            <a:off x="2786040" y="3571920"/>
            <a:ext cx="59292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х = 23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  кө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http://im0-tub-ru.yandex.net/i?id=7788bd64d294dd6544ff40e584e589aa-119-144&amp;n=21"/>
          <p:cNvPicPr/>
          <p:nvPr/>
        </p:nvPicPr>
        <p:blipFill>
          <a:blip r:embed="rId1"/>
          <a:stretch/>
        </p:blipFill>
        <p:spPr>
          <a:xfrm>
            <a:off x="214200" y="2286000"/>
            <a:ext cx="2446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3"/>
          <p:cNvSpPr/>
          <p:nvPr/>
        </p:nvSpPr>
        <p:spPr>
          <a:xfrm>
            <a:off x="3429000" y="3500280"/>
            <a:ext cx="53578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х = 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3429000" y="2500200"/>
            <a:ext cx="53578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,1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Тенд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3357720" y="4500720"/>
            <a:ext cx="54291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- 2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р 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1714680" y="500040"/>
            <a:ext cx="66434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Решить 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(11х - 7) + (7х + 9) =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http://im3-tub-ru.yandex.net/i?id=a01b64596181d80bdf5b53dc06849ce8-96-144&amp;n=21"/>
          <p:cNvPicPr/>
          <p:nvPr/>
        </p:nvPicPr>
        <p:blipFill>
          <a:blip r:embed="rId1"/>
          <a:stretch/>
        </p:blipFill>
        <p:spPr>
          <a:xfrm>
            <a:off x="468360" y="2143080"/>
            <a:ext cx="2685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408960" y="263520"/>
            <a:ext cx="81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иметы двадцать пятого позвонка   ов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3139560" y="84780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Алтта  ал  уу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агодатная красная 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135240" y="1297080"/>
            <a:ext cx="56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Хурдн хута бүргдин җив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ыло стремительного и ловкого беркута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185640" y="1943280"/>
            <a:ext cx="38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Арнзлын соя.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ык аранз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560" y="2282760"/>
            <a:ext cx="596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Беркт көк тәәһн нохан  чик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хо охотничьей собаки редкостной сивой 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33520" y="2952720"/>
            <a:ext cx="53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Тальван цаһан ташу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гий  белый ск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36760" y="335916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Урмблин улан һ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новодная река Урумб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243240" y="378792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Баатр эрин маң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б отважного богаты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3263400" y="4156200"/>
            <a:ext cx="488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Алтта, мөңгтә  эмә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отым и серебром украшенное сед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224160" y="4865760"/>
            <a:ext cx="55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Сән  эмин сәә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сница  домовитой  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3305880" y="5300640"/>
            <a:ext cx="589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Энд  ноцхн ноцхл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десь  зверь сбросил старый шерстяной  пок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2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2665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5"/>
          <p:cNvSpPr/>
          <p:nvPr/>
        </p:nvSpPr>
        <p:spPr>
          <a:xfrm>
            <a:off x="1187280" y="642960"/>
            <a:ext cx="62154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шите   уравнение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х - 6) = х - 9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 вер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6">
            <a:hlinkClick r:id="rId1" action="ppaction://hlinksldjump"/>
          </p:cNvPr>
          <p:cNvSpPr/>
          <p:nvPr/>
        </p:nvSpPr>
        <p:spPr>
          <a:xfrm>
            <a:off x="2786040" y="3857760"/>
            <a:ext cx="5715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ал  уул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20">
            <a:hlinkClick r:id="rId2" action="ppaction://hlinksldjump"/>
          </p:cNvPr>
          <p:cNvSpPr/>
          <p:nvPr/>
        </p:nvSpPr>
        <p:spPr>
          <a:xfrm>
            <a:off x="2786040" y="2857680"/>
            <a:ext cx="571500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хар  у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1">
            <a:hlinkClick r:id="rId3" action="ppaction://hlinksldjump"/>
          </p:cNvPr>
          <p:cNvSpPr/>
          <p:nvPr/>
        </p:nvSpPr>
        <p:spPr>
          <a:xfrm>
            <a:off x="2786040" y="4857840"/>
            <a:ext cx="5786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5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ноһан  у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http://www.djangar.info/images/sanal.jpg"/>
          <p:cNvPicPr/>
          <p:nvPr/>
        </p:nvPicPr>
        <p:blipFill>
          <a:blip r:embed="rId4"/>
          <a:stretch/>
        </p:blipFill>
        <p:spPr>
          <a:xfrm>
            <a:off x="214200" y="2500200"/>
            <a:ext cx="2357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39640" y="642960"/>
            <a:ext cx="8136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ВОЗВРАТА НАЖМИ НА СТРЕЛК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азвернутая стрелка 4">
            <a:hlinkClick r:id="" action="ppaction://hlinkshowjump?jump=previousslide"/>
          </p:cNvPr>
          <p:cNvSpPr/>
          <p:nvPr/>
        </p:nvSpPr>
        <p:spPr>
          <a:xfrm flipH="1" rot="10800000">
            <a:off x="4140360" y="3789000"/>
            <a:ext cx="2087280" cy="2087640"/>
          </a:xfrm>
          <a:custGeom>
            <a:avLst/>
            <a:gdLst/>
            <a:ahLst/>
            <a:rect l="l" t="t" r="r" b="b"/>
            <a:pathLst>
              <a:path w="2087563" h="2087562">
                <a:moveTo>
                  <a:pt x="0" y="2087562"/>
                </a:moveTo>
                <a:lnTo>
                  <a:pt x="0" y="913308"/>
                </a:lnTo>
                <a:cubicBezTo>
                  <a:pt x="0" y="408902"/>
                  <a:pt x="408902" y="0"/>
                  <a:pt x="913308" y="0"/>
                </a:cubicBezTo>
                <a:lnTo>
                  <a:pt x="913309" y="0"/>
                </a:lnTo>
                <a:cubicBezTo>
                  <a:pt x="1417715" y="0"/>
                  <a:pt x="1826617" y="408902"/>
                  <a:pt x="1826617" y="913308"/>
                </a:cubicBezTo>
                <a:cubicBezTo>
                  <a:pt x="1826617" y="956799"/>
                  <a:pt x="1826618" y="1000290"/>
                  <a:pt x="1826618" y="1043781"/>
                </a:cubicBezTo>
                <a:lnTo>
                  <a:pt x="2087563" y="1043781"/>
                </a:lnTo>
                <a:lnTo>
                  <a:pt x="1565673" y="1565672"/>
                </a:lnTo>
                <a:lnTo>
                  <a:pt x="1043782" y="1043781"/>
                </a:lnTo>
                <a:lnTo>
                  <a:pt x="1304727" y="1043781"/>
                </a:lnTo>
                <a:lnTo>
                  <a:pt x="1304727" y="913308"/>
                </a:lnTo>
                <a:cubicBezTo>
                  <a:pt x="1304727" y="697134"/>
                  <a:pt x="1129483" y="521890"/>
                  <a:pt x="913309" y="521890"/>
                </a:cubicBezTo>
                <a:lnTo>
                  <a:pt x="913308" y="521891"/>
                </a:lnTo>
                <a:cubicBezTo>
                  <a:pt x="697134" y="521891"/>
                  <a:pt x="521890" y="697135"/>
                  <a:pt x="521890" y="913309"/>
                </a:cubicBezTo>
                <a:cubicBezTo>
                  <a:pt x="521890" y="1304727"/>
                  <a:pt x="521891" y="1696144"/>
                  <a:pt x="521891" y="2087562"/>
                </a:cubicBezTo>
                <a:lnTo>
                  <a:pt x="0" y="20875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7"/>
          <p:cNvSpPr/>
          <p:nvPr/>
        </p:nvSpPr>
        <p:spPr>
          <a:xfrm>
            <a:off x="1571760" y="428760"/>
            <a:ext cx="650052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шить уравнение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3(х + 1) = 7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9">
            <a:hlinkClick r:id="" action="ppaction://hlinkshowjump?jump=previousslide"/>
          </p:cNvPr>
          <p:cNvSpPr/>
          <p:nvPr/>
        </p:nvSpPr>
        <p:spPr>
          <a:xfrm>
            <a:off x="3143160" y="2857680"/>
            <a:ext cx="52149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рдн хута бүргдин  чик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>
            <a:hlinkClick r:id="rId1" action="ppaction://hlinksldjump"/>
          </p:cNvPr>
          <p:cNvSpPr/>
          <p:nvPr/>
        </p:nvSpPr>
        <p:spPr>
          <a:xfrm>
            <a:off x="3143160" y="3786120"/>
            <a:ext cx="52149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урдн хута бүргдин  тол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>
            <a:hlinkClick r:id="rId2" action="ppaction://hlinksldjump"/>
          </p:cNvPr>
          <p:cNvSpPr/>
          <p:nvPr/>
        </p:nvSpPr>
        <p:spPr>
          <a:xfrm>
            <a:off x="3143160" y="4786200"/>
            <a:ext cx="52149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х= -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рдн хута бүргдин җив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ttp://im0-tub-ru.yandex.net/i?id=7788bd64d294dd6544ff40e584e589aa-119-144&amp;n=21"/>
          <p:cNvPicPr/>
          <p:nvPr/>
        </p:nvPicPr>
        <p:blipFill>
          <a:blip r:embed="rId3"/>
          <a:stretch/>
        </p:blipFill>
        <p:spPr>
          <a:xfrm>
            <a:off x="428760" y="2357280"/>
            <a:ext cx="205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2"/>
          <p:cNvSpPr/>
          <p:nvPr/>
        </p:nvSpPr>
        <p:spPr>
          <a:xfrm>
            <a:off x="1928880" y="500040"/>
            <a:ext cx="63579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х - 1) = 2(2х - 8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>
            <a:hlinkClick r:id="rId1" action="ppaction://hlinksldjump"/>
          </p:cNvPr>
          <p:cNvSpPr/>
          <p:nvPr/>
        </p:nvSpPr>
        <p:spPr>
          <a:xfrm>
            <a:off x="2857680" y="2571840"/>
            <a:ext cx="56433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юбое числ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с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>
            <a:hlinkClick r:id="rId2" action="ppaction://hlinksldjump"/>
          </p:cNvPr>
          <p:cNvSpPr/>
          <p:nvPr/>
        </p:nvSpPr>
        <p:spPr>
          <a:xfrm>
            <a:off x="2857680" y="3571920"/>
            <a:ext cx="5572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3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җив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>
            <a:hlinkClick r:id="rId3" action="ppaction://hlinksldjump"/>
          </p:cNvPr>
          <p:cNvSpPr/>
          <p:nvPr/>
        </p:nvSpPr>
        <p:spPr>
          <a:xfrm>
            <a:off x="2857680" y="4714920"/>
            <a:ext cx="55720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 имеет корней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толһ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im2-tub-ru.yandex.net/i?id=6ee49fc226f382bc5669edc3b5b9525c-110-144&amp;n=21"/>
          <p:cNvPicPr/>
          <p:nvPr/>
        </p:nvPicPr>
        <p:blipFill>
          <a:blip r:embed="rId4"/>
          <a:stretch/>
        </p:blipFill>
        <p:spPr>
          <a:xfrm>
            <a:off x="185760" y="2567160"/>
            <a:ext cx="206388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Скругленный прямоугольник 3">
            <a:hlinkClick r:id="rId1" action="ppaction://hlinksldjump"/>
          </p:cNvPr>
          <p:cNvSpPr/>
          <p:nvPr/>
        </p:nvSpPr>
        <p:spPr>
          <a:xfrm>
            <a:off x="2857680" y="2643120"/>
            <a:ext cx="5715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көлн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>
            <a:hlinkClick r:id="rId2" action="ppaction://hlinksldjump"/>
          </p:cNvPr>
          <p:cNvSpPr/>
          <p:nvPr/>
        </p:nvSpPr>
        <p:spPr>
          <a:xfrm>
            <a:off x="2857680" y="3571920"/>
            <a:ext cx="60354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11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чикн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>
            <a:hlinkClick r:id="rId3" action="ppaction://hlinksldjump"/>
          </p:cNvPr>
          <p:cNvSpPr/>
          <p:nvPr/>
        </p:nvSpPr>
        <p:spPr>
          <a:xfrm>
            <a:off x="2857680" y="4500720"/>
            <a:ext cx="5786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 толһа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1571760" y="642960"/>
            <a:ext cx="62863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ить уравнение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6(х + 2) = 3 – 5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ttp://im1-tub-ru.yandex.net/i?id=43283d920ea29a8c9d93fe23c4cd989a-142-144&amp;n=21"/>
          <p:cNvPicPr/>
          <p:nvPr/>
        </p:nvPicPr>
        <p:blipFill>
          <a:blip r:embed="rId4"/>
          <a:stretch/>
        </p:blipFill>
        <p:spPr>
          <a:xfrm>
            <a:off x="214200" y="2192400"/>
            <a:ext cx="2500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3">
            <a:hlinkClick r:id="rId1" action="ppaction://hlinksldjump"/>
          </p:cNvPr>
          <p:cNvSpPr/>
          <p:nvPr/>
        </p:nvSpPr>
        <p:spPr>
          <a:xfrm>
            <a:off x="3143160" y="2500200"/>
            <a:ext cx="47865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цаһан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>
            <a:hlinkClick r:id="rId2" action="ppaction://hlinksldjump"/>
          </p:cNvPr>
          <p:cNvSpPr/>
          <p:nvPr/>
        </p:nvSpPr>
        <p:spPr>
          <a:xfrm>
            <a:off x="3143160" y="3571920"/>
            <a:ext cx="47865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-4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 хар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>
            <a:hlinkClick r:id="rId3" action="ppaction://hlinksldjump"/>
          </p:cNvPr>
          <p:cNvSpPr/>
          <p:nvPr/>
        </p:nvSpPr>
        <p:spPr>
          <a:xfrm>
            <a:off x="3143160" y="4500720"/>
            <a:ext cx="48578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 ноһан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6"/>
          <p:cNvSpPr/>
          <p:nvPr/>
        </p:nvSpPr>
        <p:spPr>
          <a:xfrm>
            <a:off x="1928880" y="642960"/>
            <a:ext cx="64292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х - 2) = х +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http://im3-tub-ru.yandex.net/i?id=a01b64596181d80bdf5b53dc06849ce8-96-144&amp;n=21"/>
          <p:cNvPicPr/>
          <p:nvPr/>
        </p:nvPicPr>
        <p:blipFill>
          <a:blip r:embed="rId4"/>
          <a:stretch/>
        </p:blipFill>
        <p:spPr>
          <a:xfrm>
            <a:off x="285840" y="2214720"/>
            <a:ext cx="26780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3">
            <a:hlinkClick r:id="rId1" action="ppaction://hlinksldjump"/>
          </p:cNvPr>
          <p:cNvSpPr/>
          <p:nvPr/>
        </p:nvSpPr>
        <p:spPr>
          <a:xfrm>
            <a:off x="2928960" y="3429000"/>
            <a:ext cx="57862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любое число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у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">
            <a:hlinkClick r:id="rId2" action="ppaction://hlinksldjump"/>
          </p:cNvPr>
          <p:cNvSpPr/>
          <p:nvPr/>
        </p:nvSpPr>
        <p:spPr>
          <a:xfrm>
            <a:off x="3000240" y="2286000"/>
            <a:ext cx="5715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0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т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>
            <a:hlinkClick r:id="rId3" action="ppaction://hlinksldjump"/>
          </p:cNvPr>
          <p:cNvSpPr/>
          <p:nvPr/>
        </p:nvSpPr>
        <p:spPr>
          <a:xfrm>
            <a:off x="2928960" y="4500720"/>
            <a:ext cx="58579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рней н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һ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1785960" y="500040"/>
            <a:ext cx="664380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5 – 3х) = 6(2 – 4х) +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0" descr="Лев Буджиков ВКонтакте"/>
          <p:cNvPicPr/>
          <p:nvPr/>
        </p:nvPicPr>
        <p:blipFill>
          <a:blip r:embed="rId4"/>
          <a:stretch/>
        </p:blipFill>
        <p:spPr>
          <a:xfrm>
            <a:off x="214200" y="1928880"/>
            <a:ext cx="242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3"/>
          <p:cNvSpPr/>
          <p:nvPr/>
        </p:nvSpPr>
        <p:spPr>
          <a:xfrm>
            <a:off x="1714680" y="571680"/>
            <a:ext cx="65721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х +1) – (9х + 3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9"/>
          <p:cNvSpPr/>
          <p:nvPr/>
        </p:nvSpPr>
        <p:spPr>
          <a:xfrm>
            <a:off x="2857680" y="2786040"/>
            <a:ext cx="59292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3,5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атр эрин  тол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0"/>
          <p:cNvSpPr/>
          <p:nvPr/>
        </p:nvSpPr>
        <p:spPr>
          <a:xfrm>
            <a:off x="2786040" y="3643200"/>
            <a:ext cx="60008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,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атр эрин маң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1"/>
          <p:cNvSpPr/>
          <p:nvPr/>
        </p:nvSpPr>
        <p:spPr>
          <a:xfrm>
            <a:off x="2786040" y="4572000"/>
            <a:ext cx="60008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35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аатр эрин кө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http://im2-tub-ru.yandex.net/i?id=6ee49fc226f382bc5669edc3b5b9525c-110-144&amp;n=21"/>
          <p:cNvPicPr/>
          <p:nvPr/>
        </p:nvPicPr>
        <p:blipFill>
          <a:blip r:embed="rId1"/>
          <a:stretch/>
        </p:blipFill>
        <p:spPr>
          <a:xfrm>
            <a:off x="214200" y="2357280"/>
            <a:ext cx="2357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9:26:39Z</dcterms:created>
  <dc:creator>Юля</dc:creator>
  <dc:description/>
  <dc:language>en-US</dc:language>
  <cp:lastModifiedBy>Пользователь Windows</cp:lastModifiedBy>
  <dcterms:modified xsi:type="dcterms:W3CDTF">2023-04-26T19:55:59Z</dcterms:modified>
  <cp:revision>223</cp:revision>
  <dc:subject/>
  <dc:title>Презентация PowerPoint</dc:title>
</cp:coreProperties>
</file>