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BEC6-F23C-4D61-BF2D-5978701062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B8D3-F692-46A6-BAEA-18564CEEC9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8BA9-1A72-4192-94AE-A69BA183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7934-B8BC-4916-836F-7192A083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B618-190B-43CE-9165-3FC6B092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9FED-80C6-4CA1-A079-2D1D8D71E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C789-448D-45D9-BB15-A3432CC1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BEFF-A745-497A-9CA5-C43E1A8D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7183-3C44-4CE0-9BE0-41D09290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5689-E662-4FEF-AE9E-CC0515DE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DCA1-2739-48E1-82ED-A2DFD2A7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ADC4-5EEB-4ECB-9BD2-76E50F57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495A-9746-478C-A4E4-5C0AD3ED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78B2-9C84-4D01-9C94-3C88E5F8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EF44-F1A3-4CE9-9119-BF9B1FA2AE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9.xm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500040" y="3071880"/>
            <a:ext cx="8072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те уравнения. Из трех предложенных вариантов ответа, выберите один верный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ловами. Слова – ответы –  приметы двадцать пятого позвонка овц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357280" y="571680"/>
            <a:ext cx="4786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шение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авне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Читать &quot;Героический эпос народов СССР. Том первый&quot; - Автор н…"/>
          <p:cNvPicPr/>
          <p:nvPr/>
        </p:nvPicPr>
        <p:blipFill>
          <a:blip r:embed="rId1"/>
          <a:stretch/>
        </p:blipFill>
        <p:spPr>
          <a:xfrm>
            <a:off x="285840" y="214200"/>
            <a:ext cx="2492280" cy="2643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7" descr=""/>
          <p:cNvPicPr/>
          <p:nvPr/>
        </p:nvPicPr>
        <p:blipFill>
          <a:blip r:embed="rId2"/>
          <a:stretch/>
        </p:blipFill>
        <p:spPr>
          <a:xfrm>
            <a:off x="6397560" y="246240"/>
            <a:ext cx="235116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Скругленный прямоугольник 3"/>
          <p:cNvSpPr/>
          <p:nvPr/>
        </p:nvSpPr>
        <p:spPr>
          <a:xfrm>
            <a:off x="3419640" y="2352600"/>
            <a:ext cx="542916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х = 3,9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тта, мөңгтә  эмәл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4"/>
          <p:cNvSpPr/>
          <p:nvPr/>
        </p:nvSpPr>
        <p:spPr>
          <a:xfrm>
            <a:off x="3384720" y="3214800"/>
            <a:ext cx="550044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9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тта, мөңгтә  хаза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5"/>
          <p:cNvSpPr/>
          <p:nvPr/>
        </p:nvSpPr>
        <p:spPr>
          <a:xfrm>
            <a:off x="3354480" y="4143240"/>
            <a:ext cx="557208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- 3,9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тта, мөңгтә  ташмг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7"/>
          <p:cNvSpPr/>
          <p:nvPr/>
        </p:nvSpPr>
        <p:spPr>
          <a:xfrm>
            <a:off x="1598760" y="500040"/>
            <a:ext cx="61210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Решить уравнение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3,4 + 2у = 7(у – 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ыберите верный 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6" descr=""/>
          <p:cNvPicPr/>
          <p:nvPr/>
        </p:nvPicPr>
        <p:blipFill>
          <a:blip r:embed="rId1"/>
          <a:srcRect l="32053" t="22799" r="5416" b="20541"/>
          <a:stretch/>
        </p:blipFill>
        <p:spPr>
          <a:xfrm>
            <a:off x="250920" y="2397240"/>
            <a:ext cx="310356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Скругленный прямоугольник 3"/>
          <p:cNvSpPr/>
          <p:nvPr/>
        </p:nvSpPr>
        <p:spPr>
          <a:xfrm>
            <a:off x="684360" y="333360"/>
            <a:ext cx="705636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Решить уравнение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4(5х + 2) = 10(3х - 3) + 15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ыберите верный 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11"/>
          <p:cNvSpPr/>
          <p:nvPr/>
        </p:nvSpPr>
        <p:spPr>
          <a:xfrm>
            <a:off x="2786040" y="2475000"/>
            <a:ext cx="5929200" cy="64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ән  эмин   һа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12"/>
          <p:cNvSpPr/>
          <p:nvPr/>
        </p:nvSpPr>
        <p:spPr>
          <a:xfrm>
            <a:off x="2786040" y="4572000"/>
            <a:ext cx="592920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2,3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ән  эмин    сәәр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13"/>
          <p:cNvSpPr/>
          <p:nvPr/>
        </p:nvSpPr>
        <p:spPr>
          <a:xfrm>
            <a:off x="2786040" y="3571920"/>
            <a:ext cx="592920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х = 23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ән  эмин     кө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5" descr="http://im0-tub-ru.yandex.net/i?id=7788bd64d294dd6544ff40e584e589aa-119-144&amp;n=21"/>
          <p:cNvPicPr/>
          <p:nvPr/>
        </p:nvPicPr>
        <p:blipFill>
          <a:blip r:embed="rId1"/>
          <a:stretch/>
        </p:blipFill>
        <p:spPr>
          <a:xfrm>
            <a:off x="214200" y="2286000"/>
            <a:ext cx="24465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Скругленный прямоугольник 3"/>
          <p:cNvSpPr/>
          <p:nvPr/>
        </p:nvSpPr>
        <p:spPr>
          <a:xfrm>
            <a:off x="3429000" y="3500280"/>
            <a:ext cx="53578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х = 2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нд  ноцхн ноцхлҗ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4"/>
          <p:cNvSpPr/>
          <p:nvPr/>
        </p:nvSpPr>
        <p:spPr>
          <a:xfrm>
            <a:off x="3429000" y="2500200"/>
            <a:ext cx="535788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2,1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Тенд  ноцхн ноцхлҗ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5"/>
          <p:cNvSpPr/>
          <p:nvPr/>
        </p:nvSpPr>
        <p:spPr>
          <a:xfrm>
            <a:off x="3357720" y="4500720"/>
            <a:ext cx="542916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- 2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ндр   ноцхн ноцхлҗ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6"/>
          <p:cNvSpPr/>
          <p:nvPr/>
        </p:nvSpPr>
        <p:spPr>
          <a:xfrm>
            <a:off x="1714680" y="500040"/>
            <a:ext cx="6643440" cy="121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Решить  уравнени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(11х - 7) + (7х + 9) = 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ыберите верный 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7" descr="http://im3-tub-ru.yandex.net/i?id=a01b64596181d80bdf5b53dc06849ce8-96-144&amp;n=21"/>
          <p:cNvPicPr/>
          <p:nvPr/>
        </p:nvPicPr>
        <p:blipFill>
          <a:blip r:embed="rId1"/>
          <a:stretch/>
        </p:blipFill>
        <p:spPr>
          <a:xfrm>
            <a:off x="468360" y="2143080"/>
            <a:ext cx="26859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3"/>
          <p:cNvSpPr/>
          <p:nvPr/>
        </p:nvSpPr>
        <p:spPr>
          <a:xfrm>
            <a:off x="408960" y="263520"/>
            <a:ext cx="81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Приметы двадцать пятого позвонка   ов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3139560" y="847800"/>
            <a:ext cx="526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Алтта  ал  уу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лагодатная красная г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135240" y="1297080"/>
            <a:ext cx="562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Хурдн хута бүргдин җив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рыло стремительного и ловкого беркута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185640" y="1943280"/>
            <a:ext cx="38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Арнзлын соя. 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лык аранз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3049560" y="2282760"/>
            <a:ext cx="596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Беркт көк тәәһн нохан  чик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хо охотничьей собаки редкостной сивой м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233520" y="2952720"/>
            <a:ext cx="538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Тальван цаһан ташу.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логий  белый скл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3236760" y="3359160"/>
            <a:ext cx="58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 Урмблин улан һо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лноводная река Урумб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1"/>
          <p:cNvSpPr/>
          <p:nvPr/>
        </p:nvSpPr>
        <p:spPr>
          <a:xfrm>
            <a:off x="3243240" y="3787920"/>
            <a:ext cx="56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 Баатр эрин маң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об отважного богаты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2"/>
          <p:cNvSpPr/>
          <p:nvPr/>
        </p:nvSpPr>
        <p:spPr>
          <a:xfrm>
            <a:off x="3263400" y="4156200"/>
            <a:ext cx="488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. Алтта, мөңгтә  эмә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олотым и серебром украшенное сед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3"/>
          <p:cNvSpPr/>
          <p:nvPr/>
        </p:nvSpPr>
        <p:spPr>
          <a:xfrm>
            <a:off x="3224160" y="4865760"/>
            <a:ext cx="55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. Сән  эмин сәә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ясница  домовитой  ж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3305880" y="5300640"/>
            <a:ext cx="589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. Энд  ноцхн ноцхлҗ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десь  зверь сбросил старый шерстяной  пок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12" descr=""/>
          <p:cNvPicPr/>
          <p:nvPr/>
        </p:nvPicPr>
        <p:blipFill>
          <a:blip r:embed="rId1"/>
          <a:stretch/>
        </p:blipFill>
        <p:spPr>
          <a:xfrm>
            <a:off x="395280" y="1095480"/>
            <a:ext cx="266544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Скругленный прямоугольник 5"/>
          <p:cNvSpPr/>
          <p:nvPr/>
        </p:nvSpPr>
        <p:spPr>
          <a:xfrm>
            <a:off x="1187280" y="642960"/>
            <a:ext cx="62154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ешите   уравнение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(х - 6) = х - 9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ыберите  вер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16">
            <a:hlinkClick r:id="rId1" action="ppaction://hlinksldjump"/>
          </p:cNvPr>
          <p:cNvSpPr/>
          <p:nvPr/>
        </p:nvSpPr>
        <p:spPr>
          <a:xfrm>
            <a:off x="2786040" y="3857760"/>
            <a:ext cx="571500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тта  ал  уул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20">
            <a:hlinkClick r:id="rId2" action="ppaction://hlinksldjump"/>
          </p:cNvPr>
          <p:cNvSpPr/>
          <p:nvPr/>
        </p:nvSpPr>
        <p:spPr>
          <a:xfrm>
            <a:off x="2786040" y="2857680"/>
            <a:ext cx="5715000" cy="64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тта  хар  уу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21">
            <a:hlinkClick r:id="rId3" action="ppaction://hlinksldjump"/>
          </p:cNvPr>
          <p:cNvSpPr/>
          <p:nvPr/>
        </p:nvSpPr>
        <p:spPr>
          <a:xfrm>
            <a:off x="2786040" y="4857840"/>
            <a:ext cx="578664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5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тта  ноһан  уу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8" descr="http://www.djangar.info/images/sanal.jpg"/>
          <p:cNvPicPr/>
          <p:nvPr/>
        </p:nvPicPr>
        <p:blipFill>
          <a:blip r:embed="rId4"/>
          <a:stretch/>
        </p:blipFill>
        <p:spPr>
          <a:xfrm>
            <a:off x="214200" y="2500200"/>
            <a:ext cx="23576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3"/>
          <p:cNvSpPr/>
          <p:nvPr/>
        </p:nvSpPr>
        <p:spPr>
          <a:xfrm>
            <a:off x="539640" y="642960"/>
            <a:ext cx="813600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ПРАВИЛЬНО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ВОЗВРАТА НАЖМИ НА СТРЕЛК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Развернутая стрелка 4">
            <a:hlinkClick r:id="" action="ppaction://hlinkshowjump?jump=previousslide"/>
          </p:cNvPr>
          <p:cNvSpPr/>
          <p:nvPr/>
        </p:nvSpPr>
        <p:spPr>
          <a:xfrm flipH="1" rot="10800000">
            <a:off x="4140360" y="3789000"/>
            <a:ext cx="2087280" cy="2087640"/>
          </a:xfrm>
          <a:custGeom>
            <a:avLst/>
            <a:gdLst/>
            <a:ahLst/>
            <a:rect l="l" t="t" r="r" b="b"/>
            <a:pathLst>
              <a:path w="2087563" h="2087562">
                <a:moveTo>
                  <a:pt x="0" y="2087562"/>
                </a:moveTo>
                <a:lnTo>
                  <a:pt x="0" y="913308"/>
                </a:lnTo>
                <a:cubicBezTo>
                  <a:pt x="0" y="408902"/>
                  <a:pt x="408902" y="0"/>
                  <a:pt x="913308" y="0"/>
                </a:cubicBezTo>
                <a:lnTo>
                  <a:pt x="913309" y="0"/>
                </a:lnTo>
                <a:cubicBezTo>
                  <a:pt x="1417715" y="0"/>
                  <a:pt x="1826617" y="408902"/>
                  <a:pt x="1826617" y="913308"/>
                </a:cubicBezTo>
                <a:cubicBezTo>
                  <a:pt x="1826617" y="956799"/>
                  <a:pt x="1826618" y="1000290"/>
                  <a:pt x="1826618" y="1043781"/>
                </a:cubicBezTo>
                <a:lnTo>
                  <a:pt x="2087563" y="1043781"/>
                </a:lnTo>
                <a:lnTo>
                  <a:pt x="1565673" y="1565672"/>
                </a:lnTo>
                <a:lnTo>
                  <a:pt x="1043782" y="1043781"/>
                </a:lnTo>
                <a:lnTo>
                  <a:pt x="1304727" y="1043781"/>
                </a:lnTo>
                <a:lnTo>
                  <a:pt x="1304727" y="913308"/>
                </a:lnTo>
                <a:cubicBezTo>
                  <a:pt x="1304727" y="697134"/>
                  <a:pt x="1129483" y="521890"/>
                  <a:pt x="913309" y="521890"/>
                </a:cubicBezTo>
                <a:lnTo>
                  <a:pt x="913308" y="521891"/>
                </a:lnTo>
                <a:cubicBezTo>
                  <a:pt x="697134" y="521891"/>
                  <a:pt x="521890" y="697135"/>
                  <a:pt x="521890" y="913309"/>
                </a:cubicBezTo>
                <a:cubicBezTo>
                  <a:pt x="521890" y="1304727"/>
                  <a:pt x="521891" y="1696144"/>
                  <a:pt x="521891" y="2087562"/>
                </a:cubicBezTo>
                <a:lnTo>
                  <a:pt x="0" y="2087562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Скругленный прямоугольник 7"/>
          <p:cNvSpPr/>
          <p:nvPr/>
        </p:nvSpPr>
        <p:spPr>
          <a:xfrm>
            <a:off x="1571760" y="428760"/>
            <a:ext cx="6500520" cy="128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ешить уравнение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– 3(х + 1) = 7 – 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ыберите верный 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9">
            <a:hlinkClick r:id="" action="ppaction://hlinkshowjump?jump=previousslide"/>
          </p:cNvPr>
          <p:cNvSpPr/>
          <p:nvPr/>
        </p:nvSpPr>
        <p:spPr>
          <a:xfrm>
            <a:off x="3143160" y="2857680"/>
            <a:ext cx="521496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4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урдн хута бүргдин  чик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3">
            <a:hlinkClick r:id="rId1" action="ppaction://hlinksldjump"/>
          </p:cNvPr>
          <p:cNvSpPr/>
          <p:nvPr/>
        </p:nvSpPr>
        <p:spPr>
          <a:xfrm>
            <a:off x="3143160" y="3786120"/>
            <a:ext cx="521496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Хурдн хута бүргдин  толһ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5">
            <a:hlinkClick r:id="rId2" action="ppaction://hlinksldjump"/>
          </p:cNvPr>
          <p:cNvSpPr/>
          <p:nvPr/>
        </p:nvSpPr>
        <p:spPr>
          <a:xfrm>
            <a:off x="3143160" y="4786200"/>
            <a:ext cx="521496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 х= -2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урдн хута бүргдин җив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http://im0-tub-ru.yandex.net/i?id=7788bd64d294dd6544ff40e584e589aa-119-144&amp;n=21"/>
          <p:cNvPicPr/>
          <p:nvPr/>
        </p:nvPicPr>
        <p:blipFill>
          <a:blip r:embed="rId3"/>
          <a:stretch/>
        </p:blipFill>
        <p:spPr>
          <a:xfrm>
            <a:off x="428760" y="2357280"/>
            <a:ext cx="20523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Скругленный прямоугольник 2"/>
          <p:cNvSpPr/>
          <p:nvPr/>
        </p:nvSpPr>
        <p:spPr>
          <a:xfrm>
            <a:off x="1928880" y="500040"/>
            <a:ext cx="635796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ешить уравнение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(х - 1) = 2(2х - 8) +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ыберите верный 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3">
            <a:hlinkClick r:id="rId1" action="ppaction://hlinksldjump"/>
          </p:cNvPr>
          <p:cNvSpPr/>
          <p:nvPr/>
        </p:nvSpPr>
        <p:spPr>
          <a:xfrm>
            <a:off x="2857680" y="2571840"/>
            <a:ext cx="564336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любое числ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рнзлын со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4">
            <a:hlinkClick r:id="rId2" action="ppaction://hlinksldjump"/>
          </p:cNvPr>
          <p:cNvSpPr/>
          <p:nvPr/>
        </p:nvSpPr>
        <p:spPr>
          <a:xfrm>
            <a:off x="2857680" y="3571920"/>
            <a:ext cx="55720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3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рнзлын җив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5">
            <a:hlinkClick r:id="rId3" action="ppaction://hlinksldjump"/>
          </p:cNvPr>
          <p:cNvSpPr/>
          <p:nvPr/>
        </p:nvSpPr>
        <p:spPr>
          <a:xfrm>
            <a:off x="2857680" y="4714920"/>
            <a:ext cx="557208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не имеет корней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рнзлын толһа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http://im2-tub-ru.yandex.net/i?id=6ee49fc226f382bc5669edc3b5b9525c-110-144&amp;n=21"/>
          <p:cNvPicPr/>
          <p:nvPr/>
        </p:nvPicPr>
        <p:blipFill>
          <a:blip r:embed="rId4"/>
          <a:stretch/>
        </p:blipFill>
        <p:spPr>
          <a:xfrm>
            <a:off x="185760" y="2567160"/>
            <a:ext cx="2063880" cy="28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Скругленный прямоугольник 3">
            <a:hlinkClick r:id="rId1" action="ppaction://hlinksldjump"/>
          </p:cNvPr>
          <p:cNvSpPr/>
          <p:nvPr/>
        </p:nvSpPr>
        <p:spPr>
          <a:xfrm>
            <a:off x="2857680" y="2643120"/>
            <a:ext cx="571500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1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ркт көк тәәһн нохан  көлн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4">
            <a:hlinkClick r:id="rId2" action="ppaction://hlinksldjump"/>
          </p:cNvPr>
          <p:cNvSpPr/>
          <p:nvPr/>
        </p:nvSpPr>
        <p:spPr>
          <a:xfrm>
            <a:off x="2857680" y="3571920"/>
            <a:ext cx="60354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 11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ркт көк тәәһн нохан  чикн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5">
            <a:hlinkClick r:id="rId3" action="ppaction://hlinksldjump"/>
          </p:cNvPr>
          <p:cNvSpPr/>
          <p:nvPr/>
        </p:nvSpPr>
        <p:spPr>
          <a:xfrm>
            <a:off x="2857680" y="4500720"/>
            <a:ext cx="578628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ркт көк тәәһн нохан   толһа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6"/>
          <p:cNvSpPr/>
          <p:nvPr/>
        </p:nvSpPr>
        <p:spPr>
          <a:xfrm>
            <a:off x="1571760" y="642960"/>
            <a:ext cx="62863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ешить уравнение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- 6(х + 2) = 3 – 5х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и выберите верный 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http://im1-tub-ru.yandex.net/i?id=43283d920ea29a8c9d93fe23c4cd989a-142-144&amp;n=21"/>
          <p:cNvPicPr/>
          <p:nvPr/>
        </p:nvPicPr>
        <p:blipFill>
          <a:blip r:embed="rId4"/>
          <a:stretch/>
        </p:blipFill>
        <p:spPr>
          <a:xfrm>
            <a:off x="214200" y="2192400"/>
            <a:ext cx="250056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Скругленный прямоугольник 3">
            <a:hlinkClick r:id="rId1" action="ppaction://hlinksldjump"/>
          </p:cNvPr>
          <p:cNvSpPr/>
          <p:nvPr/>
        </p:nvSpPr>
        <p:spPr>
          <a:xfrm>
            <a:off x="3143160" y="2500200"/>
            <a:ext cx="478656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льван цаһан таш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4">
            <a:hlinkClick r:id="rId2" action="ppaction://hlinksldjump"/>
          </p:cNvPr>
          <p:cNvSpPr/>
          <p:nvPr/>
        </p:nvSpPr>
        <p:spPr>
          <a:xfrm>
            <a:off x="3143160" y="3571920"/>
            <a:ext cx="478656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-4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льван  хар таш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5">
            <a:hlinkClick r:id="rId3" action="ppaction://hlinksldjump"/>
          </p:cNvPr>
          <p:cNvSpPr/>
          <p:nvPr/>
        </p:nvSpPr>
        <p:spPr>
          <a:xfrm>
            <a:off x="3143160" y="4500720"/>
            <a:ext cx="48578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25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льван  ноһан таш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6"/>
          <p:cNvSpPr/>
          <p:nvPr/>
        </p:nvSpPr>
        <p:spPr>
          <a:xfrm>
            <a:off x="1928880" y="642960"/>
            <a:ext cx="642924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ешить уравнение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(х - 2) = х + 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ыберите верный 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7" descr="http://im3-tub-ru.yandex.net/i?id=a01b64596181d80bdf5b53dc06849ce8-96-144&amp;n=21"/>
          <p:cNvPicPr/>
          <p:nvPr/>
        </p:nvPicPr>
        <p:blipFill>
          <a:blip r:embed="rId4"/>
          <a:stretch/>
        </p:blipFill>
        <p:spPr>
          <a:xfrm>
            <a:off x="285840" y="2214720"/>
            <a:ext cx="267804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Скругленный прямоугольник 3">
            <a:hlinkClick r:id="rId1" action="ppaction://hlinksldjump"/>
          </p:cNvPr>
          <p:cNvSpPr/>
          <p:nvPr/>
        </p:nvSpPr>
        <p:spPr>
          <a:xfrm>
            <a:off x="2928960" y="3429000"/>
            <a:ext cx="57862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любое число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мблин улан уу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4">
            <a:hlinkClick r:id="rId2" action="ppaction://hlinksldjump"/>
          </p:cNvPr>
          <p:cNvSpPr/>
          <p:nvPr/>
        </p:nvSpPr>
        <p:spPr>
          <a:xfrm>
            <a:off x="3000240" y="2286000"/>
            <a:ext cx="57150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0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мблин улан т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5">
            <a:hlinkClick r:id="rId3" action="ppaction://hlinksldjump"/>
          </p:cNvPr>
          <p:cNvSpPr/>
          <p:nvPr/>
        </p:nvSpPr>
        <p:spPr>
          <a:xfrm>
            <a:off x="2928960" y="4500720"/>
            <a:ext cx="585792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корней нет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мблин улан һ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6"/>
          <p:cNvSpPr/>
          <p:nvPr/>
        </p:nvSpPr>
        <p:spPr>
          <a:xfrm>
            <a:off x="1785960" y="500040"/>
            <a:ext cx="664380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Решить уравнение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(5 – 3х) = 6(2 – 4х) + 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ыберите верный 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7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9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1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10" descr="Лев Буджиков ВКонтакте"/>
          <p:cNvPicPr/>
          <p:nvPr/>
        </p:nvPicPr>
        <p:blipFill>
          <a:blip r:embed="rId4"/>
          <a:stretch/>
        </p:blipFill>
        <p:spPr>
          <a:xfrm>
            <a:off x="214200" y="1928880"/>
            <a:ext cx="2428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3"/>
          <p:cNvSpPr/>
          <p:nvPr/>
        </p:nvSpPr>
        <p:spPr>
          <a:xfrm>
            <a:off x="1714680" y="571680"/>
            <a:ext cx="657216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Решить уравнение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х +1) – (9х + 3)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ыберите верный 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9"/>
          <p:cNvSpPr/>
          <p:nvPr/>
        </p:nvSpPr>
        <p:spPr>
          <a:xfrm>
            <a:off x="2857680" y="2786040"/>
            <a:ext cx="592920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3,5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аатр эрин  толһ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10"/>
          <p:cNvSpPr/>
          <p:nvPr/>
        </p:nvSpPr>
        <p:spPr>
          <a:xfrm>
            <a:off x="2786040" y="3643200"/>
            <a:ext cx="600084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3,5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аатр эрин маң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11"/>
          <p:cNvSpPr/>
          <p:nvPr/>
        </p:nvSpPr>
        <p:spPr>
          <a:xfrm>
            <a:off x="2786040" y="4572000"/>
            <a:ext cx="600084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35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Баатр эрин көл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7" descr="http://im2-tub-ru.yandex.net/i?id=6ee49fc226f382bc5669edc3b5b9525c-110-144&amp;n=21"/>
          <p:cNvPicPr/>
          <p:nvPr/>
        </p:nvPicPr>
        <p:blipFill>
          <a:blip r:embed="rId1"/>
          <a:stretch/>
        </p:blipFill>
        <p:spPr>
          <a:xfrm>
            <a:off x="214200" y="2357280"/>
            <a:ext cx="23576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7T09:26:39Z</dcterms:created>
  <dc:creator>Юля</dc:creator>
  <dc:description/>
  <dc:language>en-US</dc:language>
  <cp:lastModifiedBy>Пользователь Windows</cp:lastModifiedBy>
  <dcterms:modified xsi:type="dcterms:W3CDTF">2023-04-26T19:55:59Z</dcterms:modified>
  <cp:revision>223</cp:revision>
  <dc:subject/>
  <dc:title>Презентация PowerPoint</dc:title>
</cp:coreProperties>
</file>