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%D0%9F%D0%BE%D0%BF%D1%80%D0%BE%D0%B1%D1%83%D0%B9%20%D0%B5%D1%89%D1%91.wav" ContentType="audio/x-wav"/>
  <Override PartName="/ppt/media/%D0%9D%D1%83%20%D1%87%D1%82%D0%BE%20%D0%B6%D0%B5%20%D1%82%D1%8B.wav" ContentType="audio/x-wav"/>
  <Override PartName="/ppt/media/image16.jpeg" ContentType="image/jpeg"/>
  <Override PartName="/ppt/media/image21.jpeg" ContentType="image/jpeg"/>
  <Override PartName="/ppt/media/image22.png" ContentType="image/png"/>
  <Override PartName="/ppt/media/image5.png" ContentType="image/png"/>
  <Override PartName="/ppt/media/applause.wav" ContentType="audio/x-wav"/>
  <Override PartName="/ppt/media/image10.png" ContentType="image/png"/>
  <Override PartName="/ppt/media/image18.png" ContentType="image/png"/>
  <Override PartName="/ppt/media/image15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61F4-7DDF-4862-B329-9E403C4C59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15A1-96D2-40C8-AC96-F94F1E964AF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A4DA-4D78-4EEF-8753-962D892AE5A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5283-7B7F-4572-99A5-470FCA3244E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1B9A-738D-4F23-B682-98835041C71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F30A-9C23-45E5-ACAE-81310DCA7D6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FF17-D2FB-47E7-B813-7981FA89705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61AC-3DA2-4FC6-BC05-84632FDAC73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506C-8B59-4895-B769-E6EE650E672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BCEC-774F-437D-A861-39C8685958D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DD44-E951-4412-B749-E1D63DED9A6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E540-71CF-4B50-AE2A-11E274A68FB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4A44-7D20-48E5-B64A-5AF9A6D4E71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F842-51EC-4E4F-94AF-60572DBD62F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F217-67EA-416F-BD30-2FACFFA283C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63A3-8AB1-4D3E-870D-7CAAF525363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B02C-8D93-4E17-A3D8-D927CDC22F3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C461-561F-4227-8DD1-9E0614C6A30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82C0-7C94-452F-ABFD-4EBEE829D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72A6-0375-47EC-AB35-FCA27CF0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0245-7257-4021-A1A5-92AA6A78B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7467-CBA7-4FCB-B827-F3F1D156D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E7C3-85E2-404B-B781-688F82DB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0DC9-1C55-4B62-99A5-C56B1234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07AD-485B-4DB7-B646-C22D7D21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7AD4-363C-46CC-9DDF-C648449E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EE97-13A5-4C1D-850F-D29D2853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5865-4829-4889-B1BF-08BD8972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96A9-5274-4B2C-BAD7-D9680C68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2963-1D6B-403E-A479-BDFB9C82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E32F-F67B-4ADD-BAA0-6AB4DF62F2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&#1053;&#1091;%20&#1095;&#1090;&#1086;%20&#1078;&#1077;%20&#1090;&#1099;.wav"/><Relationship Id="rId2" Type="http://schemas.openxmlformats.org/officeDocument/2006/relationships/audio" Target="../media/applause.wav"/><Relationship Id="rId3" Type="http://schemas.openxmlformats.org/officeDocument/2006/relationships/audio" Target="../media/&#1055;&#1086;&#1087;&#1088;&#1086;&#1073;&#1091;&#1081;%20&#1077;&#1097;&#1105;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&#1055;&#1086;&#1087;&#1088;&#1086;&#1073;&#1091;&#1081;%20&#1077;&#1097;&#1105;.wav"/><Relationship Id="rId3" Type="http://schemas.openxmlformats.org/officeDocument/2006/relationships/audio" Target="../media/&#1053;&#1091;%20&#1095;&#1090;&#1086;%20&#1078;&#1077;%20&#1090;&#1099;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&#1053;&#1091;%20&#1095;&#1090;&#1086;%20&#1078;&#1077;%20&#1090;&#1099;.wav"/><Relationship Id="rId2" Type="http://schemas.openxmlformats.org/officeDocument/2006/relationships/audio" Target="../media/applause.wav"/><Relationship Id="rId3" Type="http://schemas.openxmlformats.org/officeDocument/2006/relationships/audio" Target="../media/&#1055;&#1086;&#1087;&#1088;&#1086;&#1073;&#1091;&#1081;%20&#1077;&#1097;&#1105;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&#1053;&#1091;%20&#1095;&#1090;&#1086;%20&#1078;&#1077;%20&#1090;&#1099;.wav"/><Relationship Id="rId2" Type="http://schemas.openxmlformats.org/officeDocument/2006/relationships/audio" Target="../media/&#1053;&#1091;%20&#1095;&#1090;&#1086;%20&#1078;&#1077;%20&#1090;&#1099;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&#1055;&#1086;&#1087;&#1088;&#1086;&#1073;&#1091;&#1081;%20&#1077;&#1097;&#1105;.wav"/><Relationship Id="rId2" Type="http://schemas.openxmlformats.org/officeDocument/2006/relationships/audio" Target="../media/applause.wav"/><Relationship Id="rId3" Type="http://schemas.openxmlformats.org/officeDocument/2006/relationships/audio" Target="../media/&#1053;&#1091;%20&#1095;&#1090;&#1086;%20&#1078;&#1077;%20&#1090;&#1099;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&#1053;&#1091;%20&#1095;&#1090;&#1086;%20&#1078;&#1077;%20&#1090;&#1099;.wav"/><Relationship Id="rId3" Type="http://schemas.openxmlformats.org/officeDocument/2006/relationships/audio" Target="../media/&#1055;&#1086;&#1087;&#1088;&#1086;&#1073;&#1091;&#1081;%20&#1077;&#1097;&#1105;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&#1053;&#1091;%20&#1095;&#1090;&#1086;%20&#1078;&#1077;%20&#1090;&#1099;.wav"/><Relationship Id="rId2" Type="http://schemas.openxmlformats.org/officeDocument/2006/relationships/audio" Target="../media/applause.wav"/><Relationship Id="rId3" Type="http://schemas.openxmlformats.org/officeDocument/2006/relationships/audio" Target="../media/&#1055;&#1086;&#1087;&#1088;&#1086;&#1073;&#1091;&#1081;%20&#1077;&#1097;&#1105;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&#1053;&#1091;%20&#1095;&#1090;&#1086;%20&#1078;&#1077;%20&#1090;&#1099;.wav"/><Relationship Id="rId2" Type="http://schemas.openxmlformats.org/officeDocument/2006/relationships/audio" Target="../media/applause.wav"/><Relationship Id="rId3" Type="http://schemas.openxmlformats.org/officeDocument/2006/relationships/audio" Target="../media/&#1055;&#1086;&#1087;&#1088;&#1086;&#1073;&#1091;&#1081;%20&#1077;&#1097;&#1105;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&#1053;&#1091;%20&#1095;&#1090;&#1086;%20&#1078;&#1077;%20&#1090;&#1099;.wav"/><Relationship Id="rId3" Type="http://schemas.openxmlformats.org/officeDocument/2006/relationships/audio" Target="../media/&#1055;&#1086;&#1087;&#1088;&#1086;&#1073;&#1091;&#1081;%20&#1077;&#1097;&#1105;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4" descr=""/>
          <p:cNvPicPr/>
          <p:nvPr/>
        </p:nvPicPr>
        <p:blipFill>
          <a:blip r:embed="rId2"/>
          <a:stretch/>
        </p:blipFill>
        <p:spPr>
          <a:xfrm>
            <a:off x="1420920" y="3359160"/>
            <a:ext cx="6351480" cy="2828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3714840" y="1857240"/>
            <a:ext cx="1630440" cy="1714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Заголовок 1" descr=""/>
          <p:cNvPicPr/>
          <p:nvPr/>
        </p:nvPicPr>
        <p:blipFill>
          <a:blip r:embed="rId1"/>
          <a:stretch/>
        </p:blipFill>
        <p:spPr>
          <a:xfrm>
            <a:off x="530280" y="480960"/>
            <a:ext cx="8186760" cy="1165320"/>
          </a:xfrm>
          <a:prstGeom prst="rect">
            <a:avLst/>
          </a:prstGeom>
          <a:ln w="0">
            <a:noFill/>
          </a:ln>
        </p:spPr>
      </p:pic>
      <p:pic>
        <p:nvPicPr>
          <p:cNvPr id="74" name="Содержимое 5" descr="13.jpg"/>
          <p:cNvPicPr/>
          <p:nvPr/>
        </p:nvPicPr>
        <p:blipFill>
          <a:blip r:embed="rId2"/>
          <a:stretch/>
        </p:blipFill>
        <p:spPr>
          <a:xfrm>
            <a:off x="5013360" y="1712880"/>
            <a:ext cx="3475080" cy="47163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785520" y="1785960"/>
            <a:ext cx="37861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обираемся к своему месту лицом к сидящим. Извиняемся за беспокойство и благодари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Заголовок 1" descr=""/>
          <p:cNvPicPr/>
          <p:nvPr/>
        </p:nvPicPr>
        <p:blipFill>
          <a:blip r:embed="rId1"/>
          <a:stretch/>
        </p:blipFill>
        <p:spPr>
          <a:xfrm>
            <a:off x="530280" y="480960"/>
            <a:ext cx="8186760" cy="1165320"/>
          </a:xfrm>
          <a:prstGeom prst="rect">
            <a:avLst/>
          </a:prstGeom>
          <a:ln w="0">
            <a:noFill/>
          </a:ln>
        </p:spPr>
      </p:pic>
      <p:pic>
        <p:nvPicPr>
          <p:cNvPr id="77" name="Содержимое 5" descr="13.jpg"/>
          <p:cNvPicPr/>
          <p:nvPr/>
        </p:nvPicPr>
        <p:blipFill>
          <a:blip r:embed="rId2"/>
          <a:stretch/>
        </p:blipFill>
        <p:spPr>
          <a:xfrm>
            <a:off x="5013360" y="1712880"/>
            <a:ext cx="3475080" cy="47163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785520" y="2571840"/>
            <a:ext cx="37861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антракте можно сходить в буфе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Заголовок 1" descr=""/>
          <p:cNvPicPr/>
          <p:nvPr/>
        </p:nvPicPr>
        <p:blipFill>
          <a:blip r:embed="rId1"/>
          <a:stretch/>
        </p:blipFill>
        <p:spPr>
          <a:xfrm>
            <a:off x="530280" y="480960"/>
            <a:ext cx="8186760" cy="1165320"/>
          </a:xfrm>
          <a:prstGeom prst="rect">
            <a:avLst/>
          </a:prstGeom>
          <a:ln w="0">
            <a:noFill/>
          </a:ln>
        </p:spPr>
      </p:pic>
      <p:pic>
        <p:nvPicPr>
          <p:cNvPr id="80" name="Содержимое 5" descr="13.jpg"/>
          <p:cNvPicPr/>
          <p:nvPr/>
        </p:nvPicPr>
        <p:blipFill>
          <a:blip r:embed="rId2"/>
          <a:stretch/>
        </p:blipFill>
        <p:spPr>
          <a:xfrm>
            <a:off x="5019840" y="1712880"/>
            <a:ext cx="3462120" cy="47163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856800" y="1731600"/>
            <a:ext cx="3714840" cy="24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кидаем свои места только после того, как закроется занаве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785880" y="4643280"/>
            <a:ext cx="4000320" cy="1928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кончен спектакл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 спеши убега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ятно акте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Спасибо!» сказать!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500040" y="712800"/>
            <a:ext cx="8186760" cy="1225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L:\etiket3\etiket3\16.jpg"/>
          <p:cNvPicPr/>
          <p:nvPr/>
        </p:nvPicPr>
        <p:blipFill>
          <a:blip r:embed="rId2"/>
          <a:stretch/>
        </p:blipFill>
        <p:spPr>
          <a:xfrm>
            <a:off x="3249720" y="1714680"/>
            <a:ext cx="2679480" cy="3600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L:\etiket3\etiket3\17.jpg"/>
          <p:cNvPicPr/>
          <p:nvPr/>
        </p:nvPicPr>
        <p:blipFill>
          <a:blip r:embed="rId3"/>
          <a:stretch/>
        </p:blipFill>
        <p:spPr>
          <a:xfrm>
            <a:off x="571680" y="1714680"/>
            <a:ext cx="2647800" cy="3600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L:\etiket3\etiket3\18.jpg"/>
          <p:cNvPicPr/>
          <p:nvPr/>
        </p:nvPicPr>
        <p:blipFill>
          <a:blip r:embed="rId4"/>
          <a:stretch/>
        </p:blipFill>
        <p:spPr>
          <a:xfrm>
            <a:off x="5958000" y="1714680"/>
            <a:ext cx="2652480" cy="360036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9"/>
          <p:cNvSpPr/>
          <p:nvPr/>
        </p:nvSpPr>
        <p:spPr>
          <a:xfrm>
            <a:off x="571680" y="5357880"/>
            <a:ext cx="4000320" cy="1214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 время спектакля другим не меш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 громко с соседкой своей                  не болтай!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0"/>
          <p:cNvSpPr/>
          <p:nvPr/>
        </p:nvSpPr>
        <p:spPr>
          <a:xfrm>
            <a:off x="4616280" y="5357880"/>
            <a:ext cx="4000680" cy="1214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спитанным детям пора это зн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 время спектакля                               не нужно жевать!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ahnschrift"/>
              </a:rPr>
              <a:t>Отсканируй </a:t>
            </a:r>
            <a:r>
              <a:rPr b="0" lang="en-US" sz="3200" spc="-1" strike="noStrike">
                <a:solidFill>
                  <a:srgbClr val="000000"/>
                </a:solidFill>
                <a:latin typeface="Bahnschrift"/>
              </a:rPr>
              <a:t>QR</a:t>
            </a:r>
            <a:r>
              <a:rPr b="0" lang="ru-RU" sz="3200" spc="-1" strike="noStrike">
                <a:solidFill>
                  <a:srgbClr val="000000"/>
                </a:solidFill>
                <a:latin typeface="Bahnschrift"/>
              </a:rPr>
              <a:t>-код и выполни задани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Bahnschrift"/>
              </a:rPr>
              <a:t>ССЫЛК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989000"/>
            <a:ext cx="8229600" cy="4137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12440" y="162864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ahnschrift"/>
              </a:rPr>
              <a:t>Что узнал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ahnschrift"/>
              </a:rPr>
              <a:t>Правила поведения в теат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ahnschrift"/>
              </a:rPr>
              <a:t>Чему научилис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ahnschrift"/>
              </a:rPr>
              <a:t>Вежливо себя вести в н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ahnschrift"/>
              </a:rPr>
              <a:t>Оценим себ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театр следует приходить за 10-15 до начала представления, чтобы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928800" y="278604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Поесть в буф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6"/>
          <p:cNvSpPr/>
          <p:nvPr/>
        </p:nvSpPr>
        <p:spPr>
          <a:xfrm>
            <a:off x="928800" y="407196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Не торопясь привести себя в поряд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7"/>
          <p:cNvSpPr/>
          <p:nvPr/>
        </p:nvSpPr>
        <p:spPr>
          <a:xfrm>
            <a:off x="928800" y="535788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Пообщаться со знаком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77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0%9D%D1%83%20%D1%87%D1%82%D0%BE%20%D0%B6%D0%B5%20%D1%82%D1%8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8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83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8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89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9F%D0%BE%D0%BF%D1%80%D0%BE%D0%B1%D1%83%D0%B9%20%D0%B5%D1%89%D1%9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9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омерок, полученный в гардеробе, нужно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Скругленный прямоугольник 5"/>
          <p:cNvSpPr/>
          <p:nvPr/>
        </p:nvSpPr>
        <p:spPr>
          <a:xfrm>
            <a:off x="928800" y="278604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Убрать в карман или сумоч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6"/>
          <p:cNvSpPr/>
          <p:nvPr/>
        </p:nvSpPr>
        <p:spPr>
          <a:xfrm>
            <a:off x="928800" y="407196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Отдать билете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7"/>
          <p:cNvSpPr/>
          <p:nvPr/>
        </p:nvSpPr>
        <p:spPr>
          <a:xfrm>
            <a:off x="928800" y="535788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Начать вертеть на паль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94" dur="indefinite" restart="never" nodeType="tmRoot">
          <p:childTnLst>
            <p:seq>
              <p:cTn id="195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0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02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D0%9F%D0%BE%D0%BF%D1%80%D0%BE%D0%B1%D1%83%D0%B9%20%D0%B5%D1%89%D1%9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0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0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08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9D%D1%83%20%D1%87%D1%82%D0%BE%20%D0%B6%D0%B5%20%D1%82%D1%8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1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 пути к своему месту                         в зрительном зале проходить     вдоль ряда положено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Скругленный прямоугольник 5"/>
          <p:cNvSpPr/>
          <p:nvPr/>
        </p:nvSpPr>
        <p:spPr>
          <a:xfrm>
            <a:off x="928800" y="278604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Лицом к сц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кругленный прямоугольник 6"/>
          <p:cNvSpPr/>
          <p:nvPr/>
        </p:nvSpPr>
        <p:spPr>
          <a:xfrm>
            <a:off x="928800" y="407196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Лицом к сидящ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7"/>
          <p:cNvSpPr/>
          <p:nvPr/>
        </p:nvSpPr>
        <p:spPr>
          <a:xfrm>
            <a:off x="928800" y="535788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Боком к сидящ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13" dur="indefinite" restart="never" nodeType="tmRoot">
          <p:childTnLst>
            <p:seq>
              <p:cTn id="214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15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0%9D%D1%83%20%D1%87%D1%82%D0%BE%20%D0%B6%D0%B5%20%D1%82%D1%8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1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21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2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27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9F%D0%BE%D0%BF%D1%80%D0%BE%D0%B1%D1%83%D0%B9%20%D0%B5%D1%89%D1%9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3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гда мимо твоего места по проходу идут другие зрители, нужно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Скругленный прямоугольник 5"/>
          <p:cNvSpPr/>
          <p:nvPr/>
        </p:nvSpPr>
        <p:spPr>
          <a:xfrm>
            <a:off x="928800" y="278604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Вытянуть ноги в про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6"/>
          <p:cNvSpPr/>
          <p:nvPr/>
        </p:nvSpPr>
        <p:spPr>
          <a:xfrm>
            <a:off x="928800" y="407196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Громко возмущ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7"/>
          <p:cNvSpPr/>
          <p:nvPr/>
        </p:nvSpPr>
        <p:spPr>
          <a:xfrm>
            <a:off x="928800" y="535788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Встать и дать прой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32" dur="indefinite" restart="never" nodeType="tmRoot">
          <p:childTnLst>
            <p:seq>
              <p:cTn id="233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34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0%9D%D1%83%20%D1%87%D1%82%D0%BE%20%D0%B6%D0%B5%20%D1%82%D1%8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3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3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40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D0%9D%D1%83%20%D1%87%D1%82%D0%BE%20%D0%B6%D0%B5%20%D1%82%D1%8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4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46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5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ahnschrift"/>
              </a:rPr>
              <a:t>Цель: Изучить театральный этик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ahnschrift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ahnschrift"/>
              </a:rPr>
              <a:t>Узнать правила поведения в теат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ahnschrift"/>
              </a:rPr>
              <a:t>Научиться вежливости для его посещ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ahnschrift"/>
              </a:rPr>
              <a:t>Применить знания на практ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 время представления следует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Скругленный прямоугольник 5"/>
          <p:cNvSpPr/>
          <p:nvPr/>
        </p:nvSpPr>
        <p:spPr>
          <a:xfrm>
            <a:off x="928800" y="278604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Разговаривать с сосе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6"/>
          <p:cNvSpPr/>
          <p:nvPr/>
        </p:nvSpPr>
        <p:spPr>
          <a:xfrm>
            <a:off x="928800" y="407196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Смотреть на сцену и внимательно слуш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7"/>
          <p:cNvSpPr/>
          <p:nvPr/>
        </p:nvSpPr>
        <p:spPr>
          <a:xfrm>
            <a:off x="928800" y="535788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Есть конфеты и шуршать фант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51" dur="indefinite" restart="never" nodeType="tmRoot">
          <p:childTnLst>
            <p:seq>
              <p:cTn id="25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53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0%9F%D0%BE%D0%BF%D1%80%D0%BE%D0%B1%D1%83%D0%B9%20%D0%B5%D1%89%D1%9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5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5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59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6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65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9D%D1%83%20%D1%87%D1%82%D0%BE%20%D0%B6%D0%B5%20%D1%82%D1%8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6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 время прослушивания музыкального произведения           не следует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Скругленный прямоугольник 5"/>
          <p:cNvSpPr/>
          <p:nvPr/>
        </p:nvSpPr>
        <p:spPr>
          <a:xfrm>
            <a:off x="928800" y="278604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Барабанить пальцами в такт музыке и напе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кругленный прямоугольник 6"/>
          <p:cNvSpPr/>
          <p:nvPr/>
        </p:nvSpPr>
        <p:spPr>
          <a:xfrm>
            <a:off x="928800" y="407196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Внимательно слуш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ый прямоугольник 7"/>
          <p:cNvSpPr/>
          <p:nvPr/>
        </p:nvSpPr>
        <p:spPr>
          <a:xfrm>
            <a:off x="928800" y="535788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Сидеть на своем 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70" dur="indefinite" restart="never" nodeType="tmRoot">
          <p:childTnLst>
            <p:seq>
              <p:cTn id="271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72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7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7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78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D0%9D%D1%83%20%D1%87%D1%82%D0%BE%20%D0%B6%D0%B5%20%D1%82%D1%8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8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8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84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9F%D0%BE%D0%BF%D1%80%D0%BE%D0%B1%D1%83%D0%B9%20%D0%B5%D1%89%D1%9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8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8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 время антракта не следует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Скругленный прямоугольник 5"/>
          <p:cNvSpPr/>
          <p:nvPr/>
        </p:nvSpPr>
        <p:spPr>
          <a:xfrm>
            <a:off x="928800" y="278604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Сидеть на своих мес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кругленный прямоугольник 6"/>
          <p:cNvSpPr/>
          <p:nvPr/>
        </p:nvSpPr>
        <p:spPr>
          <a:xfrm>
            <a:off x="928800" y="407196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Мчаться в буфет, расталкивая вс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кругленный прямоугольник 7"/>
          <p:cNvSpPr/>
          <p:nvPr/>
        </p:nvSpPr>
        <p:spPr>
          <a:xfrm>
            <a:off x="928800" y="535788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Разговаривать со своими спутн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89" dur="indefinite" restart="never" nodeType="tmRoot">
          <p:childTnLst>
            <p:seq>
              <p:cTn id="29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91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0%9D%D1%83%20%D1%87%D1%82%D0%BE%20%D0%B6%D0%B5%20%D1%82%D1%8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9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9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97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0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30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03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9F%D0%BE%D0%BF%D1%80%D0%BE%D0%B1%D1%83%D0%B9%20%D0%B5%D1%89%D1%9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0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0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 время антракта нужно разговаривать так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чтобы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Скругленный прямоугольник 5"/>
          <p:cNvSpPr/>
          <p:nvPr/>
        </p:nvSpPr>
        <p:spPr>
          <a:xfrm>
            <a:off x="928800" y="278604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Тебя слышали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6"/>
          <p:cNvSpPr/>
          <p:nvPr/>
        </p:nvSpPr>
        <p:spPr>
          <a:xfrm>
            <a:off x="928800" y="407196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Тебя слышал только твой собесед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7"/>
          <p:cNvSpPr/>
          <p:nvPr/>
        </p:nvSpPr>
        <p:spPr>
          <a:xfrm>
            <a:off x="928800" y="535788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Тебя никто не поня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08" dur="indefinite" restart="never" nodeType="tmRoot">
          <p:childTnLst>
            <p:seq>
              <p:cTn id="309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10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0%9D%D1%83%20%D1%87%D1%82%D0%BE%20%D0%B6%D0%B5%20%D1%82%D1%8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1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1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16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1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32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22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9F%D0%BE%D0%BF%D1%80%D0%BE%D0%B1%D1%83%D0%B9%20%D0%B5%D1%89%D1%9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2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2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гда представление закончилось нужно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Скругленный прямоугольник 5"/>
          <p:cNvSpPr/>
          <p:nvPr/>
        </p:nvSpPr>
        <p:spPr>
          <a:xfrm>
            <a:off x="928800" y="278604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Подождать, пока опустится занав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6"/>
          <p:cNvSpPr/>
          <p:nvPr/>
        </p:nvSpPr>
        <p:spPr>
          <a:xfrm>
            <a:off x="928800" y="407196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Выбежать первым из з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7"/>
          <p:cNvSpPr/>
          <p:nvPr/>
        </p:nvSpPr>
        <p:spPr>
          <a:xfrm>
            <a:off x="928800" y="535788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Продолжать спать дал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27" dur="indefinite" restart="never" nodeType="tmRoot">
          <p:childTnLst>
            <p:seq>
              <p:cTn id="328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29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3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33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35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D0%9D%D1%83%20%D1%87%D1%82%D0%BE%20%D0%B6%D0%B5%20%D1%82%D1%8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3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3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41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9F%D0%BE%D0%BF%D1%80%D0%BE%D0%B1%D1%83%D0%B9%20%D0%B5%D1%89%D1%9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4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4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E:\Theatre_clipart\Theatre\Theatre_300dpi_4288x28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3"/>
          <p:cNvSpPr/>
          <p:nvPr/>
        </p:nvSpPr>
        <p:spPr>
          <a:xfrm>
            <a:off x="714240" y="1214280"/>
            <a:ext cx="7858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Arial Black"/>
                <a:ea typeface="Arial"/>
              </a:rPr>
              <a:t>Добро пожаловать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ahnschrift"/>
              </a:rPr>
              <a:t>Как правильно сидеть, дружок, не забывай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Объект 3" descr=""/>
          <p:cNvPicPr/>
          <p:nvPr/>
        </p:nvPicPr>
        <p:blipFill>
          <a:blip r:embed="rId1"/>
          <a:stretch/>
        </p:blipFill>
        <p:spPr>
          <a:xfrm>
            <a:off x="1332000" y="2205000"/>
            <a:ext cx="6810120" cy="3672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9800" y="672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Объект 3" descr=""/>
          <p:cNvPicPr/>
          <p:nvPr/>
        </p:nvPicPr>
        <p:blipFill>
          <a:blip r:embed="rId1"/>
          <a:srcRect l="12212" t="15181" r="13587" b="0"/>
          <a:stretch/>
        </p:blipFill>
        <p:spPr>
          <a:xfrm>
            <a:off x="1763640" y="1055520"/>
            <a:ext cx="5904000" cy="5069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10920" y="806400"/>
            <a:ext cx="806436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ahnschrift"/>
              </a:rPr>
              <a:t>Пьеса - это музыкальное или литературное произведение, предназначенное для постановки на сцен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ahnschrift"/>
              </a:rPr>
              <a:t>Спектакль - это воплощение пьесы на сцене, театральное зрелище, представление, произведение сценического искус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"/>
          <p:cNvPicPr/>
          <p:nvPr/>
        </p:nvPicPr>
        <p:blipFill>
          <a:blip r:embed="rId1"/>
          <a:stretch/>
        </p:blipFill>
        <p:spPr>
          <a:xfrm>
            <a:off x="755640" y="3933720"/>
            <a:ext cx="3813120" cy="23749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"/>
          <p:cNvPicPr/>
          <p:nvPr/>
        </p:nvPicPr>
        <p:blipFill>
          <a:blip r:embed="rId2"/>
          <a:stretch/>
        </p:blipFill>
        <p:spPr>
          <a:xfrm>
            <a:off x="4711680" y="3933720"/>
            <a:ext cx="3759120" cy="2500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351000" y="522360"/>
            <a:ext cx="8442000" cy="6332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ahnschrift"/>
              </a:rPr>
              <a:t>Как работать в паре или в групп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ahnschrift"/>
              </a:rPr>
              <a:t>Уважай своего товарища, не перебива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ahnschrift"/>
              </a:rPr>
              <a:t>У всех свое мнение, не осужда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ahnschrift"/>
              </a:rPr>
              <a:t>Умей каждого выслуш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ahnschrift"/>
              </a:rPr>
              <a:t>Не согласен - предлага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4" descr=""/>
          <p:cNvPicPr/>
          <p:nvPr/>
        </p:nvPicPr>
        <p:blipFill>
          <a:blip r:embed="rId1"/>
          <a:srcRect l="46359" t="0" r="0" b="0"/>
          <a:stretch/>
        </p:blipFill>
        <p:spPr>
          <a:xfrm>
            <a:off x="2484360" y="4062240"/>
            <a:ext cx="1498680" cy="22654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5" descr=""/>
          <p:cNvPicPr/>
          <p:nvPr/>
        </p:nvPicPr>
        <p:blipFill>
          <a:blip r:embed="rId2"/>
          <a:srcRect l="0" t="0" r="53686" b="0"/>
          <a:stretch/>
        </p:blipFill>
        <p:spPr>
          <a:xfrm>
            <a:off x="4716360" y="4062240"/>
            <a:ext cx="1295640" cy="2262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1" descr=""/>
          <p:cNvPicPr/>
          <p:nvPr/>
        </p:nvPicPr>
        <p:blipFill>
          <a:blip r:embed="rId1"/>
          <a:stretch/>
        </p:blipFill>
        <p:spPr>
          <a:xfrm>
            <a:off x="530280" y="480960"/>
            <a:ext cx="8186760" cy="1165320"/>
          </a:xfrm>
          <a:prstGeom prst="rect">
            <a:avLst/>
          </a:prstGeom>
          <a:ln w="0">
            <a:noFill/>
          </a:ln>
        </p:spPr>
      </p:pic>
      <p:pic>
        <p:nvPicPr>
          <p:cNvPr id="66" name="Содержимое 5" descr="13.jpg"/>
          <p:cNvPicPr/>
          <p:nvPr/>
        </p:nvPicPr>
        <p:blipFill>
          <a:blip r:embed="rId2"/>
          <a:stretch/>
        </p:blipFill>
        <p:spPr>
          <a:xfrm>
            <a:off x="5000760" y="1784520"/>
            <a:ext cx="3500280" cy="47163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85880" y="1738440"/>
            <a:ext cx="400032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театр приходим     за 10-15 минут                до начала представ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а одежды – торжественная, праздничн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7"/>
          <p:cNvSpPr/>
          <p:nvPr/>
        </p:nvSpPr>
        <p:spPr>
          <a:xfrm>
            <a:off x="785880" y="5357880"/>
            <a:ext cx="4000320" cy="1214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театр всегда ходи опрятны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чесанным и аккуратным!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1"/>
          <a:stretch/>
        </p:blipFill>
        <p:spPr>
          <a:xfrm>
            <a:off x="530280" y="480960"/>
            <a:ext cx="8186760" cy="1165320"/>
          </a:xfrm>
          <a:prstGeom prst="rect">
            <a:avLst/>
          </a:prstGeom>
          <a:ln w="0">
            <a:noFill/>
          </a:ln>
        </p:spPr>
      </p:pic>
      <p:pic>
        <p:nvPicPr>
          <p:cNvPr id="70" name="Содержимое 5" descr="13.jpg"/>
          <p:cNvPicPr/>
          <p:nvPr/>
        </p:nvPicPr>
        <p:blipFill>
          <a:blip r:embed="rId2"/>
          <a:stretch/>
        </p:blipFill>
        <p:spPr>
          <a:xfrm>
            <a:off x="5000760" y="1712880"/>
            <a:ext cx="3500280" cy="47163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85520" y="2143080"/>
            <a:ext cx="378612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 третьего звонка занимаем свои места в зрительном за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6"/>
          <p:cNvSpPr/>
          <p:nvPr/>
        </p:nvSpPr>
        <p:spPr>
          <a:xfrm>
            <a:off x="785880" y="5357880"/>
            <a:ext cx="4000320" cy="1214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ль вежливым себя считаеш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о на спектакль не опоздаешь!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2:11:14Z</dcterms:created>
  <dc:creator>Valued Acer Customer</dc:creator>
  <dc:description/>
  <dc:language>en-US</dc:language>
  <cp:lastModifiedBy>Элина</cp:lastModifiedBy>
  <dcterms:modified xsi:type="dcterms:W3CDTF">2023-04-26T17:38:58Z</dcterms:modified>
  <cp:revision>29</cp:revision>
  <dc:subject/>
  <dc:title>Слайд 1</dc:title>
</cp:coreProperties>
</file>