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%D0%9F%D0%BE%D0%BF%D1%80%D0%BE%D0%B1%D1%83%D0%B9%20%D0%B5%D1%89%D1%91.wav" ContentType="audio/x-wav"/>
  <Override PartName="/ppt/media/%D0%9D%D1%83%20%D1%87%D1%82%D0%BE%20%D0%B6%D0%B5%20%D1%82%D1%8B.wav" ContentType="audio/x-wav"/>
  <Override PartName="/ppt/media/image16.jpeg" ContentType="image/jpeg"/>
  <Override PartName="/ppt/media/image21.jpeg" ContentType="image/jpeg"/>
  <Override PartName="/ppt/media/image22.png" ContentType="image/png"/>
  <Override PartName="/ppt/media/image5.png" ContentType="image/png"/>
  <Override PartName="/ppt/media/applause.wav" ContentType="audio/x-wav"/>
  <Override PartName="/ppt/media/image10.png" ContentType="image/png"/>
  <Override PartName="/ppt/media/image18.png" ContentType="image/png"/>
  <Override PartName="/ppt/media/image15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970D-C0DA-4719-BD17-F0BCFCAAC2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7E21-7FE0-4540-8D62-02931F00355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A93A-B63C-4C63-B1EE-53DC188092D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8F5F-21AC-48BB-A864-CFBF4D0C612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2FE4-664F-4C2A-8620-CEAF245CBCB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D3AB-C27F-45F3-B7BD-761B6931B0C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8B17-215E-4731-8C0D-5DEABE5A0FB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2516-717A-4AE5-9492-1F92E17AC36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C39E-0FB6-485B-A623-8F864281187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0BEA-F371-4500-9A65-D812A1C385A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33E0-4D4A-4478-909E-729BC1FDE2F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D588-70C5-4DED-A808-990254A500C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A75C-47C6-462B-8CA4-FD1F2676C87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AACD-D34A-4475-A459-68F54E0D02F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90B9-7E09-48B7-91E7-84DEF7BC51A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D164-E2A0-499D-B886-999CF9A3816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06C2-7BA5-4CBA-9BEA-E3949CB4B7F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26DB-273E-461B-B057-1B1424F2E87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A650-9E98-4047-BC3B-11F801B4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759-69E3-4DB4-8620-8BB8468A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5CA0-3D51-4F35-B112-154354CA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033-2AE1-462C-94DC-509F0A82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541-DD33-4A38-9BF4-2CE2B6C4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674-2C7B-4142-8A2A-2977C6F5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3120-7BBD-4569-B425-94692C84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8AE-F7CE-46DA-A439-971371DF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B230-F8E2-4AC8-AA32-2329FC8D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8B08-95BA-4FF3-BD46-E5B3D24A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AF76-708F-4E3D-A27F-C2EBECA5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0AA-FB84-426A-AD7B-F7DE847C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62F2-9115-4513-8D50-658E04F858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&#1053;&#1091;%20&#1095;&#1090;&#1086;%20&#1078;&#1077;%20&#1090;&#1099;.wav"/><Relationship Id="rId2" Type="http://schemas.openxmlformats.org/officeDocument/2006/relationships/audio" Target="../media/applause.wav"/><Relationship Id="rId3" Type="http://schemas.openxmlformats.org/officeDocument/2006/relationships/audio" Target="../media/&#1055;&#1086;&#1087;&#1088;&#1086;&#1073;&#1091;&#1081;%20&#1077;&#1097;&#110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&#1055;&#1086;&#1087;&#1088;&#1086;&#1073;&#1091;&#1081;%20&#1077;&#1097;&#1105;.wav"/><Relationship Id="rId3" Type="http://schemas.openxmlformats.org/officeDocument/2006/relationships/audio" Target="../media/&#1053;&#1091;%20&#1095;&#1090;&#1086;%20&#1078;&#1077;%20&#1090;&#1099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&#1053;&#1091;%20&#1095;&#1090;&#1086;%20&#1078;&#1077;%20&#1090;&#1099;.wav"/><Relationship Id="rId2" Type="http://schemas.openxmlformats.org/officeDocument/2006/relationships/audio" Target="../media/applause.wav"/><Relationship Id="rId3" Type="http://schemas.openxmlformats.org/officeDocument/2006/relationships/audio" Target="../media/&#1055;&#1086;&#1087;&#1088;&#1086;&#1073;&#1091;&#1081;%20&#1077;&#1097;&#110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&#1053;&#1091;%20&#1095;&#1090;&#1086;%20&#1078;&#1077;%20&#1090;&#1099;.wav"/><Relationship Id="rId2" Type="http://schemas.openxmlformats.org/officeDocument/2006/relationships/audio" Target="../media/&#1053;&#1091;%20&#1095;&#1090;&#1086;%20&#1078;&#1077;%20&#1090;&#1099;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&#1055;&#1086;&#1087;&#1088;&#1086;&#1073;&#1091;&#1081;%20&#1077;&#1097;&#1105;.wav"/><Relationship Id="rId2" Type="http://schemas.openxmlformats.org/officeDocument/2006/relationships/audio" Target="../media/applause.wav"/><Relationship Id="rId3" Type="http://schemas.openxmlformats.org/officeDocument/2006/relationships/audio" Target="../media/&#1053;&#1091;%20&#1095;&#1090;&#1086;%20&#1078;&#1077;%20&#1090;&#1099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&#1053;&#1091;%20&#1095;&#1090;&#1086;%20&#1078;&#1077;%20&#1090;&#1099;.wav"/><Relationship Id="rId3" Type="http://schemas.openxmlformats.org/officeDocument/2006/relationships/audio" Target="../media/&#1055;&#1086;&#1087;&#1088;&#1086;&#1073;&#1091;&#1081;%20&#1077;&#1097;&#110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&#1053;&#1091;%20&#1095;&#1090;&#1086;%20&#1078;&#1077;%20&#1090;&#1099;.wav"/><Relationship Id="rId2" Type="http://schemas.openxmlformats.org/officeDocument/2006/relationships/audio" Target="../media/applause.wav"/><Relationship Id="rId3" Type="http://schemas.openxmlformats.org/officeDocument/2006/relationships/audio" Target="../media/&#1055;&#1086;&#1087;&#1088;&#1086;&#1073;&#1091;&#1081;%20&#1077;&#1097;&#110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&#1053;&#1091;%20&#1095;&#1090;&#1086;%20&#1078;&#1077;%20&#1090;&#1099;.wav"/><Relationship Id="rId2" Type="http://schemas.openxmlformats.org/officeDocument/2006/relationships/audio" Target="../media/applause.wav"/><Relationship Id="rId3" Type="http://schemas.openxmlformats.org/officeDocument/2006/relationships/audio" Target="../media/&#1055;&#1086;&#1087;&#1088;&#1086;&#1073;&#1091;&#1081;%20&#1077;&#1097;&#110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&#1053;&#1091;%20&#1095;&#1090;&#1086;%20&#1078;&#1077;%20&#1090;&#1099;.wav"/><Relationship Id="rId3" Type="http://schemas.openxmlformats.org/officeDocument/2006/relationships/audio" Target="../media/&#1055;&#1086;&#1087;&#1088;&#1086;&#1073;&#1091;&#1081;%20&#1077;&#1097;&#110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4" descr=""/>
          <p:cNvPicPr/>
          <p:nvPr/>
        </p:nvPicPr>
        <p:blipFill>
          <a:blip r:embed="rId2"/>
          <a:stretch/>
        </p:blipFill>
        <p:spPr>
          <a:xfrm>
            <a:off x="1420920" y="3359160"/>
            <a:ext cx="6351480" cy="2828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714840" y="1857240"/>
            <a:ext cx="1630440" cy="1714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530280" y="480960"/>
            <a:ext cx="8186760" cy="1165320"/>
          </a:xfrm>
          <a:prstGeom prst="rect">
            <a:avLst/>
          </a:prstGeom>
          <a:ln w="0">
            <a:noFill/>
          </a:ln>
        </p:spPr>
      </p:pic>
      <p:pic>
        <p:nvPicPr>
          <p:cNvPr id="74" name="Содержимое 5" descr="13.jpg"/>
          <p:cNvPicPr/>
          <p:nvPr/>
        </p:nvPicPr>
        <p:blipFill>
          <a:blip r:embed="rId2"/>
          <a:stretch/>
        </p:blipFill>
        <p:spPr>
          <a:xfrm>
            <a:off x="5013360" y="1712880"/>
            <a:ext cx="3475080" cy="4716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85520" y="1785960"/>
            <a:ext cx="37861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бираемся к своему месту лицом к сидящим. Извиняемся за беспокойство и благодари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530280" y="480960"/>
            <a:ext cx="8186760" cy="116532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5" descr="13.jpg"/>
          <p:cNvPicPr/>
          <p:nvPr/>
        </p:nvPicPr>
        <p:blipFill>
          <a:blip r:embed="rId2"/>
          <a:stretch/>
        </p:blipFill>
        <p:spPr>
          <a:xfrm>
            <a:off x="5013360" y="1712880"/>
            <a:ext cx="3475080" cy="4716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85520" y="2571840"/>
            <a:ext cx="3786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антракте можно сходить в буфе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530280" y="480960"/>
            <a:ext cx="8186760" cy="1165320"/>
          </a:xfrm>
          <a:prstGeom prst="rect">
            <a:avLst/>
          </a:prstGeom>
          <a:ln w="0">
            <a:noFill/>
          </a:ln>
        </p:spPr>
      </p:pic>
      <p:pic>
        <p:nvPicPr>
          <p:cNvPr id="80" name="Содержимое 5" descr="13.jpg"/>
          <p:cNvPicPr/>
          <p:nvPr/>
        </p:nvPicPr>
        <p:blipFill>
          <a:blip r:embed="rId2"/>
          <a:stretch/>
        </p:blipFill>
        <p:spPr>
          <a:xfrm>
            <a:off x="5019840" y="1712880"/>
            <a:ext cx="3462120" cy="4716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56800" y="1731600"/>
            <a:ext cx="371484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идаем свои места только после того, как закроется занаве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785880" y="4643280"/>
            <a:ext cx="4000320" cy="1928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кончен спектак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спеши убег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ятно акте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Спасибо!» сказать!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500040" y="712800"/>
            <a:ext cx="8186760" cy="1225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L:\etiket3\etiket3\16.jpg"/>
          <p:cNvPicPr/>
          <p:nvPr/>
        </p:nvPicPr>
        <p:blipFill>
          <a:blip r:embed="rId2"/>
          <a:stretch/>
        </p:blipFill>
        <p:spPr>
          <a:xfrm>
            <a:off x="3249720" y="1714680"/>
            <a:ext cx="2679480" cy="360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L:\etiket3\etiket3\17.jpg"/>
          <p:cNvPicPr/>
          <p:nvPr/>
        </p:nvPicPr>
        <p:blipFill>
          <a:blip r:embed="rId3"/>
          <a:stretch/>
        </p:blipFill>
        <p:spPr>
          <a:xfrm>
            <a:off x="571680" y="1714680"/>
            <a:ext cx="2647800" cy="360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L:\etiket3\etiket3\18.jpg"/>
          <p:cNvPicPr/>
          <p:nvPr/>
        </p:nvPicPr>
        <p:blipFill>
          <a:blip r:embed="rId4"/>
          <a:stretch/>
        </p:blipFill>
        <p:spPr>
          <a:xfrm>
            <a:off x="5958000" y="1714680"/>
            <a:ext cx="2652480" cy="36003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9"/>
          <p:cNvSpPr/>
          <p:nvPr/>
        </p:nvSpPr>
        <p:spPr>
          <a:xfrm>
            <a:off x="571680" y="5357880"/>
            <a:ext cx="4000320" cy="1214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 время спектакля другим не меш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громко с соседкой своей                  не болтай!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0"/>
          <p:cNvSpPr/>
          <p:nvPr/>
        </p:nvSpPr>
        <p:spPr>
          <a:xfrm>
            <a:off x="4616280" y="5357880"/>
            <a:ext cx="4000680" cy="1214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питанным детям пора это зн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 время спектакля                               не нужно жевать!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Отсканируй </a:t>
            </a:r>
            <a:r>
              <a:rPr b="0" lang="en-US" sz="3200" spc="-1" strike="noStrike">
                <a:solidFill>
                  <a:srgbClr val="000000"/>
                </a:solidFill>
                <a:latin typeface="Bahnschrift"/>
              </a:rPr>
              <a:t>QR</a:t>
            </a: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-код и выполни задан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ССЫЛК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989000"/>
            <a:ext cx="8229600" cy="4137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2440" y="162864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Что узнал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Правила поведения в теат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Чему научили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Вежливо себя вести в н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Оценим себ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театр следует приходить за 10-15 до начала представления, чтобы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Поесть в буф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6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Не торопясь привести себя в поряд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7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Пообщаться со знаком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мерок, полученный в гардеробе, нужн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кругленный прямоугольник 5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Убрать в карман или сумоч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6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Отдать билет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7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Начать вертеть на паль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4" dur="indefinite" restart="never" nodeType="tmRoot">
          <p:childTnLst>
            <p:seq>
              <p:cTn id="19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пути к своему месту                         в зрительном зале проходить     вдоль ряда положен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кругленный прямоугольник 5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Лицом к сц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6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Лицом к сидя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7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Боком к сидя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3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гда мимо твоего места по проходу идут другие зрители, нужн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кругленный прямоугольник 5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Вытянуть ноги в пр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6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Громко возмущ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7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Встать и дать про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32" dur="indefinite" restart="never" nodeType="tmRoot">
          <p:childTnLst>
            <p:seq>
              <p:cTn id="23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3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46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5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Цель: Изучить театральный этик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Узнать правила поведения в теат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Научиться вежливости для его посещ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Применить знания на прак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 время представления следует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5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Разговаривать с сосе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6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Смотреть на сцену и внимательно слу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7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Есть конфеты и шуршать фант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6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 время прослушивания музыкального произведения           не следует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Скругленный прямоугольник 5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Барабанить пальцами в такт музыке и напе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6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Внимательно слу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7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Сидеть на своем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70" dur="indefinite" restart="never" nodeType="tmRoot">
          <p:childTnLst>
            <p:seq>
              <p:cTn id="27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8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84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8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 время антракта не следует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кругленный прямоугольник 5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Сидеть на своих мес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6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Мчаться в буфет, расталкивая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7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Разговаривать со своими спут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89" dur="indefinite" restart="never" nodeType="tmRoot">
          <p:childTnLst>
            <p:seq>
              <p:cTn id="29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9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0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0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 время антракта нужно разговаривать та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чтобы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Скругленный прямоугольник 5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Тебя слышали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6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Тебя слышал только твой собесе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7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Тебя никто не по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08" dur="indefinite" restart="never" nodeType="tmRoot">
          <p:childTnLst>
            <p:seq>
              <p:cTn id="30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1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22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2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гда представление закончилось нужн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Подождать, пока опустится занав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6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Выбежать первым из з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7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Продолжать спать да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27" dur="indefinite" restart="never" nodeType="tmRoot">
          <p:childTnLst>
            <p:seq>
              <p:cTn id="32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29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3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41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4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E:\Theatre_clipart\Theatre\Theatre_300dpi_4288x28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"/>
          <p:cNvSpPr/>
          <p:nvPr/>
        </p:nvSpPr>
        <p:spPr>
          <a:xfrm>
            <a:off x="714240" y="1214280"/>
            <a:ext cx="7858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 Black"/>
                <a:ea typeface="Arial"/>
              </a:rPr>
              <a:t>Добро пожаловать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Как правильно сидеть, дружок, не забывай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681012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9800" y="672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rcRect l="12212" t="15181" r="13587" b="0"/>
          <a:stretch/>
        </p:blipFill>
        <p:spPr>
          <a:xfrm>
            <a:off x="1763640" y="1055520"/>
            <a:ext cx="5904000" cy="5069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10920" y="806400"/>
            <a:ext cx="80643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Пьеса - это музыкальное или литературное произведение, предназначенное для постановки на сцен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Спектакль - это воплощение пьесы на сцене, театральное зрелище, представление, произведение сценического искус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755640" y="3933720"/>
            <a:ext cx="3813120" cy="2374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"/>
          <p:cNvPicPr/>
          <p:nvPr/>
        </p:nvPicPr>
        <p:blipFill>
          <a:blip r:embed="rId2"/>
          <a:stretch/>
        </p:blipFill>
        <p:spPr>
          <a:xfrm>
            <a:off x="4711680" y="3933720"/>
            <a:ext cx="3759120" cy="2500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351000" y="522360"/>
            <a:ext cx="8442000" cy="6332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Как работать в паре или в групп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Уважай своего товарища, не перебива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У всех свое мнение, не осужд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Умей каждого выслуш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Не согласен - предлаг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"/>
          <p:cNvPicPr/>
          <p:nvPr/>
        </p:nvPicPr>
        <p:blipFill>
          <a:blip r:embed="rId1"/>
          <a:srcRect l="46359" t="0" r="0" b="0"/>
          <a:stretch/>
        </p:blipFill>
        <p:spPr>
          <a:xfrm>
            <a:off x="2484360" y="4062240"/>
            <a:ext cx="1498680" cy="22654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"/>
          <p:cNvPicPr/>
          <p:nvPr/>
        </p:nvPicPr>
        <p:blipFill>
          <a:blip r:embed="rId2"/>
          <a:srcRect l="0" t="0" r="53686" b="0"/>
          <a:stretch/>
        </p:blipFill>
        <p:spPr>
          <a:xfrm>
            <a:off x="4716360" y="4062240"/>
            <a:ext cx="1295640" cy="2262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530280" y="480960"/>
            <a:ext cx="8186760" cy="116532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5" descr="13.jpg"/>
          <p:cNvPicPr/>
          <p:nvPr/>
        </p:nvPicPr>
        <p:blipFill>
          <a:blip r:embed="rId2"/>
          <a:stretch/>
        </p:blipFill>
        <p:spPr>
          <a:xfrm>
            <a:off x="5000760" y="1784520"/>
            <a:ext cx="3500280" cy="4716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85880" y="1738440"/>
            <a:ext cx="40003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еатр приходим     за 10-15 минут                до начала представ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а одежды – торжественная, праздничн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785880" y="5357880"/>
            <a:ext cx="4000320" cy="1214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театр всегда ходи опрятны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чесанным и аккуратным!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530280" y="480960"/>
            <a:ext cx="8186760" cy="116532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5" descr="13.jpg"/>
          <p:cNvPicPr/>
          <p:nvPr/>
        </p:nvPicPr>
        <p:blipFill>
          <a:blip r:embed="rId2"/>
          <a:stretch/>
        </p:blipFill>
        <p:spPr>
          <a:xfrm>
            <a:off x="5000760" y="1712880"/>
            <a:ext cx="3500280" cy="47163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85520" y="2143080"/>
            <a:ext cx="37861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 третьего звонка занимаем свои места в зрительном за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785880" y="5357880"/>
            <a:ext cx="4000320" cy="1214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ль вежливым себя считаеш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 на спектакль не опоздаешь!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2:11:14Z</dcterms:created>
  <dc:creator>Valued Acer Customer</dc:creator>
  <dc:description/>
  <dc:language>en-US</dc:language>
  <cp:lastModifiedBy>Элина</cp:lastModifiedBy>
  <dcterms:modified xsi:type="dcterms:W3CDTF">2023-04-26T17:38:58Z</dcterms:modified>
  <cp:revision>29</cp:revision>
  <dc:subject/>
  <dc:title>Слайд 1</dc:title>
</cp:coreProperties>
</file>