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712-E6C2-4004-B928-D4640B78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421-C4E0-4C89-9864-8302E984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663FA-8514-4A04-81AC-959D0284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CBD3E-EA77-4A24-92AD-C86B042E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67EAE-65DC-4581-84D6-A84881A8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FEC09-3407-4660-B25D-A8687584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84286-2D5A-4B07-8ABD-74F31B5F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4FF9B-ADC4-4284-BF64-532926F1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AC10C-93B3-47C4-8C5E-1C5A52BF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38FF8-2598-47D5-AF9C-CF51B564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865CA-E069-41CB-91AB-C6D6D6D8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0815D-1D8E-438A-A971-EA871250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E4FA-C7E3-4DC3-A859-4711F59C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94A43-A97D-4DF6-AD9B-8568B743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9ABB9-EA7C-4508-9C7F-097CEC58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B3622-64A4-4F63-A8C2-993B629B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4C6AC-F4A9-4CAB-AD75-C48624D5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9D729-1E86-4A7D-A63E-946D3FCF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66FC0-F2CE-43A2-9439-9ABAB51C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2808A-242E-43BB-A51F-1AF42B4C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BDAD6-786C-4E93-B61A-42150076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58842-F443-4DCF-A04D-909E4B69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20A9A-F7D6-4299-BB35-820278D2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1666-55E9-4392-987F-FD668F04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C578C-B0F8-49D0-BD95-35B6560E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D7C95-CECE-4DFC-BEDA-26F0E6BF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19703-2ED7-45CD-B1BE-12B2B46B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15D7E-A8B0-4408-988D-E93537A9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BF0D3-E663-4C10-A16A-3F63105D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41B76-7E2E-4987-BE8E-169936F4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7AA0A-F104-48E6-9B7D-2562E82C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0CBA9-F982-437C-9182-983E3E39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A8EF2-0DFA-4E1F-B656-E433EE02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35BA3-D23C-43FD-BFB3-9E535BCE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67C8-D4AA-4108-86BD-41B4AF7F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5846B-3AF5-42BE-BF7D-8671B1EF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356BC-1C16-42CF-B5A1-E819B2D0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DB230-F123-4BA1-AF1C-BDD40ED6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7EEFF-4644-4C84-B18C-81252220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4B2F6-C208-45B9-976B-BFFDC831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38933-1668-4F9A-B4BB-82250C97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22139-2B5D-422C-9EFF-4629D95F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8CCED-D519-4CEB-8543-607A09EE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17A32-BD1C-41CC-AEE6-CAC2E57A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7D799-EA74-4058-B27B-862F1B90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928A-BF1F-4CBB-A060-527A4806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0D52F-4B23-4181-B8AF-3C7078B2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66D74-444D-49D2-8863-5FFEED2E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CF6CE-4E40-435E-AD50-50896615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0672A-F428-42DA-80B8-472CFA30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A1A48-302E-40AD-9F9F-FC962D25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61950-DDF6-432E-8DBA-E909F3BD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498C5-0697-4498-8022-ADF88CFB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475ACD-0C98-4E31-A6FB-51216DDE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132D0-7AFB-4802-8D87-1B029AC0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0D29E-7215-447E-8946-08305EB7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069F-3A4C-4124-B6C6-7F94769D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1FEA4-5779-4F5C-8B44-21F1D7E9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9363BB-6CC8-44D9-BF3A-FE576921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7C5BA-7B6F-4980-B8E9-24E2FBA8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94629-E469-4A6C-9591-A84FD032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49DBF-1D2F-46C8-A178-F942A978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43A4A-2231-4619-B32F-72798E98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99459-65EE-4752-AE01-8713B332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73F52A-D45C-4649-8097-5043E1C8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AB1E68-CF79-4B54-9E13-21452407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EE874A-1620-47CE-883C-4C24659E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5EC8-BDC1-4316-BC12-ACE6A5D3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51124A-3768-4F7D-9474-53B3EAD8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D672EC-F975-445F-A285-F4F2BCF1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471295-46D9-45EB-8408-2EDBC949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B06D49-07A0-4D82-B49F-313DCD3B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414A17-8259-4BE1-AE23-BB477583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7196A-66D2-4034-AE27-FE5FDDB3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DBC92-2609-4E11-BC23-DBFF20AF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57E63C-65CF-40AA-8F6B-12CB384A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B60C3E-5238-426D-AC00-188B5398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4F67AF-9BE0-49DD-ABB9-3290CB7F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881D-19F0-4634-86AD-B85D06DC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72881C-F1F7-4426-A573-C5E56102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05A2C3-4ECA-46FE-BC43-EFFF831F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D7C6AF-E4B9-4A50-AAF3-85813D6D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CE1C88-3821-4049-A87C-10C59A50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887012-5DE8-41F7-ABA2-E391AEB3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7253C2-BE86-41BB-95C9-563E2E53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8AB611-1C32-4069-9912-534C8110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89519E-9B01-44F4-897A-9D59E835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8E0504-503F-463A-A21B-F972BED0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DA0018-C0E1-4AA1-9690-D1FB74A7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9042-5301-41C8-B76A-CD450CE9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7702CD-A5ED-4401-B9C8-6B8C2983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955FE7-F441-43F0-A4DC-7EBB5672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190145-1C62-4A8C-8270-D1C2255A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61A547-51FF-439E-A321-C9CF1E44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34FFED-770D-438E-8E8A-7C75A5D9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C6AA9B-BA6D-4743-90C9-38097837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DC009C-2498-4817-9349-4CC52B06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495438-FA05-41F1-8CE6-8564A128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8DE537-ECFF-4C13-AF4F-CFEEE595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8A85B0-2AEE-4132-A6FB-2E3D5680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1878-992E-46AD-9764-C6790033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DE0A53-54CA-4892-B98D-4F7E210E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ECC240-39D5-4D21-AA2F-030A63C4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E7D5C0-1577-4913-83F8-C6B9474C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557211-A15E-4ABB-8E3F-21C8C791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A92980-05FE-423C-8767-5A49DA4E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D33F33-5D1E-4EC3-A609-586DBF2C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A1F40-E529-41EA-9509-4AD570E8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A5A767-15E7-4E02-96BE-FB31732A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A894EF-A87D-4C7E-8233-04C0FCCE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D0D58E-44F1-4CAA-93AD-1BC161F3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38C-7F0D-4E83-8706-23BFE8BB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788E-5D3E-41B7-B4D5-DCD276AE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7145E6-D685-4030-9ABF-03565D75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5AD4E2-8EAF-4820-AFFB-192E120A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F4CF43-8CA5-41A4-BEA3-4FB64D43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0A5242-84BC-49AF-AC23-E98F4EC5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20A620-1875-46FF-ABCD-427A53E1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9D8F-4DBC-4877-B3B1-311A5AAA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AAD8-3089-45D4-9B6E-1FDD0277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1D35-3FB3-4B02-A730-00C67750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811F-3084-4D30-BD6F-59950D98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E39F9-4296-443F-A8C2-36AC0328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0E125-7F75-410E-B2B4-D42A7F19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81D3A-FEAD-4F68-84BC-A84E61ED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E7E99-688E-4211-BCBB-9EEC34CE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FA560-029B-421F-84DA-A33A7CB9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D12-4F43-4A8A-A47F-5577E695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EA4E8-DE58-4410-A56A-85500814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322E0-96B8-4F35-B0C4-DCC8A635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B553A-C406-443C-82E7-E041917A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5D159-133A-4799-B091-D94777B6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63679-0809-4509-8FAA-BCE292D6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A1BFC-5A25-4E12-8C40-3CC4FE6E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A44F6-89D3-4948-94FD-3E0D682E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F34EE-71CA-41E0-B57E-B3BDF1DA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C4943-AF18-4A53-BD14-0C6AFCB4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99979-60BC-48DF-A3CB-B0A4272D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DBEF-7B5E-481F-9837-2B6856BC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B5036-E9AF-4431-A83D-EB021163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F1EF7-BE62-43C2-8DED-22B0AA46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924F0-2444-44F9-83C6-6C78BFA0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B9ABD-7854-4221-B723-74321329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C8848-84C8-4C4D-AA2B-283DED9B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648DC-A397-4922-803D-98E340CF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E55BB-C7E2-439F-AA27-A2C573A0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0A5E7-6DB9-4003-8DE3-F74F9F1C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888F0-17E7-4E96-8A16-8CE38821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9E1EC-FF94-4F68-83D1-BCAAD1C6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5F6-0B3F-4D3C-95F4-983C9413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30B46-2B58-44CB-B93B-47FD71F3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00C3B-F4F4-4914-A7F4-FFD79686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6496D-E499-4A1E-8E60-676AB8E2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0C710-FCD4-4F95-BEC4-5E7955E7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F67E3-AED6-4A20-9519-5CE98DD1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BDB1A-3B77-40BE-B185-AA02FC07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31C31-F4E2-4828-8A54-1438205D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D5645-A93C-4584-BEEC-89760A1D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809E3-0A3B-4506-BE99-69348FE0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BD9F5-749C-4D87-9805-1F793A89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E454-EF3A-4E4B-B359-FEC4C4C2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B8025-B611-4131-923D-44ECFD46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C2338-0E2F-4F84-8739-48CEB6EA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DDB95-537D-4238-A839-8C5EB54E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E983F-083B-4A77-8C71-4A057370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14707-7445-42DC-B49E-125C7B05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E3559-5C85-4CCB-96F0-57FB770B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67944-4BBC-42F2-A88E-3BD92222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5EFC8-BF81-4636-AAA2-63AFC151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FFD94-3EEA-43BC-BE12-97351338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29203-C51E-452C-8885-C64E6491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FFE-F30E-4A31-BDF8-D0E058DD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D982F-5756-472F-A7B9-4A2DC301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842F6-E499-4AFA-9D0B-11AD7B80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F68E1-3F24-4FCC-B88C-BC4B968D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5129D-8B56-4FC6-8AC8-3EFA911A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D84A1-A6A2-4752-B11D-1F7A7023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79289-5B8B-4C3F-980E-4B021746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DA273-2C54-4870-88FA-004D323F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FC12D-6E58-4312-82A0-95D9CC84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C9F25-AAE7-40D8-A8BB-DDEB79DF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181C0-9BBB-4738-AE8D-2AD84C3D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BB0F-ACE8-41C4-966A-30E25F8C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7F1A0-E2A7-439D-869A-25ABEABC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76430-536F-49C6-8AED-B91C6216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B7403-141B-42C4-B9DA-10C30928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0EA2C-B128-4513-ABE7-CB115193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D47EB-FEA9-4E14-B5CA-1A2D62F1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320F2-3678-41EB-9E99-E1FAC7FD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A0CBE-47B2-4C0D-B051-74CD958B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E4BCA-DC32-40C2-A0A4-92A4BF57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418D5-F46A-4872-9E51-7F79A4B8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91844-923A-483F-930E-7A6EA0E8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E098-0D4D-4860-A9C1-369557BC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BDA48-EBFC-44EE-A225-95A2531E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7A1AF-CCEC-4480-9BB5-98C6D8D3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4FC5E-95E6-4D92-B893-ABB66A34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69914-A2A5-40BF-8F28-EF7C73FA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2B93C-5958-431D-B5B2-84706C54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09D03-7EB9-4F8E-A582-900FE349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A3D22-46E2-405B-ACD9-8C14ED2F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528B5-0481-4CAF-95E6-F50059E3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74833-9B01-463C-9B12-D4FF3C64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2E2EC-C390-4C76-8249-55F955C6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0A73-AE9E-4DEA-9B22-FDEF5B4036A1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12F9-B761-473A-8A32-C2D8339D482B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DB63-3781-4330-80D6-3CA8B7516347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35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A103-A66B-4FF2-A219-F10522D75DCE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4FFA-AF62-4583-A6FE-A5FA12F3CC52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35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D491-F99E-4DB1-8D3E-B5BF7DFB6059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AFBD-E3C3-4358-8DEF-5CBD54452FB4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15A1-235A-4024-8E59-0F6735613C7D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5231-3991-4F6E-94E4-99BA93C677DA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ED26-337F-479B-8E93-61C67407F19C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B6B1-A88C-4218-AE93-453FFFE69D70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C228-B0FB-42F8-8B74-377E3BC96372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06B9-ECB4-4418-82FE-6BCF6EF38BF9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F426-3769-4EE2-9B65-8D7E5098D459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A1C2-E46A-4104-94E0-27BFC24E7901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D92F-2E4E-4A19-AC18-3A98354D554C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1480" y="4106880"/>
              <a:ext cx="82440" cy="51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AC20-26FA-4CA6-B617-57CA8F4A3698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945800" y="1341000"/>
            <a:ext cx="8915400" cy="23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178dbb"/>
                </a:solidFill>
                <a:latin typeface="Century Gothic"/>
              </a:rPr>
              <a:t>27 ноября</a:t>
            </a:r>
            <a:br>
              <a:rPr sz="5400"/>
            </a:br>
            <a:r>
              <a:rPr b="1" lang="ru-RU" sz="5400" spc="-1" strike="noStrike">
                <a:solidFill>
                  <a:srgbClr val="178dbb"/>
                </a:solidFill>
                <a:latin typeface="Century Gothic"/>
              </a:rPr>
              <a:t>Классная работа</a:t>
            </a:r>
            <a:endParaRPr b="0" lang="en-US" sz="5400" spc="-1" strike="noStrike">
              <a:solidFill>
                <a:srgbClr val="178db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Прямоугольник 3"/>
          <p:cNvSpPr/>
          <p:nvPr/>
        </p:nvSpPr>
        <p:spPr>
          <a:xfrm>
            <a:off x="1725480" y="460440"/>
            <a:ext cx="1247760" cy="792000"/>
          </a:xfrm>
          <a:prstGeom prst="rect">
            <a:avLst/>
          </a:prstGeom>
          <a:noFill/>
          <a:ln cap="rnd" w="1908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Рисунок 4" descr=""/>
          <p:cNvPicPr/>
          <p:nvPr/>
        </p:nvPicPr>
        <p:blipFill>
          <a:blip r:embed="rId1"/>
          <a:stretch/>
        </p:blipFill>
        <p:spPr>
          <a:xfrm>
            <a:off x="3905280" y="3241800"/>
            <a:ext cx="1238400" cy="787320"/>
          </a:xfrm>
          <a:prstGeom prst="rect">
            <a:avLst/>
          </a:prstGeom>
          <a:ln w="0">
            <a:noFill/>
          </a:ln>
        </p:spPr>
      </p:pic>
      <p:pic>
        <p:nvPicPr>
          <p:cNvPr id="1179" name="Рисунок 5" descr=""/>
          <p:cNvPicPr/>
          <p:nvPr/>
        </p:nvPicPr>
        <p:blipFill>
          <a:blip r:embed="rId2"/>
          <a:stretch/>
        </p:blipFill>
        <p:spPr>
          <a:xfrm>
            <a:off x="6999120" y="1752480"/>
            <a:ext cx="1251000" cy="793800"/>
          </a:xfrm>
          <a:prstGeom prst="rect">
            <a:avLst/>
          </a:prstGeom>
          <a:ln w="0">
            <a:noFill/>
          </a:ln>
        </p:spPr>
      </p:pic>
      <p:pic>
        <p:nvPicPr>
          <p:cNvPr id="1180" name="Рисунок 6" descr=""/>
          <p:cNvPicPr/>
          <p:nvPr/>
        </p:nvPicPr>
        <p:blipFill>
          <a:blip r:embed="rId3"/>
          <a:stretch/>
        </p:blipFill>
        <p:spPr>
          <a:xfrm>
            <a:off x="2654280" y="1752480"/>
            <a:ext cx="1251000" cy="793800"/>
          </a:xfrm>
          <a:prstGeom prst="rect">
            <a:avLst/>
          </a:prstGeom>
          <a:ln w="0">
            <a:noFill/>
          </a:ln>
        </p:spPr>
      </p:pic>
      <p:pic>
        <p:nvPicPr>
          <p:cNvPr id="1181" name="Рисунок 7" descr=""/>
          <p:cNvPicPr/>
          <p:nvPr/>
        </p:nvPicPr>
        <p:blipFill>
          <a:blip r:embed="rId4"/>
          <a:stretch/>
        </p:blipFill>
        <p:spPr>
          <a:xfrm>
            <a:off x="7872480" y="471600"/>
            <a:ext cx="1220760" cy="774720"/>
          </a:xfrm>
          <a:prstGeom prst="rect">
            <a:avLst/>
          </a:prstGeom>
          <a:ln w="0">
            <a:noFill/>
          </a:ln>
        </p:spPr>
      </p:pic>
      <p:pic>
        <p:nvPicPr>
          <p:cNvPr id="1182" name="Рисунок 8" descr=""/>
          <p:cNvPicPr/>
          <p:nvPr/>
        </p:nvPicPr>
        <p:blipFill>
          <a:blip r:embed="rId5"/>
          <a:stretch/>
        </p:blipFill>
        <p:spPr>
          <a:xfrm>
            <a:off x="6130800" y="460440"/>
            <a:ext cx="1220760" cy="774720"/>
          </a:xfrm>
          <a:prstGeom prst="rect">
            <a:avLst/>
          </a:prstGeom>
          <a:ln w="0">
            <a:noFill/>
          </a:ln>
        </p:spPr>
      </p:pic>
      <p:pic>
        <p:nvPicPr>
          <p:cNvPr id="1183" name="Рисунок 9" descr=""/>
          <p:cNvPicPr/>
          <p:nvPr/>
        </p:nvPicPr>
        <p:blipFill>
          <a:blip r:embed="rId6"/>
          <a:stretch/>
        </p:blipFill>
        <p:spPr>
          <a:xfrm>
            <a:off x="3481560" y="460440"/>
            <a:ext cx="1220760" cy="774720"/>
          </a:xfrm>
          <a:prstGeom prst="rect">
            <a:avLst/>
          </a:prstGeom>
          <a:ln w="0">
            <a:noFill/>
          </a:ln>
        </p:spPr>
      </p:pic>
      <p:pic>
        <p:nvPicPr>
          <p:cNvPr id="1184" name="Рисунок 10" descr=""/>
          <p:cNvPicPr/>
          <p:nvPr/>
        </p:nvPicPr>
        <p:blipFill>
          <a:blip r:embed="rId7"/>
          <a:stretch/>
        </p:blipFill>
        <p:spPr>
          <a:xfrm>
            <a:off x="6130800" y="3241800"/>
            <a:ext cx="1220760" cy="774720"/>
          </a:xfrm>
          <a:prstGeom prst="rect">
            <a:avLst/>
          </a:prstGeom>
          <a:ln w="0">
            <a:noFill/>
          </a:ln>
        </p:spPr>
      </p:pic>
      <p:pic>
        <p:nvPicPr>
          <p:cNvPr id="1185" name="Рисунок 11" descr=""/>
          <p:cNvPicPr/>
          <p:nvPr/>
        </p:nvPicPr>
        <p:blipFill>
          <a:blip r:embed="rId8"/>
          <a:stretch/>
        </p:blipFill>
        <p:spPr>
          <a:xfrm>
            <a:off x="4803840" y="4711680"/>
            <a:ext cx="1560600" cy="787320"/>
          </a:xfrm>
          <a:prstGeom prst="rect">
            <a:avLst/>
          </a:prstGeom>
          <a:ln w="0">
            <a:noFill/>
          </a:ln>
        </p:spPr>
      </p:pic>
      <p:sp>
        <p:nvSpPr>
          <p:cNvPr id="1186" name="TextBox 12"/>
          <p:cNvSpPr/>
          <p:nvPr/>
        </p:nvSpPr>
        <p:spPr>
          <a:xfrm>
            <a:off x="3905640" y="587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13"/>
          <p:cNvSpPr/>
          <p:nvPr/>
        </p:nvSpPr>
        <p:spPr>
          <a:xfrm>
            <a:off x="6448320" y="600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Box 14"/>
          <p:cNvSpPr/>
          <p:nvPr/>
        </p:nvSpPr>
        <p:spPr>
          <a:xfrm>
            <a:off x="8250120" y="600120"/>
            <a:ext cx="4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15"/>
          <p:cNvSpPr/>
          <p:nvPr/>
        </p:nvSpPr>
        <p:spPr>
          <a:xfrm>
            <a:off x="3017880" y="689040"/>
            <a:ext cx="4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Box 16"/>
          <p:cNvSpPr/>
          <p:nvPr/>
        </p:nvSpPr>
        <p:spPr>
          <a:xfrm>
            <a:off x="7390440" y="682560"/>
            <a:ext cx="4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Box 17"/>
          <p:cNvSpPr/>
          <p:nvPr/>
        </p:nvSpPr>
        <p:spPr>
          <a:xfrm>
            <a:off x="5263560" y="1714680"/>
            <a:ext cx="37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Gothic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Box 18"/>
          <p:cNvSpPr/>
          <p:nvPr/>
        </p:nvSpPr>
        <p:spPr>
          <a:xfrm>
            <a:off x="5424480" y="3427560"/>
            <a:ext cx="4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19"/>
          <p:cNvSpPr/>
          <p:nvPr/>
        </p:nvSpPr>
        <p:spPr>
          <a:xfrm>
            <a:off x="6448320" y="33670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4" name="Прямая со стрелкой 21"/>
          <p:cNvCxnSpPr>
            <a:stCxn id="1177" idx="2"/>
          </p:cNvCxnSpPr>
          <p:nvPr/>
        </p:nvCxnSpPr>
        <p:spPr>
          <a:xfrm>
            <a:off x="2349360" y="1252080"/>
            <a:ext cx="930960" cy="500760"/>
          </a:xfrm>
          <a:prstGeom prst="straightConnector1">
            <a:avLst/>
          </a:prstGeom>
          <a:ln cap="rnd" w="28440">
            <a:solidFill>
              <a:srgbClr val="323232"/>
            </a:solidFill>
            <a:miter/>
            <a:tailEnd len="med" type="triangle" w="med"/>
          </a:ln>
        </p:spPr>
      </p:cxnSp>
      <p:cxnSp>
        <p:nvCxnSpPr>
          <p:cNvPr id="1195" name="Прямая со стрелкой 23"/>
          <p:cNvCxnSpPr/>
          <p:nvPr/>
        </p:nvCxnSpPr>
        <p:spPr>
          <a:xfrm flipH="1">
            <a:off x="3279240" y="1234800"/>
            <a:ext cx="813600" cy="518040"/>
          </a:xfrm>
          <a:prstGeom prst="straightConnector1">
            <a:avLst/>
          </a:prstGeom>
          <a:ln cap="rnd" w="28440">
            <a:solidFill>
              <a:srgbClr val="323232"/>
            </a:solidFill>
            <a:miter/>
            <a:tailEnd len="med" type="triangle" w="med"/>
          </a:ln>
        </p:spPr>
      </p:cxnSp>
      <p:cxnSp>
        <p:nvCxnSpPr>
          <p:cNvPr id="1196" name="Прямая со стрелкой 25"/>
          <p:cNvCxnSpPr/>
          <p:nvPr/>
        </p:nvCxnSpPr>
        <p:spPr>
          <a:xfrm>
            <a:off x="6742080" y="1234800"/>
            <a:ext cx="883440" cy="518040"/>
          </a:xfrm>
          <a:prstGeom prst="straightConnector1">
            <a:avLst/>
          </a:prstGeom>
          <a:ln cap="rnd" w="28440">
            <a:solidFill>
              <a:srgbClr val="323232"/>
            </a:solidFill>
            <a:miter/>
            <a:tailEnd len="med" type="triangle" w="med"/>
          </a:ln>
        </p:spPr>
      </p:cxnSp>
      <p:cxnSp>
        <p:nvCxnSpPr>
          <p:cNvPr id="1197" name="Прямая со стрелкой 27"/>
          <p:cNvCxnSpPr/>
          <p:nvPr/>
        </p:nvCxnSpPr>
        <p:spPr>
          <a:xfrm flipH="1">
            <a:off x="7624440" y="1246320"/>
            <a:ext cx="859680" cy="506880"/>
          </a:xfrm>
          <a:prstGeom prst="straightConnector1">
            <a:avLst/>
          </a:prstGeom>
          <a:ln cap="rnd" w="28440">
            <a:solidFill>
              <a:srgbClr val="323232"/>
            </a:solidFill>
            <a:miter/>
            <a:tailEnd len="med" type="triangle" w="med"/>
          </a:ln>
        </p:spPr>
      </p:cxnSp>
      <p:cxnSp>
        <p:nvCxnSpPr>
          <p:cNvPr id="1198" name="Прямая со стрелкой 29"/>
          <p:cNvCxnSpPr/>
          <p:nvPr/>
        </p:nvCxnSpPr>
        <p:spPr>
          <a:xfrm>
            <a:off x="3279600" y="2546280"/>
            <a:ext cx="1245600" cy="696240"/>
          </a:xfrm>
          <a:prstGeom prst="straightConnector1">
            <a:avLst/>
          </a:prstGeom>
          <a:ln cap="rnd" w="28440">
            <a:solidFill>
              <a:srgbClr val="323232"/>
            </a:solidFill>
            <a:miter/>
            <a:tailEnd len="med" type="triangle" w="med"/>
          </a:ln>
        </p:spPr>
      </p:cxnSp>
      <p:cxnSp>
        <p:nvCxnSpPr>
          <p:cNvPr id="1199" name="Прямая со стрелкой 31"/>
          <p:cNvCxnSpPr/>
          <p:nvPr/>
        </p:nvCxnSpPr>
        <p:spPr>
          <a:xfrm flipH="1">
            <a:off x="4524120" y="2546280"/>
            <a:ext cx="3101040" cy="696240"/>
          </a:xfrm>
          <a:prstGeom prst="straightConnector1">
            <a:avLst/>
          </a:prstGeom>
          <a:ln cap="rnd" w="28440">
            <a:solidFill>
              <a:srgbClr val="323232"/>
            </a:solidFill>
            <a:miter/>
            <a:tailEnd len="med" type="triangle" w="med"/>
          </a:ln>
        </p:spPr>
      </p:cxnSp>
      <p:cxnSp>
        <p:nvCxnSpPr>
          <p:cNvPr id="1200" name="Прямая со стрелкой 33"/>
          <p:cNvCxnSpPr/>
          <p:nvPr/>
        </p:nvCxnSpPr>
        <p:spPr>
          <a:xfrm>
            <a:off x="4524120" y="4029120"/>
            <a:ext cx="1059480" cy="682920"/>
          </a:xfrm>
          <a:prstGeom prst="straightConnector1">
            <a:avLst/>
          </a:prstGeom>
          <a:ln cap="rnd" w="28440">
            <a:solidFill>
              <a:srgbClr val="323232"/>
            </a:solidFill>
            <a:miter/>
            <a:tailEnd len="med" type="triangle" w="med"/>
          </a:ln>
        </p:spPr>
      </p:cxnSp>
      <p:cxnSp>
        <p:nvCxnSpPr>
          <p:cNvPr id="1201" name="Прямая со стрелкой 35"/>
          <p:cNvCxnSpPr/>
          <p:nvPr/>
        </p:nvCxnSpPr>
        <p:spPr>
          <a:xfrm flipH="1">
            <a:off x="5582520" y="4016160"/>
            <a:ext cx="1159560" cy="695520"/>
          </a:xfrm>
          <a:prstGeom prst="straightConnector1">
            <a:avLst/>
          </a:prstGeom>
          <a:ln cap="rnd" w="28440">
            <a:solidFill>
              <a:srgbClr val="323232"/>
            </a:solidFill>
            <a:miter/>
            <a:tailEnd len="med" type="triangle" w="med"/>
          </a:ln>
        </p:spPr>
      </p:cxnSp>
      <p:sp>
        <p:nvSpPr>
          <p:cNvPr id="1202" name="TextBox 36"/>
          <p:cNvSpPr/>
          <p:nvPr/>
        </p:nvSpPr>
        <p:spPr>
          <a:xfrm>
            <a:off x="2740320" y="18781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13b9"/>
                </a:solidFill>
                <a:latin typeface="Century Gothic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Box 37"/>
          <p:cNvSpPr/>
          <p:nvPr/>
        </p:nvSpPr>
        <p:spPr>
          <a:xfrm>
            <a:off x="7242480" y="186516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13b9"/>
                </a:solidFill>
                <a:latin typeface="Century Gothic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Box 38"/>
          <p:cNvSpPr/>
          <p:nvPr/>
        </p:nvSpPr>
        <p:spPr>
          <a:xfrm>
            <a:off x="4100760" y="338616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13b9"/>
                </a:solidFill>
                <a:latin typeface="Century Gothic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Box 39"/>
          <p:cNvSpPr/>
          <p:nvPr/>
        </p:nvSpPr>
        <p:spPr>
          <a:xfrm>
            <a:off x="4987080" y="483084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13b9"/>
                </a:solidFill>
                <a:latin typeface="Century Gothic"/>
              </a:rPr>
              <a:t>24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965160" y="245880"/>
            <a:ext cx="1055232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f1c6a"/>
                </a:solidFill>
                <a:latin typeface="Century Gothic"/>
              </a:rPr>
              <a:t>Не выполняя вычислений, распределите выражения по определенным свойствам в группы.</a:t>
            </a:r>
            <a:endParaRPr b="0" lang="en-US" sz="24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2180880" y="165060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f5e7c"/>
                </a:solidFill>
                <a:latin typeface="Times New Roman"/>
                <a:ea typeface="Times New Roman"/>
              </a:rPr>
              <a:t>(72*25)*4         86*35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f5e7c"/>
                </a:solidFill>
                <a:latin typeface="Times New Roman"/>
                <a:ea typeface="Times New Roman"/>
              </a:rPr>
              <a:t>8*(125+50)       72*(25*4)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f5e7c"/>
                </a:solidFill>
                <a:latin typeface="Times New Roman"/>
                <a:ea typeface="Times New Roman"/>
              </a:rPr>
              <a:t>35*86                8*125+8*50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1612440" y="1476360"/>
            <a:ext cx="8915400" cy="42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7f0e66"/>
                </a:solidFill>
                <a:latin typeface="Century Gothic"/>
              </a:rPr>
              <a:t>35*86=86*35</a:t>
            </a:r>
            <a:endParaRPr b="0" lang="en-US" sz="6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7f0e66"/>
                </a:solidFill>
                <a:latin typeface="Century Gothic"/>
              </a:rPr>
              <a:t>(72*25)*4=72*(25*4)</a:t>
            </a:r>
            <a:endParaRPr b="0" lang="en-US" sz="6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7f0e66"/>
                </a:solidFill>
                <a:latin typeface="Century Gothic"/>
              </a:rPr>
              <a:t>8*(125+50)=8*125+8*50</a:t>
            </a:r>
            <a:endParaRPr b="0" lang="en-US" sz="6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235320" y="339480"/>
            <a:ext cx="52164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8dbb"/>
                </a:solidFill>
                <a:latin typeface="Century Gothic"/>
              </a:rPr>
              <a:t>стр. 117 № 422 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1821960" y="1503360"/>
            <a:ext cx="89154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ряд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х*8=(9*8)*х=72х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8*у*5=(28*5)*у=140у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ряд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3*4в=(23*4)*в=92в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1х*14у=(11*14)*х*у=154ху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ряд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а*8в=(6*8)*а*в=48ав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7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3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(27*3)*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81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n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3235320" y="339480"/>
            <a:ext cx="52164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8dbb"/>
                </a:solidFill>
                <a:latin typeface="Century Gothic"/>
              </a:rPr>
              <a:t>Рефлексия 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821960" y="1503360"/>
            <a:ext cx="89154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должите высказывания: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научился (научилась)…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перь я умею…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ке мне было сложно…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579680" y="326880"/>
            <a:ext cx="891216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178dbb"/>
                </a:solidFill>
                <a:latin typeface="Century Gothic"/>
              </a:rPr>
              <a:t>Домашнее задание</a:t>
            </a:r>
            <a:endParaRPr b="0" lang="en-US" sz="48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1423800" y="1626840"/>
            <a:ext cx="932652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5e2a9f"/>
                </a:solidFill>
                <a:latin typeface="Century Gothic"/>
              </a:rPr>
              <a:t>параграф 17, вопросы 1-4, </a:t>
            </a:r>
            <a:r>
              <a:rPr b="1" lang="ru-RU" sz="4800" spc="-1" strike="noStrike">
                <a:solidFill>
                  <a:srgbClr val="5e2a9f"/>
                </a:solidFill>
                <a:latin typeface="Times New Roman"/>
                <a:ea typeface="Times New Roman"/>
              </a:rPr>
              <a:t>№ 420(2,4,6), 422(8,9), 426(6,7,8,9)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87560" y="1945800"/>
            <a:ext cx="89121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5e2a9f"/>
                </a:solidFill>
                <a:latin typeface="Century Gothic"/>
              </a:rPr>
              <a:t>Дальнейших успехов. 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5e2a9f"/>
                </a:solidFill>
                <a:latin typeface="Century Gothic"/>
              </a:rPr>
              <a:t>Спасибо.</a:t>
            </a:r>
            <a:endParaRPr b="0" lang="en-US" sz="6000" spc="-1" strike="noStrike">
              <a:solidFill>
                <a:srgbClr val="178db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6T02:39:59Z</dcterms:created>
  <dc:creator>admin</dc:creator>
  <dc:description/>
  <dc:language>en-US</dc:language>
  <cp:lastModifiedBy>Елена</cp:lastModifiedBy>
  <dcterms:modified xsi:type="dcterms:W3CDTF">2018-11-27T03:29:10Z</dcterms:modified>
  <cp:revision>21</cp:revision>
  <dc:subject/>
  <dc:title>27 ноября Классная работа</dc:title>
</cp:coreProperties>
</file>