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47F-0DB0-4461-AD03-7B8CA988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AEF-A443-4A37-BBA2-E40DB82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CA902-EB4B-4CEC-B6B5-76A8308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47FDC-A442-4DC7-AB1F-2BBDED9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7448F-B1FE-4813-A044-3818D50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5062E-6681-4B35-B4A5-89DBA6F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CAB2-FF32-4AF4-961C-971903C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8D6F9-9A76-4A9E-A368-2E4ED0B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F9533-E4E2-4D28-884C-44187161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CCB3B-5B63-430D-8851-2171A91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528B-A4B9-422C-A817-C795B8D5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140B1-D7B7-40EE-B1FB-E32CF9E5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222-1322-4653-BAE5-0F89B702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8A32C-3D44-48A6-925E-A3FA9CA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6BD7-6450-41E1-8F35-27E3252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A65A2-BE16-4ADD-8DE9-319C094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06506-7EF9-4D79-A7B2-DFCF8C00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0F6C2-83C4-4F0F-866F-93BD6D13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39C4F-B930-4C8F-A2B7-28D35BC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213B2-D7F7-437B-A79F-F38703D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62642-3EAE-4BE9-B1AB-B8C4DCB0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43525-0E91-4E03-95F8-251EB18A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6FE2D-B4B9-4E63-8B16-AFC9CBE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46E-872B-4578-B515-3B55B3A5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712F5-6F34-4E8D-9B7F-08C73E36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556AA-6382-4610-B2B8-F8BE96A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8913-B6E3-4FBB-A1C3-D5707F9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D728-435B-450F-8FF3-037CE9F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55101-7265-4626-8ED1-01F00AE3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E28CD-0DCF-415B-A72E-9D8C280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E50C-43DC-4F90-92C4-04E6718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6BD48-323F-4080-AA22-8A0A17B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CCAB6-EE0A-4993-8CFA-D6DC209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A762-AE42-4F70-8BA5-0B0C5DF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ACD-A2CE-4719-B803-61665D3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F9002-35A0-440C-A91D-8A14907B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A62A1-03A5-4F1B-8859-823306BD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355FE-49EF-4CA8-B34B-206BEB4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57913-30A2-40CD-A7C1-63A938C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A8C6C-A22C-45C1-842C-4939C339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B1D62-72E3-406C-B65F-DBBC266A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7E5AA-A839-43C3-B01B-E204D83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55E5D-0F33-427E-891F-FFED789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EAC3E-577B-4042-A123-7F0C9B1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157B1-9F1F-412C-9458-0C6C59C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2C6-93CC-4B1A-A964-7341F0E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15461-46C3-407B-AA9B-6436AF8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F6334-D58B-41A0-8A97-03491BD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9A7A8-A28B-49CF-B11B-27FDFFA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61B86-D55D-43D2-809A-913651E6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A6694-651E-455E-A196-41F0859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E5F32-2264-46A2-8C06-9E7ACEA9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6D593-578B-462E-BC3C-EF5EC67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1F9E2-9667-4774-BE6F-5E4C307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BD76C-C104-4A76-B9E9-ACC0D80C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050E1-D9EE-4F17-AFAB-622363D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ADE-5E97-465A-B328-79FAFE2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AC1F4-EE32-4556-8CA0-7B543095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33C08-1061-4432-B5BA-061DCC4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DF7DF-A434-47FE-9B20-063FD70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45E7E-C053-42EB-BFA8-93BD9BA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2B05A-682F-4FFF-A75A-A945BAC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42385-3B00-4F9E-8EDD-AF5A3078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142D7-785B-45F6-BD89-073E4EDC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5D683-D197-4E58-A3DB-4A3EBB29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64B32-2743-45BC-9125-CCDF653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D0F45-0C13-4248-81D9-E38EF41E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DFF7-3AEE-4969-91FA-BBB2EB9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F17A7-0C40-49A7-956B-E9702C14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23EBA-4FDB-42BB-B4B5-ABFCBFC7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B956A-B2BF-448D-B257-1E79C12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0F553-AA59-4EB4-B3B1-838A132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859EB-7184-4F30-B680-90784A8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AFBC5-3014-4716-9D58-3842F0E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C5D9C-0B3F-4926-96D9-A7685C8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E74CA-A29C-47F2-993E-9FE7B898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543FE-747D-4E04-A372-64C3344C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BF10A-F400-4B63-9B9B-5848CCB4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0D5-19A7-4653-B4D7-9F41C1E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80791-27B3-4901-8F23-DC54836F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78509-A716-44D1-AA81-52F9DAFF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08AC1-A552-46E9-BD10-2CB35AA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FBA41-787B-4813-9FB3-4952CDFF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03CF8-848C-47F3-8D17-5118CC8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F2FFD-17B3-4147-8FC9-1D1D024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EB1D1-6A6E-41CF-8618-8963B5E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315B4-4372-4B94-957E-4BACEA4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AC0CF-C0AD-433F-9CDA-B46A3778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93912-99BF-4EA7-8CC0-6F401376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C7C5-FCB6-4AB4-9933-38D38D5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D8ADE-C3AA-4BE6-BFFC-57A1E4A7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D3A1D-8911-4093-9049-B24698BA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4E901-2DFA-4980-8A35-94259E97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C307C-C7E0-43B8-9651-879AB1DF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B1846-2F14-408D-8018-86DC76C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22DF5-2C3F-4565-A106-B204749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21D26-B4FC-4D6B-983C-019CB056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F45C5-A804-4308-B2A4-38C6DEC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26FBB-AE0F-4DCC-9926-24CAE47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B77AD-BE03-41F1-B5BC-E10998B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7D13-3495-425B-BD43-16D964CC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68A43-E4E4-4082-86A4-ADEE762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9FA4C-736D-4235-B21C-9C8D4446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439C0-4255-437B-9695-96386504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AE025-1EDE-4ACF-8934-135AD213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089E0-703C-4F7F-973E-AAD27BF3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3D0F0-2233-474E-8307-3C09B0B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6566B-D78F-4211-8A26-0F5AE9FA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43861-9FC6-4700-A530-F7F5BAE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69FCA-B97A-47EC-8FB7-E0BD7F8B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34A79-1AE7-4D09-895A-FFF39F2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10B-56F6-4677-AF29-BE456710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310-3BD9-4D98-8A7C-CAB357E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8B60A-5941-443C-BF94-4A96B74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5F007-2D07-41D6-8AF4-B65DCC4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6E23F-9770-4371-BC0C-E08DCA3B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7B0D4-D76D-4209-94C7-04DEE4ED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93E83-2DBE-480C-A725-D29B5156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9F4-95D9-4C1A-9740-12ACACF6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5065-D735-4896-83F0-AFED3C1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D47E-E5A7-42A6-B9FE-DE903F53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933-5CDA-4782-8B5C-3658ED2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C0A3-5A0F-43F9-A1D1-99F1B5A1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7815-9F6E-4304-9460-BDDA18ED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F926-E6DB-4376-925D-21006D4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0D85-A523-4FF2-B685-1467C77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584F-9DB9-4281-A2AE-EC7BBC6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A46-5EC0-44AC-A8DB-B56B5645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2C0C-D25A-4194-8214-CDAF9DAA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3E5C-C0BC-459C-A4E1-48E090B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AB35-064C-477D-8C05-210A7EB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ED31-BC09-405D-994E-5BF11E1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B70B-9F43-430F-8821-C12CB0F2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A8EC-3710-4A4A-892E-C252AD2D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4EC9-B452-4C4A-A1BC-F2E14977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DBB1-8FA8-4C22-B0A3-DD2DFEB7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7565-461A-4EBA-9F8D-1BB08A62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0A3B-693D-4687-A875-D0C64B3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BCC-DC98-4F66-B46F-DAC8A9E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C777-B743-4EC9-9EAE-52EE18E6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F8F6-2B18-4957-B16F-1A2F11D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6256-4C0F-4D5B-A8FF-95CF0C8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2CC4-EF8B-42B8-8605-5617EE8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DC1B-F85D-45A1-8C7C-58EADD2E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4BA9-C555-45E6-A30B-03C4936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A1F0-1C6C-486B-9E13-072A58C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FED6-BFF5-44D4-848A-FE914CE1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6202-747F-4E8B-95D3-421BA2B0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10A15-66BE-4A8A-A7C2-43A4960F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C56-11C8-43A6-8832-52B1803D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45E3-980B-48BE-B928-0277E0F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8EE2-C5B4-4667-A85B-75F48D4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8D34-833C-4942-BA64-FA86C9E7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CC7EE-C19A-4156-969E-E0283376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0D6E-AA42-4339-9A87-5A9B273B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8FA3-4D67-45A8-800C-94A94CC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0284-6FC4-48A9-A270-029F074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4208-BD66-47C8-8F63-09E2D52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31C2-F83E-4D3A-8584-A5B06706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3CE0-812D-4A63-AC66-9709360B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D66-145E-4C5D-B51C-A5CA102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5F1E-09EA-4BE3-84D7-14682EFE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D007-1D97-46EB-B506-DAA95274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056E-3A3B-40C2-BEEB-94E7838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B4D3-A9B4-4FED-998B-C4AC6CA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C0E4-A56B-42AF-A142-2A83327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788C-F333-4DF7-A49C-2767CC37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996AC-F759-435B-A717-AC5B4E0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6FD8-D4EB-445D-A7AF-03D4B34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68BE-6DAE-409E-AD41-051D2AB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46FC-6981-46B1-B92C-8319FC5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38E-D6C5-4A51-957B-5588328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5C25-9985-4CCC-95D9-4B04957C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895E-77D3-43A7-9264-36FB0A6D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3BFA-019F-4F99-9EF4-8DBD17BA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8A77-C384-40C7-9377-B1147B28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6BBF9-F1A9-4761-A5C1-D70CA375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5F05-5867-497B-8813-A969203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2C014-750C-430F-9A46-0B2A683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B7BE-4D01-4C12-B87B-3857390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8F8D-A843-4538-BB8E-B2B53EB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C994-6A52-44E8-8A03-8D2EA40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014-32FC-40FF-8555-D63ED5D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9B7D-5B1A-4ACB-9771-39AC1E7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0F4D-96F3-4F27-BA2B-BE53C3C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63B9-4A3A-452B-A8CE-7AF3C29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3A720-6835-4786-ABB5-FFE052B9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AC08-1A22-4E24-9C9A-58174263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5076-0613-4E00-946C-2D45DE1E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BB68E-8507-4B4D-8B1D-963FD8D0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75D7-870B-4227-9739-36DBF479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9419-4E9E-4D94-B7FF-E0255F7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EA26-3322-4F74-B2F5-D60EAE3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C2F-D29F-46CE-9AA1-F187D99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4E29-52DF-4FF9-B680-58E4FC91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01F4-6845-45CB-8524-B9E8C30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ACA7-93D9-4898-851D-48B309F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845D-3EF7-4418-9FA8-89681E9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F923-FDA2-4FBF-A6D6-0E3DE5B7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3CBED-AEDC-4123-AD5D-CDCC7D3B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2119-A141-48A9-9EEC-D5132E79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842C-D17F-42AF-86E5-80D22E09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888EF-60E4-4162-A46F-86262B34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84D1-5BFF-494D-AB10-982C5B4A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5CE3-CC4F-489A-B37B-CB15116651A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1ED-C3AA-4AB3-9477-1AE34E98F11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56C-2636-4A5B-9D95-F4FB3E239F5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441-3085-43B6-91B3-72A823A915F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6D8-A7BC-4EEE-A47E-A089E86A29D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772-9C69-4798-A874-B4D4E48DADA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F635-0EF6-41EF-9B1F-832032A2B2C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A09-03C2-466C-A7AA-A59E0C00C2F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9C8-AF13-4037-8C3F-334A6A13B1D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E03D-680B-4843-9D06-607E7953FA3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FB1-D14F-4FA6-A38A-46F55FFCD66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3CD-7319-47DF-B873-835DAC158FC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577F-D780-4CEC-B795-F92CB9ACBDC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2763-E39C-4D15-B822-D48E191E2A5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FF0-8F95-4650-8AAB-E768A4FD733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6654-B893-44D9-BE68-47E1D0D1984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EF4-B9EB-4844-BE20-648A405C6A6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5800" y="1341000"/>
            <a:ext cx="8915400" cy="23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178dbb"/>
                </a:solidFill>
                <a:latin typeface="Century Gothic"/>
              </a:rPr>
              <a:t>27 ноября</a:t>
            </a:r>
            <a:br>
              <a:rPr sz="5400"/>
            </a:br>
            <a:r>
              <a:rPr b="1" lang="ru-RU" sz="5400" spc="-1" strike="noStrike">
                <a:solidFill>
                  <a:srgbClr val="178dbb"/>
                </a:solidFill>
                <a:latin typeface="Century Gothic"/>
              </a:rPr>
              <a:t>Классная работа</a:t>
            </a:r>
            <a:endParaRPr b="0" lang="en-US" sz="54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Прямоугольник 3"/>
          <p:cNvSpPr/>
          <p:nvPr/>
        </p:nvSpPr>
        <p:spPr>
          <a:xfrm>
            <a:off x="1725480" y="460440"/>
            <a:ext cx="1247760" cy="792000"/>
          </a:xfrm>
          <a:prstGeom prst="rect">
            <a:avLst/>
          </a:prstGeom>
          <a:noFill/>
          <a:ln cap="rnd" w="1908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Рисунок 4" descr=""/>
          <p:cNvPicPr/>
          <p:nvPr/>
        </p:nvPicPr>
        <p:blipFill>
          <a:blip r:embed="rId1"/>
          <a:stretch/>
        </p:blipFill>
        <p:spPr>
          <a:xfrm>
            <a:off x="3905280" y="3241800"/>
            <a:ext cx="1238400" cy="7873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5" descr=""/>
          <p:cNvPicPr/>
          <p:nvPr/>
        </p:nvPicPr>
        <p:blipFill>
          <a:blip r:embed="rId2"/>
          <a:stretch/>
        </p:blipFill>
        <p:spPr>
          <a:xfrm>
            <a:off x="6999120" y="1752480"/>
            <a:ext cx="1251000" cy="793800"/>
          </a:xfrm>
          <a:prstGeom prst="rect">
            <a:avLst/>
          </a:prstGeom>
          <a:ln w="0">
            <a:noFill/>
          </a:ln>
        </p:spPr>
      </p:pic>
      <p:pic>
        <p:nvPicPr>
          <p:cNvPr id="1180" name="Рисунок 6" descr=""/>
          <p:cNvPicPr/>
          <p:nvPr/>
        </p:nvPicPr>
        <p:blipFill>
          <a:blip r:embed="rId3"/>
          <a:stretch/>
        </p:blipFill>
        <p:spPr>
          <a:xfrm>
            <a:off x="2654280" y="1752480"/>
            <a:ext cx="1251000" cy="793800"/>
          </a:xfrm>
          <a:prstGeom prst="rect">
            <a:avLst/>
          </a:prstGeom>
          <a:ln w="0">
            <a:noFill/>
          </a:ln>
        </p:spPr>
      </p:pic>
      <p:pic>
        <p:nvPicPr>
          <p:cNvPr id="1181" name="Рисунок 7" descr=""/>
          <p:cNvPicPr/>
          <p:nvPr/>
        </p:nvPicPr>
        <p:blipFill>
          <a:blip r:embed="rId4"/>
          <a:stretch/>
        </p:blipFill>
        <p:spPr>
          <a:xfrm>
            <a:off x="7872480" y="47160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2" name="Рисунок 8" descr=""/>
          <p:cNvPicPr/>
          <p:nvPr/>
        </p:nvPicPr>
        <p:blipFill>
          <a:blip r:embed="rId5"/>
          <a:stretch/>
        </p:blipFill>
        <p:spPr>
          <a:xfrm>
            <a:off x="6130800" y="46044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3" name="Рисунок 9" descr=""/>
          <p:cNvPicPr/>
          <p:nvPr/>
        </p:nvPicPr>
        <p:blipFill>
          <a:blip r:embed="rId6"/>
          <a:stretch/>
        </p:blipFill>
        <p:spPr>
          <a:xfrm>
            <a:off x="3481560" y="46044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4" name="Рисунок 10" descr=""/>
          <p:cNvPicPr/>
          <p:nvPr/>
        </p:nvPicPr>
        <p:blipFill>
          <a:blip r:embed="rId7"/>
          <a:stretch/>
        </p:blipFill>
        <p:spPr>
          <a:xfrm>
            <a:off x="6130800" y="324180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5" name="Рисунок 11" descr=""/>
          <p:cNvPicPr/>
          <p:nvPr/>
        </p:nvPicPr>
        <p:blipFill>
          <a:blip r:embed="rId8"/>
          <a:stretch/>
        </p:blipFill>
        <p:spPr>
          <a:xfrm>
            <a:off x="4803840" y="4711680"/>
            <a:ext cx="1560600" cy="787320"/>
          </a:xfrm>
          <a:prstGeom prst="rect">
            <a:avLst/>
          </a:prstGeom>
          <a:ln w="0">
            <a:noFill/>
          </a:ln>
        </p:spPr>
      </p:pic>
      <p:sp>
        <p:nvSpPr>
          <p:cNvPr id="1186" name="TextBox 12"/>
          <p:cNvSpPr/>
          <p:nvPr/>
        </p:nvSpPr>
        <p:spPr>
          <a:xfrm>
            <a:off x="3905640" y="58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3"/>
          <p:cNvSpPr/>
          <p:nvPr/>
        </p:nvSpPr>
        <p:spPr>
          <a:xfrm>
            <a:off x="6448320" y="600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14"/>
          <p:cNvSpPr/>
          <p:nvPr/>
        </p:nvSpPr>
        <p:spPr>
          <a:xfrm>
            <a:off x="8250120" y="60012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15"/>
          <p:cNvSpPr/>
          <p:nvPr/>
        </p:nvSpPr>
        <p:spPr>
          <a:xfrm>
            <a:off x="3017880" y="68904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16"/>
          <p:cNvSpPr/>
          <p:nvPr/>
        </p:nvSpPr>
        <p:spPr>
          <a:xfrm>
            <a:off x="7390440" y="68256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17"/>
          <p:cNvSpPr/>
          <p:nvPr/>
        </p:nvSpPr>
        <p:spPr>
          <a:xfrm>
            <a:off x="5263560" y="171468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18"/>
          <p:cNvSpPr/>
          <p:nvPr/>
        </p:nvSpPr>
        <p:spPr>
          <a:xfrm>
            <a:off x="5424480" y="342756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19"/>
          <p:cNvSpPr/>
          <p:nvPr/>
        </p:nvSpPr>
        <p:spPr>
          <a:xfrm>
            <a:off x="6448320" y="3367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4" name="Прямая со стрелкой 21"/>
          <p:cNvCxnSpPr>
            <a:stCxn id="1177" idx="2"/>
          </p:cNvCxnSpPr>
          <p:nvPr/>
        </p:nvCxnSpPr>
        <p:spPr>
          <a:xfrm>
            <a:off x="2349360" y="1252080"/>
            <a:ext cx="930960" cy="50076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5" name="Прямая со стрелкой 23"/>
          <p:cNvCxnSpPr/>
          <p:nvPr/>
        </p:nvCxnSpPr>
        <p:spPr>
          <a:xfrm flipH="1">
            <a:off x="3279240" y="1234800"/>
            <a:ext cx="813600" cy="5180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6" name="Прямая со стрелкой 25"/>
          <p:cNvCxnSpPr/>
          <p:nvPr/>
        </p:nvCxnSpPr>
        <p:spPr>
          <a:xfrm>
            <a:off x="6742080" y="1234800"/>
            <a:ext cx="883440" cy="5180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7" name="Прямая со стрелкой 27"/>
          <p:cNvCxnSpPr/>
          <p:nvPr/>
        </p:nvCxnSpPr>
        <p:spPr>
          <a:xfrm flipH="1">
            <a:off x="7624440" y="1246320"/>
            <a:ext cx="859680" cy="50688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8" name="Прямая со стрелкой 29"/>
          <p:cNvCxnSpPr/>
          <p:nvPr/>
        </p:nvCxnSpPr>
        <p:spPr>
          <a:xfrm>
            <a:off x="3279600" y="2546280"/>
            <a:ext cx="1245600" cy="6962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9" name="Прямая со стрелкой 31"/>
          <p:cNvCxnSpPr/>
          <p:nvPr/>
        </p:nvCxnSpPr>
        <p:spPr>
          <a:xfrm flipH="1">
            <a:off x="4524120" y="2546280"/>
            <a:ext cx="3101040" cy="6962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200" name="Прямая со стрелкой 33"/>
          <p:cNvCxnSpPr/>
          <p:nvPr/>
        </p:nvCxnSpPr>
        <p:spPr>
          <a:xfrm>
            <a:off x="4524120" y="4029120"/>
            <a:ext cx="1059480" cy="68292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201" name="Прямая со стрелкой 35"/>
          <p:cNvCxnSpPr/>
          <p:nvPr/>
        </p:nvCxnSpPr>
        <p:spPr>
          <a:xfrm flipH="1">
            <a:off x="5582520" y="4016160"/>
            <a:ext cx="1159560" cy="69552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sp>
        <p:nvSpPr>
          <p:cNvPr id="1202" name="TextBox 36"/>
          <p:cNvSpPr/>
          <p:nvPr/>
        </p:nvSpPr>
        <p:spPr>
          <a:xfrm>
            <a:off x="2740320" y="1878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37"/>
          <p:cNvSpPr/>
          <p:nvPr/>
        </p:nvSpPr>
        <p:spPr>
          <a:xfrm>
            <a:off x="7242480" y="1865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38"/>
          <p:cNvSpPr/>
          <p:nvPr/>
        </p:nvSpPr>
        <p:spPr>
          <a:xfrm>
            <a:off x="4100760" y="3386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39"/>
          <p:cNvSpPr/>
          <p:nvPr/>
        </p:nvSpPr>
        <p:spPr>
          <a:xfrm>
            <a:off x="4987080" y="483084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65160" y="245880"/>
            <a:ext cx="105523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f1c6a"/>
                </a:solidFill>
                <a:latin typeface="Century Gothic"/>
              </a:rPr>
              <a:t>Не выполняя вычислений, распределите выражения по определенным свойствам в группы.</a:t>
            </a: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80880" y="165060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(72*25)*4         86*35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8*(125+50)       72*(25*4)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35*86                8*125+8*50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1612440" y="1476360"/>
            <a:ext cx="89154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35*86=86*35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(72*25)*4=72*(25*4)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8*(125+50)=8*125+8*50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235320" y="339480"/>
            <a:ext cx="5216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стр. 117 № 422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821960" y="1503360"/>
            <a:ext cx="8915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х*8=(9*8)*х=72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*у*5=(28*5)*у=140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3*4в=(23*4)*в=92в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х*14у=(11*14)*х*у=154х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а*8в=(6*8)*а*в=48ав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(27*3)*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81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n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235320" y="339480"/>
            <a:ext cx="5216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Рефлексия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821960" y="1503360"/>
            <a:ext cx="8915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ите высказывания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ился (научилась)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перь я умею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ке мне было сложно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79680" y="326880"/>
            <a:ext cx="89121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78dbb"/>
                </a:solidFill>
                <a:latin typeface="Century Gothic"/>
              </a:rPr>
              <a:t>Домашнее задание</a:t>
            </a:r>
            <a:endParaRPr b="0" lang="en-US" sz="48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423800" y="1626840"/>
            <a:ext cx="9326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e2a9f"/>
                </a:solidFill>
                <a:latin typeface="Century Gothic"/>
              </a:rPr>
              <a:t>параграф 17, вопросы 1-4, </a:t>
            </a:r>
            <a:r>
              <a:rPr b="1" lang="ru-RU" sz="4800" spc="-1" strike="noStrike">
                <a:solidFill>
                  <a:srgbClr val="5e2a9f"/>
                </a:solidFill>
                <a:latin typeface="Times New Roman"/>
                <a:ea typeface="Times New Roman"/>
              </a:rPr>
              <a:t>№ 420(2,4,6), 422(8,9), 426(6,7,8,9)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87560" y="1945800"/>
            <a:ext cx="8912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e2a9f"/>
                </a:solidFill>
                <a:latin typeface="Century Gothic"/>
              </a:rPr>
              <a:t>Дальнейших успехов.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5e2a9f"/>
                </a:solidFill>
                <a:latin typeface="Century Gothic"/>
              </a:rPr>
              <a:t>Спасибо.</a:t>
            </a:r>
            <a:endParaRPr b="0" lang="en-US" sz="60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6T02:39:59Z</dcterms:created>
  <dc:creator>admin</dc:creator>
  <dc:description/>
  <dc:language>en-US</dc:language>
  <cp:lastModifiedBy>Елена</cp:lastModifiedBy>
  <dcterms:modified xsi:type="dcterms:W3CDTF">2018-11-27T03:29:10Z</dcterms:modified>
  <cp:revision>21</cp:revision>
  <dc:subject/>
  <dc:title>27 ноября Классная работа</dc:title>
</cp:coreProperties>
</file>