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BE77-6EE9-4472-A681-2199AE36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7F75-F320-4726-B18C-01E21489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756D-A315-407E-A388-D1763062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F160-1F52-4A51-B0F9-FE98E9E3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4FC2-C95D-4A6E-9E35-CF3F9D64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6EA7-1805-43C8-BDA4-6315AB35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2C39-AB22-4AC4-BF5A-CD3C9AF7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6102-93B9-4DB3-8D4E-31F167BB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42B5-5C1E-48E2-87DA-520D0380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70DA-87D8-4D0C-8729-00172FCF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7C07-6FD8-453C-8661-02129A42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793A-69EE-4F4B-BC2B-26F7D078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A92E-241A-4689-800F-F91F13531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00"/>
                </a:solidFill>
                <a:latin typeface="Arial Black"/>
              </a:rPr>
              <a:t>ВЕСН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5209" t="23425" r="10734" b="15584"/>
          <a:stretch/>
        </p:blipFill>
        <p:spPr>
          <a:xfrm rot="15537000">
            <a:off x="315000" y="-64080"/>
            <a:ext cx="3186000" cy="3314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2579760"/>
            <a:ext cx="4392720" cy="4278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714920" y="0"/>
            <a:ext cx="4429080" cy="2836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716360" y="2567160"/>
            <a:ext cx="468000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38773" b="50014"/>
          <a:stretch/>
        </p:blipFill>
        <p:spPr>
          <a:xfrm>
            <a:off x="468360" y="0"/>
            <a:ext cx="360036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0" t="0" r="62483" b="52352"/>
          <a:stretch/>
        </p:blipFill>
        <p:spPr>
          <a:xfrm>
            <a:off x="0" y="3500280"/>
            <a:ext cx="4284720" cy="3357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79425" t="6980" r="0" b="55503"/>
          <a:stretch/>
        </p:blipFill>
        <p:spPr>
          <a:xfrm>
            <a:off x="5148360" y="0"/>
            <a:ext cx="3492360" cy="3429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rcRect l="48213" t="49787" r="4539" b="1225"/>
          <a:stretch/>
        </p:blipFill>
        <p:spPr>
          <a:xfrm>
            <a:off x="4932360" y="3500280"/>
            <a:ext cx="4211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8064360" cy="68994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48:46Z</dcterms:created>
  <dc:creator>1</dc:creator>
  <dc:description/>
  <dc:language>en-US</dc:language>
  <cp:lastModifiedBy>1</cp:lastModifiedBy>
  <dcterms:modified xsi:type="dcterms:W3CDTF">2009-03-11T10:24:28Z</dcterms:modified>
  <cp:revision>3</cp:revision>
  <dc:subject/>
  <dc:title>ВЕСНА</dc:title>
</cp:coreProperties>
</file>