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C1B-A11A-4FD4-8A97-EC620608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B97-49E5-4D05-B05C-42B0D041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43F-477F-488C-943D-0A1858A9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7B6-A1AF-4BF1-BA57-0C58259A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FD5-2A84-4A24-BDEA-3558E27D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101-D2F6-41DC-885A-26A68745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AD5-46EF-497D-9659-6894D14B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7D0-7185-4BA2-900F-1F4FC600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86B-4239-4779-9C61-C4296A97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091-448D-4173-9312-60AD11B3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1AE-079F-44C1-9C96-3838403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563-CE8A-4F7B-B39F-76EB4C1F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F821-6365-45FD-9D2B-2EF29A80F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00"/>
                </a:solidFill>
                <a:latin typeface="Arial Black"/>
              </a:rPr>
              <a:t>ВЕС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209" t="23425" r="10734" b="15584"/>
          <a:stretch/>
        </p:blipFill>
        <p:spPr>
          <a:xfrm rot="15537000">
            <a:off x="315000" y="-64080"/>
            <a:ext cx="3186000" cy="331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579760"/>
            <a:ext cx="4392720" cy="427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283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16360" y="2567160"/>
            <a:ext cx="46800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8773" b="50014"/>
          <a:stretch/>
        </p:blipFill>
        <p:spPr>
          <a:xfrm>
            <a:off x="468360" y="0"/>
            <a:ext cx="360036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62483" b="52352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79425" t="6980" r="0" b="55503"/>
          <a:stretch/>
        </p:blipFill>
        <p:spPr>
          <a:xfrm>
            <a:off x="514836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48213" t="49787" r="4539" b="1225"/>
          <a:stretch/>
        </p:blipFill>
        <p:spPr>
          <a:xfrm>
            <a:off x="4932360" y="3500280"/>
            <a:ext cx="421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6899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48:46Z</dcterms:created>
  <dc:creator>1</dc:creator>
  <dc:description/>
  <dc:language>en-US</dc:language>
  <cp:lastModifiedBy>1</cp:lastModifiedBy>
  <dcterms:modified xsi:type="dcterms:W3CDTF">2009-03-11T10:24:28Z</dcterms:modified>
  <cp:revision>3</cp:revision>
  <dc:subject/>
  <dc:title>ВЕСНА</dc:title>
</cp:coreProperties>
</file>