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A1FC-6D37-4E97-8262-6BBF3CC36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6154-99AD-4A27-988C-83F6B5D88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8684-AEFD-43CA-BB7F-08649FCD8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6CE3-0B0B-468B-9191-BE2224848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568C3-2A05-4758-9FE7-5FD30B7BE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2C080-9E15-4592-BE22-255E4D5AF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F494F-DACD-4C65-ACC2-62CFA6F1C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581B9-33B6-4FDF-9B99-4353955A4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1D042-433A-498B-81C6-C8C6F2DD9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60525-3D80-4087-B264-E7960C122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06D42-2AA5-4EFA-B737-81B2F859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34C4-7CAA-4CBA-A6DD-F60445D32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32B25-FE8F-4013-B35E-C46FB694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D0BE7-886B-41E5-BA4D-4484101C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84D3B-7307-4E4C-A90B-DE76A5A77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96B4A-C1BF-4029-A462-CD3CC097D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8DF08-C90B-445D-879E-131C15BD5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D6C75-D243-48E8-801C-0547F21B4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0E722-9476-4735-B3AE-AC10D67E9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A9D7C-6C51-409B-9914-1652CA152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3667A-0A79-4876-902C-0A4A399E3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10CC3-9B19-4D80-B581-1771EA890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1B3B-C3C0-47BE-9D2F-DA930A784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1577E-6168-45DE-98A4-BA7809335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CADDC-928F-46A1-8727-F8866BBF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FC70C-311D-4903-B8CC-863A1272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B13C4-1594-4C5B-8F86-4DB4DE1B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38CF7-9650-4A55-A9C2-A74B83502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765F9-A19E-4DE8-B9D8-2B9E1E9F8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10204-0EFA-43F6-A5A9-A2722A9CC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3E486-85C2-4B76-8E78-8BA795AD2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F5686-EE2D-4E8D-8176-0799D6C53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4A4A7-168B-4414-88BD-3AB88DECE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1CC0-08A8-4594-B6B1-40CF2D42A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6A36D-4BE6-48FA-814C-45BB4ABFF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F289A-9577-420E-9289-332F15596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50236-2192-4466-A498-0C89FA479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09AC7-90AC-4EC0-9FDA-C16B373C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F53DB-2E70-459E-8097-071A0A4D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95C9B-5F7A-4F75-A13F-565F6339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2D4C3-3831-4919-AD01-B08FDBDDE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9B837-6EA9-46A6-BA49-AD00F1890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93D73-51C3-4EBC-8FA1-8A96E522D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AC260-F551-40A3-AF4B-B624C936A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0F5F-9739-478D-AF1B-549CFDC7C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610D9-E70C-43C4-A06A-89A28AE8E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B00BA-CF7F-4F59-A7C5-D4247B58A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B19DF-698A-42B4-B160-94D24A144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E2B52-223F-4115-A515-46872704B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4E380-DA81-4A9D-A72F-C1E71D12B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8A7FB-574A-4932-B6EC-492530B5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4F9EE-C67E-4345-AAC2-300929F4B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AFAD4-9177-4FCB-B04B-DBB93155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C8530-C4A0-449D-B56F-C06DCE3AC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361F9-8F4E-443B-A9D2-EF85C27F8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CB90-CA2B-4FAF-A872-2E9614282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9F014-09B4-45CC-BD9B-E88BB25A9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A6058-8917-4BE4-9956-E4FD47F89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FD4CF-9562-491A-8C5E-F3F4488A4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73D7BC-88E6-4731-9EEE-1A297932B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C8BEC-2C87-4F82-8791-A6E214777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8F390-50AB-4946-8236-1308E9395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4B9FA-2E03-4504-9B30-245023D9C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AB962-77F6-428E-8FAF-4913CEB8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86C16-1090-40FA-BB79-0F7DC2F8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9A83F-B984-46BB-9D4F-773A2B0E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A09D-81F6-46DE-8D81-D6618668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30944-E00A-4363-8184-A8D1D5A48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6C046-360D-43D7-A00C-D3E4CF4D9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27BB0-60C0-432B-AA5B-CFCA1A4DE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0A045-08C5-4446-9C28-AB6EE09AC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835CD5-D53B-4399-ABA4-F2089733C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5088E-9CAD-4C37-950F-10C7AD2DF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66425-C04E-48C7-A60C-2DEFA5BA6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4D089-356A-4780-BB7C-14E915F7E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47A89-5AAD-44A5-8ABC-0FD786335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8C8B13-69BD-4D0E-B7C9-C6049380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4B7B-FC83-4F1F-9BF0-058E14C8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FBDB09-3EF0-4498-9571-01E82692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C6D09F-753B-4C9B-B047-3CDE9F06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8950F-9440-4CB6-8DFA-30E55C289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DB331-FFCC-4C4C-B219-C5AE075F7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90313-FB46-4B1F-98BB-153566C47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3770-A6DC-4E80-8623-2BA16E36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BFC02-FE39-4082-B01C-CA63C1B165F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4988F-2607-4DCF-9D5E-859DD9B026C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4FA35-D85D-46BD-971A-569B9748CA5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079D0-99BD-4CDA-9C94-DF9EE17EF29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341B8-46C9-49F6-B9E1-14DAD18D808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FDE01-E01D-4AA8-B753-FD936B2307F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8557F-B35E-4ED0-8872-D0DCDADBEF9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 u="sng">
                <a:solidFill>
                  <a:srgbClr val="c58d01"/>
                </a:solidFill>
                <a:uFillTx/>
                <a:latin typeface="Times New Roman"/>
                <a:ea typeface="Times New Roman"/>
              </a:rPr>
              <a:t>«Актуальность проблемы речевого развития детей дошкольного возраста»</a:t>
            </a:r>
            <a:br>
              <a:rPr sz="3100"/>
            </a:b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100"/>
            </a:b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 Волхонцева А.В.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ая  задача речевого развития ребёнка дошкольного возраста - это владение нормами и правилами языка, определяемыми для каждого возрастного этапа, и развития их коммуникативных способносте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572314"/>
                </a:solidFill>
                <a:latin typeface="Corbel"/>
              </a:rPr>
              <a:t>Типичные проблемы развития речи дошкольника:</a:t>
            </a:r>
            <a:br>
              <a:rPr sz="3900"/>
            </a:br>
            <a:endParaRPr b="0" lang="en-US" sz="2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сложная, состоящая лишь из простых предложений речь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ак называемая "ситуативная" речь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еспособность грамматически правильно построить распространенное предложение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дность речи. Недостаточный словарный запас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усоривание речи сленговыми словами (результат просмотров телевизионных передач, употребление нелитературных слов и выражений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дная диалогическая 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ч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неспособность грамотно и доступно сформулировать вопрос, построить краткий или развернутый ответ, если это необходимо и уместно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пособность построить 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онолог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например, сюжетный или описательный рассказ на предложенную тему, пересказ текста своими словами.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 ведь к школе приобрести это умение просто необходимо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е логического обоснования своих утверждений и выводов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е навыков культуры 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ч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неумение использовать интонации, регулировать громкость голоса и темп речи и т. д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хая дикция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Методические средства в помощь педагогу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ние взрослых и детей, формирование коммуникативных навыков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ьтурная языковая среда, речь воспитателя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на занятиях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дожественная литература, различные виды искусства 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зобразительное, музыка, театр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ые технологии и методы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14200" y="142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редства развития речи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5" name="Содержимое 3" descr=""/>
          <p:cNvPicPr/>
          <p:nvPr/>
        </p:nvPicPr>
        <p:blipFill>
          <a:blip r:embed="rId1"/>
          <a:stretch/>
        </p:blipFill>
        <p:spPr>
          <a:xfrm>
            <a:off x="189000" y="1017720"/>
            <a:ext cx="880272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300" spc="-1" strike="noStrike" u="sng">
                <a:solidFill>
                  <a:srgbClr val="572314"/>
                </a:solidFill>
                <a:uFillTx/>
                <a:latin typeface="Corbel"/>
              </a:rPr>
              <a:t>требования к речи взрослого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ечь должна быть содержательной, логичной и точной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олжна быть доступной 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оответствие возрасту ребенка)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ечь должна быть лексически, фонетически и грамматически правильной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 речи должно использоваться художественное слово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ечь должна быть выразительной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ечь должна быть эмоционально насыщенной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зрослый, разговаривая с ребенком, не должен торопиться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лова произносятся достаточно громко, чтобы ребенок смог расслышать все звуки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зрослый должен знать и соблюдать речевой этикет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 речи взрослый должен использовать вербальные и невербальные средства общения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лова взрослого должны соответствовать его делам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Рекомендации по развитию речи в семье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9" name="Объект 8" descr=""/>
          <p:cNvPicPr/>
          <p:nvPr/>
        </p:nvPicPr>
        <p:blipFill>
          <a:blip r:embed="rId1"/>
          <a:stretch/>
        </p:blipFill>
        <p:spPr>
          <a:xfrm>
            <a:off x="1414440" y="1444680"/>
            <a:ext cx="759636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Вывод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lnSpc>
                <a:spcPct val="97000"/>
              </a:lnSpc>
              <a:spcBef>
                <a:spcPts val="6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блема речевого развития детей в настоящее время очень актуальна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7000"/>
              </a:lnSpc>
              <a:spcBef>
                <a:spcPts val="6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сомненно, чем богаче и правильнее речь ребенка, тем ему легче высказывать свои мысли, тем лучше его взаимоотношения с окружающими его людьми. При этом необходимо учитывать, что плохая речь может сильно отразиться на грамотности ребенка, т. к. письменная речь формируется на основе устной. Помните, что воспитатель, взаимодействуя с  семьей может решить проблему развития речи детей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7000"/>
              </a:lnSpc>
              <a:spcBef>
                <a:spcPts val="6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1:54:04Z</dcterms:created>
  <dc:creator>Пользователь</dc:creator>
  <dc:description/>
  <dc:language>en-US</dc:language>
  <cp:lastModifiedBy>User</cp:lastModifiedBy>
  <dcterms:modified xsi:type="dcterms:W3CDTF">2023-04-27T06:16:51Z</dcterms:modified>
  <cp:revision>139</cp:revision>
  <dc:subject/>
  <dc:title>План  учебно-воспитательной работы  на 2013-2014 уч. год</dc:title>
</cp:coreProperties>
</file>