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DA7-3B8E-4C7D-AB78-D679154F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1B5-DC9A-416D-A5F8-9C10FAC7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9CE-4079-46D3-B898-C2990538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A4B-4858-4EC2-BF1F-327C59B4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57C-046F-49EA-A757-ECC9A6B0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B1F4-5541-4AFE-9908-28077E3C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7DEB-734A-4690-9788-A320BCD0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3FB-4EF6-43D3-B5E1-52552A8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ECB-4EEC-4198-A9CC-2426509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D70-BF13-4F3C-AB3C-8628A94A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BEC1-3A06-4E70-99F3-EDCAE0F4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477-6879-4CDD-83C9-EE5E3C3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D777-280E-4B3A-97CC-6B3C388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BD7-666F-4D15-B7DD-DCB7ABE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54E9-3F81-4E65-8F35-BF9109FF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2E63-6210-4ABA-916A-C39631A8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6611-4EBE-4897-90A9-1A8B8962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F588-3F15-4CCD-8FCA-39FBD69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901B-1F25-4358-8D42-F362E625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7341-3CA5-46AD-9C8F-24739F9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6838-1CD6-4A73-93F3-B054DB8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72DC-7EE0-46B6-B94A-5CAF76FD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4BF-8D48-4B6E-B690-90CBD7B5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6ACC-84AD-4DA2-9AFA-FDD08588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6B39-C324-4440-B8BD-F627D5C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A1AA-D0DA-45B5-BC4B-931D315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F074-D77B-4C16-A050-8065FF94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8C6C-F152-49D7-842F-12BE3327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7E72-7133-4AAE-86F2-28E09299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C018-0CAF-4BA9-805A-D910D4F3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C7A8-7CB6-4C27-B01C-EA46E044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EFA7-D860-4B14-BFAB-9F245100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AB05-CEB7-4923-804D-E0B84250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868-F4D3-473A-906C-6894FDCA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F6A6-239F-4B75-BAC7-5120DDA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74C4-4FCC-4D9B-9AFC-FDA54D7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19DC-C142-4AD9-B2F8-8251A89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3222-0B82-4188-8636-08A8E6B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6F78-C0A3-4849-96F5-C4D6389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94CF-E90B-46B3-A080-C94795F6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E713-4CFB-4E1E-8325-A5DEB5D9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2967-56B2-463F-8023-37D1327E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093E-8CA7-4B4A-B15C-088EE97C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3F88-799D-429A-B91C-DE99CAC6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062-CB71-4A33-80EF-7230B452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D422-9BA9-474A-BC6F-76B8BB28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64A7-4EAA-4158-9BF1-F655A6A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2C7B-87C7-4F61-BBA2-95794EC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C509-2BF2-4B0A-BF2C-42FBBB8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CF07-A0A6-48BC-B303-CF443DD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FBAE-ACD2-40C2-BCBA-A1D37D4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408D-C418-439D-8C3F-FD26D38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DBC9-7481-45B7-B5E3-E4F1450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1320-5D9D-4B16-A942-0150DD15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3E24-5D4E-4357-ACE2-D6BC9116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F14-6732-4039-8EA4-D12222BB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0DDC-E58E-461D-A28A-E55D695C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4F79-6B22-4CF4-9371-2317043C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0B42-4407-4464-9397-04DD16E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A9DA-2A84-4961-B60C-FCE64D0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0B9E-D332-4472-967A-70DA2F5E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4B094-D1EF-4937-8C66-2E211C9D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C50C1-C3DE-4B28-83EB-8DE58E3B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A35F-B956-40EA-92F8-82E02798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9045-711D-4CC9-894C-105C386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E414-2137-4B85-9D5C-E9ABC47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46E-6960-4C11-82DC-12B785E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A830-9E4A-485B-8B9F-8A13303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ADB8-2347-4405-BD95-99E42B54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922B4-10FD-4AB5-9866-9CEF73EA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2CFA4-2695-4862-BBC0-FB1C2A47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E5BAC-CF00-4C3B-813C-16F14B94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6197-209E-44D2-A6A0-1919CA83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1BB2-4188-42BE-BD2D-76DE5F8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18B2C-56F1-4B8E-8EB1-83372E63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4E530-150B-4BD6-B84C-8DE081F1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5517-C2EE-470E-8476-5AEE880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162-FABD-4312-BEB4-D77CD18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49BC-488D-4353-B62E-29EF74E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9645C-DFEE-463A-99F4-39FD89E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EF6C-3BDA-4811-929B-3693AA4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B749-F3E5-4D32-8DA8-61A0A981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87806-2679-47F5-A837-EED5325A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7F9-853A-47D5-B14B-79DB0C5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3F79-287B-4AB7-AB28-18CAFA4627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7BD-2460-4C41-8B30-AE093AECF5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A1A-33E7-4318-8352-93611A6519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FC1-C78F-4479-BF29-1644E9EFAD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FF61-56A8-4DBC-BB12-CB32532CAE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E29B-2B7F-4AB3-81EC-C3E215AE31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0345-D117-4A09-AA50-35976992E2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c58d01"/>
                </a:solidFill>
                <a:uFillTx/>
                <a:latin typeface="Times New Roman"/>
                <a:ea typeface="Times New Roman"/>
              </a:rPr>
              <a:t>«Актуальность проблемы речевого развития детей дошкольного возраста»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Волхонцева А.В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задача речевого развития ребёнка дошкольного возраста - это владение нормами и правилами языка, определяемыми для каждого возрастного этапа, и развития их коммуникативных способност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572314"/>
                </a:solidFill>
                <a:latin typeface="Corbel"/>
              </a:rPr>
              <a:t>Типичные проблемы развития речи дошкольника:</a:t>
            </a:r>
            <a:br>
              <a:rPr sz="3900"/>
            </a:b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ложная, состоящая лишь из простых предложений речь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 называемая "ситуативная" реч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способность грамматически правильно построить распространенное предложе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ость речи. Недостаточный словарный запа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усоривание речи сленговыми словами (результат просмотров телевизионных передач, употребление нелитературных слов и выражен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ая диалогическая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ч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способность грамотно и доступно сформулировать вопрос, построить краткий или развернутый ответ, если это необходимо и умест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построить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оло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пример, сюжетный или описательный рассказ на предложенную тему, пересказ текста своими словами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ведь к школе приобрести это умение просто необходимо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логического обоснования своих утверждений и вывод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навыков культуры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мение использовать интонации, регулировать громкость голоса и темп речи и т. 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ая дикц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тодические средства в помощь педагог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взрослых и детей, формирование коммуникативных навы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ая языковая среда, речь воспитател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занятия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, различные виды искусства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образительное, музыка, театр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ехнологии и мет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редства развития ре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89000" y="1017720"/>
            <a:ext cx="880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требования к речи взрослого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содержательной, логичной и точ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лжна быть доступной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ие возрасту ребенка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лексически, фонетически и грамматически правиль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речи должно использоваться художественное слов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выразитель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эмоционально насыщен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рослый, разговаривая с ребенком, не должен торопить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ва произносятся достаточно громко, чтобы ребенок смог расслышать все зву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рослый должен знать и соблюдать речевой этик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речи взрослый должен использовать вербальные и невербальные средства общ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ва взрослого должны соответствовать его дел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комендации по развитию речи в семь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Объект 8" descr=""/>
          <p:cNvPicPr/>
          <p:nvPr/>
        </p:nvPicPr>
        <p:blipFill>
          <a:blip r:embed="rId1"/>
          <a:stretch/>
        </p:blipFill>
        <p:spPr>
          <a:xfrm>
            <a:off x="1414440" y="1444680"/>
            <a:ext cx="7596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речевого развития детей в настоящее время очень актуальн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мненно, чем богаче и правильнее речь ребенка, тем ему легче высказывать свои мысли, тем лучше его взаимоотношения с окружающими его людьми. При этом необходимо учитывать, что плохая речь может сильно отразиться на грамотности ребенка, т. к. письменная речь формируется на основе устной. Помните, что воспитатель, взаимодействуя с  семьей может решить проблему развития речи дет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1:54:04Z</dcterms:created>
  <dc:creator>Пользователь</dc:creator>
  <dc:description/>
  <dc:language>en-US</dc:language>
  <cp:lastModifiedBy>User</cp:lastModifiedBy>
  <dcterms:modified xsi:type="dcterms:W3CDTF">2023-04-27T06:16:51Z</dcterms:modified>
  <cp:revision>139</cp:revision>
  <dc:subject/>
  <dc:title>План  учебно-воспитательной работы  на 2013-2014 уч. год</dc:title>
</cp:coreProperties>
</file>