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4.png" ContentType="image/pn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1.jpeg" ContentType="image/jpeg"/>
  <Override PartName="/ppt/media/image12.png" ContentType="image/png"/>
  <Override PartName="/ppt/media/image30.png" ContentType="image/png"/>
  <Override PartName="/ppt/media/image31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FC4-8959-4CCB-833C-07A599F3B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8AA-7DC5-4E2A-8BB5-28F91D2D62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87DC-490F-4F24-988D-58301AE7DB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48A-F3FB-4E28-BAB9-340B414815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B89-F59D-4245-98D4-6DCEB7A746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7C74-420F-4BC7-BBA3-4A6566208D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3D1-FA47-4B33-A4ED-9936B3E8B1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51C-DAA6-466E-A2C9-8B9346B28C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AA5-A666-4688-B57C-CF28EBCDC2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3F2-B420-4587-AB1D-A927683D00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8D1-DBE5-48BD-86AC-CEE81D3C10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525-B6B5-4788-A672-2E11CB5A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0B2-1668-407C-B821-C6541F7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0A5-AF87-453F-9230-608DEA02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D0A-1107-4423-8F47-1E87FCA8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3B3-0D53-48DA-BCB3-E06CFFD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94D-B1DF-4EB1-B53F-AF8D5D9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DEF-20F2-46F2-B469-9E57536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92D-5C3A-4148-B927-876F0E9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BB5-1851-468C-A78C-2A27E18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DCE-19F1-4EFF-AA00-EF6E9FA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4D7-829A-484C-8B7B-7414709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DF4-EAFA-4B10-BEAC-E856E6F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102-83A9-4D0B-A3CF-3C35EC1B0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https://learningapps.org/view26398629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969840" y="2176560"/>
            <a:ext cx="72662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49" name="Скругленный прямоугольник 5"/>
          <p:cNvGrpSpPr/>
          <p:nvPr/>
        </p:nvGrpSpPr>
        <p:grpSpPr>
          <a:xfrm>
            <a:off x="6029280" y="4406760"/>
            <a:ext cx="1944720" cy="946440"/>
            <a:chOff x="6029280" y="4406760"/>
            <a:chExt cx="1944720" cy="946440"/>
          </a:xfrm>
        </p:grpSpPr>
        <p:pic>
          <p:nvPicPr>
            <p:cNvPr id="50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029280" y="4406760"/>
              <a:ext cx="19447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22880" y="4475160"/>
              <a:ext cx="17557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одготовил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Шевченко А. 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3"/>
          <p:cNvGrpSpPr/>
          <p:nvPr/>
        </p:nvGrpSpPr>
        <p:grpSpPr>
          <a:xfrm>
            <a:off x="1017720" y="974880"/>
            <a:ext cx="6980040" cy="909360"/>
            <a:chOff x="1017720" y="974880"/>
            <a:chExt cx="6980040" cy="909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017720" y="974880"/>
              <a:ext cx="69800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103400" y="1069920"/>
              <a:ext cx="6810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УНИЦИПАЛЬНОЕ БЮДЖЕТНОЕ ОБРАЗОВАТЕЛЬНОЕ УЧРЕЖДЕНИЕ ГОРОДА МЦЕНСКА «ДЕТСКИЙ САД № 11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4"/>
          <p:cNvSpPr/>
          <p:nvPr/>
        </p:nvSpPr>
        <p:spPr>
          <a:xfrm>
            <a:off x="1224000" y="1828800"/>
            <a:ext cx="3168720" cy="8794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L:\etiket3\etiket3\16.jpg"/>
          <p:cNvPicPr/>
          <p:nvPr/>
        </p:nvPicPr>
        <p:blipFill>
          <a:blip r:embed="rId1"/>
          <a:stretch/>
        </p:blipFill>
        <p:spPr>
          <a:xfrm>
            <a:off x="4791240" y="1628640"/>
            <a:ext cx="296532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139160" cy="1139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76360" y="18320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о время спектакля нельзя разговар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155520" y="3500280"/>
            <a:ext cx="462744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tts_freetts.ru_6361110a6af17104688406c" descr=""/>
          <p:cNvPicPr/>
          <p:nvPr/>
        </p:nvPicPr>
        <p:blipFill>
          <a:blip r:embed="rId4"/>
          <a:stretch/>
        </p:blipFill>
        <p:spPr>
          <a:xfrm>
            <a:off x="3913200" y="56037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66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2"/>
          <p:cNvSpPr/>
          <p:nvPr/>
        </p:nvSpPr>
        <p:spPr>
          <a:xfrm>
            <a:off x="1392120" y="1773360"/>
            <a:ext cx="2665440" cy="13222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:\etiket3\etiket3\18.jpg"/>
          <p:cNvPicPr/>
          <p:nvPr/>
        </p:nvPicPr>
        <p:blipFill>
          <a:blip r:embed="rId1"/>
          <a:stretch/>
        </p:blipFill>
        <p:spPr>
          <a:xfrm>
            <a:off x="4878360" y="1557360"/>
            <a:ext cx="3005280" cy="4103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1046160" y="692280"/>
            <a:ext cx="7140600" cy="1139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1392120" y="1774800"/>
            <a:ext cx="26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зрительном зале неприлично есть, особенно вовремя предст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3"/>
          <a:stretch/>
        </p:blipFill>
        <p:spPr>
          <a:xfrm>
            <a:off x="61920" y="3500280"/>
            <a:ext cx="4627440" cy="2592720"/>
          </a:xfrm>
          <a:prstGeom prst="rect">
            <a:avLst/>
          </a:prstGeom>
          <a:ln w="0">
            <a:noFill/>
          </a:ln>
        </p:spPr>
      </p:pic>
      <p:pic>
        <p:nvPicPr>
          <p:cNvPr id="107" name="tts_freetts.ru_6361113f1a9e6178103969c" descr=""/>
          <p:cNvPicPr/>
          <p:nvPr/>
        </p:nvPicPr>
        <p:blipFill>
          <a:blip r:embed="rId4"/>
          <a:stretch/>
        </p:blipFill>
        <p:spPr>
          <a:xfrm>
            <a:off x="3813120" y="5605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4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0"/>
          <p:cNvSpPr/>
          <p:nvPr/>
        </p:nvSpPr>
        <p:spPr>
          <a:xfrm>
            <a:off x="2406600" y="3405240"/>
            <a:ext cx="4365720" cy="550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5148360" y="4025880"/>
            <a:ext cx="3714480" cy="20811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3603600" y="1238400"/>
            <a:ext cx="1971720" cy="1973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9"/>
          <p:cNvSpPr/>
          <p:nvPr/>
        </p:nvSpPr>
        <p:spPr>
          <a:xfrm>
            <a:off x="2509560" y="353232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learningapps.org/view2639862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3851280" y="40258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сылка на 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ts_freetts.ru_6361117a2cf3d129700106c" descr=""/>
          <p:cNvPicPr/>
          <p:nvPr/>
        </p:nvPicPr>
        <p:blipFill>
          <a:blip r:embed="rId4"/>
          <a:stretch/>
        </p:blipFill>
        <p:spPr>
          <a:xfrm>
            <a:off x="5172120" y="555768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92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042920" y="112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Цель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познакомить детей с понятием «Театр», формировать и закреплять у детей навыки вежливого поведения в театре в качестве зрител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vslounge.ru/wp-content/uploads/6/8/d/68d981c9956f8743b5a484f4cb06a9d2.jpeg"/>
          <p:cNvPicPr/>
          <p:nvPr/>
        </p:nvPicPr>
        <p:blipFill>
          <a:blip r:embed="rId2"/>
          <a:stretch/>
        </p:blipFill>
        <p:spPr>
          <a:xfrm>
            <a:off x="3492360" y="3357720"/>
            <a:ext cx="5270760" cy="329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25456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mass-images.pro/files/preview/0/11/abf5f6a0dcf031cc4589b80e2cea36c7.png?1662290739827"/>
          <p:cNvPicPr/>
          <p:nvPr/>
        </p:nvPicPr>
        <p:blipFill>
          <a:blip r:embed="rId4"/>
          <a:stretch/>
        </p:blipFill>
        <p:spPr>
          <a:xfrm>
            <a:off x="-1189080" y="4268880"/>
            <a:ext cx="4608720" cy="2589120"/>
          </a:xfrm>
          <a:prstGeom prst="rect">
            <a:avLst/>
          </a:prstGeom>
          <a:ln w="0">
            <a:noFill/>
          </a:ln>
        </p:spPr>
      </p:pic>
      <p:pic>
        <p:nvPicPr>
          <p:cNvPr id="59" name="1" descr=""/>
          <p:cNvPicPr/>
          <p:nvPr/>
        </p:nvPicPr>
        <p:blipFill>
          <a:blip r:embed="rId5"/>
          <a:stretch/>
        </p:blipFill>
        <p:spPr>
          <a:xfrm>
            <a:off x="2556000" y="634212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5"/>
          <p:cNvSpPr/>
          <p:nvPr/>
        </p:nvSpPr>
        <p:spPr>
          <a:xfrm>
            <a:off x="1042920" y="1989000"/>
            <a:ext cx="3600360" cy="7923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682560" y="401760"/>
            <a:ext cx="763272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13.jpg"/>
          <p:cNvPicPr/>
          <p:nvPr/>
        </p:nvPicPr>
        <p:blipFill>
          <a:blip r:embed="rId2"/>
          <a:stretch/>
        </p:blipFill>
        <p:spPr>
          <a:xfrm>
            <a:off x="4859280" y="1557360"/>
            <a:ext cx="3025800" cy="40752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703440" y="1768320"/>
            <a:ext cx="4289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театр всегда ходи опрят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ичесанным и аккуратны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608360" cy="2592720"/>
          </a:xfrm>
          <a:prstGeom prst="rect">
            <a:avLst/>
          </a:prstGeom>
          <a:ln w="0">
            <a:noFill/>
          </a:ln>
        </p:spPr>
      </p:pic>
      <p:pic>
        <p:nvPicPr>
          <p:cNvPr id="65" name="tts_freetts.ru_63610efa72507900513770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8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8"/>
          <p:cNvSpPr/>
          <p:nvPr/>
        </p:nvSpPr>
        <p:spPr>
          <a:xfrm>
            <a:off x="1258920" y="1855800"/>
            <a:ext cx="2952720" cy="1258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5" descr="13.jpg"/>
          <p:cNvPicPr/>
          <p:nvPr/>
        </p:nvPicPr>
        <p:blipFill>
          <a:blip r:embed="rId1"/>
          <a:stretch/>
        </p:blipFill>
        <p:spPr>
          <a:xfrm>
            <a:off x="4673520" y="1557360"/>
            <a:ext cx="3267000" cy="4402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335304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о третьего звонка занимаем свои места в зрительном з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976320" y="716040"/>
            <a:ext cx="7139160" cy="1139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179280" y="3502080"/>
            <a:ext cx="461484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tts_freetts.ru_63610f51ee9e5851169652c" descr=""/>
          <p:cNvPicPr/>
          <p:nvPr/>
        </p:nvPicPr>
        <p:blipFill>
          <a:blip r:embed="rId4"/>
          <a:stretch/>
        </p:blipFill>
        <p:spPr>
          <a:xfrm>
            <a:off x="3870360" y="5605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46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кругленный прямоугольник 6"/>
          <p:cNvSpPr/>
          <p:nvPr/>
        </p:nvSpPr>
        <p:spPr>
          <a:xfrm>
            <a:off x="1001880" y="1557360"/>
            <a:ext cx="3570120" cy="1440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13.jpg"/>
          <p:cNvPicPr/>
          <p:nvPr/>
        </p:nvPicPr>
        <p:blipFill>
          <a:blip r:embed="rId1"/>
          <a:stretch/>
        </p:blipFill>
        <p:spPr>
          <a:xfrm>
            <a:off x="4643280" y="1413000"/>
            <a:ext cx="3157560" cy="43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30240" y="1611360"/>
            <a:ext cx="364176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бираемся к своему месту лицом к сидящим. Извиняемся за беспокойство и благодар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2"/>
          <a:stretch/>
        </p:blipFill>
        <p:spPr>
          <a:xfrm>
            <a:off x="1001880" y="573120"/>
            <a:ext cx="714024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621320" cy="2592720"/>
          </a:xfrm>
          <a:prstGeom prst="rect">
            <a:avLst/>
          </a:prstGeom>
          <a:ln w="0">
            <a:noFill/>
          </a:ln>
        </p:spPr>
      </p:pic>
      <p:pic>
        <p:nvPicPr>
          <p:cNvPr id="77" name="tts_freetts.ru_63610fd0a3816334602020c" descr=""/>
          <p:cNvPicPr/>
          <p:nvPr/>
        </p:nvPicPr>
        <p:blipFill>
          <a:blip r:embed="rId4"/>
          <a:stretch/>
        </p:blipFill>
        <p:spPr>
          <a:xfrm>
            <a:off x="381492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7"/>
          <p:cNvSpPr/>
          <p:nvPr/>
        </p:nvSpPr>
        <p:spPr>
          <a:xfrm>
            <a:off x="1187280" y="206064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5" descr="13.jpg"/>
          <p:cNvPicPr/>
          <p:nvPr/>
        </p:nvPicPr>
        <p:blipFill>
          <a:blip r:embed="rId1"/>
          <a:stretch/>
        </p:blipFill>
        <p:spPr>
          <a:xfrm>
            <a:off x="4932360" y="1611360"/>
            <a:ext cx="2952720" cy="4049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1000080" y="673200"/>
            <a:ext cx="7143840" cy="1139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116000" y="21337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 антракте можно сходить в буф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"/>
          <p:cNvPicPr/>
          <p:nvPr/>
        </p:nvPicPr>
        <p:blipFill>
          <a:blip r:embed="rId3"/>
          <a:stretch/>
        </p:blipFill>
        <p:spPr>
          <a:xfrm>
            <a:off x="-9360" y="3500280"/>
            <a:ext cx="4625640" cy="2592720"/>
          </a:xfrm>
          <a:prstGeom prst="rect">
            <a:avLst/>
          </a:prstGeom>
          <a:ln w="0">
            <a:noFill/>
          </a:ln>
        </p:spPr>
      </p:pic>
      <p:pic>
        <p:nvPicPr>
          <p:cNvPr id="83" name="tts_freetts.ru_63610ffcb3221105572875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61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3"/>
          <p:cNvSpPr/>
          <p:nvPr/>
        </p:nvSpPr>
        <p:spPr>
          <a:xfrm>
            <a:off x="998640" y="1797120"/>
            <a:ext cx="3425760" cy="9475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5" descr="13.jpg"/>
          <p:cNvPicPr/>
          <p:nvPr/>
        </p:nvPicPr>
        <p:blipFill>
          <a:blip r:embed="rId1"/>
          <a:stretch/>
        </p:blipFill>
        <p:spPr>
          <a:xfrm>
            <a:off x="4543560" y="1557360"/>
            <a:ext cx="324648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06040" y="1796760"/>
            <a:ext cx="37148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кидаем свои места только после того, как закроется занаве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7" descr=""/>
          <p:cNvPicPr/>
          <p:nvPr/>
        </p:nvPicPr>
        <p:blipFill>
          <a:blip r:embed="rId2"/>
          <a:stretch/>
        </p:blipFill>
        <p:spPr>
          <a:xfrm>
            <a:off x="998640" y="623880"/>
            <a:ext cx="7138800" cy="1139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3"/>
          <a:stretch/>
        </p:blipFill>
        <p:spPr>
          <a:xfrm>
            <a:off x="-84240" y="3479760"/>
            <a:ext cx="462780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tts_freetts.ru_636110a3235f0156385890c" descr=""/>
          <p:cNvPicPr/>
          <p:nvPr/>
        </p:nvPicPr>
        <p:blipFill>
          <a:blip r:embed="rId4"/>
          <a:stretch/>
        </p:blipFill>
        <p:spPr>
          <a:xfrm>
            <a:off x="3635280" y="5583240"/>
            <a:ext cx="4874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4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5"/>
          <p:cNvSpPr/>
          <p:nvPr/>
        </p:nvSpPr>
        <p:spPr>
          <a:xfrm>
            <a:off x="1346040" y="2043000"/>
            <a:ext cx="3068640" cy="10162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L:\etiket3\etiket3\17.jpg"/>
          <p:cNvPicPr/>
          <p:nvPr/>
        </p:nvPicPr>
        <p:blipFill>
          <a:blip r:embed="rId1"/>
          <a:stretch/>
        </p:blipFill>
        <p:spPr>
          <a:xfrm>
            <a:off x="4859280" y="1628640"/>
            <a:ext cx="2881440" cy="3916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1046160" y="692280"/>
            <a:ext cx="7140600" cy="1139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03280" y="206064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о время спектакля нельзя разговаривать по телефо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108000" y="3500280"/>
            <a:ext cx="4627440" cy="2592720"/>
          </a:xfrm>
          <a:prstGeom prst="rect">
            <a:avLst/>
          </a:prstGeom>
          <a:ln w="0">
            <a:noFill/>
          </a:ln>
        </p:spPr>
      </p:pic>
      <p:pic>
        <p:nvPicPr>
          <p:cNvPr id="95" name="tts_freetts.ru_636110dac5c39377113507c" descr=""/>
          <p:cNvPicPr/>
          <p:nvPr/>
        </p:nvPicPr>
        <p:blipFill>
          <a:blip r:embed="rId4"/>
          <a:stretch/>
        </p:blipFill>
        <p:spPr>
          <a:xfrm>
            <a:off x="3780000" y="56055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5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1:14Z</dcterms:created>
  <dc:creator>Valued Acer Customer</dc:creator>
  <dc:description/>
  <dc:language>en-US</dc:language>
  <cp:lastModifiedBy>вадим головань</cp:lastModifiedBy>
  <dcterms:modified xsi:type="dcterms:W3CDTF">2022-11-01T12:50:5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190000000000010291700207e700052003a000</vt:lpwstr>
  </property>
</Properties>
</file>