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10.wmf" ContentType="image/x-wmf"/>
  <Override PartName="/ppt/media/image4.jpeg" ContentType="image/jpeg"/>
  <Override PartName="/ppt/media/image2.png" ContentType="image/png"/>
  <Override PartName="/ppt/media/image15.jpeg" ContentType="image/jpeg"/>
  <Override PartName="/ppt/media/image14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74A-46B2-464F-9AA1-CC9C5509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766-CBF3-4349-A3AA-57586D6F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D1C-5000-44C9-A85E-C0E29DF3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901-44F1-47E8-8E25-4DE6CEF4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0DD-9516-4BDA-968F-B4BCC460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572-607E-4A28-A0F1-399D025A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9EF-DEB2-438E-A81C-E9C2DA1D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E4A-A333-4E33-B8F0-CB671366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604-6EB7-4446-9770-161C8657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09F-1C6D-4DBD-AF56-C3CB0CB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8DA-6084-4364-8DE9-2A798FF9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33E-C5DE-48FB-80CA-96FA0E5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E5E0-4714-4C69-935E-61090AD21D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255600" y="360360"/>
            <a:ext cx="8632800" cy="1865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971640" y="2492280"/>
            <a:ext cx="439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 2 кла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9" descr="a86c1599e3a8"/>
          <p:cNvPicPr/>
          <p:nvPr/>
        </p:nvPicPr>
        <p:blipFill>
          <a:blip r:embed="rId2"/>
          <a:stretch/>
        </p:blipFill>
        <p:spPr>
          <a:xfrm>
            <a:off x="5651640" y="1916280"/>
            <a:ext cx="3297240" cy="3241440"/>
          </a:xfrm>
          <a:prstGeom prst="rect">
            <a:avLst/>
          </a:prstGeom>
          <a:ln w="0">
            <a:noFill/>
          </a:ln>
        </p:spPr>
      </p:pic>
      <p:sp>
        <p:nvSpPr>
          <p:cNvPr id="44" name="WordArt 10"/>
          <p:cNvSpPr txBox="1"/>
          <p:nvPr/>
        </p:nvSpPr>
        <p:spPr>
          <a:xfrm>
            <a:off x="324000" y="4508640"/>
            <a:ext cx="568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65r6.gif"/>
          <p:cNvPicPr/>
          <p:nvPr/>
        </p:nvPicPr>
        <p:blipFill>
          <a:blip r:embed="rId1"/>
          <a:stretch/>
        </p:blipFill>
        <p:spPr>
          <a:xfrm>
            <a:off x="5518080" y="2133720"/>
            <a:ext cx="2913120" cy="34480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1841400" y="5157720"/>
            <a:ext cx="7094520" cy="1492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4244660000[1]"/>
          <p:cNvPicPr/>
          <p:nvPr/>
        </p:nvPicPr>
        <p:blipFill>
          <a:blip r:embed="rId3"/>
          <a:stretch/>
        </p:blipFill>
        <p:spPr>
          <a:xfrm>
            <a:off x="755640" y="907920"/>
            <a:ext cx="4248000" cy="3654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14"/>
          <p:cNvSpPr txBox="1"/>
          <p:nvPr/>
        </p:nvSpPr>
        <p:spPr>
          <a:xfrm rot="537000">
            <a:off x="3564000" y="0"/>
            <a:ext cx="511164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95200" y="1500120"/>
            <a:ext cx="855360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нута  час бережё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дно поднялся - день потерял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молодости не научился - жизнь потерял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img397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11111111"/>
          <p:cNvPicPr/>
          <p:nvPr/>
        </p:nvPicPr>
        <p:blipFill>
          <a:blip r:embed="rId1"/>
          <a:stretch/>
        </p:blipFill>
        <p:spPr>
          <a:xfrm>
            <a:off x="-252360" y="-316080"/>
            <a:ext cx="9577440" cy="7174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859280" y="549360"/>
            <a:ext cx="3600360" cy="317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Единицы време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news_202_1332270552"/>
          <p:cNvPicPr/>
          <p:nvPr/>
        </p:nvPicPr>
        <p:blipFill>
          <a:blip r:embed="rId1"/>
          <a:stretch/>
        </p:blipFill>
        <p:spPr>
          <a:xfrm>
            <a:off x="684360" y="4022640"/>
            <a:ext cx="2835000" cy="2835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4"/>
          <p:cNvSpPr/>
          <p:nvPr/>
        </p:nvSpPr>
        <p:spPr>
          <a:xfrm>
            <a:off x="2500200" y="214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Единицы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132000" y="2421000"/>
            <a:ext cx="32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3439800" y="292428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40"/>
          <p:cNvSpPr/>
          <p:nvPr/>
        </p:nvSpPr>
        <p:spPr>
          <a:xfrm>
            <a:off x="6575040" y="47862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28"/>
          <p:cNvGrpSpPr/>
          <p:nvPr/>
        </p:nvGrpSpPr>
        <p:grpSpPr>
          <a:xfrm>
            <a:off x="2340000" y="765000"/>
            <a:ext cx="2490840" cy="3521160"/>
            <a:chOff x="2340000" y="765000"/>
            <a:chExt cx="2490840" cy="3521160"/>
          </a:xfrm>
        </p:grpSpPr>
        <p:grpSp>
          <p:nvGrpSpPr>
            <p:cNvPr id="61" name="Группа 27"/>
            <p:cNvGrpSpPr/>
            <p:nvPr/>
          </p:nvGrpSpPr>
          <p:grpSpPr>
            <a:xfrm>
              <a:off x="2340000" y="765000"/>
              <a:ext cx="2490840" cy="3512160"/>
              <a:chOff x="2340000" y="765000"/>
              <a:chExt cx="2490840" cy="3512160"/>
            </a:xfrm>
          </p:grpSpPr>
          <p:sp>
            <p:nvSpPr>
              <p:cNvPr id="62" name="Прямоугольник 35"/>
              <p:cNvSpPr/>
              <p:nvPr/>
            </p:nvSpPr>
            <p:spPr>
              <a:xfrm>
                <a:off x="2340000" y="76500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Прямоугольник 36"/>
              <p:cNvSpPr/>
              <p:nvPr/>
            </p:nvSpPr>
            <p:spPr>
              <a:xfrm>
                <a:off x="2340000" y="147924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Прямоугольник 37"/>
              <p:cNvSpPr/>
              <p:nvPr/>
            </p:nvSpPr>
            <p:spPr>
              <a:xfrm>
                <a:off x="2340000" y="219384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Прямоугольник 38"/>
              <p:cNvSpPr/>
              <p:nvPr/>
            </p:nvSpPr>
            <p:spPr>
              <a:xfrm>
                <a:off x="2572920" y="2979720"/>
                <a:ext cx="225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1 ч =      мин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Прямоугольник 39"/>
              <p:cNvSpPr/>
              <p:nvPr/>
            </p:nvSpPr>
            <p:spPr>
              <a:xfrm>
                <a:off x="2509920" y="3695760"/>
                <a:ext cx="22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1 мин =     с 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TextBox 41"/>
            <p:cNvSpPr/>
            <p:nvPr/>
          </p:nvSpPr>
          <p:spPr>
            <a:xfrm>
              <a:off x="3697560" y="376560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1" lang="ru-RU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Picture 15" descr="kalender"/>
          <p:cNvPicPr/>
          <p:nvPr/>
        </p:nvPicPr>
        <p:blipFill>
          <a:blip r:embed="rId2"/>
          <a:stretch/>
        </p:blipFill>
        <p:spPr>
          <a:xfrm>
            <a:off x="250920" y="836640"/>
            <a:ext cx="2952720" cy="202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74562911_ca737a5de544"/>
          <p:cNvPicPr/>
          <p:nvPr/>
        </p:nvPicPr>
        <p:blipFill>
          <a:blip r:embed="rId3"/>
          <a:stretch/>
        </p:blipFill>
        <p:spPr>
          <a:xfrm>
            <a:off x="5724360" y="1125360"/>
            <a:ext cx="309564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-181080" y="476280"/>
            <a:ext cx="5329440" cy="580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4321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4"/>
          <p:cNvSpPr/>
          <p:nvPr/>
        </p:nvSpPr>
        <p:spPr>
          <a:xfrm>
            <a:off x="228600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секун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838080" y="1522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Расположите единицы изме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от меньшей к больш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324480" y="1371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267080" y="1371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нед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762120" y="1371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меся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371600" y="1981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274320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мин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4343400" y="2743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3571920" y="31431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ме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2895480" y="358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не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1905120" y="4419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91440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68580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Group 32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8706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23333 0.58009 E">
                                      <p:cBhvr>
                                        <p:cTn id="1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48148E-006 L -0.2125 0.42454 E">
                                      <p:cBhvr>
                                        <p:cTn id="2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5 0.45787 E">
                                      <p:cBhvr>
                                        <p:cTn id="3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17917 0.33565 E">
                                      <p:cBhvr>
                                        <p:cTn id="4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7037E-007 L 0.2875 0.28009 E">
                                      <p:cBhvr>
                                        <p:cTn id="5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0.33333 0.12454 E">
                                      <p:cBhvr>
                                        <p:cTn id="6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extBox 1" descr=""/>
          <p:cNvPicPr/>
          <p:nvPr/>
        </p:nvPicPr>
        <p:blipFill>
          <a:blip r:embed="rId1"/>
          <a:stretch/>
        </p:blipFill>
        <p:spPr>
          <a:xfrm>
            <a:off x="822240" y="500040"/>
            <a:ext cx="699948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domik.png"/>
          <p:cNvPicPr/>
          <p:nvPr/>
        </p:nvPicPr>
        <p:blipFill>
          <a:blip r:embed="rId2"/>
          <a:stretch/>
        </p:blipFill>
        <p:spPr>
          <a:xfrm>
            <a:off x="5715000" y="2428920"/>
            <a:ext cx="3125880" cy="34891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68360" y="2637000"/>
            <a:ext cx="53989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Monotype Corsiva"/>
              </a:rPr>
              <a:t>- </a:t>
            </a:r>
            <a:r>
              <a:rPr b="1" i="1" lang="ru-RU" sz="2400" spc="-1" strike="noStrike">
                <a:solidFill>
                  <a:srgbClr val="008000"/>
                </a:solidFill>
                <a:latin typeface="Comic Sans MS"/>
              </a:rPr>
              <a:t>Упражняться  в определении времени по ча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Comic Sans MS"/>
              </a:rPr>
              <a:t>Работа с буклетом «Режим дн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Comic Sans MS"/>
              </a:rPr>
              <a:t>-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Comic Sans MS"/>
              </a:rPr>
              <a:t>« История часов» </a:t>
            </a: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(по желани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2937972592189"/>
          <p:cNvPicPr/>
          <p:nvPr/>
        </p:nvPicPr>
        <p:blipFill>
          <a:blip r:embed="rId2"/>
          <a:stretch/>
        </p:blipFill>
        <p:spPr>
          <a:xfrm>
            <a:off x="403056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285840" y="3571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- На уроке я узнал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14200" y="142884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- Я научился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14200" y="250020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Самое трудно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на уроке было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0" y="436572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Больше всег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понравилось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8:52:33Z</dcterms:created>
  <dc:creator>user</dc:creator>
  <dc:description/>
  <dc:language>en-US</dc:language>
  <cp:lastModifiedBy>user</cp:lastModifiedBy>
  <dcterms:modified xsi:type="dcterms:W3CDTF">2020-05-06T21:32:31Z</dcterms:modified>
  <cp:revision>84</cp:revision>
  <dc:subject/>
  <dc:title>Слайд 1</dc:title>
</cp:coreProperties>
</file>