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1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FDC-2ABC-4B70-82B2-1DB05AAC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540-16AC-4076-860E-80DF700A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758-7625-479E-ABE6-75EB5C12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5F2-1090-4879-8C6A-4CED087C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3BB-3511-4927-9E05-C1B9F40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B6D-C43B-425A-B346-53A5AB7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0C9-1FAE-40F1-9345-DBE1515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158-21D2-4DC0-9636-CEEB325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20A-419B-4433-96A3-FD3DFC7D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675-E745-49C4-A4E3-242A6B9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5EE-E747-42D0-91F1-FF2757F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8D2-E3E0-4994-86B3-5DBD24A3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C056-DB10-4ED3-B6C7-E2BDCB78A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55600" y="360360"/>
            <a:ext cx="8632800" cy="1865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971640" y="2492280"/>
            <a:ext cx="439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 2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9" descr="a86c1599e3a8"/>
          <p:cNvPicPr/>
          <p:nvPr/>
        </p:nvPicPr>
        <p:blipFill>
          <a:blip r:embed="rId2"/>
          <a:stretch/>
        </p:blipFill>
        <p:spPr>
          <a:xfrm>
            <a:off x="5651640" y="1916280"/>
            <a:ext cx="3297240" cy="3241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324000" y="450864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65r6.gif"/>
          <p:cNvPicPr/>
          <p:nvPr/>
        </p:nvPicPr>
        <p:blipFill>
          <a:blip r:embed="rId1"/>
          <a:stretch/>
        </p:blipFill>
        <p:spPr>
          <a:xfrm>
            <a:off x="5518080" y="2133720"/>
            <a:ext cx="2913120" cy="3448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1841400" y="5157720"/>
            <a:ext cx="7094520" cy="1492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244660000[1]"/>
          <p:cNvPicPr/>
          <p:nvPr/>
        </p:nvPicPr>
        <p:blipFill>
          <a:blip r:embed="rId3"/>
          <a:stretch/>
        </p:blipFill>
        <p:spPr>
          <a:xfrm>
            <a:off x="755640" y="907920"/>
            <a:ext cx="4248000" cy="3654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14"/>
          <p:cNvSpPr txBox="1"/>
          <p:nvPr/>
        </p:nvSpPr>
        <p:spPr>
          <a:xfrm rot="537000">
            <a:off x="3564000" y="0"/>
            <a:ext cx="511164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95200" y="1500120"/>
            <a:ext cx="855360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ута  час бережё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но поднялся - день потерял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молодости не научился - жизнь потерял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img39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1111111"/>
          <p:cNvPicPr/>
          <p:nvPr/>
        </p:nvPicPr>
        <p:blipFill>
          <a:blip r:embed="rId1"/>
          <a:stretch/>
        </p:blipFill>
        <p:spPr>
          <a:xfrm>
            <a:off x="-252360" y="-316080"/>
            <a:ext cx="957744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859280" y="549360"/>
            <a:ext cx="3600360" cy="317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Единицы време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news_202_1332270552"/>
          <p:cNvPicPr/>
          <p:nvPr/>
        </p:nvPicPr>
        <p:blipFill>
          <a:blip r:embed="rId1"/>
          <a:stretch/>
        </p:blipFill>
        <p:spPr>
          <a:xfrm>
            <a:off x="684360" y="4022640"/>
            <a:ext cx="2835000" cy="283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4"/>
          <p:cNvSpPr/>
          <p:nvPr/>
        </p:nvSpPr>
        <p:spPr>
          <a:xfrm>
            <a:off x="2500200" y="214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Единицы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132000" y="2421000"/>
            <a:ext cx="32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439800" y="292428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0"/>
          <p:cNvSpPr/>
          <p:nvPr/>
        </p:nvSpPr>
        <p:spPr>
          <a:xfrm>
            <a:off x="6575040" y="47862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8"/>
          <p:cNvGrpSpPr/>
          <p:nvPr/>
        </p:nvGrpSpPr>
        <p:grpSpPr>
          <a:xfrm>
            <a:off x="2340000" y="765000"/>
            <a:ext cx="2490840" cy="3521160"/>
            <a:chOff x="2340000" y="765000"/>
            <a:chExt cx="2490840" cy="3521160"/>
          </a:xfrm>
        </p:grpSpPr>
        <p:grpSp>
          <p:nvGrpSpPr>
            <p:cNvPr id="61" name="Группа 27"/>
            <p:cNvGrpSpPr/>
            <p:nvPr/>
          </p:nvGrpSpPr>
          <p:grpSpPr>
            <a:xfrm>
              <a:off x="2340000" y="765000"/>
              <a:ext cx="2490840" cy="3512160"/>
              <a:chOff x="2340000" y="765000"/>
              <a:chExt cx="2490840" cy="3512160"/>
            </a:xfrm>
          </p:grpSpPr>
          <p:sp>
            <p:nvSpPr>
              <p:cNvPr id="62" name="Прямоугольник 35"/>
              <p:cNvSpPr/>
              <p:nvPr/>
            </p:nvSpPr>
            <p:spPr>
              <a:xfrm>
                <a:off x="2340000" y="76500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Прямоугольник 36"/>
              <p:cNvSpPr/>
              <p:nvPr/>
            </p:nvSpPr>
            <p:spPr>
              <a:xfrm>
                <a:off x="2340000" y="14792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Прямоугольник 37"/>
              <p:cNvSpPr/>
              <p:nvPr/>
            </p:nvSpPr>
            <p:spPr>
              <a:xfrm>
                <a:off x="2340000" y="21938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Прямоугольник 38"/>
              <p:cNvSpPr/>
              <p:nvPr/>
            </p:nvSpPr>
            <p:spPr>
              <a:xfrm>
                <a:off x="2572920" y="2979720"/>
                <a:ext cx="225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 ч =      мин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Прямоугольник 39"/>
              <p:cNvSpPr/>
              <p:nvPr/>
            </p:nvSpPr>
            <p:spPr>
              <a:xfrm>
                <a:off x="2509920" y="3695760"/>
                <a:ext cx="22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 мин =     с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TextBox 41"/>
            <p:cNvSpPr/>
            <p:nvPr/>
          </p:nvSpPr>
          <p:spPr>
            <a:xfrm>
              <a:off x="3697560" y="37656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15" descr="kalender"/>
          <p:cNvPicPr/>
          <p:nvPr/>
        </p:nvPicPr>
        <p:blipFill>
          <a:blip r:embed="rId2"/>
          <a:stretch/>
        </p:blipFill>
        <p:spPr>
          <a:xfrm>
            <a:off x="250920" y="836640"/>
            <a:ext cx="2952720" cy="20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74562911_ca737a5de544"/>
          <p:cNvPicPr/>
          <p:nvPr/>
        </p:nvPicPr>
        <p:blipFill>
          <a:blip r:embed="rId3"/>
          <a:stretch/>
        </p:blipFill>
        <p:spPr>
          <a:xfrm>
            <a:off x="5724360" y="1125360"/>
            <a:ext cx="30956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181080" y="476280"/>
            <a:ext cx="5329440" cy="58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4"/>
          <p:cNvSpPr/>
          <p:nvPr/>
        </p:nvSpPr>
        <p:spPr>
          <a:xfrm>
            <a:off x="228600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секун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838080" y="152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сположите единицы изме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от меньшей к боль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324480" y="1371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26708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нед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762120" y="1371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меся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37160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74320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мин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43434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3571920" y="3143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289548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н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1905120" y="4419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91440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8580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oup 32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870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23333 0.58009 E">
                                      <p:cBhvr>
                                        <p:cTn id="1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48148E-006 L -0.2125 0.42454 E">
                                      <p:cBhvr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5 0.45787 E">
                                      <p:cBhvr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17917 0.33565 E">
                                      <p:cBhvr>
                                        <p:cTn id="4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7037E-007 L 0.2875 0.28009 E">
                                      <p:cBhvr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.33333 0.12454 E">
                                      <p:cBhvr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Box 1" descr=""/>
          <p:cNvPicPr/>
          <p:nvPr/>
        </p:nvPicPr>
        <p:blipFill>
          <a:blip r:embed="rId1"/>
          <a:stretch/>
        </p:blipFill>
        <p:spPr>
          <a:xfrm>
            <a:off x="822240" y="500040"/>
            <a:ext cx="699948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domik.png"/>
          <p:cNvPicPr/>
          <p:nvPr/>
        </p:nvPicPr>
        <p:blipFill>
          <a:blip r:embed="rId2"/>
          <a:stretch/>
        </p:blipFill>
        <p:spPr>
          <a:xfrm>
            <a:off x="5715000" y="2428920"/>
            <a:ext cx="3125880" cy="34891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8360" y="2637000"/>
            <a:ext cx="53989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Monotype Corsiva"/>
              </a:rPr>
              <a:t>- </a:t>
            </a: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Упражняться  в определении времени по ча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Работа с буклетом «Режим д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-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omic Sans MS"/>
              </a:rPr>
              <a:t>« История часов» </a:t>
            </a: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(по желани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937972592189"/>
          <p:cNvPicPr/>
          <p:nvPr/>
        </p:nvPicPr>
        <p:blipFill>
          <a:blip r:embed="rId2"/>
          <a:stretch/>
        </p:blipFill>
        <p:spPr>
          <a:xfrm>
            <a:off x="403056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285840" y="357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- На уроке я узнал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14200" y="14288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- Я научился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14200" y="250020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Самое трудно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на уроке был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0" y="436572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Больше всег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Monotype Corsiva"/>
                <a:ea typeface="Arial"/>
              </a:rPr>
              <a:t>понравилось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8:52:33Z</dcterms:created>
  <dc:creator>user</dc:creator>
  <dc:description/>
  <dc:language>en-US</dc:language>
  <cp:lastModifiedBy>user</cp:lastModifiedBy>
  <dcterms:modified xsi:type="dcterms:W3CDTF">2020-05-06T21:32:31Z</dcterms:modified>
  <cp:revision>84</cp:revision>
  <dc:subject/>
  <dc:title>Слайд 1</dc:title>
</cp:coreProperties>
</file>