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B6F-3843-4678-B413-347AA5FD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4E7-4984-49AC-952B-AE891E2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63C7-0DF6-4667-8CB5-FD53E381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03C5-8564-4109-8428-779E796D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5A0E-D84F-4EAB-8FC4-F8E3B170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A90E-B935-45AF-ADB0-37AEBBC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16CAB-DD57-469F-AF0B-C58C667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9360D-A295-4D1E-A436-F40CDF7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1E034-1D4C-4D73-96B1-C7CEFAD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B984-52AA-420E-B266-22CCC56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1165-F342-40DB-B0D8-F59C106B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EACE2-03AC-4668-8259-FE5433DF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3D5-18C7-4A80-BAC0-F59A8C74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EAC12-092D-4572-AE52-FE50B1F8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444E8-3DA0-469D-9C5F-3622331E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B51BA-4AB0-477D-AD56-69583F5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FA6BC-372A-4105-97E6-036E590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DC446-AB06-44FF-9FD7-E196844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9F02D-5491-48C0-93AE-D179A92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5B46B-95B4-47FD-A40F-7001A41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B2BD5-DB60-4692-8D45-A4072A9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E5F0A-F7A4-447F-8955-E2A47F62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47A57-2C88-44ED-9D50-4F52744B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D65-E40B-422C-A677-7D4E8A06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6045B-FAD9-44E8-99DF-C009F790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9FB54-EB32-4EDF-A82A-3EA75A8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4B1A3-BF3E-4963-ACDD-97328E4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45D6-9009-402D-8922-7BA4C20B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136EF-FD1F-4691-A251-28FB9D5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D1798-15AE-46F9-9271-2F6325F6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3C48-ED27-49D8-81AF-3D9DE4A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C719-568B-4B7C-A4F8-D30D8B3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4BADF-8EBC-417A-BD26-1C4536D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7F90-1A3F-4892-8B5E-4F6D69F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E3B-5925-41F3-9942-419B4D80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FDB3A-EF67-46DB-B5E4-594A6E7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90A69-0CA1-462E-9A2C-F12FCDFD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A293-8F2B-45EF-B497-306E83C0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E050F-A478-4A33-A218-68A660CC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2FE19-1978-4A1E-8E9A-140A8B9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77BF-89C7-43C3-82E9-5CFF67CD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13B62-F86D-4A81-A56F-3AC6516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F90C-34EB-48F5-AEA3-967D5936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43843-BD93-4927-A1CF-524D177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B3F42-B0E2-43DB-9258-5A1407B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EAFB-9F8D-4AFA-9BCB-79FF518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0E5AE-4806-491F-9EF4-F65E1D9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2B08-5276-40E8-906C-F8F7A79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284D2-481F-40A5-88F2-8FC5E72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E46FC-3606-4BDA-9F0C-B3E9572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A0915-51FD-4F46-987E-20F39732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782E4-B9EC-46FD-A0F0-D9EE5DEC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B6E13-526F-47E4-8231-84C69BB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FA8F6-F32A-43E7-B271-AE6046F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E23DE-2E6E-4074-A418-F3EAD906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07EB3-87B3-486C-853D-EE241482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C5F-F9F6-461A-BAC8-4A1B29A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1A772-7E6A-4CDA-91D2-9185807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CB8D2-B202-44C7-ADEE-598A142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AA9B0-CF6A-4583-B73D-385C4AC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EA520-BBDA-46C9-B31A-51FEEBC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1EB37-B180-4CB7-AA3D-A0311F8E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93408-189D-4289-BE90-E5E40BA6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A13CF-316A-4079-984A-2C9510DB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545B8-1C66-4A28-93FE-7034BF31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EC76C-89F9-4F99-BDEF-B6B34D9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20CD0-0C12-4B11-9BE4-52F290C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DCD-4BB5-4290-9FC1-FD30E1A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0D39C-0124-4780-BC7F-45DDA1AF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D84F9-8EED-45F2-90F8-EE8BF7C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CFBFF-45FD-44C4-88C7-3BD0DCC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5E51E-2D40-49CF-A788-6EB0B1E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8CD41-1E1B-4BC8-BCCA-ED89C1F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F97CA-3DB8-48D1-A4FE-4D18774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5FB76-C675-4827-8910-8451E66D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198CF-A419-4970-83BF-5BC7D33A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36DAE-5500-4D54-8916-C378AB41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22876-311E-4EE6-AF70-86FFF02B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A24-10B1-4360-9089-049B07F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65A4D-3EE9-44E0-82B7-D952F7DE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FF51D-6D77-40DF-A9ED-6EF390B9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623CA-1456-468F-9767-5E3A8A8D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81E43-F21D-41BF-ADB9-9C6ACACC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5A580-65B7-48A2-8C4A-361CAF8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101CC-A3B1-4096-A7A5-8298413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2F77D-D959-4BFD-B46C-D7B6FD9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0D195-29F4-42E4-9CDA-C238405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03F52-13BA-45A7-9C48-EF5DC6E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A6C14-78F7-4B0A-A075-4D4A0EF4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EB1-2A36-4E96-93CD-621D9E5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66B47-EFAA-434E-BB5C-05C8604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488BB-2B37-4B84-B682-E2B70DC4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83776-ED31-48EB-9349-86394E16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3A11E-F3A8-4BF1-B4FC-8365F1C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E17A-E3BE-4F17-8705-2AC4CD87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817D6-2456-4DA9-90F3-30F47DA6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36229-820D-46FB-BC30-7EDE017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60736-CE7D-4D78-8C23-8E384D2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33578-C8F9-4AF9-8F12-5280EA0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72C01-2677-481D-A513-5EAA7FD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B57-2203-422E-BBD6-A25B48F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192BB-60A6-495C-8C06-E59DF5C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FD8F3-E730-4B6E-85C8-1B7CB2FC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EA5DC-7E62-4D8E-99E5-4715037C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A57F2-F673-4964-ABC5-60127008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1ED98-1D3E-4DAC-A91B-FCE90BD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1DA80-80F2-453C-BC08-91B985A9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9775A-E28E-4128-8832-CE06D83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F0086-73C1-4C69-A421-652C8E1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DB719-3A52-4EFD-A73D-55AAF9F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EC6EA-FC3A-480C-A863-91A7309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04-08C2-4943-B008-280AD96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F87-695E-4D72-B413-F4CC162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7F7A2-0084-4492-9181-E18ACD44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30095-DB5A-42C3-B34C-57FEE89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D97E0-BD9C-43A8-A24E-E777DF7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A819C-BF7B-4DAB-B870-76B3B424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4F8BC-1A5A-45AB-97B4-A1DDB2F2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73C1-E942-4775-B415-87F0C93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BB1-2F61-4C86-875E-527CAC67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B50A-C0BB-4B16-AADC-913D56C3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007-932C-4B60-BDD6-20D4C3E4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A6EF-6228-4CB3-9DEA-14D9CA91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8D8D-8BCB-4EAB-9DDE-9CE5079E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4F08-A2CC-4C66-8082-833E5B3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BF98-E246-464E-909C-B27E057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76B3-C683-41D9-80FF-BFBEE9D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AC4-06FF-4865-B94C-B8DFCF3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D47F-4473-4D66-89A4-72B71D2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7352-E148-4300-BF2B-22DE9DA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CF9A-26A8-4132-B004-D01CFD8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5836-A83C-4152-93DF-13D2C4A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E45D-FED0-4DD7-8FEE-4E5AFD3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048B-409F-44F2-94C5-F07486B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E920-BF51-4BE7-9585-E648274E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C4CC-3934-4B9A-B43A-A56E9A99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EE71-2776-4A43-B917-0AC3863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8DFC-7B8E-43D5-B754-1F2D1D0E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646-4A5E-48B4-A516-1FF577E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7657-E606-415D-89A4-213FF81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5538-2308-43CA-8FF2-6311609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E97E-2FCA-49BF-981C-5B26E8B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CACC-6A41-4832-8C8D-F757CA1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80D4-99E8-43B4-860E-AEEFA28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F42E-8753-4801-BA81-0727CA2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8DA6-A7BE-4297-8B72-EB0677D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33DF7-D268-4CFD-804F-B8F1ED6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76E5-04AA-4640-BC00-1CC024F2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EA86-802E-40B8-9602-D7E06233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4AF-8017-4DD7-8635-0AE72170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5985-566E-4868-A7FC-A1F65C02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63D7-CD65-46F0-899B-E346BFF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0EDB-18DD-40E9-817C-7E25DC3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274-6C90-4CC0-81E6-1DE70C11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5E09-90AA-4D66-9FFA-88F8DE5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40D94-18C2-4105-BCBE-92E1329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ED8B-491C-4039-BA61-185B4A7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72D5-42FD-446C-9B32-3A8A450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DC83-0F28-4279-B33B-39E20BA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39E6-5D4C-4351-8BB3-4946051F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601-9731-4F39-B99E-E4E05749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92C2-9960-4859-86EC-AC6B4497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029B-F605-4302-ADEA-740F96D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FB17-05D2-4923-95AF-8418B2F0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6379-CCC2-4848-853A-E25A09A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298D-B036-4CC9-8A22-D91DE80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987E-595D-4D8C-8023-45117593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375F-8B5E-426B-B2E7-6A05194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5B65-09C7-4D71-AC3B-B430075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D52A-0713-46D5-A3FE-F22D46F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7A02-0733-4449-9EC1-DD2EFF5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319-EE5D-442F-B884-55AD78A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5E01-3E43-4469-8E80-FC61120A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87B0-E1F8-41D3-889B-B1DD8B63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958A-C8D3-4CFD-881A-867BA3D0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9BE0-BE16-4B08-937C-9D7B01DB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8CA0-C709-44EF-8AFC-348C588A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06A7-B8EA-4AC7-B0E0-DE67881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4839-2360-46D8-9C4E-62A843B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9C6F-8316-4723-95F6-19E2D453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5361-66A5-4E07-BFBC-FC54A41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A5E7-A0E7-4401-8E80-8E5966D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004-F810-472B-B7CE-5EFC721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1E12-3C86-4906-A241-EDA7610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5A5F-D03E-47E0-8ABB-8B43726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CA0F-39C7-420D-ACE7-A218660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981A-432C-440F-A8CB-4D0D2268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B575-423A-4ED6-B7F4-8F77BCC5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9E95-7F9F-4D54-8A61-57E0122B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ADCFE-825E-4E94-B036-5A3B763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8C973-9206-4548-AE6D-B9D9551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80A73-8544-4414-89C9-237432E6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27AB-4425-4FF0-BBD4-8B70DD8C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732-D6EA-44AA-A150-4864616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B8941-7CC3-4982-98BA-BBEDAE5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2EE8C-61E2-4E77-884E-E48B42B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7D7F-9B8C-401E-A3E6-E37525E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6673-7DDE-4D63-8FDD-98C68D56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DEAFA-E68B-4177-897F-2BCC11A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21CAF-97F0-4D61-ACE6-AADDBE0B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BBF9-419E-4039-81A2-4289B49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8186A-78B3-4820-85A6-EE77D448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B435C-9AE0-41FC-A281-EE1E3BE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C53A-72B3-4D83-8693-BF77B845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DA6E1-170E-4F77-991D-90E746D142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8AC07-4E13-4B70-9607-20D4EAEF17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968FF-1549-401A-88BE-FE20E52D07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0055-61A2-49A2-82D6-2938064EBB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97B58-610A-4457-B830-DC9483AEC03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4D4A0-F37E-46BD-A3DB-D25BD7B190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31EC0-8B97-4F04-A547-EFC7D12ACC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673FD-0143-454D-B2DF-01BFD86FE8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70555-5129-4E14-9A06-2A83594853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01CD2-5A71-4173-BFDC-573507493A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C4150-A4B6-447B-9A69-77A23B6864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38F13-CD61-4103-84F6-F520195A35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146EB-F914-43F0-AB78-009A02474A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E9FBC-6422-4DAF-A586-96A8D9CEC8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8EC4B-101C-447B-A1C3-0176A32EEE6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52A5-E83C-490D-B73C-EBF6F5335D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28BAE-B777-4699-BE57-9352031040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1474920" y="2817720"/>
            <a:ext cx="105696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равление дисграфии: упражнения для школьников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у выполнила: учитель-логопед Родионова И.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7" name="Picture 4" descr="https://cf.ppt-online.org/files/slide/h/hbpN9tVF6xeAYu1QfTo8j0Wv75LXynwd2PKSlq/slide-26.jpg"/>
          <p:cNvPicPr/>
          <p:nvPr/>
        </p:nvPicPr>
        <p:blipFill>
          <a:blip r:embed="rId1"/>
          <a:stretch/>
        </p:blipFill>
        <p:spPr>
          <a:xfrm>
            <a:off x="1766880" y="179280"/>
            <a:ext cx="3597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1184400" y="522000"/>
            <a:ext cx="101692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а: «Корректор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м потребуется любой текст набранный крупным шрифтом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ачала выберите букву, которая хорошо знакома и не вызывает затруднений, например: буква О. Задание: найти все буквы О и зачеркнуть и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епенно задачу следует усложнять: нужно отыскать схожие буквы, написание которых вызывает проблемы, например, Б и В и т.д.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жно: необходимо не читать, а искать буквы по их облик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упражнение особенно эффективно при оптической форме дисграф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325520" y="541440"/>
            <a:ext cx="1002816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оисках пропавших бук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кст для этого задания, наоборот, должен быть очень увлекательным. Можно взять отрывок из любых детских произведен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ва варианта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ный текст, набранный крупным шрифтом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нировочный, где в каждом слове этого же текста будут сделаны пробел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ученика – восстановить пропущенные буквы, ориентируясь сначала на исходник, а потом уже без подсказок. Начинать тоже можно с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кв, которые хорошо знакомы школьник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1520640" y="372960"/>
            <a:ext cx="98326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йте над почерком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м потребуется тетрадь в клеточку. Каждый день необходимо переписывать туда по несколько коротких предложений. Главное условие – все линии должны находиться в пределах клетк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ираем предлож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ние помогает усвоить порядок и согласование слов. Нужно составить предложение из имеющегося набора слов (они уже стоят в нужной грамматической форме) и записать его в правильном порядке. Упражнение можно сделать более интересным, записав слова на карточках и перемешав их на стол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800000" y="1362240"/>
            <a:ext cx="95533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лшебные букв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е довольно сложное, но эффективное. Подберите несколько слов, таких, чтобы при замене одной буквы получалось бы новое слово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нужно заменить одну букву так, чтобы слово, отвечающее на вопрос «что», стало бы отвечать на вопрос «кто». Например, бок – бык, леса – лиса, коса – коза, сон-сын и т.д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650960" y="596880"/>
            <a:ext cx="97027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и сложные предлоги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ьте отрывки из разных текстов, желательно, хорошо знакомых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ерепиши текст, подчеркивая предлоги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ерепиши текст, заменяя предлоги на противоположные по смыслу. Например, идти в школу – уйти из школы, кот на столе – кот под столом, зашел за угол – вышел из-за угла и т.д.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вставь в текст предлоги, подходящие по форме: во сне – в одежде, с полки – со стола и т.д.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вставь на место пропусков нужные предлоги из списка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893600" y="1176480"/>
            <a:ext cx="945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только базовые упражнения, на основе которых разрабатывается большинство коррекционных и профилактических комплекс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забывайте самые главные условия грамотной коррекции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улярные занятия в благожелательной обстановке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Picture 2" descr="https://coolsen.ru/wp-content/uploads/2021/06/133-1.jpg"/>
          <p:cNvPicPr/>
          <p:nvPr/>
        </p:nvPicPr>
        <p:blipFill>
          <a:blip r:embed="rId1"/>
          <a:stretch/>
        </p:blipFill>
        <p:spPr>
          <a:xfrm>
            <a:off x="1511280" y="223920"/>
            <a:ext cx="975996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" descr="https://fsd.multiurok.ru/html/2021/11/14/s_6190f6ade852d/phpd79WgX_CHto-takoe-disgrafiya_html_266d7c17f984c1ad.jpg"/>
          <p:cNvPicPr/>
          <p:nvPr/>
        </p:nvPicPr>
        <p:blipFill>
          <a:blip r:embed="rId1"/>
          <a:stretch/>
        </p:blipFill>
        <p:spPr>
          <a:xfrm>
            <a:off x="1968480" y="336600"/>
            <a:ext cx="9675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2" descr="https://cf2.ppt-online.org/files2/slide/r/rjfnWeDtvh8pca310GUoPdTHmJVXkEMiZKSgxqLl4/slide-4.jpg"/>
          <p:cNvPicPr/>
          <p:nvPr/>
        </p:nvPicPr>
        <p:blipFill>
          <a:blip r:embed="rId1"/>
          <a:stretch/>
        </p:blipFill>
        <p:spPr>
          <a:xfrm>
            <a:off x="1800360" y="204840"/>
            <a:ext cx="1004868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1192320" y="698040"/>
            <a:ext cx="107632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дние годы дисграфия в той или иной степени обнаруживается у большинства младших школьник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логопедическое нарушение проявляется в том, что школьник не может овладеть письменной речью не из-за того, что он ленится или не знает правил, как может показаться на первый взгляд, а из-за нарушенных высших психических функций, контролирующих написание сл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 целенаправленной коррекции повысить грамотность письма практически невозможн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1" name="Picture 4" descr="https://avatars.dzeninfra.ru/get-zen_doc/2746556/pub_638f7c2338d7fb2e3b68f041_638f8254afff182f72a07307/scale_1200"/>
          <p:cNvPicPr/>
          <p:nvPr/>
        </p:nvPicPr>
        <p:blipFill>
          <a:blip r:embed="rId1"/>
          <a:stretch/>
        </p:blipFill>
        <p:spPr>
          <a:xfrm>
            <a:off x="7064280" y="4691160"/>
            <a:ext cx="21780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1352160" y="522000"/>
            <a:ext cx="1031076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пишут школьники при дисграфии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ает похожие по написанию буквы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шет их зеркально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различает глухие и звонкие, мягкие и твердые звуки, дублирует слоги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ерк неровный, наклон и размер постоянно изменяется, буквы часто получают лишние элементы, дублируются, переворачиваются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о наблюдается неправильная артикуляция, из-за чего искажается мысленный облик слова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огим школьникам никак не дается грамматический строй: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авильно согласуют слова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меняют предлоги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ают такие элементарные вещи, как род и число, являясь при этом носителями язык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566720" y="503280"/>
            <a:ext cx="97869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елать?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ый и самый главный совет родителям, столкнувшимся с дисграфией, звучит следующим образом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пытайтесь обвинить в плохих оценках ребенка и не ждите быстрых успех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росто не может воспринять логику и правила языка из-за особенностей развития психических функц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графия корректируется в течение нескольких лет, поэтому 5 и 4 появятся в лучшем случае в классе пятом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иматься нужно каждый день, только в этом случае можно рассчитывать на положительный результат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 должны находить время на занятия в любой ситуации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511280" y="419040"/>
            <a:ext cx="984240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я, направленные на коррекцию дисграфии, довольно просты, и вы можете выполнять их дома вместе, соблюдая рекомендации учителя-логопед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ужжащее чте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выполнении любого письменного задания необходимо проговаривать каждую букву, буквально бубнить себе под нос все, что пишем. Проговаривание должно быть орфографическим, то есть слово корова так и произносим: МО-ЛО-КО, а не [малако], как мы это делаем в обычной реч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390680" y="644400"/>
            <a:ext cx="102535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кспериментируйте со способом письм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ивычные письменные принадлежности, например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ильная ручка с пером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гнитные буквы,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аски,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чки и карандаши треугольной формы с ребристой или шероховатой поверхностью и т. д., помогают лучше сосредоточиться на процессе письм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 количество ошибок постепенно уменьшитс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278000" y="569520"/>
            <a:ext cx="100756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писывайте классик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ежедневно переписывать один-два абзаца из любой книжки, то здесь решаются сразу две задач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-первых, тренируются навыки грамотного письма, усваивается  облик слов, развивается внимательность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-вторых, порядок построения предложения, правила согласования слов в падеже, роде, числе, употребление предлогов откладываются в памяти сами собо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дайте предпочтение рассказам Паустовского, Носова, Бианки, Драгунского. Перед началом занятия убедитесь, что в тексте нет сложных оборотов, чересчур длинных предложений, малопонятных диалектных или устаревших сл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6T09:58:46Z</dcterms:created>
  <dc:creator>Родионова Ирина Георгиевна</dc:creator>
  <dc:description/>
  <dc:language>en-US</dc:language>
  <cp:lastModifiedBy>Родионова Ирина Георгиевна</cp:lastModifiedBy>
  <dcterms:modified xsi:type="dcterms:W3CDTF">2023-04-26T12:05:12Z</dcterms:modified>
  <cp:revision>22</cp:revision>
  <dc:subject/>
  <dc:title>Презентация PowerPoint</dc:title>
</cp:coreProperties>
</file>