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156-5D39-4E73-A77C-B0C5EEB2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1AE-A86D-4AF2-A3BA-F989A03E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FAE5B-8A5E-469C-AEB5-1B98BF5F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1A9A9-574C-40BB-A9A0-97C53F0B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8D1E2-B306-4E7D-B63C-706E52EC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0EB7B-3BE0-4D6C-8161-4FDAC715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67DED-C3BB-4B81-9DEC-DAC39A49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2BDCB-84E0-46A7-8439-D7EBDFC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0E83F-3D56-4047-8F59-962A85FD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3E83C-84A5-47AC-A465-76B72766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D9E8E-C8C6-4D04-80C6-5A315E2B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01069-1B97-4410-8D79-21E700E9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89E-D227-44BE-BA20-CE6FA22F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4D4D4-41BB-4213-AA7C-A8645096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6D1B0-9480-4B29-8162-F84A0F5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72FAF-8C59-4283-A451-B586C641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71977-BA0A-4C43-AD2A-94E4DBEE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5CB33-B934-4F29-9E34-05ABDC71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BF9D5-049D-461F-A0DE-06E379FC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0D6C8-5305-4686-B710-F8AE5430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2D8D3-72A9-4B14-BCFA-3CFB0095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A57F0-0EEE-406C-82E1-1DD59FB9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01351-21CA-4588-BA5E-90A15B1D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C03-FCA3-4E4D-9B2B-4B8E1DB2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53421-70DF-4722-A887-3DBF3E91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B35C5-E41E-4C2F-BA6C-D6FAA3E7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F0F08-53A7-473B-9AE2-64300DBC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55E34-79DD-42F9-83FC-D6BF31C7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554EA-5376-4377-B6DC-FAF35350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23CA1-5AF8-4A87-B262-08E1A5EE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D83DE-D5A3-40B1-A178-459FBD76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A3482-1F05-4D18-AA6F-0C6383F0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72C32-8208-4272-BC08-595E2673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3362B-0C15-496A-90E1-EA7351EE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18C7-69A0-424B-BD50-0C8E4D7F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4524F-7E70-42CE-AF22-51161913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0DDAC-EC6F-4F27-A5EC-0D16CF05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30718-8C30-4CE6-BB1E-D4F656E1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7CCAA-AC4D-4A2F-A1BB-5A6A09C4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2B263-EB38-44EB-9119-A284898F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F17FF-8DB9-44BC-9BC1-1DA29FF8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90F83-5915-4370-9271-9B52F054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F66D4-1E58-4E49-969C-80E3B3A7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E0FAF-5ADF-4F63-964D-A37F6E00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8579D-6D97-4751-9E68-6B70CAF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3CB5-5B25-43FB-8B06-1524114F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8259F-DF2F-41CD-BA4B-F141490D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EFBF5-36D2-46CB-8DE0-3BD86DA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E6006-6341-4574-BDAA-86C2F822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1EB2E-4174-4958-8D78-D11ADD88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8CC5C-749D-4BE0-BAA2-E80BE519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D52A8-0A44-4BE5-B41C-09C39B23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1CF5A-F358-4313-B47B-1A85E63A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6E2C2-4AB4-4434-A14E-AA5C923E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4E63B-84B1-4E19-9A48-41489526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448CE-8940-41F6-BF43-4B61A503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10AB-4E11-4265-83BB-E19191F5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F8173-B7F8-4504-A0AF-45D84FA2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6475C-C405-4012-ABD8-1758F92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EA903-2BD5-49A0-80FE-9254175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33D4E-23CC-4A35-934B-2ED92365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8D004-5C70-4527-B4C5-7ECD7A4D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EEC80-AE7F-4D77-8846-1C6B6392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72726-6A73-4FEA-94B3-DC18DED6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04009-0C11-49F0-B8AE-237D5C50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BDECD-ACC7-4969-B1F5-B9E8C89C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AD2AA-6A9D-4611-A769-CA503EAB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7E9F-DF26-442C-ACC6-7FA4019C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2E765-B129-4F01-BBEA-CBE2AD19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54CBA-51F0-4DEB-AD4D-2461BB7B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FB446-091C-4193-8E36-685E8655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452A0-4065-4C26-A8ED-AE047CA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D276D-0D18-4D1A-9848-C76EF1A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CA886-EC57-4380-BF06-BA2D2950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484CD-1714-4BDD-8054-A0A28897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C46B5-0CAC-4CB2-801E-972CAE82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E641F-4E2A-42D7-9029-0DA152CE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A8204-9797-4E44-AE97-A2BF53FF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8C14-1B33-44AD-B2D2-130872AF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F07E6-9626-439D-8DF2-24332D25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79A4E-B939-4CC1-8D27-43CC6E7B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D1490-7616-4258-99C0-0BB1B847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0EB3C-256E-4E28-ABBD-E98D0644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A18CD-9AA8-48E4-8811-6E159A3D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CB6D8-0D78-499C-8B81-FBCE5F2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5FDBB-88CE-4986-BC84-8FC056FF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B435D-2B74-47DB-BAFF-0B05D776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C17E0-E764-4706-A240-3213171C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478C1-772B-4D30-BB37-98E8EC36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344D-7D93-43BF-800E-5AF7E9C9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7CA64-B3F5-405D-9D10-CA64D38E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F22C6-3092-435C-98D7-42274A4A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E67D9-490C-425B-92BC-FE25D4E9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D5CF9-9B1B-43BE-99FA-1A9A60DF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8B526-D3A7-453A-B5B8-7ED74E67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56959-2B33-4ACA-AE0F-0AB7F52B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51D3F-E005-4E1B-8434-C1A8D131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573E8-35B7-4F90-B9AB-9A9D6195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21B9E-A7C8-4EE7-8266-8712759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84219-8101-4C99-9A11-4199BAA8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94C9-EBCF-4102-BE66-873A606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76753D-0434-49CE-832C-EDF63C5D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07250-5BBB-43E0-B7E4-CA454BE8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2A1137-13CD-489C-B90E-87A42B7D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B4320-6E97-42CD-B0E3-11BE14AD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675992-258E-4264-ACBF-6AF532CB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49E7B-DA62-4D7D-AD42-EBE9542A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15B50-428B-4826-9E16-38A28BE0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B0571-FDB9-4427-BD2F-AFB6D668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4D24E-8CDE-4DB7-9A6E-EDCD6825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89BCA-E8A8-4261-8645-DC5F4DB7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73A-189C-4081-8E1A-ADAE7D39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BEE3-1F89-454B-9DBE-0A280A2E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46CDE6-5BCE-4D9E-A942-0D72CDB0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DE64F9-B678-4426-9CEE-C8B418D8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7CF5A7-8162-4B96-BA19-54B89105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0D8E8-64DD-453D-89E4-24E044AC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F7BCF-D6E8-441E-8D9C-11DCD1A8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FAC0-28DC-487D-A496-3340EF70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599B-84C7-4560-A157-E24E2FCD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2312-5CB8-4874-B8F2-70E6BF60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7815-C908-4FAB-9139-C0980D33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A396-15C2-4AAC-944E-F77AB753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7FDF-11F2-4F85-9E58-6894D625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AF36-DD1B-48D3-B88E-0762BAE5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59C0-89BD-4F81-94EB-5E8F38C3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E6EF-6EBE-48B3-A33D-6C650FD3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344-817D-4BD7-AC7E-82DAF20E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57BB-A420-4664-9D41-507E6624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8198B-26EA-410E-882F-8435830E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96D5-3DF1-4F55-96D3-D3EB29B4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D228F-F272-4107-BF76-45A9E019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2BA4-0F45-4764-AA54-C0560FE7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3392-E9E8-451E-B8E9-62699A44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BBDB-11CF-438B-9189-6AE3867D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6A2D5-0268-48AB-A2A6-1DECC9FB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7E4F-866F-4D68-BB73-E24EAB23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677C-7EAA-401F-990C-A9BEE862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9C1-0D27-43B1-937C-4CE0C9BE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E7523-8858-4AA6-B24D-F702332D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16514-E808-4970-BACB-5C6D3950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21623-4641-4E7E-97CC-374AE3BB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55801-BB59-4B64-AC6F-82C46248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34140-07EA-4033-B908-48EB2BC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46F5B-9704-4650-8F6E-7EE22966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EC847-6406-404A-A885-0CD1FC39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B0F9B-7CB8-403E-97B4-0B4F6B0E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EBB9-90A2-49A0-846D-414BA265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B860-8BB7-418C-B945-52E95920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21B-F0AC-460D-B400-5FCCACD8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944A7-1304-4BBA-8550-AA4318AA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70150-9D20-47FA-B54A-977052BC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89146-AD9D-4682-861A-32456F5D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3F12-F6AA-4F36-9E01-ED3DC729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3BC11-555B-4CC2-A562-73DA7B4E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5984D-E9D7-46F4-A80E-BC23886A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A4C80-A9A2-4D5B-88B1-481A9E8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8ED38-50CA-4672-A8A2-6138F3B5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92D9A-1BBA-44DC-A8EF-D105A27E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D68F1-F53D-46C2-A965-15DB0938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68A-9D5D-487A-9358-02ACDCFA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CAD10-727C-4996-8C1A-CBF34127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98D01-5348-42BA-89E2-2261BE3A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3A1F8-872F-454C-B15F-CFEC8852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8968F-52F1-4123-A046-FFE4FF12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73EB8-3687-4A78-AB32-994F601C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99BC8-0AEF-48EE-B52D-208BD82B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A735D-DE1A-4BA0-A893-938A0222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9BB47-615D-4836-974E-93D4D4F8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8500-9984-4A14-A866-13C5A678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BDB47-8F1F-4E83-8ABB-4F155AE2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6C1-9BB2-4B37-8587-365EF64E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57E63-7EAF-47FC-89F1-95A084BD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5B0EE-4E9D-4D13-9592-34329FAE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84F19-8A4F-480A-81D6-C88070B5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E4B8F-B4D2-4560-A5DB-237A1584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D0527-4A40-4413-AEE0-A20308D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69EC5-64D5-45A4-8528-9418D3D3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35735-7521-4447-A73E-E49BDE10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B4211-ED5B-47F0-89D8-F6F8EDB6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969A8-E7C7-4343-8C0A-3E19B349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18AC9-495C-4861-9FFA-73BECF5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569-23BF-498E-81B0-E7AF042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86FDF-96C7-47C7-B198-7EEE0CD5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3C398-649F-40B7-8316-931C9AD7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0FDEF-38B0-4DDF-9817-1FF85FBB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D98F-0D24-47AA-B863-9436134A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B80D6-BBCF-42FE-80FC-5152C2B5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288EB-3B2E-4A38-8B06-9212982D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548BD-FCEB-462D-9667-64A22131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5090B-EE4F-4261-81AB-350E5F12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36C3-F42B-4DAC-B8A8-88B8AA48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ED5C7-AC93-473F-8B04-4AD6118B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786-D781-4822-84F8-2D53CE75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72A75-E0D4-4592-A2FC-741BACAA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36C4-8CF2-476D-83D9-90544A97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6030C-5497-4507-93AE-A2593BB3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23422-B076-4225-B456-30CA74FE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B1801-C432-4290-A3BC-BDF8A7E8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2F38B-4BA8-422E-8B4A-3C807E88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9D483-C7F8-46BC-9109-42B0B751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7AC08-C70A-449D-BCEC-A2C08AA7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49B85-1770-46D1-A7F6-E1442771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9D6F1-E18A-4F99-A1E8-2B68A37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D8853-E550-46EF-89C4-0376B4CCB62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F33A3-83DF-4227-9D46-1F68EEB5A7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DB341-654C-4D03-8A81-CF2363D820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89D26-E8CB-4C2A-AA75-5C582FE7F0B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A345D-D7D6-4023-8ABD-07CA3AC49E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B343D-B0CC-451B-AE3B-E3D750DC39E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2520C-F2EE-43E2-8815-4DBC6D62397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F28AB-81F7-4F8A-B0CB-E86CBD8CC0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6416C-FC58-4458-918D-E207425551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1A301-EF9C-4114-9EA5-48E5ABE0C7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446AE-9653-4351-A8FF-E47F0C1103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E51ED-B6E4-4AFB-8C05-7CDCDAC6A2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122B0-CDD4-4E06-85E7-9CAE67F5A77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87B01-2BDB-4EC6-8E56-78C21A7E7D5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BBCC7-966D-41FA-97AD-102A06416E4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D93EE-3360-42D9-A9BB-166306C7A7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43BCB-746C-4A26-9E0F-9ECE1EC51F4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 txBox="1"/>
          <p:nvPr/>
        </p:nvSpPr>
        <p:spPr>
          <a:xfrm>
            <a:off x="1474920" y="2817720"/>
            <a:ext cx="1056960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равление дисграфии: упражнения для школьников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боту выполнила: учитель-логопед Родионова И.Г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7" name="Picture 4" descr="https://cf.ppt-online.org/files/slide/h/hbpN9tVF6xeAYu1QfTo8j0Wv75LXynwd2PKSlq/slide-26.jpg"/>
          <p:cNvPicPr/>
          <p:nvPr/>
        </p:nvPicPr>
        <p:blipFill>
          <a:blip r:embed="rId1"/>
          <a:stretch/>
        </p:blipFill>
        <p:spPr>
          <a:xfrm>
            <a:off x="1766880" y="179280"/>
            <a:ext cx="35971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1184400" y="522000"/>
            <a:ext cx="101692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гра: «Корректор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м потребуется любой текст набранный крупным шрифтом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ачала выберите букву, которая хорошо знакома и не вызывает затруднений, например: буква О. Задание: найти все буквы О и зачеркнуть их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епенно задачу следует усложнять: нужно отыскать схожие буквы, написание которых вызывает проблемы, например, Б и В и т.д.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жно: необходимо не читать, а искать буквы по их облику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упражнение особенно эффективно при оптической форме дисграф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1325520" y="541440"/>
            <a:ext cx="10028160" cy="56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оисках пропавших бук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кст для этого задания, наоборот, должен быть очень увлекательным. Можно взять отрывок из любых детских произведений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ва варианта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ходный текст, набранный крупным шрифтом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енировочный, где в каждом слове этого же текста будут сделаны пробелы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а ученика – восстановить пропущенные буквы, ориентируясь сначала на исходник, а потом уже без подсказок. Начинать тоже можно с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укв, которые хорошо знакомы школьнику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1520640" y="372960"/>
            <a:ext cx="9832680" cy="58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ботайте над почерком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м потребуется тетрадь в клеточку. Каждый день необходимо переписывать туда по несколько коротких предложений. Главное условие – все линии должны находиться в пределах клетки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ираем предложе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ние помогает усвоить порядок и согласование слов. Нужно составить предложение из имеющегося набора слов (они уже стоят в нужной грамматической форме) и записать его в правильном порядке. Упражнение можно сделать более интересным, записав слова на карточках и перемешав их на стол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1800000" y="1362240"/>
            <a:ext cx="955332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лшебные буквы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жнение довольно сложное, но эффективное. Подберите несколько слов, таких, чтобы при замене одной буквы получалось бы новое слово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н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нужно заменить одну букву так, чтобы слово, отвечающее на вопрос «что», стало бы отвечать на вопрос «кто». Например, бок – бык, леса – лиса, коса – коза, сон-сын и т.д.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1650960" y="596880"/>
            <a:ext cx="97027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и сложные предлоги!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ьте отрывки из разных текстов, желательно, хорошо знакомых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ерепиши текст, подчеркивая предлоги,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ерепиши текст, заменяя предлоги на противоположные по смыслу. Например, идти в школу – уйти из школы, кот на столе – кот под столом, зашел за угол – вышел из-за угла и т.д.,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вставь в текст предлоги, подходящие по форме: во сне – в одежде, с полки – со стола и т.д.,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вставь на место пропусков нужные предлоги из списка.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1893600" y="1176480"/>
            <a:ext cx="9459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только базовые упражнения, на основе которых разрабатывается большинство коррекционных и профилактических комплексо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забывайте самые главные условия грамотной коррекции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улярные занятия в благожелательной обстановке!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Picture 2" descr="https://coolsen.ru/wp-content/uploads/2021/06/133-1.jpg"/>
          <p:cNvPicPr/>
          <p:nvPr/>
        </p:nvPicPr>
        <p:blipFill>
          <a:blip r:embed="rId1"/>
          <a:stretch/>
        </p:blipFill>
        <p:spPr>
          <a:xfrm>
            <a:off x="1511280" y="223920"/>
            <a:ext cx="975996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2" descr="https://fsd.multiurok.ru/html/2021/11/14/s_6190f6ade852d/phpd79WgX_CHto-takoe-disgrafiya_html_266d7c17f984c1ad.jpg"/>
          <p:cNvPicPr/>
          <p:nvPr/>
        </p:nvPicPr>
        <p:blipFill>
          <a:blip r:embed="rId1"/>
          <a:stretch/>
        </p:blipFill>
        <p:spPr>
          <a:xfrm>
            <a:off x="1968480" y="336600"/>
            <a:ext cx="9675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Picture 2" descr="https://cf2.ppt-online.org/files2/slide/r/rjfnWeDtvh8pca310GUoPdTHmJVXkEMiZKSgxqLl4/slide-4.jpg"/>
          <p:cNvPicPr/>
          <p:nvPr/>
        </p:nvPicPr>
        <p:blipFill>
          <a:blip r:embed="rId1"/>
          <a:stretch/>
        </p:blipFill>
        <p:spPr>
          <a:xfrm>
            <a:off x="1800360" y="204840"/>
            <a:ext cx="10048680" cy="62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 txBox="1"/>
          <p:nvPr/>
        </p:nvSpPr>
        <p:spPr>
          <a:xfrm>
            <a:off x="1192320" y="698040"/>
            <a:ext cx="1076328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ледние годы дисграфия в той или иной степени обнаруживается у большинства младших школьнико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логопедическое нарушение проявляется в том, что школьник не может овладеть письменной речью не из-за того, что он ленится или не знает правил, как может показаться на первый взгляд, а из-за нарушенных высших психических функций, контролирующих написание сло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 целенаправленной коррекции повысить грамотность письма практически невозможн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1" name="Picture 4" descr="https://avatars.dzeninfra.ru/get-zen_doc/2746556/pub_638f7c2338d7fb2e3b68f041_638f8254afff182f72a07307/scale_1200"/>
          <p:cNvPicPr/>
          <p:nvPr/>
        </p:nvPicPr>
        <p:blipFill>
          <a:blip r:embed="rId1"/>
          <a:stretch/>
        </p:blipFill>
        <p:spPr>
          <a:xfrm>
            <a:off x="7064280" y="4691160"/>
            <a:ext cx="21780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1352160" y="522000"/>
            <a:ext cx="1031076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 пишут школьники при дисграфии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утает похожие по написанию буквы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шет их зеркально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различает глухие и звонкие, мягкие и твердые звуки, дублирует слоги,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черк неровный, наклон и размер постоянно изменяется, буквы часто получают лишние элементы, дублируются, переворачиваются,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асто наблюдается неправильная артикуляция, из-за чего искажается мысленный облик слова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ногим школьникам никак не дается грамматический строй: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правильно согласуют слова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меняют предлоги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утают такие элементарные вещи, как род и число, являясь при этом носителями языка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1566720" y="503280"/>
            <a:ext cx="978696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делать?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ый и самый главный совет родителям, столкнувшимся с дисграфией, звучит следующим образом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пытайтесь обвинить в плохих оценках ребенка и не ждите быстрых успехо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н просто не может воспринять логику и правила языка из-за особенностей развития психических функций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графия корректируется в течение нескольких лет, поэтому 5 и 4 появятся в лучшем случае в классе пятом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ниматься нужно каждый день, только в этом случае можно рассчитывать на положительный результат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 должны находить время на занятия в любой ситуации!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1511280" y="419040"/>
            <a:ext cx="9842400" cy="57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жнения, направленные на коррекцию дисграфии, довольно просты, и вы можете выполнять их дома вместе, соблюдая рекомендации учителя-логопед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жжащее чтен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выполнении любого письменного задания необходимо проговаривать каждую букву, буквально бубнить себе под нос все, что пишем. Проговаривание должно быть орфографическим, то есть слово корова так и произносим: МО-ЛО-КО, а не [малако], как мы это делаем в обычной реч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1390680" y="644400"/>
            <a:ext cx="1025352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кспериментируйте со способом письма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привычные письменные принадлежности, например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нильная ручка с пером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гнитные буквы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аски,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чки и карандаши треугольной формы с ребристой или шероховатой поверхностью и т. д., помогают лучше сосредоточиться на процессе письм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 количество ошибок постепенно уменьшитс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1278000" y="569520"/>
            <a:ext cx="1007568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писывайте классик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ежедневно переписывать один-два абзаца из любой книжки, то здесь решаются сразу две задачи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-первых, тренируются навыки грамотного письма, усваивается  облик слов, развивается внимательность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-вторых, порядок построения предложения, правила согласования слов в падеже, роде, числе, употребление предлогов откладываются в памяти сами собой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дайте предпочтение рассказам Паустовского, Носова, Бианки, Драгунского. Перед началом занятия убедитесь, что в тексте нет сложных оборотов, чересчур длинных предложений, малопонятных диалектных или устаревших сл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26T09:58:46Z</dcterms:created>
  <dc:creator>Родионова Ирина Георгиевна</dc:creator>
  <dc:description/>
  <dc:language>en-US</dc:language>
  <cp:lastModifiedBy>Родионова Ирина Георгиевна</cp:lastModifiedBy>
  <dcterms:modified xsi:type="dcterms:W3CDTF">2023-04-26T12:05:12Z</dcterms:modified>
  <cp:revision>22</cp:revision>
  <dc:subject/>
  <dc:title>Презентация PowerPoint</dc:title>
</cp:coreProperties>
</file>