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3ED69-B4BD-432F-8C78-471C3D0434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93457-3DB3-4E7F-B055-0E9EF9D736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D40-F3C7-4635-BAE4-393199B5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C12-82E0-425D-8293-C0FA8094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211-308C-42C3-A9E6-493ED470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219-C082-470F-8A2C-BDD9CE1B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29C-6E98-4830-9E3F-570787E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34A-7E4E-4300-B28B-E1FE6E6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A8A-649F-4A15-A5E5-5767020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2AC-B42C-43FD-8083-16BEFC6B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66D-DC4B-4C23-B740-906CFD9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96B-D63A-4464-B5BC-2367A663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83E-C905-46D0-A65B-DAD69F6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C3F-F19E-465C-BFED-27A12A9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CAAC2-C875-43D9-BB3A-E25820101BC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324000"/>
            <a:ext cx="92156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28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функциональное  дидактическое посо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гопедический твис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6083280" y="6516720"/>
            <a:ext cx="3598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рухина Л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1800360" y="2843280"/>
            <a:ext cx="70563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:\Семинар логопедов\фото\IMG_20230426_112957.jpg"/>
          <p:cNvPicPr/>
          <p:nvPr/>
        </p:nvPicPr>
        <p:blipFill>
          <a:blip r:embed="rId1"/>
          <a:stretch/>
        </p:blipFill>
        <p:spPr>
          <a:xfrm>
            <a:off x="-9818640" y="-16032240"/>
            <a:ext cx="2989080" cy="398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936720" y="461880"/>
            <a:ext cx="2504880" cy="33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G:\Семинар логопедов\фото\IMG_20230426_112833.jpg"/>
          <p:cNvPicPr/>
          <p:nvPr/>
        </p:nvPicPr>
        <p:blipFill>
          <a:blip r:embed="rId3"/>
          <a:stretch/>
        </p:blipFill>
        <p:spPr>
          <a:xfrm>
            <a:off x="3672000" y="2484360"/>
            <a:ext cx="3181320" cy="4638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G:\Семинар логопедов\фото\IMG_20230426_113016.jpg"/>
          <p:cNvPicPr/>
          <p:nvPr/>
        </p:nvPicPr>
        <p:blipFill>
          <a:blip r:embed="rId4"/>
          <a:stretch/>
        </p:blipFill>
        <p:spPr>
          <a:xfrm>
            <a:off x="7201080" y="501480"/>
            <a:ext cx="2519280" cy="39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125892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000" y="179280"/>
            <a:ext cx="90630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ы  профессиональных умений и секретов, имеющиеся у специалистов, должны стать достоянием коллег по работе. Тогда лучшее в опыте одного может принести десятикратную пользу».</a:t>
            </a:r>
            <a:br>
              <a:rPr sz="3600"/>
            </a:br>
            <a:br>
              <a:rPr sz="36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.Ткаченк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52720" y="4572000"/>
            <a:ext cx="3213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719280" y="539640"/>
            <a:ext cx="871380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игры − это эффективная методика позволяющая помочь детям при различных  видах нару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 включения нейропсихологических приёмов в работу логоп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оличества детей со смешанными нарушениями в разви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оличества детей с чисто речевыми  наруш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ь в восприятии детьми классических методов исправления речевых нару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осприятия детьми обычной образовательной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03280" y="5110200"/>
            <a:ext cx="2995560" cy="19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G:\Семинар логопедов\фото\IMG-20210320-WA0009.jpg"/>
          <p:cNvPicPr/>
          <p:nvPr/>
        </p:nvPicPr>
        <p:blipFill>
          <a:blip r:embed="rId2"/>
          <a:stretch/>
        </p:blipFill>
        <p:spPr>
          <a:xfrm>
            <a:off x="3840120" y="5102280"/>
            <a:ext cx="2471760" cy="238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HP\Downloads\IMG_20210422_095955 (1).jpg"/>
          <p:cNvPicPr/>
          <p:nvPr/>
        </p:nvPicPr>
        <p:blipFill>
          <a:blip r:embed="rId3"/>
          <a:stretch/>
        </p:blipFill>
        <p:spPr>
          <a:xfrm>
            <a:off x="6840360" y="5091120"/>
            <a:ext cx="29530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688000" y="4427640"/>
            <a:ext cx="3840120" cy="28828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426960" y="826920"/>
            <a:ext cx="936000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использования нейроигр в дефектологической практик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ая форма обуч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моциональная привлекательность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ногофункциональн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зация звуков в сочетании с двигательной активностью, а не статичное выполнение заданий только за стол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стойкой мотивации и произвольных познавательных интересов; формирование партнерского взаимодействия между ребенком и специалистом, между дет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60360" y="466560"/>
            <a:ext cx="4870440" cy="3673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327640" y="341964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16000" y="139680"/>
            <a:ext cx="964872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ывать у детей доброжелательное отношение друг к другу, умение слушать высказывания товарищей и отвечать на вопро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ть логическое мышление детей, познавательный интерес, внимание, наблюдательность; развивать умение классифицировать предметы по существенному признаку, обобщать, расширять и активизировать словарный запас детей. Развивать фонематическое восприятие и звукопроизнош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ствовать знания детей и активизировать словарный запас по изученным темам; закреплять умения и навыки звукового анализ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68200" y="104760"/>
            <a:ext cx="4896000" cy="7350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327640" y="392436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:\Семинар логопедов\фото\IMG_20230426_112528.jpg"/>
          <p:cNvPicPr/>
          <p:nvPr/>
        </p:nvPicPr>
        <p:blipFill>
          <a:blip r:embed="rId1"/>
          <a:srcRect l="0" t="-4186" r="0" b="0"/>
          <a:stretch/>
        </p:blipFill>
        <p:spPr>
          <a:xfrm>
            <a:off x="5111640" y="1660680"/>
            <a:ext cx="4457880" cy="518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G:\Семинар логопедов\фото\IMG_20230426_112724.jpg"/>
          <p:cNvPicPr/>
          <p:nvPr/>
        </p:nvPicPr>
        <p:blipFill>
          <a:blip r:embed="rId2"/>
          <a:stretch/>
        </p:blipFill>
        <p:spPr>
          <a:xfrm>
            <a:off x="401760" y="804960"/>
            <a:ext cx="42782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31640" y="179280"/>
            <a:ext cx="3672000" cy="568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753080" y="2771640"/>
            <a:ext cx="51084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17:07:42Z</dcterms:created>
  <dc:creator>красотуля</dc:creator>
  <dc:description/>
  <dc:language>en-US</dc:language>
  <cp:lastModifiedBy>HP</cp:lastModifiedBy>
  <dcterms:modified xsi:type="dcterms:W3CDTF">2023-04-28T18:01:06Z</dcterms:modified>
  <cp:revision>36</cp:revision>
  <dc:subject/>
  <dc:title>Презентация PowerPoint</dc:title>
</cp:coreProperties>
</file>