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6E6CE-9D7F-4E8B-BD9E-4CF9B2CA2E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6D6A4-36E9-45C0-A3A2-714085B520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C43-DC98-448E-967A-4EF23111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BF0-AF78-4870-BB69-FEB39141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219-7443-43E1-8C96-29B507AE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E1C-5F4F-4358-BF6D-A99B8CE7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4B4-AE7C-487D-A111-2E5C2889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944-DC8F-4C10-9E4C-51BF1DD3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1F3-9B25-4798-B7BA-CE344652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478-EC96-411E-A5A7-436AEA46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BC6-669B-4EC5-AA95-9BAC0784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896-9C3C-4163-A453-019E4E19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4D8-080B-4AED-8AAA-DDCD440C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BA5-063B-4B8D-BCFC-28BE87F0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3F7D8-FC57-4F7D-AEBB-AC442C6E4F0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280" y="324000"/>
            <a:ext cx="92156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28 комбинированного 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функциональное  дидактическое посо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огопедический твист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6083280" y="6516720"/>
            <a:ext cx="3598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рухина Л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1800360" y="2843280"/>
            <a:ext cx="705636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G:\Семинар логопедов\фото\IMG_20230426_112957.jpg"/>
          <p:cNvPicPr/>
          <p:nvPr/>
        </p:nvPicPr>
        <p:blipFill>
          <a:blip r:embed="rId1"/>
          <a:stretch/>
        </p:blipFill>
        <p:spPr>
          <a:xfrm>
            <a:off x="-9818640" y="-16032240"/>
            <a:ext cx="2989080" cy="398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936720" y="461880"/>
            <a:ext cx="2504880" cy="33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G:\Семинар логопедов\фото\IMG_20230426_112833.jpg"/>
          <p:cNvPicPr/>
          <p:nvPr/>
        </p:nvPicPr>
        <p:blipFill>
          <a:blip r:embed="rId3"/>
          <a:stretch/>
        </p:blipFill>
        <p:spPr>
          <a:xfrm>
            <a:off x="3672000" y="2484360"/>
            <a:ext cx="3181320" cy="4638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G:\Семинар логопедов\фото\IMG_20230426_113016.jpg"/>
          <p:cNvPicPr/>
          <p:nvPr/>
        </p:nvPicPr>
        <p:blipFill>
          <a:blip r:embed="rId4"/>
          <a:stretch/>
        </p:blipFill>
        <p:spPr>
          <a:xfrm>
            <a:off x="7201080" y="501480"/>
            <a:ext cx="2519280" cy="39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125892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6000" y="179280"/>
            <a:ext cx="90630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ы  профессиональных умений и секретов, имеющиеся у специалистов, должны стать достоянием коллег по работе. Тогда лучшее в опыте одного может принести десятикратную пользу».</a:t>
            </a:r>
            <a:br>
              <a:rPr sz="3600"/>
            </a:br>
            <a:br>
              <a:rPr sz="36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А.Ткаченк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52720" y="4572000"/>
            <a:ext cx="3213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719280" y="539640"/>
            <a:ext cx="871380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игры − это эффективная методика позволяющая помочь детям при различных  видах нару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 включения нейропсихологических приёмов в работу логоп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количества детей со смешанными нарушениями в разви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количества детей с чисто речевыми  наруш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ь в восприятии детьми классических методов исправления речевых нару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осприятия детьми обычной образовательной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503280" y="5110200"/>
            <a:ext cx="2995560" cy="19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G:\Семинар логопедов\фото\IMG-20210320-WA0009.jpg"/>
          <p:cNvPicPr/>
          <p:nvPr/>
        </p:nvPicPr>
        <p:blipFill>
          <a:blip r:embed="rId2"/>
          <a:stretch/>
        </p:blipFill>
        <p:spPr>
          <a:xfrm>
            <a:off x="3840120" y="5102280"/>
            <a:ext cx="2471760" cy="238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HP\Downloads\IMG_20210422_095955 (1).jpg"/>
          <p:cNvPicPr/>
          <p:nvPr/>
        </p:nvPicPr>
        <p:blipFill>
          <a:blip r:embed="rId3"/>
          <a:stretch/>
        </p:blipFill>
        <p:spPr>
          <a:xfrm>
            <a:off x="6840360" y="5091120"/>
            <a:ext cx="29530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688000" y="4427640"/>
            <a:ext cx="3840120" cy="28828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426960" y="826920"/>
            <a:ext cx="9360000" cy="55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использования нейроигр в дефектологической практик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овая форма обуч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моциональная привлекательность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ногофункциональн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томатизация звуков в сочетании с двигательной активностью, а не статичное выполнение заданий только за стол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ние стойкой мотивации и произвольных познавательных интересов; формирование партнерского взаимодействия между ребенком и специалистом, между деть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60360" y="466560"/>
            <a:ext cx="4870440" cy="3673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327640" y="341964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16000" y="139680"/>
            <a:ext cx="964872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ывать у детей доброжелательное отношение друг к другу, умение слушать высказывания товарищей и отвечать на вопро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ть логическое мышление детей, познавательный интерес, внимание, наблюдательность; развивать умение классифицировать предметы по существенному признаку, обобщать, расширять и активизировать словарный запас детей. Развивать фонематическое восприятие и звукопроизнош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ршенствовать знания детей и активизировать словарный запас по изученным темам; закреплять умения и навыки звукового анализ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68200" y="104760"/>
            <a:ext cx="4896000" cy="7350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327640" y="392436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:\Семинар логопедов\фото\IMG_20230426_112528.jpg"/>
          <p:cNvPicPr/>
          <p:nvPr/>
        </p:nvPicPr>
        <p:blipFill>
          <a:blip r:embed="rId1"/>
          <a:srcRect l="0" t="-4186" r="0" b="0"/>
          <a:stretch/>
        </p:blipFill>
        <p:spPr>
          <a:xfrm>
            <a:off x="5111640" y="1660680"/>
            <a:ext cx="4457880" cy="518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G:\Семинар логопедов\фото\IMG_20230426_112724.jpg"/>
          <p:cNvPicPr/>
          <p:nvPr/>
        </p:nvPicPr>
        <p:blipFill>
          <a:blip r:embed="rId2"/>
          <a:stretch/>
        </p:blipFill>
        <p:spPr>
          <a:xfrm>
            <a:off x="401760" y="804960"/>
            <a:ext cx="42782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31640" y="179280"/>
            <a:ext cx="3672000" cy="568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753080" y="2771640"/>
            <a:ext cx="51084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7T17:07:42Z</dcterms:created>
  <dc:creator>красотуля</dc:creator>
  <dc:description/>
  <dc:language>en-US</dc:language>
  <cp:lastModifiedBy>HP</cp:lastModifiedBy>
  <dcterms:modified xsi:type="dcterms:W3CDTF">2023-04-28T18:01:06Z</dcterms:modified>
  <cp:revision>36</cp:revision>
  <dc:subject/>
  <dc:title>Презентация PowerPoint</dc:title>
</cp:coreProperties>
</file>