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5.gif" ContentType="image/gif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9.gif" ContentType="image/gif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B11960-E6AF-4AC4-80D3-7D8415C5D3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C6592DA-05E7-4E3A-8D35-EE2ABA853B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9E1FC5-56DE-4EB4-84EB-52D41EAEE6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3E47FD8-7432-4B58-93EC-ACD685FDAE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C0486AF-8623-4397-9DA4-413750874F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4EAEF88-1095-4C27-B8DB-975CBCFEE5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1C57E45-B2B3-47CB-ADD9-4D2719E8AD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47CE0B8-0770-45C1-A577-A48168B598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948C77A-FC84-494A-8B10-E154DA23B5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65CD155-E593-4BA0-8A87-A55436A63B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85415EA-328A-4A13-A816-8F17779F03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E749428-6A6A-4C96-9DC0-26ABE5B264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0A63602-DF2C-4761-9315-D60E858461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FB4F073-7E00-44F0-A2AB-6C2F9634BC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A243DCF-BE3B-41F9-B9B0-D761EAD4FC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60DAB61-3CC4-400F-B54D-52D7942EB7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CD4ECD9-6777-4CC4-BC75-867CC8D5C0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1B8B09-8F96-4DA0-9380-2E4135042C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3D66D9B-1EEB-4362-B9B8-BD205E3767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BC42-F13D-4076-831B-2D432F394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9B38-973B-41AE-8E51-E9C06535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28DD-AB3E-448F-976C-0AB8929F8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7644-5298-470B-A1FE-4041849E4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CB70-7752-47C9-9B9A-043C8BD2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DF81-D03D-428B-8E19-122F3B9F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B139-917A-4CC4-ADCC-68FBFB7D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922F-A66E-4855-8B8B-C853CA44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CD0A-7BD2-4B84-9A15-17EACC94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6DD6-9662-4577-9B8C-575EBFE5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19A3-AB85-4D6C-B6A2-EEBFAB62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68A4-5B3E-4BB6-B232-CD585ED9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9E632C-E78C-4F78-BBF1-E195272079FB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lenagold.ru/fon/tum/geze.html" TargetMode="External"/><Relationship Id="rId3" Type="http://schemas.openxmlformats.org/officeDocument/2006/relationships/hyperlink" Target="http://forchel.ru/1880-kartinki-dlya-ugolka-nastroeniya-gruppy-zajchik-zajka.html" TargetMode="External"/><Relationship Id="rId4" Type="http://schemas.openxmlformats.org/officeDocument/2006/relationships/hyperlink" Target="http://freephotostock.ru/derevenskiiy-peiyzazh/Page-8-5.html" TargetMode="External"/><Relationship Id="rId5" Type="http://schemas.openxmlformats.org/officeDocument/2006/relationships/hyperlink" Target="http://photo-mig.ru/?cat=73&amp;paged=3" TargetMode="External"/><Relationship Id="rId6" Type="http://schemas.openxmlformats.org/officeDocument/2006/relationships/hyperlink" Target="http://www.vneuroka.ru/okrmir_gallery.php?cat=1&amp;sub=1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freephotostock.ru/derevenskiiy-peiyzazh/Page-6-5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-360"/>
            <a:ext cx="8229600" cy="62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395280" y="2293920"/>
            <a:ext cx="856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70fb1"/>
                </a:solidFill>
                <a:latin typeface="Arial"/>
              </a:rPr>
              <a:t>«Сложение и вычитание с переходом через разряд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5292720" y="5013360"/>
            <a:ext cx="372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-360"/>
            <a:ext cx="8229600" cy="62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3348000" y="53640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b02b1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214200" y="930600"/>
            <a:ext cx="8929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 каким кустом прячется заяц во время     дождя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ветке сидели три птички, две решили полететь. Сколько осталось сидеть на ветке птиче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В коробке было 38 кубиков. Из 12 кубиков Ваня построил дом, а из 8 – башню. Сколько кубиков осталось в коробке?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-360"/>
            <a:ext cx="8229600" cy="62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 flipV="1" rot="10800000">
            <a:off x="612360" y="533952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170fb1"/>
                </a:solidFill>
                <a:latin typeface="Arial"/>
              </a:rPr>
              <a:t>Снять усталость, напряжень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170fb1"/>
                </a:solidFill>
                <a:latin typeface="Arial"/>
              </a:rPr>
              <a:t>Нам поможем физминутк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-360"/>
            <a:ext cx="8229600" cy="62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4"/>
          <p:cNvSpPr/>
          <p:nvPr/>
        </p:nvSpPr>
        <p:spPr>
          <a:xfrm>
            <a:off x="611280" y="7794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b02b10"/>
                </a:solidFill>
                <a:latin typeface="Arial"/>
              </a:rPr>
              <a:t>Вычислите удобным способом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611280" y="1897200"/>
            <a:ext cx="7850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56+9+4+11             46+15+4+5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2+7+8+13             31+16+9+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-360"/>
            <a:ext cx="8229600" cy="62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4"/>
          <p:cNvSpPr/>
          <p:nvPr/>
        </p:nvSpPr>
        <p:spPr>
          <a:xfrm>
            <a:off x="611280" y="620640"/>
            <a:ext cx="72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b02b1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b02b10"/>
                </a:solidFill>
                <a:latin typeface="Arial"/>
              </a:rPr>
              <a:t>Самостоятельная раб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250920" y="1557360"/>
            <a:ext cx="8497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уровень     2уровень      3уровен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7+7=           38+13=           45+6-3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5-7=            64-27=            54-6+15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7+8=           53-25=            39+4+9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3-5=            78-49=            78-29-9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6+8=           47+38=           35+6+43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2-3=            97-59=            68+13+9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-360"/>
            <a:ext cx="8229600" cy="62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4"/>
          <p:cNvSpPr/>
          <p:nvPr/>
        </p:nvSpPr>
        <p:spPr>
          <a:xfrm>
            <a:off x="611280" y="58896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b02b1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b20e9e"/>
                </a:solidFill>
                <a:latin typeface="Arial"/>
              </a:rPr>
              <a:t>Подведём итог!</a:t>
            </a:r>
            <a:r>
              <a:rPr b="1" lang="ru-RU" sz="3200" spc="-1" strike="noStrike">
                <a:solidFill>
                  <a:srgbClr val="b02b1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95280" y="203364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70fb1"/>
                </a:solidFill>
                <a:latin typeface="Arial"/>
              </a:rPr>
              <a:t>Чем запомнился вам сегодняшний урок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250920" y="308772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70fb1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170fb1"/>
                </a:solidFill>
                <a:latin typeface="Arial"/>
              </a:rPr>
              <a:t>Какое задание понравилось больше всег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 flipV="1" rot="10800000">
            <a:off x="395280" y="4091040"/>
            <a:ext cx="82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70fb1"/>
                </a:solidFill>
                <a:latin typeface="Arial"/>
              </a:rPr>
              <a:t>Что не понравилось на урок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-360"/>
            <a:ext cx="8229600" cy="62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2619360" cy="3927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3"/>
          <a:stretch/>
        </p:blipFill>
        <p:spPr>
          <a:xfrm>
            <a:off x="3132000" y="1700280"/>
            <a:ext cx="2619360" cy="3927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"/>
          <p:cNvPicPr/>
          <p:nvPr/>
        </p:nvPicPr>
        <p:blipFill>
          <a:blip r:embed="rId4"/>
          <a:stretch/>
        </p:blipFill>
        <p:spPr>
          <a:xfrm>
            <a:off x="5940360" y="1700280"/>
            <a:ext cx="2619360" cy="39272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7"/>
          <p:cNvSpPr/>
          <p:nvPr/>
        </p:nvSpPr>
        <p:spPr>
          <a:xfrm flipV="1" rot="10800000">
            <a:off x="1409400" y="5446800"/>
            <a:ext cx="10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b20e9e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b20e9e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 flipV="1" rot="10800000">
            <a:off x="3846600" y="5516640"/>
            <a:ext cx="117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b20e9e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b20e9e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 flipV="1" rot="10800000">
            <a:off x="6299280" y="5591160"/>
            <a:ext cx="1735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b20e9e"/>
                </a:solidFill>
                <a:latin typeface="Arial"/>
              </a:rPr>
              <a:t>  </a:t>
            </a:r>
            <a:r>
              <a:rPr b="1" lang="ru-RU" sz="6600" spc="-1" strike="noStrike">
                <a:solidFill>
                  <a:srgbClr val="b20e9e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250920" y="595080"/>
            <a:ext cx="8424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18a829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b20e9e"/>
                </a:solidFill>
                <a:latin typeface="Arial"/>
              </a:rPr>
              <a:t>Какое настроение оставил этот уро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-360"/>
            <a:ext cx="8229600" cy="62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4"/>
          <p:cNvSpPr/>
          <p:nvPr/>
        </p:nvSpPr>
        <p:spPr>
          <a:xfrm>
            <a:off x="4352760" y="5124600"/>
            <a:ext cx="4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WordArt 5"/>
          <p:cNvSpPr txBox="1"/>
          <p:nvPr/>
        </p:nvSpPr>
        <p:spPr>
          <a:xfrm>
            <a:off x="826920" y="1268280"/>
            <a:ext cx="756144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4"/>
          <p:cNvSpPr/>
          <p:nvPr/>
        </p:nvSpPr>
        <p:spPr>
          <a:xfrm>
            <a:off x="1692360" y="8334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b02b10"/>
                </a:solidFill>
                <a:latin typeface="Arial"/>
              </a:rPr>
              <a:t>Источник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395280" y="2338560"/>
            <a:ext cx="8396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Учебник «Математика» 2 класс, 2 часть, авт.: М.И.Моро, С.И.Волкова –М.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свещение, 2010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Поурочные разработки по математике, 2 класс, авт.: О.И.Дмитриева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.А.Мокрушина – М.: ВАКО, 2009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Фон слайдов - </a:t>
            </a:r>
            <a:r>
              <a:rPr b="0" lang="ru-RU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lenagold.ru/fon/tum/geze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 Зайцы  </a:t>
            </a:r>
            <a:r>
              <a:rPr b="0" lang="ru-RU" sz="1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forchel.ru/1880-kartinki-dlya-ugolka-nastroeniya-gruppy-zajchik-zajka.html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600" spc="-1" strike="noStrike">
                <a:solidFill>
                  <a:srgbClr val="009999"/>
                </a:solidFill>
                <a:latin typeface="Arial"/>
              </a:rPr>
              <a:t>http://lenagold.ru/fon/clipart/z/zay/zajats48.gif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Слайд 4: поле  </a:t>
            </a:r>
            <a:r>
              <a:rPr b="0" lang="ru-RU" sz="1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freephotostock.ru/derevenskiiy-peiyzazh/Page-8-5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Слайд 7: дорога   </a:t>
            </a:r>
            <a:r>
              <a:rPr b="0" lang="ru-RU" sz="1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ttp://photo-mig.ru/?cat=73&amp;paged=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 Слайд 8: дорожные зна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http://www.vneuroka.ru/okrmir_gallery.php?cat=1&amp;sub=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4"/>
          <p:cNvSpPr/>
          <p:nvPr/>
        </p:nvSpPr>
        <p:spPr>
          <a:xfrm>
            <a:off x="390600" y="1461960"/>
            <a:ext cx="8364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Слайд 10: луг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freephotostock.ru/derevenskiiy-peiyzazh/Page-6-5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Слайд 13: зарядка для глаз – из презентации Масько Л.Г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Здоровьесберегающие технологии в начальной школ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. Слайд 14: водопад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http://www.collection-photo.ru/Photos-photo6721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 Слайд 16: солнышк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http://forum.materinstvo.ru/lofiversion/index.php/t181574-550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. Слайд 17: скамейка в лесу   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http://www.profimages.ru/catalog/foto45215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. Слайд 19: лес   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http://www.collection-photo.ru/Photos-photo1073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. Слайд 21: звери на поляне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http://forchel.ru/1738-fon-zveri-na-polyanke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к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http://i029.radikal.ru/0801/f5/7ec2893f0eb3.p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ёжик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http://i034.radikal.ru/0711/e2/996ba4ac2ff8.p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ка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http://p.foto.radikal.ru/0702/0ad44876b09a.pn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179280" y="1436760"/>
            <a:ext cx="57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 барашек  и не кот,                                  Носит шубу круглый год.                                                 Шуба серая – для лета,                                                Шуба для зимы – другого цвет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2"/>
          <a:stretch/>
        </p:blipFill>
        <p:spPr>
          <a:xfrm>
            <a:off x="5541840" y="404640"/>
            <a:ext cx="3602160" cy="54007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7"/>
          <p:cNvSpPr/>
          <p:nvPr/>
        </p:nvSpPr>
        <p:spPr>
          <a:xfrm>
            <a:off x="415800" y="210960"/>
            <a:ext cx="46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b02b10"/>
                </a:solidFill>
                <a:latin typeface="Arial"/>
              </a:rPr>
              <a:t>Отгадайте загадку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-360"/>
            <a:ext cx="8229600" cy="62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3"/>
          <a:stretch/>
        </p:blipFill>
        <p:spPr>
          <a:xfrm>
            <a:off x="468360" y="522936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 -6 L 1.79191 -6 L 0.91736 -0.11538 E">
                                      <p:cBhvr>
                                        <p:cTn id="24" dur="5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-360"/>
            <a:ext cx="8229600" cy="62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395280" y="54936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b02b1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b02b10"/>
                </a:solidFill>
                <a:latin typeface="Arial"/>
              </a:rPr>
              <a:t>НАЙДИТЕ ЗАКОНОМЕРНОСТЬ   И ПРОДОЛЖИТЕ РЯД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324000" y="262728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8, 31, 30, 33, 32, 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324000" y="386064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50, 3, 47, 3, 44, …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-360"/>
            <a:ext cx="8229600" cy="62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179280" y="69228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b02b10"/>
                </a:solidFill>
                <a:latin typeface="Arial"/>
              </a:rPr>
              <a:t>Расположите числа в порядке возраста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 rot="21120000">
            <a:off x="2507760" y="1488600"/>
            <a:ext cx="10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Arial"/>
              </a:rPr>
              <a:t>97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 rot="660000">
            <a:off x="5796000" y="169812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Arial"/>
              </a:rPr>
              <a:t>5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 rot="840000">
            <a:off x="6659640" y="3244680"/>
            <a:ext cx="10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Arial"/>
              </a:rPr>
              <a:t>4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3851280" y="2781360"/>
            <a:ext cx="115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Arial"/>
              </a:rPr>
              <a:t>26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 rot="20700000">
            <a:off x="1693440" y="3058920"/>
            <a:ext cx="94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Arial"/>
              </a:rPr>
              <a:t>75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10"/>
          <p:cNvSpPr/>
          <p:nvPr/>
        </p:nvSpPr>
        <p:spPr>
          <a:xfrm flipV="1" rot="9960000">
            <a:off x="1331280" y="4364280"/>
            <a:ext cx="115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Arial"/>
              </a:rPr>
              <a:t>39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3278160" y="4641840"/>
            <a:ext cx="94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Arial"/>
              </a:rPr>
              <a:t>83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12"/>
          <p:cNvSpPr/>
          <p:nvPr/>
        </p:nvSpPr>
        <p:spPr>
          <a:xfrm rot="420000">
            <a:off x="5149440" y="443664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Arial"/>
              </a:rPr>
              <a:t>1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-360"/>
            <a:ext cx="8229600" cy="62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4"/>
          <p:cNvSpPr/>
          <p:nvPr/>
        </p:nvSpPr>
        <p:spPr>
          <a:xfrm>
            <a:off x="1763640" y="99216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b02b1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b02b10"/>
                </a:solidFill>
                <a:latin typeface="Arial"/>
              </a:rPr>
              <a:t>Верны ли неравенств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468360" y="2147760"/>
            <a:ext cx="828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5-8&lt;42       60-8&gt;60-1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3+7&lt;32        64-7&gt;64-9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5280" y="-360"/>
            <a:ext cx="8229600" cy="62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684360" y="33336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b02b1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b02b10"/>
                </a:solidFill>
                <a:latin typeface="Arial"/>
              </a:rPr>
              <a:t>Математический диктан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0" y="1413000"/>
            <a:ext cx="435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Сумма чисел 46 и 8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45 увеличить на 8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Разность чисел 74 и 6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Из 83 вычти 8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Уменьши 61 на 6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На сколько 47 меньше 55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4500720" y="1413000"/>
            <a:ext cx="431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Сумма чисел 57 и 8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49 увеличить на 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Разность чисел 83 и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Из 72 вычти 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Уменьши 84 на 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На сколько 38 меньше 46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2411280" y="641160"/>
            <a:ext cx="44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b02b10"/>
                </a:solidFill>
                <a:latin typeface="Arial"/>
              </a:rPr>
              <a:t>Составьте задачу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924360" y="249228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 9 шту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3635280" y="4005360"/>
            <a:ext cx="640872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? на 5 больш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7020000" y="2276640"/>
            <a:ext cx="172728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125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1835280" y="1844640"/>
            <a:ext cx="1616040" cy="1584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3"/>
          <a:stretch/>
        </p:blipFill>
        <p:spPr>
          <a:xfrm>
            <a:off x="1835280" y="3573360"/>
            <a:ext cx="158256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"/>
          <p:cNvPicPr/>
          <p:nvPr/>
        </p:nvPicPr>
        <p:blipFill>
          <a:blip r:embed="rId1"/>
          <a:stretch/>
        </p:blipFill>
        <p:spPr>
          <a:xfrm>
            <a:off x="1057320" y="687240"/>
            <a:ext cx="799920" cy="792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3708360" y="3573360"/>
            <a:ext cx="2160720" cy="20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 -0.08395 C 0.54931 -0.08395 0.71216 0.09945 0.71216 0.32493 C 0.71216 0.55042 0.54931 0.73427 0.35 0.73427 C 0.15018 0.73427 -0.01215 0.55042 -0.01215 0.32493 C -0.01215 0.09945 0.15018 -0.08395 0.35 -0.08395 Z">
                                      <p:cBhvr>
                                        <p:cTn id="43" dur="5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 -7 L -3.21924 -6 L 0.09444 0.57702 E">
                                      <p:cBhvr>
                                        <p:cTn id="46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7136 -0.0148 L 0.42726 0.34182 E">
                                      <p:cBhvr>
                                        <p:cTn id="55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16:48:28Z</dcterms:created>
  <dc:creator>USER</dc:creator>
  <dc:description/>
  <dc:language>en-US</dc:language>
  <cp:lastModifiedBy>Пользователь</cp:lastModifiedBy>
  <dcterms:modified xsi:type="dcterms:W3CDTF">2023-04-28T09:28:54Z</dcterms:modified>
  <cp:revision>66</cp:revision>
  <dc:subject/>
  <dc:title>Слайд 1</dc:title>
</cp:coreProperties>
</file>