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5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30193C-C9EE-4D6F-8464-F3366E94CB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1C87D4-08E9-4F79-9438-B713DFEDEB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36F666-56E0-45A7-BDAA-DFCB73836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6EF96F-F6C6-479F-BE17-85DC2CDAAA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52B6BA-64BD-4D41-B999-942783A826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3D7C81-F206-4FCB-9469-4028D27819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E2FC60-217A-47A4-BEB0-A5C1291640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C28CFD-C861-458F-AA3D-7E9956121B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3636F3-A430-4020-9752-81338DB1FD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4DE123-EEA1-43A7-8CD1-4BB7D55881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28E41F-A826-43C3-B1AA-F7743C883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5EB28F-66CB-4A12-9406-AF1D75DD64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C89A27-B5AE-4714-B7BA-63E6BBE7A5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453789-29B9-43CF-B977-46ED751828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D0C8E1-C674-4867-9838-3C91E45A8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0A5C84-94E8-4CA2-B42A-BC7D221B0F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D0B2A1-B6AC-4F4E-85F3-5AE43B635D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1BC2CF-B18B-4803-BA7E-F1EF74F74A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E8DD3F-EABE-4BB2-BAE7-D9D1E271E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B1C-37D0-4CC7-B606-A8390EC3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3C9-B573-46B9-BF8E-36EC1371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E24-B3E4-4828-B869-0AA57AFF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8E2-4F6E-46ED-BA18-A955350C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0305-005D-4D01-9F11-5757EBF3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FBD-8849-4F59-ADBC-F779246C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914-F2DA-4A40-AC1C-30F19FEA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036-64EF-459C-BCDA-AF8ACBDD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0E5-E77D-4426-B59E-EF3AB339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863-45BD-49E5-8093-07C0A41C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A4A-CECC-45D6-B9C5-C318ACFE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450-30A1-4F9D-AA9C-C6B7796D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2A800D-92D2-4750-A0BB-E5C3F74850F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lenagold.ru/fon/tum/geze.html" TargetMode="External"/><Relationship Id="rId3" Type="http://schemas.openxmlformats.org/officeDocument/2006/relationships/hyperlink" Target="http://forchel.ru/1880-kartinki-dlya-ugolka-nastroeniya-gruppy-zajchik-zajka.html" TargetMode="External"/><Relationship Id="rId4" Type="http://schemas.openxmlformats.org/officeDocument/2006/relationships/hyperlink" Target="http://freephotostock.ru/derevenskiiy-peiyzazh/Page-8-5.html" TargetMode="External"/><Relationship Id="rId5" Type="http://schemas.openxmlformats.org/officeDocument/2006/relationships/hyperlink" Target="http://photo-mig.ru/?cat=73&amp;paged=3" TargetMode="External"/><Relationship Id="rId6" Type="http://schemas.openxmlformats.org/officeDocument/2006/relationships/hyperlink" Target="http://www.vneuroka.ru/okrmir_gallery.php?cat=1&amp;sub=1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freephotostock.ru/derevenskiiy-peiyzazh/Page-6-5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95280" y="2293920"/>
            <a:ext cx="856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70fb1"/>
                </a:solidFill>
                <a:latin typeface="Arial"/>
              </a:rPr>
              <a:t>«Сложение и вычитание с переходом через разряд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5292720" y="5013360"/>
            <a:ext cx="372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3348000" y="5364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14200" y="930600"/>
            <a:ext cx="8929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каким кустом прячется заяц во время     дожд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етке сидели три птички, две решили полететь. Сколько осталось сидеть на ветке птич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 коробке было 38 кубиков. Из 12 кубиков Ваня построил дом, а из 8 – башню. Сколько кубиков осталось в коробке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 flipV="1" rot="10800000">
            <a:off x="612360" y="533952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70fb1"/>
                </a:solidFill>
                <a:latin typeface="Arial"/>
              </a:rPr>
              <a:t>Снять усталость, напряжень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70fb1"/>
                </a:solidFill>
                <a:latin typeface="Arial"/>
              </a:rPr>
              <a:t>Нам поможем физминутк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611280" y="779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Вычислите удобным способом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1280" y="1897200"/>
            <a:ext cx="785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6+9+4+11             46+15+4+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2+7+8+13             31+16+9+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611280" y="62064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50920" y="155736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уровень     2уровень      3уров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7+7=           38+13=           45+6-3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5-7=            64-27=            54-6+15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7+8=           53-25=            39+4+9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3-5=            78-49=            78-29-9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6+8=           47+38=           35+6+43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2-3=            97-59=            68+13+9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611280" y="58896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b20e9e"/>
                </a:solidFill>
                <a:latin typeface="Arial"/>
              </a:rPr>
              <a:t>Подведём итог!</a:t>
            </a: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95280" y="2033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70fb1"/>
                </a:solidFill>
                <a:latin typeface="Arial"/>
              </a:rPr>
              <a:t>Чем запомнился вам сегодняшний ур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50920" y="308772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70fb1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170fb1"/>
                </a:solidFill>
                <a:latin typeface="Arial"/>
              </a:rPr>
              <a:t>Какое задание понравилось больше всег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 flipV="1" rot="10800000">
            <a:off x="395280" y="409104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70fb1"/>
                </a:solidFill>
                <a:latin typeface="Arial"/>
              </a:rPr>
              <a:t>Что не понравилось на уро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619360" cy="3927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3132000" y="1700280"/>
            <a:ext cx="2619360" cy="3927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4"/>
          <a:stretch/>
        </p:blipFill>
        <p:spPr>
          <a:xfrm>
            <a:off x="5940360" y="1700280"/>
            <a:ext cx="2619360" cy="39272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 flipV="1" rot="10800000">
            <a:off x="1409400" y="544680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b20e9e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b20e9e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 flipV="1" rot="10800000">
            <a:off x="3846600" y="5516640"/>
            <a:ext cx="117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b20e9e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b20e9e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 flipV="1" rot="10800000">
            <a:off x="6299280" y="5591160"/>
            <a:ext cx="173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b20e9e"/>
                </a:solidFill>
                <a:latin typeface="Arial"/>
              </a:rPr>
              <a:t>  </a:t>
            </a:r>
            <a:r>
              <a:rPr b="1" lang="ru-RU" sz="6600" spc="-1" strike="noStrike">
                <a:solidFill>
                  <a:srgbClr val="b20e9e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250920" y="595080"/>
            <a:ext cx="842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8a82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b20e9e"/>
                </a:solidFill>
                <a:latin typeface="Arial"/>
              </a:rPr>
              <a:t>Какое настроение оставил этот ур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4352760" y="512460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826920" y="1268280"/>
            <a:ext cx="75614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1692360" y="8334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95280" y="2338560"/>
            <a:ext cx="839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Учебник «Математика» 2 класс, 2 часть, авт.: М.И.Моро, С.И.Волкова –М.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вещение, 2010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Поурочные разработки по математике, 2 класс, авт.: О.И.Дмитриев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.А.Мокрушина – М.: ВАКО, 2009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Фон слайдов -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lenagold.ru/fon/tum/geze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 Зайцы 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forchel.ru/1880-kartinki-dlya-ugolka-nastroeniya-gruppy-zajchik-zajka.html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http://lenagold.ru/fon/clipart/z/zay/zajats48.gi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Слайд 4: поле 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freephotostock.ru/derevenskiiy-peiyzazh/Page-8-5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лайд 7: дорога  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photo-mig.ru/?cat=73&amp;paged=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Слайд 8: дорожные зна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vneuroka.ru/okrmir_gallery.php?cat=1&amp;sub=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390600" y="1461960"/>
            <a:ext cx="836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Слайд 10: луг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freephotostock.ru/derevenskiiy-peiyzazh/Page-6-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Слайд 13: зарядка для глаз – из презентации Масько Л.Г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доровьесберегающие технологии в начальной школ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Слайд 14: водопад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http://www.collection-photo.ru/Photos-photo672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Слайд 16: солныш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http://forum.materinstvo.ru/lofiversion/index.php/t181574-550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Слайд 17: скамейка в лесу   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http://www.profimages.ru/catalog/foto45215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Слайд 19: лес   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http://www.collection-photo.ru/Photos-photo1073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 Слайд 21: звери на поляне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http://forchel.ru/1738-fon-zveri-na-polyank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к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http://i029.radikal.ru/0801/f5/7ec2893f0eb3.p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ёжик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http://i034.radikal.ru/0711/e2/996ba4ac2ff8.p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а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http://p.foto.radikal.ru/0702/0ad44876b09a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79280" y="1436760"/>
            <a:ext cx="57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барашек  и не кот,                                  Носит шубу круглый год.                                                 Шуба серая – для лета,                                                Шуба для зимы – другого цве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5541840" y="404640"/>
            <a:ext cx="3602160" cy="5400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415800" y="210960"/>
            <a:ext cx="46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Отгадайте загадку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468360" y="5229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 -6 L 1.79191 -6 L 0.91736 -0.11538 E">
                                      <p:cBhvr>
                                        <p:cTn id="24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395280" y="549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НАЙДИТЕ ЗАКОНОМЕРНОСТЬ   И ПРОДОЛЖИТЕ РЯД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262728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8, 31, 30, 33, 32, 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24000" y="386064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, 3, 47, 3, 44, …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179280" y="6922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02b10"/>
                </a:solidFill>
                <a:latin typeface="Arial"/>
              </a:rPr>
              <a:t>Расположите числа в порядке возраст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 rot="21120000">
            <a:off x="2507760" y="1488600"/>
            <a:ext cx="10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9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 rot="660000">
            <a:off x="5796000" y="169812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5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 rot="840000">
            <a:off x="6659640" y="324468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4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3851280" y="278136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2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 rot="20700000">
            <a:off x="1693440" y="305892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7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 flipV="1" rot="9960000">
            <a:off x="1331280" y="436428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3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278160" y="464184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8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 rot="420000">
            <a:off x="5149440" y="443664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1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763640" y="9921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b02b1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Верны ли неравенств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68360" y="214776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5-8&lt;42       60-8&gt;60-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3+7&lt;32        64-7&gt;64-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684360" y="333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Математический дикт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413000"/>
            <a:ext cx="43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умма чисел 46 и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45 увеличить на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азность чисел 74 и 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з 83 вычти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Уменьши 61 на 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На сколько 47 меньше 55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500720" y="1413000"/>
            <a:ext cx="43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умма чисел 57 и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49 увеличить на 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азность чисел 83 и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з 72 вычти 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Уменьши 84 на 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На сколько 38 меньше 46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2411280" y="64116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Составьте задачу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924360" y="2492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9 шт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635280" y="4005360"/>
            <a:ext cx="64087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? на 5 боль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020000" y="2276640"/>
            <a:ext cx="17272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1616040" cy="158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1835280" y="3573360"/>
            <a:ext cx="15825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1057320" y="6872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3708360" y="357336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 -0.08395 C 0.54931 -0.08395 0.71216 0.09945 0.71216 0.32493 C 0.71216 0.55042 0.54931 0.73427 0.35 0.73427 C 0.15018 0.73427 -0.01215 0.55042 -0.01215 0.32493 C -0.01215 0.09945 0.15018 -0.08395 0.35 -0.08395 Z">
                                      <p:cBhvr>
                                        <p:cTn id="43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7 L -3.21924 -6 L 0.09444 0.57702 E">
                                      <p:cBhvr>
                                        <p:cTn id="4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136 -0.0148 L 0.42726 0.34182 E">
                                      <p:cBhvr>
                                        <p:cTn id="5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6:48:28Z</dcterms:created>
  <dc:creator>USER</dc:creator>
  <dc:description/>
  <dc:language>en-US</dc:language>
  <cp:lastModifiedBy>Пользователь</cp:lastModifiedBy>
  <dcterms:modified xsi:type="dcterms:W3CDTF">2023-04-28T09:28:54Z</dcterms:modified>
  <cp:revision>66</cp:revision>
  <dc:subject/>
  <dc:title>Слайд 1</dc:title>
</cp:coreProperties>
</file>