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7.jpeg" ContentType="image/jpeg"/>
  <Override PartName="/ppt/media/image6.jpeg" ContentType="image/jpeg"/>
  <Override PartName="/ppt/media/image7.png" ContentType="image/png"/>
  <Override PartName="/ppt/media/image1.jpeg" ContentType="image/jpeg"/>
  <Override PartName="/ppt/media/image28.png" ContentType="image/png"/>
  <Override PartName="/ppt/media/image5.png" ContentType="image/png"/>
  <Override PartName="/ppt/media/image29.jpeg" ContentType="image/jpeg"/>
  <Override PartName="/ppt/media/image8.png" ContentType="image/png"/>
  <Override PartName="/ppt/media/image11.jpeg" ContentType="image/jpeg"/>
  <Override PartName="/ppt/media/image9.jpeg" ContentType="image/jpeg"/>
  <Override PartName="/ppt/media/image13.png" ContentType="image/png"/>
  <Override PartName="/ppt/media/image12.jpeg" ContentType="image/jpeg"/>
  <Override PartName="/ppt/media/image30.jpeg" ContentType="image/jpeg"/>
  <Override PartName="/ppt/media/image4.jpeg" ContentType="image/jpeg"/>
  <Override PartName="/ppt/media/image2.png" ContentType="image/png"/>
  <Override PartName="/ppt/media/image3.png" ContentType="image/png"/>
  <Override PartName="/ppt/media/image17.jpeg" ContentType="image/jpeg"/>
  <Override PartName="/ppt/media/image10.jpeg" ContentType="image/jpeg"/>
  <Override PartName="/ppt/media/image14.png" ContentType="image/png"/>
  <Override PartName="/ppt/media/image16.jpeg" ContentType="image/jpeg"/>
  <Override PartName="/ppt/media/image15.png" ContentType="image/png"/>
  <Override PartName="/ppt/media/image18.jpeg" ContentType="image/jpeg"/>
  <Override PartName="/ppt/media/image25.png" ContentType="image/png"/>
  <Override PartName="/ppt/media/image19.jpeg" ContentType="image/jpeg"/>
  <Override PartName="/ppt/media/image20.png" ContentType="image/png"/>
  <Override PartName="/ppt/media/image21.png" ContentType="image/png"/>
  <Override PartName="/ppt/media/image24.jpeg" ContentType="image/jpeg"/>
  <Override PartName="/ppt/media/image22.png" ContentType="image/png"/>
  <Override PartName="/ppt/media/image2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891B-BBA7-4165-8B51-16417DBD2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396D-165E-4ECF-9B19-715FCEB36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B12B-5B09-460C-9ED2-B90029135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7E54-2439-4C54-9B81-38E0A4B50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F7B66-8ACD-4057-AA3A-4F05956E9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6F4AE-A128-46B2-B23F-35C8D3F94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D4B38-D3FF-4682-8BA4-6DCAF0F3B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190FE-1CF3-4F54-BE4B-37BFFFF13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33C40-410C-415F-AEF2-8F83CECE3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5CD24-1A84-4930-8B6E-962D2C5B6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74E38-92EC-45A6-AFB2-C05AE663F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B9BB-86F1-4590-A77F-83080A5D7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AF741-859C-4711-A44F-C029C3BA4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6A421-F71E-4B1F-A4FD-A2913C40E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C64BD-FFD8-4D8C-9766-1B2BC5142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8B656-C2C1-47F2-83FF-15A9604EB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1D0AC-F463-4436-AAB8-9A9D98003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51B0DB-5F94-47B6-A151-6210FFBA1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110F52-9DB9-47E4-8FD8-7EECE912A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9C7117-7C46-4DAF-B822-9E949EB2D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6025DE-F93C-4BB2-B08E-79B34D770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F0E764-D1DD-470A-A15C-4790D3577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09BA-DA3F-453C-AEE1-459CBF4B8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477908-00C7-4C9D-B203-A6B98F7A7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1B9417-FDF7-49D9-B645-BC9A63D45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1E548E-7ADE-4059-91BA-A6C823D19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05C56B-ED8F-4878-9C5D-6860DA319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6A604A-B6AC-4D06-9DDC-A66F7F061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E8F110-9BB3-45F5-96D7-CD7CAA37E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2239E6-CCB4-4B18-8A24-C9D9850D2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2654F1-F4C7-4DD1-9D04-FB19982AE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23DA33-FDF1-4ABC-B628-F0AEDB03A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71BC12-DC0A-47ED-B048-9FB5D99AF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912D-F57E-4B6F-B641-791E29D7B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962150-A4FF-4CE0-89A3-F7F70CD6E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2937BE-60AA-4BF1-9482-F2F0A6B86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FB1B02-B60A-4C54-A0E7-431FFE1E5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E53602-2530-4C25-ACA8-59C52249D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2DDD88-21D4-46AD-9A01-989030011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42A855-7813-454A-930D-1BAF14CDF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F2AB11-5C96-4AEE-983E-07C071721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24426D-B0B0-46FF-84C5-F38933E12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A21F3C-6E35-4C72-8169-3D5E0C9D6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FFD9-3229-4E7E-A6BF-C855D17CB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A6C5-3BC7-4DF0-AF39-D1CDF07A0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76E5-7544-48CE-A933-796A8F291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36D8-75D3-465F-8CC4-F27EFFBEC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2E61-6428-4FDC-AFC2-70EF03A2D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22C2D-1857-4CDB-8B73-2607C0EC2C56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2FA15-5FE8-4EFE-A441-A455424413E6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F5CE9-9B93-4304-8E0A-21DB117EB60D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549D1-FD4F-427F-A035-313A1ACDA29F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png"/><Relationship Id="rId5" Type="http://schemas.openxmlformats.org/officeDocument/2006/relationships/image" Target="../media/image29.jpeg"/><Relationship Id="rId6" Type="http://schemas.openxmlformats.org/officeDocument/2006/relationships/image" Target="../media/image30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3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19.jpe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Логопедические игры</a:t>
            </a:r>
            <a:endParaRPr b="0" lang="en-US" sz="6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96" name="Содержимое 3" descr="V_lesu_.jpg"/>
          <p:cNvPicPr/>
          <p:nvPr/>
        </p:nvPicPr>
        <p:blipFill>
          <a:blip r:embed="rId1"/>
          <a:stretch/>
        </p:blipFill>
        <p:spPr>
          <a:xfrm>
            <a:off x="1116000" y="1773360"/>
            <a:ext cx="6800760" cy="4532040"/>
          </a:xfrm>
          <a:prstGeom prst="rect">
            <a:avLst/>
          </a:prstGeom>
          <a:ln w="0">
            <a:noFill/>
          </a:ln>
        </p:spPr>
      </p:pic>
      <p:sp>
        <p:nvSpPr>
          <p:cNvPr id="197" name="TextBox 4"/>
          <p:cNvSpPr/>
          <p:nvPr/>
        </p:nvSpPr>
        <p:spPr>
          <a:xfrm>
            <a:off x="3492360" y="3068640"/>
            <a:ext cx="1943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7030a0"/>
                </a:solidFill>
                <a:latin typeface="Constantia"/>
              </a:rPr>
              <a:t>Звук  «Л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2" descr="C:\Documents and Settings\User\Рабочий стол\Мама\0003-003-Lodka.png"/>
          <p:cNvPicPr/>
          <p:nvPr/>
        </p:nvPicPr>
        <p:blipFill>
          <a:blip r:embed="rId1"/>
          <a:stretch/>
        </p:blipFill>
        <p:spPr>
          <a:xfrm>
            <a:off x="1042920" y="907920"/>
            <a:ext cx="2772000" cy="16020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3" descr="C:\Documents and Settings\User\Рабочий стол\Мама\река.jpg"/>
          <p:cNvPicPr/>
          <p:nvPr/>
        </p:nvPicPr>
        <p:blipFill>
          <a:blip r:embed="rId2"/>
          <a:stretch/>
        </p:blipFill>
        <p:spPr>
          <a:xfrm>
            <a:off x="4932360" y="765000"/>
            <a:ext cx="3527280" cy="18003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4" descr="C:\Documents and Settings\User\Рабочий стол\Мама\вешалка.jpg"/>
          <p:cNvPicPr/>
          <p:nvPr/>
        </p:nvPicPr>
        <p:blipFill>
          <a:blip r:embed="rId3"/>
          <a:stretch/>
        </p:blipFill>
        <p:spPr>
          <a:xfrm>
            <a:off x="5580000" y="4869000"/>
            <a:ext cx="2658960" cy="15238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5" descr="C:\Documents and Settings\User\Рабочий стол\Мама\халат.png"/>
          <p:cNvPicPr/>
          <p:nvPr/>
        </p:nvPicPr>
        <p:blipFill>
          <a:blip r:embed="rId4"/>
          <a:stretch/>
        </p:blipFill>
        <p:spPr>
          <a:xfrm>
            <a:off x="1547640" y="4508640"/>
            <a:ext cx="1582920" cy="203508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6" descr="C:\Documents and Settings\User\Рабочий стол\Мама\бревно1.jpg"/>
          <p:cNvPicPr/>
          <p:nvPr/>
        </p:nvPicPr>
        <p:blipFill>
          <a:blip r:embed="rId5"/>
          <a:stretch/>
        </p:blipFill>
        <p:spPr>
          <a:xfrm>
            <a:off x="5003640" y="3068640"/>
            <a:ext cx="3240360" cy="143028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7" descr="C:\Documents and Settings\User\Рабочий стол\Мама\пила.jpg"/>
          <p:cNvPicPr/>
          <p:nvPr/>
        </p:nvPicPr>
        <p:blipFill>
          <a:blip r:embed="rId6"/>
          <a:stretch/>
        </p:blipFill>
        <p:spPr>
          <a:xfrm>
            <a:off x="1042920" y="2997360"/>
            <a:ext cx="2881440" cy="1371600"/>
          </a:xfrm>
          <a:prstGeom prst="rect">
            <a:avLst/>
          </a:prstGeom>
          <a:ln w="0">
            <a:noFill/>
          </a:ln>
        </p:spPr>
      </p:pic>
      <p:cxnSp>
        <p:nvCxnSpPr>
          <p:cNvPr id="239" name="Прямая со стрелкой 19"/>
          <p:cNvCxnSpPr/>
          <p:nvPr/>
        </p:nvCxnSpPr>
        <p:spPr>
          <a:xfrm>
            <a:off x="3995640" y="1699920"/>
            <a:ext cx="721440" cy="1080"/>
          </a:xfrm>
          <a:prstGeom prst="straightConnector1">
            <a:avLst/>
          </a:prstGeom>
          <a:ln w="255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40" name="Прямая со стрелкой 21"/>
          <p:cNvCxnSpPr/>
          <p:nvPr/>
        </p:nvCxnSpPr>
        <p:spPr>
          <a:xfrm>
            <a:off x="4140000" y="3644640"/>
            <a:ext cx="719640" cy="1080"/>
          </a:xfrm>
          <a:prstGeom prst="straightConnector1">
            <a:avLst/>
          </a:prstGeom>
          <a:ln w="255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41" name="Прямая со стрелкой 23"/>
          <p:cNvCxnSpPr/>
          <p:nvPr/>
        </p:nvCxnSpPr>
        <p:spPr>
          <a:xfrm>
            <a:off x="3635280" y="5660640"/>
            <a:ext cx="1658160" cy="1080"/>
          </a:xfrm>
          <a:prstGeom prst="straightConnector1">
            <a:avLst/>
          </a:prstGeom>
          <a:ln w="25560">
            <a:solidFill>
              <a:srgbClr val="065093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91520" cy="1211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Рассмотри картинки, повтори слова за мной и запомни: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68360" y="1916280"/>
            <a:ext cx="822960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Лодка, ложка, ландыш, лукошко, лампа, слон, лопат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0" name="Picture 3" descr="C:\Documents and Settings\User\Рабочий стол\Мама\0003-003-Lodka.png"/>
          <p:cNvPicPr/>
          <p:nvPr/>
        </p:nvPicPr>
        <p:blipFill>
          <a:blip r:embed="rId1"/>
          <a:stretch/>
        </p:blipFill>
        <p:spPr>
          <a:xfrm>
            <a:off x="684360" y="3027240"/>
            <a:ext cx="1726920" cy="99864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" descr="C:\Documents and Settings\User\Рабочий стол\Мама\ландыш.png"/>
          <p:cNvPicPr/>
          <p:nvPr/>
        </p:nvPicPr>
        <p:blipFill>
          <a:blip r:embed="rId2"/>
          <a:stretch/>
        </p:blipFill>
        <p:spPr>
          <a:xfrm>
            <a:off x="4788000" y="2852640"/>
            <a:ext cx="869760" cy="12970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6" descr="C:\Documents and Settings\User\Рабочий стол\Мама\ложка.jpg"/>
          <p:cNvPicPr/>
          <p:nvPr/>
        </p:nvPicPr>
        <p:blipFill>
          <a:blip r:embed="rId3"/>
          <a:stretch/>
        </p:blipFill>
        <p:spPr>
          <a:xfrm>
            <a:off x="2987640" y="2852640"/>
            <a:ext cx="1297080" cy="12970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7" descr="C:\Documents and Settings\User\Рабочий стол\Мама\лампа.jpg"/>
          <p:cNvPicPr/>
          <p:nvPr/>
        </p:nvPicPr>
        <p:blipFill>
          <a:blip r:embed="rId4"/>
          <a:stretch/>
        </p:blipFill>
        <p:spPr>
          <a:xfrm>
            <a:off x="755640" y="4508640"/>
            <a:ext cx="2016000" cy="20160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8" descr="C:\Documents and Settings\User\Рабочий стол\Мама\лукошко.jpg"/>
          <p:cNvPicPr/>
          <p:nvPr/>
        </p:nvPicPr>
        <p:blipFill>
          <a:blip r:embed="rId5"/>
          <a:stretch/>
        </p:blipFill>
        <p:spPr>
          <a:xfrm>
            <a:off x="6659640" y="2924280"/>
            <a:ext cx="1239840" cy="12142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9" descr="C:\Documents and Settings\User\Рабочий стол\Мама\слон.jpg"/>
          <p:cNvPicPr/>
          <p:nvPr/>
        </p:nvPicPr>
        <p:blipFill>
          <a:blip r:embed="rId6"/>
          <a:stretch/>
        </p:blipFill>
        <p:spPr>
          <a:xfrm>
            <a:off x="3348000" y="4508640"/>
            <a:ext cx="2085840" cy="1800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0" descr="C:\Documents and Settings\User\Рабочий стол\Мама\лопата.png"/>
          <p:cNvPicPr/>
          <p:nvPr/>
        </p:nvPicPr>
        <p:blipFill>
          <a:blip r:embed="rId7"/>
          <a:stretch/>
        </p:blipFill>
        <p:spPr>
          <a:xfrm>
            <a:off x="6372360" y="4581360"/>
            <a:ext cx="1717560" cy="18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457200" y="857160"/>
            <a:ext cx="8229600" cy="16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ыбери картинку, подходящую к моему слову: </a:t>
            </a: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ягоды - …, большой - …, свет - …, весло - …, душистый - …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8" name="Picture 2" descr="C:\Documents and Settings\User\Мои документы\Мои рисунки\ttgghgh.bmp"/>
          <p:cNvPicPr/>
          <p:nvPr/>
        </p:nvPicPr>
        <p:blipFill>
          <a:blip r:embed="rId1"/>
          <a:stretch/>
        </p:blipFill>
        <p:spPr>
          <a:xfrm>
            <a:off x="755640" y="2786040"/>
            <a:ext cx="7813800" cy="33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0" y="642600"/>
            <a:ext cx="8786880" cy="865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Игра: «Четвёртый лишний».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nstantia"/>
              </a:rPr>
              <a:t>Определи, какая картинка лишняя и почему?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1" name="Picture 2" descr="C:\Documents and Settings\User\Рабочий стол\Мама\0003-003-Lodka.png"/>
          <p:cNvPicPr/>
          <p:nvPr/>
        </p:nvPicPr>
        <p:blipFill>
          <a:blip r:embed="rId1"/>
          <a:stretch/>
        </p:blipFill>
        <p:spPr>
          <a:xfrm>
            <a:off x="971640" y="2852640"/>
            <a:ext cx="2376360" cy="13734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4" descr="C:\Documents and Settings\User\Рабочий стол\Мама\тигр.jpg"/>
          <p:cNvPicPr/>
          <p:nvPr/>
        </p:nvPicPr>
        <p:blipFill>
          <a:blip r:embed="rId2"/>
          <a:stretch/>
        </p:blipFill>
        <p:spPr>
          <a:xfrm>
            <a:off x="4427640" y="4782960"/>
            <a:ext cx="2736720" cy="207504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C:\Documents and Settings\User\Рабочий стол\Мама\лопата.png"/>
          <p:cNvPicPr/>
          <p:nvPr/>
        </p:nvPicPr>
        <p:blipFill>
          <a:blip r:embed="rId3"/>
          <a:stretch/>
        </p:blipFill>
        <p:spPr>
          <a:xfrm>
            <a:off x="1619280" y="4508640"/>
            <a:ext cx="1922400" cy="20365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3" descr="C:\Documents and Settings\User\Рабочий стол\Мама\слон.jpg"/>
          <p:cNvPicPr/>
          <p:nvPr/>
        </p:nvPicPr>
        <p:blipFill>
          <a:blip r:embed="rId4"/>
          <a:stretch/>
        </p:blipFill>
        <p:spPr>
          <a:xfrm>
            <a:off x="5651640" y="2924280"/>
            <a:ext cx="208584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923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Игра: «Скажи ласково».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азови правильно большой предмет, а маленький ласково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7" name="Picture 2" descr="C:\Documents and Settings\User\Рабочий стол\Мама\слон.jpg"/>
          <p:cNvPicPr/>
          <p:nvPr/>
        </p:nvPicPr>
        <p:blipFill>
          <a:blip r:embed="rId1"/>
          <a:stretch/>
        </p:blipFill>
        <p:spPr>
          <a:xfrm>
            <a:off x="755640" y="3068640"/>
            <a:ext cx="3843360" cy="30034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3" descr="C:\Documents and Settings\User\Рабочий стол\Мама\слон.jpg"/>
          <p:cNvPicPr/>
          <p:nvPr/>
        </p:nvPicPr>
        <p:blipFill>
          <a:blip r:embed="rId2"/>
          <a:stretch/>
        </p:blipFill>
        <p:spPr>
          <a:xfrm>
            <a:off x="6012000" y="4437000"/>
            <a:ext cx="1814400" cy="15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3" descr="C:\Documents and Settings\User\Рабочий стол\Мама\пчела.jpg"/>
          <p:cNvPicPr/>
          <p:nvPr/>
        </p:nvPicPr>
        <p:blipFill>
          <a:blip r:embed="rId1"/>
          <a:stretch/>
        </p:blipFill>
        <p:spPr>
          <a:xfrm>
            <a:off x="826920" y="1628640"/>
            <a:ext cx="4108680" cy="38880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4" descr="C:\Documents and Settings\User\Рабочий стол\Мама\пчела.jpg"/>
          <p:cNvPicPr/>
          <p:nvPr/>
        </p:nvPicPr>
        <p:blipFill>
          <a:blip r:embed="rId2"/>
          <a:stretch/>
        </p:blipFill>
        <p:spPr>
          <a:xfrm>
            <a:off x="5867280" y="3284640"/>
            <a:ext cx="228312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2" descr="C:\Documents and Settings\User\Рабочий стол\Мама\кукла.png"/>
          <p:cNvPicPr/>
          <p:nvPr/>
        </p:nvPicPr>
        <p:blipFill>
          <a:blip r:embed="rId1"/>
          <a:stretch/>
        </p:blipFill>
        <p:spPr>
          <a:xfrm>
            <a:off x="684360" y="981000"/>
            <a:ext cx="3809880" cy="53244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3" descr="C:\Documents and Settings\User\Рабочий стол\Мама\кукла.png"/>
          <p:cNvPicPr/>
          <p:nvPr/>
        </p:nvPicPr>
        <p:blipFill>
          <a:blip r:embed="rId2"/>
          <a:stretch/>
        </p:blipFill>
        <p:spPr>
          <a:xfrm>
            <a:off x="5292720" y="3284640"/>
            <a:ext cx="195732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2" descr="C:\Documents and Settings\User\Рабочий стол\Мама\0003-003-Lodka.png"/>
          <p:cNvPicPr/>
          <p:nvPr/>
        </p:nvPicPr>
        <p:blipFill>
          <a:blip r:embed="rId1"/>
          <a:stretch/>
        </p:blipFill>
        <p:spPr>
          <a:xfrm>
            <a:off x="539640" y="1989000"/>
            <a:ext cx="5025960" cy="29037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3" descr="C:\Documents and Settings\User\Рабочий стол\Мама\0003-003-Lodka.png"/>
          <p:cNvPicPr/>
          <p:nvPr/>
        </p:nvPicPr>
        <p:blipFill>
          <a:blip r:embed="rId2"/>
          <a:stretch/>
        </p:blipFill>
        <p:spPr>
          <a:xfrm>
            <a:off x="6156360" y="3500280"/>
            <a:ext cx="2357280" cy="13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Составь предложение.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539640" y="1916280"/>
            <a:ext cx="822960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По картинкам составь предложение, а стрелочка будет обозначать слово-действие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7" name="Picture 2" descr="C:\Documents and Settings\User\Рабочий стол\Мама\ложка.jpg"/>
          <p:cNvPicPr/>
          <p:nvPr/>
        </p:nvPicPr>
        <p:blipFill>
          <a:blip r:embed="rId1"/>
          <a:stretch/>
        </p:blipFill>
        <p:spPr>
          <a:xfrm>
            <a:off x="755640" y="2924280"/>
            <a:ext cx="2736720" cy="17287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3" descr="C:\Documents and Settings\User\Рабочий стол\Мама\стол1.JPG"/>
          <p:cNvPicPr/>
          <p:nvPr/>
        </p:nvPicPr>
        <p:blipFill>
          <a:blip r:embed="rId2"/>
          <a:stretch/>
        </p:blipFill>
        <p:spPr>
          <a:xfrm>
            <a:off x="5219640" y="2852640"/>
            <a:ext cx="3240000" cy="18558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4" descr="C:\Documents and Settings\User\Рабочий стол\Мама\пчела.jpg"/>
          <p:cNvPicPr/>
          <p:nvPr/>
        </p:nvPicPr>
        <p:blipFill>
          <a:blip r:embed="rId3"/>
          <a:stretch/>
        </p:blipFill>
        <p:spPr>
          <a:xfrm>
            <a:off x="1619280" y="4941720"/>
            <a:ext cx="1728720" cy="163512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5" descr="C:\Documents and Settings\User\Рабочий стол\Мама\улей.png"/>
          <p:cNvPicPr/>
          <p:nvPr/>
        </p:nvPicPr>
        <p:blipFill>
          <a:blip r:embed="rId4"/>
          <a:stretch/>
        </p:blipFill>
        <p:spPr>
          <a:xfrm>
            <a:off x="5076720" y="4653000"/>
            <a:ext cx="3576600" cy="1989000"/>
          </a:xfrm>
          <a:prstGeom prst="rect">
            <a:avLst/>
          </a:prstGeom>
          <a:ln w="0">
            <a:noFill/>
          </a:ln>
        </p:spPr>
      </p:pic>
      <p:cxnSp>
        <p:nvCxnSpPr>
          <p:cNvPr id="231" name="Прямая со стрелкой 8"/>
          <p:cNvCxnSpPr/>
          <p:nvPr/>
        </p:nvCxnSpPr>
        <p:spPr>
          <a:xfrm>
            <a:off x="3634920" y="3573000"/>
            <a:ext cx="1369080" cy="1080"/>
          </a:xfrm>
          <a:prstGeom prst="straightConnector1">
            <a:avLst/>
          </a:prstGeom>
          <a:ln w="255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32" name="Прямая со стрелкой 10"/>
          <p:cNvCxnSpPr/>
          <p:nvPr/>
        </p:nvCxnSpPr>
        <p:spPr>
          <a:xfrm>
            <a:off x="3634920" y="5589360"/>
            <a:ext cx="1369080" cy="1080"/>
          </a:xfrm>
          <a:prstGeom prst="straightConnector1">
            <a:avLst/>
          </a:prstGeom>
          <a:ln w="25560">
            <a:solidFill>
              <a:srgbClr val="065093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8-08-15T07:43:22Z</dcterms:modified>
  <cp:revision>19</cp:revision>
  <dc:subject/>
  <dc:title>Слайд 1</dc:title>
</cp:coreProperties>
</file>