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7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28.png" ContentType="image/png"/>
  <Override PartName="/ppt/media/image5.png" ContentType="image/png"/>
  <Override PartName="/ppt/media/image29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BBF-8602-496D-A3F8-89A59898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EC55-91D8-462A-BDD1-DD204A24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37E-A701-4BB9-A495-9741D3E6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291E-F23B-44CD-88CB-6B0A7B08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5B69-41CB-4C36-89E2-1EEDBE75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7988-217F-44F7-B6E6-AEC0E014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4EC8-0222-4322-9751-B54D6352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AE13-4652-44B4-8A70-A23FD32E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4343-3504-4D2A-9880-2811E7D8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1DDC-7DD4-4DE5-9DF3-532E448D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5B11-3600-4FEB-98CC-3D23C5D4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5A6D-D9B4-4664-835A-728B363B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4082-CA7E-4547-AA94-2178B7A2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E787-FFE0-4410-8AEF-7E594E72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AA87-CC59-47F7-BFD7-9086F595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4839-4849-486F-9DA1-8788CD2B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763E-0478-44B2-BD71-48C2A8F9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4C70B-4D64-448F-98ED-D9F9D487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70DAE-5113-438A-B235-845543B1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8D741-6782-450E-AE67-13A8D80E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3805D-CAE1-4488-8AE4-1BA5CBDF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67195-C5D2-4AC8-A4A7-4028B629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135D-CC5D-40E3-8763-6FD7BDEC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A4577-7B53-444A-9456-036E4DAD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B05C7-3AB8-4345-87DE-3079F9BB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40A62-14DD-45D9-A47B-15CDC89B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C4E44-B5C2-4C99-B494-7CBED89C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1D92A-2C8E-4F9F-9D25-98554182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8EF35-1BA9-443C-9A67-CCD6E8A8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A893D-5338-40AA-A7F4-62EE09BA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C910E-F100-4AD2-A1B8-9084783F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CB26D-3E98-4716-94C6-FAE0F5A1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215FD-F000-42CA-B212-8295B2B9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C81-9E0F-448D-BF82-2087F7BD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DE677-DE92-439E-8538-5C4CE849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84277-8623-4BDF-BD8F-C5E38EAD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011C9-9411-469B-8DB2-5211F17E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04A18-2AD1-4C28-86F3-F6C2D7A7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55851-51C4-4308-B8CF-758D54A5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29E20-2C99-4536-8666-95C4B99C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48DEC-CA17-49EA-B3C0-9F786544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D6263-0752-4A64-988F-FDB3A4D8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AB2A0-DE3C-47C7-898D-9F3C4662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BB33-6489-40AF-B3BE-95D4D6F1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28A8-0FFA-45C2-A63C-F88E64B9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6DFE-670A-40C1-9D22-60F9263D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19D-DA2A-4D0E-9464-C8331036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94AB-172B-4ED9-8A3C-606CB904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F44D-9F87-4204-9AFB-0A0F93A42CB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38BD-C613-4384-8AAA-807E555F874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B3AF-60B2-467E-9DC0-BA5145D74DC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CAC2-C243-400F-8ADB-262BBE687EC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3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9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Логопедические игры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Содержимое 3" descr="V_lesu_.jpg"/>
          <p:cNvPicPr/>
          <p:nvPr/>
        </p:nvPicPr>
        <p:blipFill>
          <a:blip r:embed="rId1"/>
          <a:stretch/>
        </p:blipFill>
        <p:spPr>
          <a:xfrm>
            <a:off x="1116000" y="1773360"/>
            <a:ext cx="6800760" cy="45320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3492360" y="3068640"/>
            <a:ext cx="19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onstantia"/>
              </a:rPr>
              <a:t>Звук  «Л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Documents and Settings\User\Рабочий стол\Мама\0003-003-Lodka.png"/>
          <p:cNvPicPr/>
          <p:nvPr/>
        </p:nvPicPr>
        <p:blipFill>
          <a:blip r:embed="rId1"/>
          <a:stretch/>
        </p:blipFill>
        <p:spPr>
          <a:xfrm>
            <a:off x="1042920" y="907920"/>
            <a:ext cx="2772000" cy="1602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Documents and Settings\User\Рабочий стол\Мама\река.jpg"/>
          <p:cNvPicPr/>
          <p:nvPr/>
        </p:nvPicPr>
        <p:blipFill>
          <a:blip r:embed="rId2"/>
          <a:stretch/>
        </p:blipFill>
        <p:spPr>
          <a:xfrm>
            <a:off x="4932360" y="765000"/>
            <a:ext cx="3527280" cy="1800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C:\Documents and Settings\User\Рабочий стол\Мама\вешалка.jpg"/>
          <p:cNvPicPr/>
          <p:nvPr/>
        </p:nvPicPr>
        <p:blipFill>
          <a:blip r:embed="rId3"/>
          <a:stretch/>
        </p:blipFill>
        <p:spPr>
          <a:xfrm>
            <a:off x="5580000" y="4869000"/>
            <a:ext cx="2658960" cy="1523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Documents and Settings\User\Рабочий стол\Мама\халат.png"/>
          <p:cNvPicPr/>
          <p:nvPr/>
        </p:nvPicPr>
        <p:blipFill>
          <a:blip r:embed="rId4"/>
          <a:stretch/>
        </p:blipFill>
        <p:spPr>
          <a:xfrm>
            <a:off x="1547640" y="4508640"/>
            <a:ext cx="1582920" cy="2035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C:\Documents and Settings\User\Рабочий стол\Мама\бревно1.jpg"/>
          <p:cNvPicPr/>
          <p:nvPr/>
        </p:nvPicPr>
        <p:blipFill>
          <a:blip r:embed="rId5"/>
          <a:stretch/>
        </p:blipFill>
        <p:spPr>
          <a:xfrm>
            <a:off x="5003640" y="3068640"/>
            <a:ext cx="3240360" cy="1430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C:\Documents and Settings\User\Рабочий стол\Мама\пила.jpg"/>
          <p:cNvPicPr/>
          <p:nvPr/>
        </p:nvPicPr>
        <p:blipFill>
          <a:blip r:embed="rId6"/>
          <a:stretch/>
        </p:blipFill>
        <p:spPr>
          <a:xfrm>
            <a:off x="1042920" y="2997360"/>
            <a:ext cx="2881440" cy="1371600"/>
          </a:xfrm>
          <a:prstGeom prst="rect">
            <a:avLst/>
          </a:prstGeom>
          <a:ln w="0">
            <a:noFill/>
          </a:ln>
        </p:spPr>
      </p:pic>
      <p:cxnSp>
        <p:nvCxnSpPr>
          <p:cNvPr id="239" name="Прямая со стрелкой 19"/>
          <p:cNvCxnSpPr/>
          <p:nvPr/>
        </p:nvCxnSpPr>
        <p:spPr>
          <a:xfrm>
            <a:off x="3995640" y="1699920"/>
            <a:ext cx="721440" cy="108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0" name="Прямая со стрелкой 21"/>
          <p:cNvCxnSpPr/>
          <p:nvPr/>
        </p:nvCxnSpPr>
        <p:spPr>
          <a:xfrm>
            <a:off x="4140000" y="3644640"/>
            <a:ext cx="719640" cy="108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1" name="Прямая со стрелкой 23"/>
          <p:cNvCxnSpPr/>
          <p:nvPr/>
        </p:nvCxnSpPr>
        <p:spPr>
          <a:xfrm>
            <a:off x="3635280" y="5660640"/>
            <a:ext cx="1658160" cy="108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9152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ссмотри картинки, повтори слова за мной и запомн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Лодка, ложка, ландыш, лукошко, лампа, слон, лопа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3" descr="C:\Documents and Settings\User\Рабочий стол\Мама\0003-003-Lodka.png"/>
          <p:cNvPicPr/>
          <p:nvPr/>
        </p:nvPicPr>
        <p:blipFill>
          <a:blip r:embed="rId1"/>
          <a:stretch/>
        </p:blipFill>
        <p:spPr>
          <a:xfrm>
            <a:off x="684360" y="3027240"/>
            <a:ext cx="1726920" cy="998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Documents and Settings\User\Рабочий стол\Мама\ландыш.png"/>
          <p:cNvPicPr/>
          <p:nvPr/>
        </p:nvPicPr>
        <p:blipFill>
          <a:blip r:embed="rId2"/>
          <a:stretch/>
        </p:blipFill>
        <p:spPr>
          <a:xfrm>
            <a:off x="4788000" y="2852640"/>
            <a:ext cx="869760" cy="1297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C:\Documents and Settings\User\Рабочий стол\Мама\ложка.jpg"/>
          <p:cNvPicPr/>
          <p:nvPr/>
        </p:nvPicPr>
        <p:blipFill>
          <a:blip r:embed="rId3"/>
          <a:stretch/>
        </p:blipFill>
        <p:spPr>
          <a:xfrm>
            <a:off x="2987640" y="2852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C:\Documents and Settings\User\Рабочий стол\Мама\лампа.jpg"/>
          <p:cNvPicPr/>
          <p:nvPr/>
        </p:nvPicPr>
        <p:blipFill>
          <a:blip r:embed="rId4"/>
          <a:stretch/>
        </p:blipFill>
        <p:spPr>
          <a:xfrm>
            <a:off x="755640" y="45086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C:\Documents and Settings\User\Рабочий стол\Мама\лукошко.jpg"/>
          <p:cNvPicPr/>
          <p:nvPr/>
        </p:nvPicPr>
        <p:blipFill>
          <a:blip r:embed="rId5"/>
          <a:stretch/>
        </p:blipFill>
        <p:spPr>
          <a:xfrm>
            <a:off x="6659640" y="2924280"/>
            <a:ext cx="1239840" cy="1214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C:\Documents and Settings\User\Рабочий стол\Мама\слон.jpg"/>
          <p:cNvPicPr/>
          <p:nvPr/>
        </p:nvPicPr>
        <p:blipFill>
          <a:blip r:embed="rId6"/>
          <a:stretch/>
        </p:blipFill>
        <p:spPr>
          <a:xfrm>
            <a:off x="3348000" y="4508640"/>
            <a:ext cx="2085840" cy="1800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C:\Documents and Settings\User\Рабочий стол\Мама\лопата.png"/>
          <p:cNvPicPr/>
          <p:nvPr/>
        </p:nvPicPr>
        <p:blipFill>
          <a:blip r:embed="rId7"/>
          <a:stretch/>
        </p:blipFill>
        <p:spPr>
          <a:xfrm>
            <a:off x="6372360" y="4581360"/>
            <a:ext cx="171756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857160"/>
            <a:ext cx="822960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бери картинку, подходящую к моему слову: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ягоды - …, большой - …, свет - …, весло - …, душистый - 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C:\Documents and Settings\User\Мои документы\Мои рисунки\ttgghgh.bmp"/>
          <p:cNvPicPr/>
          <p:nvPr/>
        </p:nvPicPr>
        <p:blipFill>
          <a:blip r:embed="rId1"/>
          <a:stretch/>
        </p:blipFill>
        <p:spPr>
          <a:xfrm>
            <a:off x="755640" y="2786040"/>
            <a:ext cx="781380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87868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гра: «Четвёртый лишний»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Определи, какая картинка лишняя и почему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C:\Documents and Settings\User\Рабочий стол\Мама\0003-003-Lodka.png"/>
          <p:cNvPicPr/>
          <p:nvPr/>
        </p:nvPicPr>
        <p:blipFill>
          <a:blip r:embed="rId1"/>
          <a:stretch/>
        </p:blipFill>
        <p:spPr>
          <a:xfrm>
            <a:off x="971640" y="2852640"/>
            <a:ext cx="2376360" cy="1373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C:\Documents and Settings\User\Рабочий стол\Мама\тигр.jpg"/>
          <p:cNvPicPr/>
          <p:nvPr/>
        </p:nvPicPr>
        <p:blipFill>
          <a:blip r:embed="rId2"/>
          <a:stretch/>
        </p:blipFill>
        <p:spPr>
          <a:xfrm>
            <a:off x="4427640" y="4782960"/>
            <a:ext cx="2736720" cy="2075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C:\Documents and Settings\User\Рабочий стол\Мама\лопата.png"/>
          <p:cNvPicPr/>
          <p:nvPr/>
        </p:nvPicPr>
        <p:blipFill>
          <a:blip r:embed="rId3"/>
          <a:stretch/>
        </p:blipFill>
        <p:spPr>
          <a:xfrm>
            <a:off x="1619280" y="4508640"/>
            <a:ext cx="1922400" cy="2036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C:\Documents and Settings\User\Рабочий стол\Мама\слон.jpg"/>
          <p:cNvPicPr/>
          <p:nvPr/>
        </p:nvPicPr>
        <p:blipFill>
          <a:blip r:embed="rId4"/>
          <a:stretch/>
        </p:blipFill>
        <p:spPr>
          <a:xfrm>
            <a:off x="5651640" y="2924280"/>
            <a:ext cx="20858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гра: «Скажи ласково»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зови правильно большой предмет, а маленький ласко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C:\Documents and Settings\User\Рабочий стол\Мама\слон.jpg"/>
          <p:cNvPicPr/>
          <p:nvPr/>
        </p:nvPicPr>
        <p:blipFill>
          <a:blip r:embed="rId1"/>
          <a:stretch/>
        </p:blipFill>
        <p:spPr>
          <a:xfrm>
            <a:off x="755640" y="3068640"/>
            <a:ext cx="3843360" cy="3003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C:\Documents and Settings\User\Рабочий стол\Мама\слон.jpg"/>
          <p:cNvPicPr/>
          <p:nvPr/>
        </p:nvPicPr>
        <p:blipFill>
          <a:blip r:embed="rId2"/>
          <a:stretch/>
        </p:blipFill>
        <p:spPr>
          <a:xfrm>
            <a:off x="6012000" y="4437000"/>
            <a:ext cx="18144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3" descr="C:\Documents and Settings\User\Рабочий стол\Мама\пчела.jpg"/>
          <p:cNvPicPr/>
          <p:nvPr/>
        </p:nvPicPr>
        <p:blipFill>
          <a:blip r:embed="rId1"/>
          <a:stretch/>
        </p:blipFill>
        <p:spPr>
          <a:xfrm>
            <a:off x="826920" y="1628640"/>
            <a:ext cx="4108680" cy="388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Documents and Settings\User\Рабочий стол\Мама\пчела.jpg"/>
          <p:cNvPicPr/>
          <p:nvPr/>
        </p:nvPicPr>
        <p:blipFill>
          <a:blip r:embed="rId2"/>
          <a:stretch/>
        </p:blipFill>
        <p:spPr>
          <a:xfrm>
            <a:off x="5867280" y="3284640"/>
            <a:ext cx="22831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Documents and Settings\User\Рабочий стол\Мама\кукла.png"/>
          <p:cNvPicPr/>
          <p:nvPr/>
        </p:nvPicPr>
        <p:blipFill>
          <a:blip r:embed="rId1"/>
          <a:stretch/>
        </p:blipFill>
        <p:spPr>
          <a:xfrm>
            <a:off x="684360" y="981000"/>
            <a:ext cx="3809880" cy="5324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Documents and Settings\User\Рабочий стол\Мама\кукла.png"/>
          <p:cNvPicPr/>
          <p:nvPr/>
        </p:nvPicPr>
        <p:blipFill>
          <a:blip r:embed="rId2"/>
          <a:stretch/>
        </p:blipFill>
        <p:spPr>
          <a:xfrm>
            <a:off x="5292720" y="3284640"/>
            <a:ext cx="19573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Documents and Settings\User\Рабочий стол\Мама\0003-003-Lodka.png"/>
          <p:cNvPicPr/>
          <p:nvPr/>
        </p:nvPicPr>
        <p:blipFill>
          <a:blip r:embed="rId1"/>
          <a:stretch/>
        </p:blipFill>
        <p:spPr>
          <a:xfrm>
            <a:off x="539640" y="1989000"/>
            <a:ext cx="5025960" cy="2903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User\Рабочий стол\Мама\0003-003-Lodka.png"/>
          <p:cNvPicPr/>
          <p:nvPr/>
        </p:nvPicPr>
        <p:blipFill>
          <a:blip r:embed="rId2"/>
          <a:stretch/>
        </p:blipFill>
        <p:spPr>
          <a:xfrm>
            <a:off x="6156360" y="3500280"/>
            <a:ext cx="235728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оставь предложение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3964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о картинкам составь предложение, а стрелочка будет обозначать слово-действ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2" descr="C:\Documents and Settings\User\Рабочий стол\Мама\ложка.jpg"/>
          <p:cNvPicPr/>
          <p:nvPr/>
        </p:nvPicPr>
        <p:blipFill>
          <a:blip r:embed="rId1"/>
          <a:stretch/>
        </p:blipFill>
        <p:spPr>
          <a:xfrm>
            <a:off x="755640" y="2924280"/>
            <a:ext cx="2736720" cy="1728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Documents and Settings\User\Рабочий стол\Мама\стол1.JPG"/>
          <p:cNvPicPr/>
          <p:nvPr/>
        </p:nvPicPr>
        <p:blipFill>
          <a:blip r:embed="rId2"/>
          <a:stretch/>
        </p:blipFill>
        <p:spPr>
          <a:xfrm>
            <a:off x="5219640" y="2852640"/>
            <a:ext cx="3240000" cy="1855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Documents and Settings\User\Рабочий стол\Мама\пчела.jpg"/>
          <p:cNvPicPr/>
          <p:nvPr/>
        </p:nvPicPr>
        <p:blipFill>
          <a:blip r:embed="rId3"/>
          <a:stretch/>
        </p:blipFill>
        <p:spPr>
          <a:xfrm>
            <a:off x="1619280" y="4941720"/>
            <a:ext cx="1728720" cy="1635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Documents and Settings\User\Рабочий стол\Мама\улей.png"/>
          <p:cNvPicPr/>
          <p:nvPr/>
        </p:nvPicPr>
        <p:blipFill>
          <a:blip r:embed="rId4"/>
          <a:stretch/>
        </p:blipFill>
        <p:spPr>
          <a:xfrm>
            <a:off x="5076720" y="4653000"/>
            <a:ext cx="3576600" cy="1989000"/>
          </a:xfrm>
          <a:prstGeom prst="rect">
            <a:avLst/>
          </a:prstGeom>
          <a:ln w="0">
            <a:noFill/>
          </a:ln>
        </p:spPr>
      </p:pic>
      <p:cxnSp>
        <p:nvCxnSpPr>
          <p:cNvPr id="231" name="Прямая со стрелкой 8"/>
          <p:cNvCxnSpPr/>
          <p:nvPr/>
        </p:nvCxnSpPr>
        <p:spPr>
          <a:xfrm>
            <a:off x="3634920" y="3573000"/>
            <a:ext cx="1369080" cy="108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2" name="Прямая со стрелкой 10"/>
          <p:cNvCxnSpPr/>
          <p:nvPr/>
        </p:nvCxnSpPr>
        <p:spPr>
          <a:xfrm>
            <a:off x="3634920" y="5589360"/>
            <a:ext cx="1369080" cy="108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08-15T07:43:22Z</dcterms:modified>
  <cp:revision>19</cp:revision>
  <dc:subject/>
  <dc:title>Слайд 1</dc:title>
</cp:coreProperties>
</file>