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9300-86B3-41C2-BFB7-6B1A293C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A871-A0AB-4EEA-B67F-E6948147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024-7DA3-47FF-B671-02756BB2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B5C-2CAA-43B1-A0B4-A130874E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4837-6F7C-40BE-8BAC-302095DC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2C26-867F-40F6-9707-3F0FB8D1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3A44-1B94-427E-BEAD-44FC553C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5D74-F2AD-4671-9271-C9F07123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8D08-B32C-4E25-80EC-65338571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6795-4D62-41C4-B3F3-DFB632A5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FAAE-27E7-4B95-867C-C06C69BF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F7B-8BB7-4E7A-BA2C-E8C20EF7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DB31-D17A-4A96-8589-1068643D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71D8-931F-4F96-9B99-A559BB29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8702-36E9-48C6-92F0-797EA32D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439A-8F19-44BD-B8E3-4BD145D3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6250-5262-43DA-AFE4-F58CBB76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9B20-B428-4780-AF4B-83F3399E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FFE6-F29C-4E24-BE58-0F1AAD9B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4D1C-4737-4D69-AD9D-F4AEBBC1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ECE-D9D3-4514-9891-167A03F8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7993-AF01-4E84-A49F-6AA478FF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D19-3CE7-48EB-BC48-4CD0EDCD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B3E-88DF-4C08-8A60-43ED313A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E129-5411-4AB9-BD71-D06C37E0CE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C0B3-D16D-44F0-A827-BEDBC31B685D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549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ahoma"/>
              </a:rPr>
              <a:t>Дидактический синквейн </a:t>
            </a:r>
            <a:br>
              <a:rPr sz="54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как  инструмент всестороннего развития ребён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5280" y="4005000"/>
            <a:ext cx="8007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МБДОУ д/с «Сказ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Учитель-логопе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Сергеева Л.П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2023 г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ahoma"/>
              </a:rPr>
              <a:t>Сочинение синквейнов </a:t>
            </a:r>
            <a:r>
              <a:rPr b="0" i="1" lang="ru-RU" sz="4800" spc="-1" strike="noStrike">
                <a:solidFill>
                  <a:srgbClr val="333399"/>
                </a:solidFill>
                <a:latin typeface="Tahoma"/>
              </a:rPr>
              <a:t> - источник неиссякаемого творчества для детей и взрослых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-243000"/>
            <a:ext cx="8692920" cy="226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Алгоритм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построения синквейна для детей, которые пока не умеют читать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017440"/>
            <a:ext cx="848664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333399"/>
                </a:solidFill>
                <a:uFillTx/>
                <a:latin typeface="Tahoma"/>
              </a:rPr>
              <a:t>Условные обозначения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- слова-предметы (существительные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- слова-признаки (прилагательные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- слова-действия (глаголы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- слова-предметы (существительные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Возможно варианты:</a:t>
            </a: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8259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составление краткого рассказа по готовому синквейн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коррекция и совершенствование готового синквейна;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- анализ неполного синквейна для определения отсутствующей части; (например, дан синквейн без указания темы — без первой строки, необходимо на основе существующих ее определить);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- составление  синквейна для закрепления изученной лексической темы.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Выводы о синквейн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1052280"/>
            <a:ext cx="834372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Предварительная работа по созданию речевой базы для составления синквейна служит средством оптимизации учебного процесс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необходимо составлять синквейн только на темы, хорошо известные детям и обязательно показывать образец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Если составление синквейна вызывает затруднение, то можно помочь наводящими вопроса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необходимо помогать и поощрять стремление детей составить синквейн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«Даже мгновенное озарение может стать той первой искрой, из которой рано или поздно возгорится пламя творческого поиска», —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писал В. Шатал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5280" y="475920"/>
            <a:ext cx="71085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В чём   эффективность и значимость синквейна?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41536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Его простот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Реализация интеллектуальных возможностей де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Синквейн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 –  игровой приё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Составление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синквейна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 используется как заключительное задание по пройденному материал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Составление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синквейна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 используется для проведения рефлексии, анализа и синтеза полученной информ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8270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Синквейн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 помогает пополнить словарный запа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Синквейн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 учит краткому пересказ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Синквейн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 помогает развить речь и мышле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Сочинение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 синквейна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 – процесс творческ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Синквейн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 учить находить главную мысл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Синквейн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 – способ контроля и самоконтро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476000" y="213840"/>
            <a:ext cx="7467480" cy="14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В чём   эффективность и значимость синквейна?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инквейн о синквейне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4920" y="2017440"/>
            <a:ext cx="8559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1. Синквейн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2. Творческий, активизирующий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3. Развивает, обогащает, уточняет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4. Синквейн помогает учиться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5. Технология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Можно сделать с детьми копилку </a:t>
            </a: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синквейнов.</a:t>
            </a: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По стихотворениям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мультфильмам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прочитанным рассказам и сказкам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ситуациям из жизни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за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84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Перед педагогами -дошкольниками  встаёт много вопросов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86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как сделать современного дошкольника социально мобильным выпуская его  во взрослую жизнь, в школ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- как научить применять знания, умения, навыки в конкретной ситуац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- как научить умению выявлять, наблюдать, различать, классифицировать, оценивать, делать выводы, принимать продуманные реш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- как вовлечь ребенка в интерактивную деятельность на занятия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-387720"/>
            <a:ext cx="7792920" cy="240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Хорошая речь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 - важнейшее условие всестороннего полноценного развития детей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4153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Дидактический синквейн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один из эффективных методов всестороннего развития ребенка, который позволяет быстро получить результат, это </a:t>
            </a: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инструмент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для синтезирования полученной информации (создание нерифмованного стихотворения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ahoma"/>
              </a:rPr>
              <a:t>Синквейн –</a:t>
            </a: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 инновационная методик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Решаются задач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486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изученный на занятии материал приобретает некую эмоциональную окраску, что способствует его более глубокому усвоению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- отрабатываются знания о частях речи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- знания о предложении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- умение соблюдать интонацию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61720" y="382680"/>
            <a:ext cx="7792920" cy="8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Решаются задач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704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расставлять знаки препина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- значительно активизируется словарный запас ребён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- совершенствуется навык использования в речи синонимов, антонимо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- активизируется и развивается мыслительная деятель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- совершенствуется умение высказывать собственное отношение к чему-либ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Синквейн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-  с французского языка переводит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как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«пять строк»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ятистрочная строфа стихотвор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-504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14200"/>
            <a:ext cx="848664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Tahoma"/>
              </a:rPr>
              <a:t>\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ервая строка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- одно слово, обычно существительное, отражающее главную идею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Вторая строка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два слова, прилагательные, описывающие основную мысл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Третья строка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- три слова, глаголы, описывающие действия в рамках тем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Четвертая строка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- фраза из нескольких слов, показывающая отношение  к тем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ятая строка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- слова, связанные с первым, отражающие сущность те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инквейн «Семья»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2017440"/>
            <a:ext cx="877572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3 –                   </a:t>
            </a:r>
            <a:r>
              <a:rPr b="1" lang="ru-RU" sz="72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4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5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13840"/>
            <a:ext cx="825948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Синквейн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–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форма свободного творчества, требующая от автора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5485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умения находить в информационном материале наиболее существенные элементы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делать выводы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кратко их формулировать.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09:10:48Z</dcterms:created>
  <dc:creator>kndo</dc:creator>
  <dc:description/>
  <dc:language>en-US</dc:language>
  <cp:lastModifiedBy>Sergeevs</cp:lastModifiedBy>
  <dcterms:modified xsi:type="dcterms:W3CDTF">2023-02-22T19:31:52Z</dcterms:modified>
  <cp:revision>34</cp:revision>
  <dc:subject/>
  <dc:title>Интеллектуальное развитие детей дошкольного возраста</dc:title>
</cp:coreProperties>
</file>