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6A9-2774-4788-AD9C-7CD6CBF3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3A7-D38D-41BA-B039-9834717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A3D-9029-4C8D-B9C3-9201A339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97E-F5F3-4D4F-A6B5-9CB9F0FD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C255-4EEA-4F4A-BA81-A81513B2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3519-37B8-410B-B59C-2F3C1B29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8106-2A66-4907-9B19-CAAC492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C6A-C63B-4651-92AF-308BF89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E16A-243B-4FB4-B520-4659524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C559-B28B-4595-9A01-B953151E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2975-1343-4162-921D-896B198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C6E-AD33-45DD-B9D4-0310584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2B7-82DB-4473-8C5C-AA4C01D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1C37-BC8C-42FA-BF52-2F34966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890-1EFB-4DAC-A816-765B21A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CA5-2F20-46D9-8CFF-C2BA0A80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1C6D-DE1A-420F-8917-0173E46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3A5-5707-4F18-AD38-B4439B9D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62E-836C-478E-A714-70CDA446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DA4-9145-4B29-AE40-1BF4BD4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2A1-9A49-4FB6-A233-D523963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DB4-70AE-4046-83E5-14660C8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81E-96C5-4AC7-98B8-E096912C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9E7-7822-46C9-8F41-E053481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8CA-824A-46C5-B6FB-FC93A3A2CB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823-B95D-4A0B-89E2-C7E09A0EF5A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5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Дидактический синквейн </a:t>
            </a:r>
            <a:br>
              <a:rPr sz="5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ак  инструмент всестороннего развития ребён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МБДОУ д/с «Сказ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ергеева Л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023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Сочинение синквейнов </a:t>
            </a:r>
            <a:r>
              <a:rPr b="0" i="1" lang="ru-RU" sz="4800" spc="-1" strike="noStrike">
                <a:solidFill>
                  <a:srgbClr val="333399"/>
                </a:solidFill>
                <a:latin typeface="Tahoma"/>
              </a:rPr>
              <a:t> - источник неиссякаемого творчества для детей и взрослых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869292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Алгоритм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строения синквейна для детей, которые пока не умеют читать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Условные обознач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едметы (существи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изнаки (прилага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действия (глаголы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едметы (существи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Возможно варианты: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8259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оставление краткого рассказа по готовому синквейн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коррекция и совершенствование готового синквейна;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- анализ неполного синквейна для определения отсутствующей части; (например, дан синквейн без указания темы — без первой строки, необходимо на основе существующих ее определить);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- составление  синквейна для закрепления изученной лексической темы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Выводы о синквейн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8343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Предварительная работа по созданию речевой базы для составления синквейна служит средством оптимизации учебного проц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еобходимо составлять синквейн только на темы, хорошо известные детям и обязательно показывать образец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Если составление синквейна вызывает затруднение, то можно помочь наводящими вопрос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еобходимо помогать и поощрять стремление детей составить синквей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«Даже мгновенное озарение может стать той первой искрой, из которой рано или поздно возгорится пламя творческого поиска», —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исал В. Шатал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7108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чём   эффективность и значимость синквейна?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41536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Его просто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еализация интеллектуальных возможностей де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 игровой приё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ставление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используется как заключительное задание по пройденному материал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ставление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используется для проведения рефлексии, анализа и синтеза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7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помогает пополнить словарный зап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учит краткому переска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помогает развить речь и мышл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чинение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процесс творческ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учить находить главную мыс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способ контроля и самоконтро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чём   эффективность и значимость синквейна?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 о синквейне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. Синквейн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2. Творческий, активизирующи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3. Развивает, обогащает, уточняет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4. Синквейн помогает учитьс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5. Техн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Можно сделать с детьми копилку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синквейнов.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По стихотворения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мультфильма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прочитанным рассказам и сказка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ситуациям из жизни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еред педагогами -дошкольниками  встаёт много вопросов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86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сделать современного дошкольника социально мобильным выпуская его  во взрослую жизнь, в школ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научить применять знания, умения, навыки в конкретной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научить умению выявлять, наблюдать, различать, классифицировать, оценивать, делать выводы, принимать продуманные ре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вовлечь ребенка в интерактивную деятельность на занятия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-387720"/>
            <a:ext cx="7792920" cy="240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Хорошая речь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- важнейшее условие всестороннего полноценного развития детей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Дидактический синквейн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один из эффективных методов всестороннего развития ребенка, который позволяет быстро получить результат, это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инструмент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для синтезирования полученной информации (создание нерифмованного стихотворения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Синквейн –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 инновационная метод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Решаются 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86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изученный на занятии материал приобретает некую эмоциональную окраску, что способствует его более глубокому усвоени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отрабатываются знания о частях речи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знания о предложении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умение соблюдать интонаци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1720" y="38268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Решаются 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704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асставлять знаки препина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значительно активизируется словарный запас ребё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совершенствуется навык использования в речи синонимов, антоним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активизируется и развивается мыслительная дея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совершенствуется умение высказывать собственное отношение к чему-либ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Синквейн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-  с французского языка переводи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ак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пять строк»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ятистрочная строфа стихо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4200"/>
            <a:ext cx="848664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\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ерв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одно слово, обычно существительное, отражающее главную иде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торая строк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ва слова, прилагательные, описывающие основную мысл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Треть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три слова, глаголы, описывающие действия в рамках т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Четверт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фраза из нескольких слов, показывающая отношение  к тем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ят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слова, связанные с первым, отражающие сущность 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 «Семья»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 –                   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форма свободного творчества, требующая от автора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485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умения находить в информационном материале наиболее существенные элементы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делать выводы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кратко их формулировать.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9:10:48Z</dcterms:created>
  <dc:creator>kndo</dc:creator>
  <dc:description/>
  <dc:language>en-US</dc:language>
  <cp:lastModifiedBy>Sergeevs</cp:lastModifiedBy>
  <dcterms:modified xsi:type="dcterms:W3CDTF">2023-02-22T19:31:52Z</dcterms:modified>
  <cp:revision>34</cp:revision>
  <dc:subject/>
  <dc:title>Интеллектуальное развитие детей дошкольного возраста</dc:title>
</cp:coreProperties>
</file>