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49E-8C96-4DF4-B237-61DADB20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9B5C-6E77-410F-BC7F-197D6C8D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6EE9-EE96-4EBB-9802-64E25262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22E-5606-4B4B-9F43-84ABE34B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7F80-FAF4-483E-972B-790D7EBC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AB19-30BB-451B-A618-0CC59EFF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9FAD-101B-4816-999A-DF0FE347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686A-5729-438D-9836-9FBF5E30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7BD3-24F3-427C-BCFA-C60F4591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9E2F-46DF-434E-BC3E-CCA43B4A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F387-5805-4330-B325-45531C89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3EA3-99FC-4E8F-8ED5-8297C7A4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263A-93DF-4530-8723-BB83CBD3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0B5C-3BF1-4076-ADF1-EDE09BF3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0FC6-F08C-49C1-BAFB-62464472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8278-E314-466F-BD52-F9A1B8CA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494B-369E-400C-8550-AAE2FB65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B96-2185-4838-835D-AC5D5367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487-D5CB-437C-A236-4AB21400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25E-5838-4230-ADDF-CCCAA6C0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3F7-F2CA-43B3-A764-0CC84C27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2EF-9CEB-4B5C-A903-FB95F9EC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00D-8277-44BF-BB0D-39A784CD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873-597D-42E3-A79D-35315980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7AC0-2565-4FBE-9431-58469C7786E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68C8-7201-4932-88FC-4DE780EB5ACD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www.center-escape.org/images/alcohol_reasons_4.jpg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00"/>
                </a:solidFill>
                <a:latin typeface="Times New Roman"/>
              </a:rPr>
              <a:t>Влияние ПАВ на организм человека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560" y="2295720"/>
            <a:ext cx="7596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ccff"/>
                </a:solidFill>
                <a:latin typeface="Times New Roman"/>
              </a:rPr>
              <a:t>Что все должны знать о наркотиках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  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   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Наркотики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это вещества природного или искусственного происхождения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которые изменяют человеческое сознание. Это значит, что они изменяют наш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чувства, настроение, мышление. Наркотики изменяют восприятие окружающег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мира. Можно стать более веселым или расслабленным, но иногда и наоборо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ечальным и подавленным. Эффект может быть стимулирующим, снотворны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или галлюциногенным. К стимулирующим наркотикам относятся: алкоголь (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редних дозах!), табак, кофеин, кокаин и амфитамины.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К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аллюциногенам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тносятся: ацетон, клей, некоторые грибы, ЛСД, экстази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конопля и гашиш. К тормозящим - опиум, морфин, героин, снотворны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репараты и транквилизаторы. Некоторые из них, такие как алкоголь и табак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являются легальными наркотиками и могут приобретаться без ограничений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Другие наркотики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такие как конопля или опиаты, - нелегальны. Российски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законы запрещают употребление и хранение наркотиков и признают эт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реступлением. У всех наркотиков есть одна общая черта: они вредны дл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физического и психического здоровья. Этот вред может варьироваться о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езначительного до разрушительного. Еще одна особенность наркотиков: легк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ачать их употреблять, но очень сложно, иногда даже невозможно, остановитьс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Это происходит из-за возникновения зависимости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уществует разница между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психической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физической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зависимостями.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Физическая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зависимость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жается проявлением протеста организма против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кращения употребления наркотиков (абстинентный синдром или «ломка»). Это касается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частности, алкоголя и опиатов. Другим её проявлением является толерантность. Она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жается в том, что при регулярном употреблении наркотиков для достижения одного и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го же эффекта требуется все большее количество наркотика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Психическая зависимость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значает, что человек ощущает необходимость принимать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котики постоянно. В то же время всё более утрачивается способность чувствовать себя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орошо без наркотика. Человек, употребляющий наркотические вещества, рискует стать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сихически зависимым. Сроки наступления этой зависимости зависят от личностных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арактеристик и других факторов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аркотики воздействуют на центр в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головном мозге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, который отвечает за  “поощрение”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и этом происходит выброс дофамина в кровь и человек чувствует возбуждение. Но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аркотики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трицательно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воздействуют на организм человека. Прежде всего, они снимают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оль и снижают болевой порог чувствительности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аркотики воздействуют на дыхательный центр и наркоманы часто умирают от паралича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ыхательного центра в результате передозировки. Наркотики также влияют на кашлевой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центр  у наркоманов отключается защитный механизм кашля. Наркотики способствуют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угнетению сосудодвигательного центра, а вследствие этого снижению кровяного давления и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замедлению пульса. По этой причине ухудшаются функции сердечно-сосудистой системы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функции всех клеток слабеют, и весь организм дряхлеет, как в старости. Наркотики угнетают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еханизмы регуляции пищеварения, у наркоманов притупляются все вкусовые и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бонятельные ощущения, снижается аппетит, уменьшается выработка ферментов, желчи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желудочного и кишечного соков. Пища не в полной мере переваривается и усваивается.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аркоманы обрекают себя на хроническое голодание и имеют дефицит веса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Состояние наркомании характеризуется тремя свойствами: </a:t>
            </a:r>
            <a:br>
              <a:rPr sz="2600"/>
            </a:b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. Непреодолимое желание или потребность продолжать принимать наркотики и доставать их любыми способами. 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2. Стремление увеличивать дозы. 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3. Зависимость психического, а иногда и физического характера от воздействия наркотиков.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индром наркомании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возникает лишь в результате принятия наркотического средства. Этапы этого процесса в основном следующие: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начальная эйфория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, часто весьма кратковременная;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толерантность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носит временный характер. Постепенно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рганизм реагирует слабее; 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зависимость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абсистенция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(синдром отнятия), наступает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через 12–48 часов после прекращения принятия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аркотик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4" descr="36"/>
          <p:cNvPicPr/>
          <p:nvPr/>
        </p:nvPicPr>
        <p:blipFill>
          <a:blip r:embed="rId1"/>
          <a:stretch/>
        </p:blipFill>
        <p:spPr>
          <a:xfrm>
            <a:off x="0" y="3259080"/>
            <a:ext cx="2414520" cy="3598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9"/>
          <p:cNvPicPr/>
          <p:nvPr/>
        </p:nvPicPr>
        <p:blipFill>
          <a:blip r:embed="rId2"/>
          <a:stretch/>
        </p:blipFill>
        <p:spPr>
          <a:xfrm>
            <a:off x="6848640" y="5049720"/>
            <a:ext cx="2295360" cy="1808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наркоти"/>
          <p:cNvPicPr/>
          <p:nvPr/>
        </p:nvPicPr>
        <p:blipFill>
          <a:blip r:embed="rId3"/>
          <a:stretch/>
        </p:blipFill>
        <p:spPr>
          <a:xfrm>
            <a:off x="5029200" y="4651200"/>
            <a:ext cx="1627200" cy="2206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наркотики 4"/>
          <p:cNvPicPr/>
          <p:nvPr/>
        </p:nvPicPr>
        <p:blipFill>
          <a:blip r:embed="rId4"/>
          <a:stretch/>
        </p:blipFill>
        <p:spPr>
          <a:xfrm>
            <a:off x="2590920" y="5324400"/>
            <a:ext cx="23144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нарк"/>
          <p:cNvPicPr/>
          <p:nvPr/>
        </p:nvPicPr>
        <p:blipFill>
          <a:blip r:embed="rId1"/>
          <a:stretch/>
        </p:blipFill>
        <p:spPr>
          <a:xfrm>
            <a:off x="7042320" y="0"/>
            <a:ext cx="2101680" cy="3249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нарко"/>
          <p:cNvPicPr/>
          <p:nvPr/>
        </p:nvPicPr>
        <p:blipFill>
          <a:blip r:embed="rId2"/>
          <a:stretch/>
        </p:blipFill>
        <p:spPr>
          <a:xfrm>
            <a:off x="0" y="3124080"/>
            <a:ext cx="2425680" cy="3357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наркотики 2"/>
          <p:cNvPicPr/>
          <p:nvPr/>
        </p:nvPicPr>
        <p:blipFill>
          <a:blip r:embed="rId3"/>
          <a:stretch/>
        </p:blipFill>
        <p:spPr>
          <a:xfrm>
            <a:off x="0" y="0"/>
            <a:ext cx="3332160" cy="2684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наркотики 5"/>
          <p:cNvPicPr/>
          <p:nvPr/>
        </p:nvPicPr>
        <p:blipFill>
          <a:blip r:embed="rId4"/>
          <a:stretch/>
        </p:blipFill>
        <p:spPr>
          <a:xfrm>
            <a:off x="5867280" y="3613320"/>
            <a:ext cx="2928960" cy="3244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наркотики"/>
          <p:cNvPicPr/>
          <p:nvPr/>
        </p:nvPicPr>
        <p:blipFill>
          <a:blip r:embed="rId5"/>
          <a:stretch/>
        </p:blipFill>
        <p:spPr>
          <a:xfrm>
            <a:off x="3657600" y="0"/>
            <a:ext cx="2465280" cy="3301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наркотики 1"/>
          <p:cNvPicPr/>
          <p:nvPr/>
        </p:nvPicPr>
        <p:blipFill>
          <a:blip r:embed="rId6"/>
          <a:stretch/>
        </p:blipFill>
        <p:spPr>
          <a:xfrm>
            <a:off x="2819520" y="3578400"/>
            <a:ext cx="24080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Как не пропустить признаки употребления?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140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Личностные изменения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Раздражительность, скрытность, враждебность, замкнутость, угрюмость, подавленность, беспокойство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требность в немедленном удовлетворении желаний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Отказ обсуждать свои проблемы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се возрастающая изоляция от одноклассников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Новые знакомства, тяга к тем, кто намного старше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Меняется имидж: теперь подросток носит одежду несвойственного ему стиля, иначе стрижется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стоянные опоздания в школу, прогулы занятий или неожиданное и как бы беспричинное снижение успеваемост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Изменения в физическом состояни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Ухудшение памят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Трудности в концентрации внимания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Замедленная, бессвязная, невнятная или быстрая, торопливая речь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Мутные, воспаленные, налитые кровью, отекшие или «стеклянные» гл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Расширенные или суженные зрачк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Недостаточная подвижность гл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Нарывы и болячки вокруг ноздрей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Чихание, хронический кашель, сухость во рту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стоянное пользование одеждой с длинными рукавам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вышенная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Нервозность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 чем разговаривать с родителями?</a:t>
            </a:r>
            <a:br>
              <a:rPr sz="1600"/>
            </a:b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Обратить внимание родителей на признаки, которые помогут им понят не появились ли у ребенка серьезные проблемы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Изменения в привычках и образе жизн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здние возвращения домо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еобъяснимые отлучки из дом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еспособность даже приблизительно определить время своего отсутств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теря аппетита или чрезмерное употребление пищ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трастная потребность в сладк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иступы сонливост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величение требуемой подростком суммы денег на карманные расходы без внятного объяснения, на что собирается их потратить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пажа из дома ценных вещей, одежд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незапно возникшая привычка часто проветривать свою комнату и использовать освежитель воздуха, благовония (для устранения наркотических запахов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Изменения в физическом состоянии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отеря вес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овышенная утомляемость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Частые простуды, желудочные боли и судорог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роблемы с пищеварением, тошнота, приступы рвоты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тренняя слабость на фоне вечерней активност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Частые головные бол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Обмороки, потеря сознания, головокружения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Следы уколов на теле, порезы, синяк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ренебрежение личной гигиеной.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       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                              </a:t>
            </a: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Специфические находк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пакованные в целлофан кусочки темно-коричневой массы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Зеленоватый порошок растительного происхождения (чаще всего в спичечных коробках)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Чайные или столовые ложки со следами подогревания на открытом огне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Необычные, неизвестные родителям и ранее не встречавшиеся им лекарственные препараты в таблетках, капсулах, ампулах, порошках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узырьки, смятая фольга. Иглы или шприцы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                       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офилактическая работ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Профилактическая работа должна проводиться грамотно, 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так как неверная подача информации может возбудить излишний интерес к ПАВ. Не должна иметь место так называемая «тактика запугивания», так как в возрасте 12-16 лет она имеет обратный эффект. В ходе проведения профилактической работы учитывается изначальный уровень знаний подростков о ПАВ, получаемый учителем из бесед или анкет, проведенных ранее. Для получения стабильного результата в данной работе, антинаркотическая пропаганда должна носить систематический характер, начиная с начальных классов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Мероприятия по профилактике ПАВ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Тематические беседы; Тематические классные часы с использованием мультимедиа презентаций; Лекции; Беседы – диспуты; Выставки рисунков, плакатов; Театрализованное представление; Защита проекта по пропаганде здорового образа жизни; Просмотр видео фильма по профилактике ПАВ; Спортивные праздники, как альтернатива употребления ПАВ; Выпуск стенгазеты; Проведение викторин, КВН; Конкурс сочинений, стихотворений, частушек; Индивидуальные беседы с учащимися и родителями;Тематические родительские собрания с использованием мультимедиа презентаций; Тематические родительские лектории; Анкетирование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Темы бесед для учащихся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тика бесед о наркомани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Бездна, о которой надо знать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Не допусти беды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Наркотики и СПИД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Болезнь или преступление?»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Не дай себе погибнуть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Опасная игра – шаг в бездну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Если бы я знал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тика бесед о вреде употребления алкоголя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Зачем люди пьют вино?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Вино – причина многих несчастий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Во что обществу обходится пьянство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Употребление алкоголя и здоровье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Причины алкоголизма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Преимущества здорового образа жизни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Ответственность человека за поступки, совершенные в состоянии опьянения»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От вредной привычки к болезни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Алкоголь и семья – неразрешимое противоречие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Алкоголь и жизненные перспективы человека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Тематика бесед о вреде курения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Немного из истории курения табака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Табак и табачный дым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Пагубное влияние курения табака на здоровье человека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Влияние курения на нервную систему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Действие табака на сердечно-сосудистую систему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Влияние табака на органы дыхания и пищеварения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Курение и рак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Курение и работоспособность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Заболеваемость и смертность курящих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Безвредного табака нет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Темы сообщений на родительских собраниях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Роль и ответственность семьи в профилактике ПАВ детей и подростков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Оздоровление семьи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Группы риска и раннее выявление формирующейся зависимости от ПАВ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Система оказания профилактической помощи и лечения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Подростковый алкоголизм и наркомания, особенности течения»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17" name="Organization Chart 6"/>
          <p:cNvGrpSpPr/>
          <p:nvPr/>
        </p:nvGrpSpPr>
        <p:grpSpPr>
          <a:xfrm>
            <a:off x="228600" y="228600"/>
            <a:ext cx="8914680" cy="5883120"/>
            <a:chOff x="228600" y="228600"/>
            <a:chExt cx="8914680" cy="5883120"/>
          </a:xfrm>
        </p:grpSpPr>
        <p:cxnSp>
          <p:nvCxnSpPr>
            <p:cNvPr id="118" name="_s1028"/>
            <p:cNvCxnSpPr>
              <a:stCxn id="119" idx="0"/>
              <a:endCxn id="120" idx="2"/>
            </p:cNvCxnSpPr>
            <p:nvPr/>
          </p:nvCxnSpPr>
          <p:spPr>
            <a:xfrm flipV="1" rot="16200000">
              <a:off x="5657400" y="1609560"/>
              <a:ext cx="1177200" cy="3120840"/>
            </a:xfrm>
            <a:prstGeom prst="bentConnector3">
              <a:avLst>
                <a:gd name="adj1" fmla="val 12695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1" name="_s1029"/>
            <p:cNvCxnSpPr>
              <a:stCxn id="122" idx="0"/>
              <a:endCxn id="120" idx="2"/>
            </p:cNvCxnSpPr>
            <p:nvPr/>
          </p:nvCxnSpPr>
          <p:spPr>
            <a:xfrm flipV="1">
              <a:off x="4685760" y="2581560"/>
              <a:ext cx="3240" cy="11772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3" name="_s1030"/>
            <p:cNvCxnSpPr>
              <a:stCxn id="124" idx="0"/>
              <a:endCxn id="120" idx="2"/>
            </p:cNvCxnSpPr>
            <p:nvPr/>
          </p:nvCxnSpPr>
          <p:spPr>
            <a:xfrm flipH="1" flipV="1" rot="5400000">
              <a:off x="2536920" y="1609560"/>
              <a:ext cx="1177200" cy="3120840"/>
            </a:xfrm>
            <a:prstGeom prst="bentConnector3">
              <a:avLst>
                <a:gd name="adj1" fmla="val 12695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20" name="_s1031"/>
            <p:cNvSpPr/>
            <p:nvPr/>
          </p:nvSpPr>
          <p:spPr>
            <a:xfrm>
              <a:off x="3348720" y="228600"/>
              <a:ext cx="2674440" cy="23533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eaeaea"/>
                  </a:solidFill>
                  <a:latin typeface="Verdana"/>
                </a:rPr>
                <a:t>  </a:t>
              </a:r>
              <a:r>
                <a:rPr b="0" lang="ru-RU" sz="4000" spc="-1" strike="noStrike">
                  <a:solidFill>
                    <a:srgbClr val="eaeaea"/>
                  </a:solidFill>
                  <a:latin typeface="Times New Roman"/>
                </a:rPr>
                <a:t>ПАВ –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eaeaea"/>
                  </a:solidFill>
                  <a:latin typeface="Times New Roman"/>
                </a:rPr>
                <a:t>психо-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eaeaea"/>
                  </a:solidFill>
                  <a:latin typeface="Times New Roman"/>
                </a:rPr>
                <a:t>активные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eaeaea"/>
                  </a:solidFill>
                  <a:latin typeface="Times New Roman"/>
                </a:rPr>
                <a:t>вещества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_s1032"/>
            <p:cNvSpPr/>
            <p:nvPr/>
          </p:nvSpPr>
          <p:spPr>
            <a:xfrm>
              <a:off x="228600" y="3758400"/>
              <a:ext cx="2674440" cy="23533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eaeaea"/>
                  </a:solidFill>
                  <a:latin typeface="Times New Roman"/>
                </a:rPr>
                <a:t>Табак, 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eaeaea"/>
                  </a:solidFill>
                  <a:latin typeface="Times New Roman"/>
                </a:rPr>
                <a:t>сигареты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_s1033"/>
            <p:cNvSpPr/>
            <p:nvPr/>
          </p:nvSpPr>
          <p:spPr>
            <a:xfrm>
              <a:off x="3348720" y="3758400"/>
              <a:ext cx="2674440" cy="23533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4800" spc="-1" strike="noStrike">
                  <a:solidFill>
                    <a:srgbClr val="eaeaea"/>
                  </a:solidFill>
                  <a:latin typeface="Times New Roman"/>
                </a:rPr>
                <a:t>Алкоголь, 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eaeaea"/>
                  </a:solidFill>
                  <a:latin typeface="Times New Roman"/>
                </a:rPr>
                <a:t>спиртное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_s1034"/>
            <p:cNvSpPr/>
            <p:nvPr/>
          </p:nvSpPr>
          <p:spPr>
            <a:xfrm>
              <a:off x="6468840" y="3758400"/>
              <a:ext cx="2674440" cy="23533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aeaea"/>
                  </a:solidFill>
                  <a:latin typeface="Times New Roman"/>
                </a:rPr>
                <a:t>Наркотики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Практические занятия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ренинговые  занятия: </a:t>
            </a:r>
            <a:r>
              <a:rPr b="1" lang="ru-RU" sz="1400" spc="-1" strike="noStrike" u="sng">
                <a:solidFill>
                  <a:srgbClr val="eaeaea"/>
                </a:solidFill>
                <a:uFillTx/>
                <a:latin typeface="Verdana"/>
              </a:rPr>
              <a:t>Основные задачи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Формирование здорового жизненного стиля, высокофункциональных стратегий поведения и личностных ресурсов, препятствующих злоупотреблению психоактивными веществам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Создание условий для открытого доверительного общения, восприятия информации, творческой атмосферы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Информирование о связи злоупотребления ПАВ с особенностями личности, общения, социальными сетями, стрессом и путями его преодоления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Направленное осознание имеющихся личностных ресурсов, соответствующих формированию здорового жизненного стиля: - я-концепции; собственной системы ценностей, целей и установок; умение общаться с окружающими, сопереживать и оказывать социальную и психологическую поддержку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Развитие личностных ресурсов, способствующих формированию здорового жизненного стиля и совладающего поведения: - формироваие самопринятия, адекватной самооценки; формирование умения адекватно оценивать проблемные ситуации; формирование умения ставить перед собой краткосрочные и перспективные цели и достигать их; формирование навыков эмпатии, аффилиации, диалога,разрешения конфликтных ситуаций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Развитие стратегий и навыков поведения, ведущего к здоровью и препятствующего злоупотреблению психоактивными веществами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- навыков принятия решений и преодоления жизненных проблем; навыков оценки соц. ситуации и принятия ответственности за собственное поведения в ней; навыков отстаивания своих границ; навыков защиты своего Я; навыков избегания ситуаций, связанных с употребление ПАВ и другими формами саморазрушающего поведения; навыков бестконфликтного и эффективного общения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СОДЕРЖАНИЕ КАЖДОЙ ВСТРЕЧИ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035080" y="914400"/>
          <a:ext cx="4457880" cy="371520"/>
        </p:xfrm>
        <a:graphic>
          <a:graphicData uri="http://schemas.openxmlformats.org/drawingml/2006/table">
            <a:tbl>
              <a:tblPr/>
              <a:tblGrid>
                <a:gridCol w="708120"/>
                <a:gridCol w="1371600"/>
                <a:gridCol w="990720"/>
                <a:gridCol w="1387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057400" y="1295280"/>
          <a:ext cx="4419720" cy="4064040"/>
        </p:xfrm>
        <a:graphic>
          <a:graphicData uri="http://schemas.openxmlformats.org/drawingml/2006/table">
            <a:tbl>
              <a:tblPr/>
              <a:tblGrid>
                <a:gridCol w="649440"/>
                <a:gridCol w="1415880"/>
                <a:gridCol w="973080"/>
                <a:gridCol w="1381320"/>
              </a:tblGrid>
              <a:tr h="109800"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Этапы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оль ведущего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риветствие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означить начало занятия, создать атмосферу безопасности. Самоопределение участников (с чем пришли на гр., как себя сейчас ощущают)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пределенные ритуалы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еспечить для каждого участникам максимально комфортное  вхождение в группу. Предоставить возм. поделится своими переживаниями, помочь осознать и принять свои чувства. 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азминка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.Обьединение, сплочение группы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. Развитие межличностных связей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. Включение в самостоятельную деятельность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ее или менее подвижные игры с четко определенными правилами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. Обозначение правил и границ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. Обеспечение безопасности участников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абота по теме 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адачи соответствуют теме занятий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амые разнообразные формы активности (игровые, рисование, психодрама и т.д.)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.Дать определенную информацию  в доступной форме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.Предоставить возможность выразить свои чувства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.Помочь овладеть новыми навыками, основываясь на полученной информации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авершение занятия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. Возможность выплеснуть накопившееся напряжение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. Завершение работы в позитивном эмоциональном состоянии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движные  и/или релаксационные игры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еспечение безопасности участников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рощание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означить конец занятия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пределенные ритуалы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Эмоциональная поддержка детей.</a:t>
                      </a:r>
                      <a:endParaRPr b="0" lang="en-US" sz="7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"/>
          <p:cNvSpPr/>
          <p:nvPr/>
        </p:nvSpPr>
        <p:spPr>
          <a:xfrm>
            <a:off x="3204360" y="-31320"/>
            <a:ext cx="273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Примерная структура занятия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Примерные темы тренинговых занятий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 1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Знакомство, принятие правил группы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Цель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Установление контакта с учениками. Создание доверительной атмосферы, достижение взаимопонимания. Обсуждение тем для совместной работы, поддержка настроя на дальнейшую самостоятельную работу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 2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Информация о действиях и последствиях употребление психоактивных веществ. Понятие зависимости. Зависимость, как деструктивная форма защиты личности, как иллюзорный способ ухода от проблем. Мое отношение к алкоголизму и наркомании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Цель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Обеспечение детей объективной информацией о действии ПАВ, формирование собственного отношение к этой проблеме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 3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Человек, как социальное существо. Общение. Решение некоторых проблем в общении. </a:t>
            </a: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Цель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Осознание собственной потребности и способности к общению. Решение некоторых проблем в общени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 4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нятие личности, структура моей и твоей личности. Понятие границ личности, развитие личности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Цель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Сфокусировать внимание участников на собственном мироощущении, обсудить понятие ценности каждой личности, похожесть или индивидуальность отдельных людей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Тема 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6094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Отношение к себе, самооценка, развитие и личностный рост. Ценность моей и твоей личности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Цель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Осознание возможности формирования адекватной самооценк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 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Чувства. Сложности идентификации чувств, выражение чувств, отделение чувств от поведения. Формирование умения осознавать сове эмоциональное состояние.</a:t>
            </a: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Цель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Научится идентифицировать собственное эмоциональное состояние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 7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роблемы межполового общения.</a:t>
            </a: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Цель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Разрешение конфликтного отношения между полам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 8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Семья, химическая зависимость в семье. Какой я вижу свою будущую семью.</a:t>
            </a: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Цель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Формирование позитивного отношения к понятию семьи и ответственного отношения к межполовому общению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  9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нятие группового давления и принятие собственного решения. Навыки выражения и отстаивания собственного мнения, поиск компромиссов, умение говорить «нет».</a:t>
            </a: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Цель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Формирование навыков противостояния групповому давлению и насилию и осознание прав и необходимости защищать себя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ема 10.11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нятие стресса и проблемно-разрешающее поведение. Преодоление проблемных и стрессовых ситуаций.</a:t>
            </a: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Цель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Тренировка навыков оценки стрессовой ситуации и ее преодоление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Профилактическое занятие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ключает в себя первичную и вторичную профилактическую работу с целевой группой «Учащиеся»,  направленное на формирование знаний, отношений и установок на здоровый образ жизни через просветительскую деятельность (беседы лекции, семинары)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ип воздействия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формирование общих знаний, отношений и установок (о здоровье, самих себе, об окружающих)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Инструмент воздействия: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предметные занятия. Проводятся с учетом возрастной дифференциации – средний школьный возраст, старший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Задачи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Сформировать у подростков представление о ПАВ, как о веществах, разрушающих психическое и физическое здоровье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Способствовать обсуждению детьми ответственного поведения в ситуациях, связанных с ПАВ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Обсуждение возможных альтернативных форм организации своего времени и пространств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Arial"/>
              </a:rPr>
              <a:t>План профилактического занятия (7 класс</a:t>
            </a: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1. Знакомство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2. Обозначение темы встреч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* в данной возрастной группе ПАВ рассматриваются на примере табака и алкоголя!!!!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3. Выявление субъективного уровня информированности подростков по данной проблеме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5. Причины употребления ПАВ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6. Зависимость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- механизм формирования;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- виды зависимости: 1). социальная  2).психологическая  3). физическая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8. Последствия употребления ПАВ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реимущества здорового образа жизни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9. Обратная связь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cc"/>
                </a:solidFill>
                <a:uFillTx/>
                <a:latin typeface="Arial"/>
              </a:rPr>
              <a:t>План профилактического занятия (9класс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)</a:t>
            </a:r>
            <a:br>
              <a:rPr sz="1400"/>
            </a:b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1. Знакомство.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2. Информация о работе ДПО «Катарсис». Обозначение темы встречи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3. Выявление субъективного уровня информированности подростков по данной проблеме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4 Легальные и нелегальные наркотики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5. Информация о влиянии ПАВ на физическое и психологическое здоровье человека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6. Социальные последствия употребления ПАВ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7. Зависимое и независимое поведение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8. Обратная связь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eaeaea"/>
                </a:solidFill>
                <a:uFillTx/>
                <a:latin typeface="Verdana"/>
              </a:rPr>
              <a:t>План профилактического занятия (10 класс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1. Знакомство.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2. Информация о работе ДПО «Катарсис». Обозначение темы встречи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3. Выявление субъективного уровня информированности подростков по данной проблеме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4. Влияние употребления ПАВ на репродуктивное здоровье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5. Обсуждение и разоблачение существующих мифов о ПАВ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6. Обсуждение планов на будущее. 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Обратная связь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ff"/>
                </a:solidFill>
                <a:latin typeface="Times New Roman"/>
              </a:rPr>
              <a:t>Табак, сигареты, курение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ктивное вещество в табаке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никотин.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абак делают из высушенных листьев растения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Nicotiana. Табак курят в виде сигарет, трубок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или сигар, но его также можно нюхать или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жева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 algn="just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ызывает умеренную физическую и очень сильную психическую зависимость.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 algn="just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о временем нужно увеличивать дозу, чтобы получать тот же эффект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 algn="just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ратковременные эффекты: возбуждение, трясущиеся руки, усиленное сердцебиение, кашель, холодные пальцы на руках и ногах, раздраженные глаза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 algn="just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и длительном употреблении: ухудшение общего физического состояния, сердечные и  сердечнососудистые заболевания, бронхит, рак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вонючие бычки "/>
          <p:cNvPicPr/>
          <p:nvPr/>
        </p:nvPicPr>
        <p:blipFill>
          <a:blip r:embed="rId1"/>
          <a:stretch/>
        </p:blipFill>
        <p:spPr>
          <a:xfrm>
            <a:off x="152280" y="1295280"/>
            <a:ext cx="243864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Зависимость от табака означает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до конца своих дней определённую часть денег тратить на ежедневную дозу сигарет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сильную одышку после того, как подбежал к автобусной остановке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неприятное откашливание каждое утро, которое из года в год становится всё хуже;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зубы и пальцы приобретают жёлто-коричневый оттенок;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неприятный запах изо рта;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неприятный запах, которым пропитана вся одежда;    </a:t>
            </a:r>
            <a:br>
              <a:rPr sz="2200"/>
            </a:b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Но всё это чепуха по сравнению с тем, что последует дальше: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25-30% раковых заболеваний в развитых странах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являются следствием курения. Научные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исследования убедительно доказали, что 83-92% случаев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рака лёгких среди мужчин и 57-80% среди женщин – следствие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табакокурения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В 80-90% случаев раковая опухоль пищеварительного тракта, горла и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полости рта тесно связана с курением как таковым, так и с комбинацией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алкоголя с курением. Нужно заметить, что только очень небольшое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количество курильщиков не употребляет алкоголь. </a:t>
            </a:r>
            <a:br>
              <a:rPr sz="2200"/>
            </a:b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 Рак жёлчного пузыря, поджелудочной железы, желудка, матки связан,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как  считают специалисты, с табакокурением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едполагается, что из-за курения риск заболеть лейкемией (рак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рови) более высок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Более 20-ти смертельных болезней могут быть вызваны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урением, как рак лёгких, болезни сердца, хронический бронхит 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ругие заболевания дыхательных путей и т.д. Смертность сред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урильщиков среднего возраста (35-60 лет) в три раза выше, чем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реди некурящих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Из закуривших подростков каждый четвертый умрет о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заболеваний, связанных с курением. Табакокурение снижает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одолжительность жизни на 10-15 лет (ежедневно на 15 минут).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Половина смертельных случаев из-за курения,  относится к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реднему возрасту (люди живут на 20 лет меньше, чем некурящие)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ждый год во всём мире приблизительно 3.000.000 человек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умирают по причинам, связанным с курением. Количество людей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оторые умрут в первой половине 21-го столетия по причинам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абакокурения, составит 60.000.000 человек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ff"/>
                </a:solidFill>
                <a:latin typeface="Times New Roman"/>
              </a:rPr>
              <a:t>Алкоголь, спиртное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609480"/>
            <a:ext cx="9144000" cy="69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лияние алкоголя на нервную систему, содержание алкоголя в кров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Алкоголь из желудка попадает в кровь через две минуты после употребления. Кровь разносит его по всем клеткам организма. В первую очередь страдают клетки головного мозга. Замедляется формирование сложных движений, изменяется соотношение процессов возбуждения и торможения в центральной нервной системе. Под влиянием алкоголя нарушаются произвольные движения, человек теряет способность управлять собой.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         Проникновение алкоголя к клеткам лобной доли коры раскрепощает эмоции человека, появляются неоправданная радость, глупый смех, легкость в суждениях. Вслед за усиливающимся возбуждением в коре больших полушарий мозга возникает резкое ослабление процессов торможения. Человек утрачивает сдержанность, стыдливость, он говорит и делает то, чего никогда не сказал и не сделал бы будучи трезвым. Каждая новая порция спиртного все больше парализует высшие нервные центры, начинает преобладать деятельность низших отделов мозга: нарушаются координация движений, например движение глаз (предметы начинают двоиться), появляется неуклюжая шатающаяся походка.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арушение работы нервной системы и внутренних органов наблюдается при любом употреблении алкоголя: одноразовом, эпизодическом и систематическом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549396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зрушитель растущего организм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овременные исследования позволяют обоснованно утверждать, что в теле человека нет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таких органов и тканей, которые не поражались бы алкоголем. Попав в организм, он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остаточно медленно (со скоростью 0,1 г на 1 кг массы тела в час) расщепляется в печени. И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только 10 процентов от общего количества принятого алкоголя выводится из организма в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еизменном виде. Оставшийся алкоголь циркулирует вместе с кровью по всему организму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ка не расщепится весь. Высокая проницаемость "молодых" тканей, их насыщенность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одой позволяет алкоголю быстро распространяться по растущему организму. Даже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ебольшие дозы алкоголя влияют на обмен в нервной ткани, передачу  нервных импульсов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дновременно нарушается работа сосудов головного мозга : происходит их расширение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увеличение проницаемости, кровоизлияние в ткань мозга. В подростковом возрасте мозговая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ткань беднее фосфором, богаче водой, находится в стадии структурного и функционального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овершенствования, поэтому алкоголь особенно опасен для нее. Даже однократные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употребления спиртного могут иметь самые серьезные последств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еоднократное или частое употребление алкоголя оказывает буквально опустошающее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оздействие на психику подростка. При этом задерживается не только развитие высших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форм мышления, выработка этических и нравственных категорий и эстетических понятий, но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и утрачиваются уже развившиеся способности. Подросток, что называется "тупеет" и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интеллектуально, и эмоционально, и нравственно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448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торой "мишенью" алкоголя является печень. Именно здесь, под действием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ферментов происходит его расщепление. Если скорость поступления алкоголя в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клетки печени выше скорости его распада, то происходит накопление алкоголя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едущее к поражению клеток печени. Алкоголь нарушает структуру клеток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ечени, приводя к перерождению ее тканей. При систематических употреблениях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пиртных напитков жировые изменения в клетках печени приводят к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мертвлению печеночной ткани развивается цирроз печени, весьма грозно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заболевание, почти всегда сопровождающее хронический алкоголизм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Действие алкоголя на печень подростка еще более разрушительно, так как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этот орган находится в стадии структурного и функционального формирования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оражение клеток печени приводит к нарушению  белкового и углеродног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бмена, синтеза витаминов и ферментов. Спиртные напитки, можно сказать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"разъедают" слизистую оболочку пищевода, желудка, нарушают секрецию 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остав желудочного сока , что затрудняет процесс пищеварения и, в конечном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чете, неблагоприятно сказывается на росте и развитии подростка.</a:t>
            </a:r>
            <a:br>
              <a:rPr sz="2000"/>
            </a:b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Таким образом, алкоголь ослабляет организм, тормозит формирование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и созревание его органов и систем, а в некоторых случаях, например при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злоупотреблении, и вовсе останавливает развитие некоторых функций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высшей нервной системы.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Чем моложе организм, тем губительнее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действует на него алкоголь.</a:t>
            </a: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 Кроме того, употребление алкогольных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напитков подростками значительно быстрее, чем у взрослых, ведет к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формированию у них алкоголизма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alcoholicreasons_2"/>
          <p:cNvPicPr/>
          <p:nvPr/>
        </p:nvPicPr>
        <p:blipFill>
          <a:blip r:embed="rId1"/>
          <a:stretch/>
        </p:blipFill>
        <p:spPr>
          <a:xfrm>
            <a:off x="7651800" y="5718240"/>
            <a:ext cx="1492200" cy="1139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alcohol_reasons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alcoholic_reasons_3"/>
          <p:cNvPicPr/>
          <p:nvPr/>
        </p:nvPicPr>
        <p:blipFill>
          <a:blip r:embed="rId3"/>
          <a:stretch/>
        </p:blipFill>
        <p:spPr>
          <a:xfrm>
            <a:off x="0" y="4713120"/>
            <a:ext cx="1582560" cy="2144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alcohol_reasons_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2300400" cy="32734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2208600" y="-720"/>
            <a:ext cx="58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лупые причины начать пить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0" y="59400"/>
            <a:ext cx="914400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охмелье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Если ты действительно хочешь провести день, метаясь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т пульсирующей головной боли, у тебя есть такая возможность – 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пейся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Из-за алкоголя ты чувствуешь себя «взрослым»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Что в этом особенного?      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асто взрослые пьют, чтобы забыть о том, что они уже взрослые со всеми  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сущими этому обязанностями. Другими словами, они пытаются опять           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чувствовать себя детьми! От подражания инфантильным взрослым ты не   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олжен чувствовать себя действительно взрослым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ить, чтобы забыть о проблемах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Поверь, твои проблемы никуда не денутся после того, как ты протрезвеешь.  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ить, чтобы быть принятым друзьями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Ты слышал о «давлении со стороны группы». Дружба, построенная на алкоголе, долго не длится. Эти друзья отойдут по той же причине, что пить становится скучно – это постоянно одно и то же. Это не настоящие друзья, эти отношения идут в  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икуда. Когда ты строишь дружбу вокруг общих интересов, спорта или другой деятельности, ваши  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тношения будут расти. Это гораздо более крепкое основание для дружбы, чем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бщая бутылка…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ить от любопытства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В алкоголе на самом деле нет ничего таинственного. После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екоторого времени алкоголь потеряет свой шарм. Вот почему у многих подростков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звивается зависимость от алкоголя. Когда алкоголь начинает терять   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влекательность, им нужно больше алкоголя, для получения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довольствия, часто они теряют способность получать его другими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пособами. Вскоре они потеряют шанс хорошо учиться, потеряют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доровье, доверие семьи и друзей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             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езносюкМВ</dc:creator>
  <dc:description/>
  <dc:language>en-US</dc:language>
  <cp:lastModifiedBy>User</cp:lastModifiedBy>
  <dcterms:modified xsi:type="dcterms:W3CDTF">2023-02-16T09:46:4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