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FB9-4DB9-4273-A979-790AB1AA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74A-B264-45E6-A5C4-623A83FD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796-E8E8-44B9-AA9F-8CAABAC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9B5-11A6-4BA5-A490-052E9702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9A08-207D-4EB6-867A-1DF5CF4A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0F0-7384-4199-BB65-09F1C03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4897-27A7-412E-A8EB-BDCA0A9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467-3D02-45A4-9D2A-705E77C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7228-6E7B-416B-A5D1-B63E9AF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5226-8669-4593-9C95-2958467B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5DB-5E45-45BC-9FC1-B9C3AE7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259-9F05-481F-A97C-44D74A07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CE1-5B00-4AAC-9C6F-DDAA4B2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29A-4B7B-45B0-A81D-4B295D9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183A-0B86-4359-8F30-ED88737D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CE1-041D-480A-B258-1B05AA4D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9756-3265-4FA8-A34F-AA3371AE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664-705E-4262-87BA-F04B99A6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249-1DEA-4D63-BEF5-E49103AF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5DC-FD70-46B3-9054-D49FCEE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6C7-B1A1-4A61-A963-9BA8386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D4F-8C56-4638-A6F6-A78DE7E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19A-A7BF-4F6E-99A2-A9F95CA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F9F-47E7-40A7-AE6F-E11FB4D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D4D-0A3F-479D-AE00-1E2C61902C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984-F854-45CF-8957-F405D4F4943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center-escape.org/images/alcohol_reasons_4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Влияние ПАВ на организм человека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2295720"/>
            <a:ext cx="759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ccff"/>
                </a:solidFill>
                <a:latin typeface="Times New Roman"/>
              </a:rPr>
              <a:t>Что все должны знать о наркотиках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  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ркотики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 вещества природного или искусственного происхождения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торые изменяют человеческое сознание. Это значит, что они изменяют наш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увства, настроение, мышление. Наркотики изменяют восприятие окружающе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ира. Можно стать более веселым или расслабленным, но иногда и наобор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чальным и подавленным. Эффект может быть стимулирующим, снотвор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ли галлюциногенным. К стимулирующим наркотикам относятся: алкоголь (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редних дозах!), табак, кофеин, кокаин и амфитамины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аллюциногенам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тносятся: ацетон, клей, некоторые грибы, ЛСД, экстази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нопля и гашиш. К тормозящим - опиум, морфин, героин, снотвор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параты и транквилизаторы. Некоторые из них, такие как алкоголь и табак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являются легальными наркотиками и могут приобретаться без ограничен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ругие наркотики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акие как конопля или опиаты, - нелегальны. Российски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коны запрещают употребление и хранение наркотиков и признают э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ступлением. У всех наркотиков есть одна общая черта: они вредны д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изического и психического здоровья. Этот вред может варьироваться 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значительного до разрушительного. Еще одна особенность наркотиков: легк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чать их употреблять, но очень сложно, иногда даже невозможно, останов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 происходит из-за возникновения зависимост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уществует разница между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психическо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физическо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висимостями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Физическая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зависимость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ается проявлением протеста организма проти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кращения употребления наркотиков (абстинентный синдром или «ломка»). Это касается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частности, алкоголя и опиатов. Другим её проявлением является толерантность. Он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ается в том, что при регулярном употреблении наркотиков для достижения одного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о же эффекта требуется все большее количество наркот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сихическая зависимость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начает, что человек ощущает необходимость приним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котики постоянно. В то же время всё более утрачивается способность чувствовать себ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рошо без наркотика. Человек, употребляющий наркотические вещества, рискует ст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ически зависимым. Сроки наступления этой зависимости зависят от личностных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к и других факторов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воздействуют на центр в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оловном мозге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который отвечает за  “поощрени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 этом происходит выброс дофамина в кровь и человек чувствует возбуждение. 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трицательно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оздействуют на организм человека. Прежде всего, они снима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оль и снижают болевой порог чувствительност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воздействуют на дыхательный центр и наркоманы часто умирают от паралич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ыхательного центра в результате передозировки. Наркотики также влияют на кашлев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центр  у наркоманов отключается защитный механизм кашля. Наркотики способству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гнетению сосудодвигательного центра, а вследствие этого снижению кровяного давления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замедлению пульса. По этой причине ухудшаются функции сердечно-сосудистой систем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функции всех клеток слабеют, и весь организм дряхлеет, как в старости. Наркотики угнета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ханизмы регуляции пищеварения, у наркоманов притупляются все вкусовые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онятельные ощущения, снижается аппетит, уменьшается выработка ферментов, желчи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желудочного и кишечного соков. Пища не в полной мере переваривается и усваивается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маны обрекают себя на хроническое голодание и имеют дефицит вес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остояние наркомании характеризуется тремя свойствами: </a:t>
            </a:r>
            <a:br>
              <a:rPr sz="26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Непреодолимое желание или потребность продолжать принимать наркотики и доставать их любыми способами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 Стремление увеличивать дозы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 Зависимость психического, а иногда и физического характера от воздействия наркотиков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индром наркомани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возникает лишь в результате принятия наркотического средства. Этапы этого процесса в основном следующие: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чальная эйфория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, часто весьма кратковременная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толерантность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осит временный характер. Постепенно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рганизм реагирует слабее;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висимость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бсистенция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(синдром отнятия), наступает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рез 12–48 часов после прекращения принятия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ркот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36"/>
          <p:cNvPicPr/>
          <p:nvPr/>
        </p:nvPicPr>
        <p:blipFill>
          <a:blip r:embed="rId1"/>
          <a:stretch/>
        </p:blipFill>
        <p:spPr>
          <a:xfrm>
            <a:off x="0" y="3259080"/>
            <a:ext cx="2414520" cy="359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9"/>
          <p:cNvPicPr/>
          <p:nvPr/>
        </p:nvPicPr>
        <p:blipFill>
          <a:blip r:embed="rId2"/>
          <a:stretch/>
        </p:blipFill>
        <p:spPr>
          <a:xfrm>
            <a:off x="6848640" y="5049720"/>
            <a:ext cx="2295360" cy="180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наркоти"/>
          <p:cNvPicPr/>
          <p:nvPr/>
        </p:nvPicPr>
        <p:blipFill>
          <a:blip r:embed="rId3"/>
          <a:stretch/>
        </p:blipFill>
        <p:spPr>
          <a:xfrm>
            <a:off x="5029200" y="4651200"/>
            <a:ext cx="1627200" cy="2206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наркотики 4"/>
          <p:cNvPicPr/>
          <p:nvPr/>
        </p:nvPicPr>
        <p:blipFill>
          <a:blip r:embed="rId4"/>
          <a:stretch/>
        </p:blipFill>
        <p:spPr>
          <a:xfrm>
            <a:off x="2590920" y="5324400"/>
            <a:ext cx="2314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нарк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324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нарко"/>
          <p:cNvPicPr/>
          <p:nvPr/>
        </p:nvPicPr>
        <p:blipFill>
          <a:blip r:embed="rId2"/>
          <a:stretch/>
        </p:blipFill>
        <p:spPr>
          <a:xfrm>
            <a:off x="0" y="312408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наркотики 2"/>
          <p:cNvPicPr/>
          <p:nvPr/>
        </p:nvPicPr>
        <p:blipFill>
          <a:blip r:embed="rId3"/>
          <a:stretch/>
        </p:blipFill>
        <p:spPr>
          <a:xfrm>
            <a:off x="0" y="0"/>
            <a:ext cx="3332160" cy="2684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наркотики 5"/>
          <p:cNvPicPr/>
          <p:nvPr/>
        </p:nvPicPr>
        <p:blipFill>
          <a:blip r:embed="rId4"/>
          <a:stretch/>
        </p:blipFill>
        <p:spPr>
          <a:xfrm>
            <a:off x="5867280" y="3613320"/>
            <a:ext cx="2928960" cy="32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наркотики"/>
          <p:cNvPicPr/>
          <p:nvPr/>
        </p:nvPicPr>
        <p:blipFill>
          <a:blip r:embed="rId5"/>
          <a:stretch/>
        </p:blipFill>
        <p:spPr>
          <a:xfrm>
            <a:off x="3657600" y="0"/>
            <a:ext cx="2465280" cy="330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наркотики 1"/>
          <p:cNvPicPr/>
          <p:nvPr/>
        </p:nvPicPr>
        <p:blipFill>
          <a:blip r:embed="rId6"/>
          <a:stretch/>
        </p:blipFill>
        <p:spPr>
          <a:xfrm>
            <a:off x="2819520" y="3578400"/>
            <a:ext cx="2408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Как не пропустить признаки употребления?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ичностные измен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дражительность, скрытность, враждебность, замкнутость, угрюмость, подавленность, беспокойство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требность в немедленном удовлетворении желани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тказ обсуждать свои проблемы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се возрастающая изоляция от однокласснико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овые знакомства, тяга к тем, кто намного старш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еняется имидж: теперь подросток носит одежду несвойственного ему стиля, иначе стрижетс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стоянные опоздания в школу, прогулы занятий или неожиданное и как бы беспричинное снижение успеваемост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зменения в физическом состоя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худшение памят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рудности в концентрации внима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Замедленная, бессвязная, невнятная или быстрая, торопливая реч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утные, воспаленные, налитые кровью, отекшие или «стеклянные» гл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сширенные или суженные зрач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едостаточная подвижность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рывы и болячки вокруг ноздре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ихание, хронический кашель, сухость во рт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стоянное пользование одеждой с длинными рукав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вышенная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ервозност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 чем разговаривать с родителями?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ить внимание родителей на признаки, которые помогут им понят не появились ли у ребенка серьезные проблемы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зменения в привычках и образе жизн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здние возвращения дом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объяснимые отлучки из до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способность даже приблизительно определить время своего отсутств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теря аппетита или чрезмерное употребление пищ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растная потребность в слад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ступы сонлив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величение требуемой подростком суммы денег на карманные расходы без внятного объяснения, на что собирается их потратит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пажа из дома ценных вещей, одеж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незапно возникшая привычка часто проветривать свою комнату и использовать освежитель воздуха, благовония (для устранения наркотических запахов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Изменения в физическом состоянии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теря вес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вышенная утомляемост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стые простуды, желудочные боли и судорог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блемы с пищеварением, тошнота, приступы рвот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тренняя слабость на фоне вечерней активнос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стые головные бол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бмороки, потеря сознания, головокруж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леды уколов на теле, порезы, синя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енебрежение личной гигиеной.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ецифические наход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пакованные в целлофан кусочки темно-коричневой масс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Зеленоватый порошок растительного происхождения (чаще всего в спичечных коробках)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йные или столовые ложки со следами подогревания на открытом огн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обычные, неизвестные родителям и ранее не встречавшиеся им лекарственные препараты в таблетках, капсулах, ампулах, порошка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узырьки, смятая фольга. Иглы или шприц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филактическая работ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офилактическая работа должна проводиться грамотно, 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ак как неверная подача информации может возбудить излишний интерес к ПАВ. Не должна иметь место так называемая «тактика запугивания», так как в возрасте 12-16 лет она имеет обратный эффект. В ходе проведения профилактической работы учитывается изначальный уровень знаний подростков о ПАВ, получаемый учителем из бесед или анкет, проведенных ранее. Для получения стабильного результата в данной работе, антинаркотическая пропаганда должна носить систематический характер, начиная с начальных класс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Мероприятия по профилактике ПА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ематические беседы; Тематические классные часы с использованием мультимедиа презентаций; Лекции; Беседы – диспуты; Выставки рисунков, плакатов; Театрализованное представление; Защита проекта по пропаганде здорового образа жизни; Просмотр видео фильма по профилактике ПАВ; Спортивные праздники, как альтернатива употребления ПАВ; Выпуск стенгазеты; Проведение викторин, КВН; Конкурс сочинений, стихотворений, частушек; Индивидуальные беседы с учащимися и родителями;Тематические родительские собрания с использованием мультимедиа презентаций; Тематические родительские лектории; Анкетировани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Темы бесед для учащихся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тика бесед о наркома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ездна, о которой надо зна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 допусти беды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аркотики и СПИД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олезнь или преступление?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 дай себе погибну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пасная игра – шаг в бездн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Если бы я знал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тика бесед о вреде употребления алкогол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Зачем люди пьют вино?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ино – причина многих несчастий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о что обществу обходится пьянство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Употребление алкоголя и здоровье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ричины алкоголизм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реимущества здорового образа жизн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тветственность человека за поступки, совершенные в состоянии опьянения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т вредной привычки к болезн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Алкоголь и семья – неразрешимое противоречие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Алкоголь и жизненные перспективы челове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Тематика бесед о вреде курения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много из истории курения таба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Табак и табачный дым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агубное влияние курения табака на здоровье челове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лияние курения на нервную систем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Действие табака на сердечно-сосудистую систем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лияние табака на органы дыхания и пищевар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Курение и рак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Курение и работоспособнос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Заболеваемость и смертность курящих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езвредного табака нет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Темы сообщений на родительских собрания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Роль и ответственность семьи в профилактике ПАВ детей и подростков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здоровление семь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Группы риска и раннее выявление формирующейся зависимости от ПАВ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Система оказания профилактической помощи и леч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одростковый алкоголизм и наркомания, особенности теч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7" name="Organization Chart 6"/>
          <p:cNvGrpSpPr/>
          <p:nvPr/>
        </p:nvGrpSpPr>
        <p:grpSpPr>
          <a:xfrm>
            <a:off x="228600" y="228600"/>
            <a:ext cx="8914680" cy="5883120"/>
            <a:chOff x="228600" y="228600"/>
            <a:chExt cx="8914680" cy="588312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657400" y="1609560"/>
              <a:ext cx="1177200" cy="3120840"/>
            </a:xfrm>
            <a:prstGeom prst="bentConnector3">
              <a:avLst>
                <a:gd name="adj1" fmla="val 12695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V="1">
              <a:off x="4685760" y="2581560"/>
              <a:ext cx="3240" cy="1177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3" name="_s1030"/>
            <p:cNvCxnSpPr>
              <a:stCxn id="124" idx="0"/>
              <a:endCxn id="120" idx="2"/>
            </p:cNvCxnSpPr>
            <p:nvPr/>
          </p:nvCxnSpPr>
          <p:spPr>
            <a:xfrm flipH="1" flipV="1" rot="5400000">
              <a:off x="2536920" y="1609560"/>
              <a:ext cx="1177200" cy="3120840"/>
            </a:xfrm>
            <a:prstGeom prst="bentConnector3">
              <a:avLst>
                <a:gd name="adj1" fmla="val 12695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0" name="_s1031"/>
            <p:cNvSpPr/>
            <p:nvPr/>
          </p:nvSpPr>
          <p:spPr>
            <a:xfrm>
              <a:off x="3348720" y="2286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eaeaea"/>
                  </a:solidFill>
                  <a:latin typeface="Verdana"/>
                </a:rPr>
                <a:t>  </a:t>
              </a: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ПАВ –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психо-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активные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вещества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22860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Табак, 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сигареты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334872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Алкоголь, 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спиртное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_s1034"/>
            <p:cNvSpPr/>
            <p:nvPr/>
          </p:nvSpPr>
          <p:spPr>
            <a:xfrm>
              <a:off x="646884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Times New Roman"/>
                </a:rPr>
                <a:t>Наркотики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рактические занятия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ренинговые  занятия: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Verdana"/>
              </a:rPr>
              <a:t>Основные задачи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Формирование здорового жизненного стиля, высокофункциональных стратегий поведения и личностных ресурсов, препятствующих злоупотреблению психоактивными веществ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Создание условий для открытого доверительного общения, восприятия информации, творческой атмосферы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нформирование о связи злоупотребления ПАВ с особенностями личности, общения, социальными сетями, стрессом и путями его преодол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правленное осознание имеющихся личностных ресурсов, соответствующих формированию здорового жизненного стиля: - я-концепции; собственной системы ценностей, целей и установок; умение общаться с окружающими, сопереживать и оказывать социальную и психологическую поддержк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витие личностных ресурсов, способствующих формированию здорового жизненного стиля и совладающего поведения: - формироваие самопринятия, адекватной самооценки; формирование умения адекватно оценивать проблемные ситуации; формирование умения ставить перед собой краткосрочные и перспективные цели и достигать их; формирование навыков эмпатии, аффилиации, диалога,разрешения конфликтных ситуаци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витие стратегий и навыков поведения, ведущего к здоровью и препятствующего злоупотреблению психоактивными веществами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навыков принятия решений и преодоления жизненных проблем; навыков оценки соц. ситуации и принятия ответственности за собственное поведения в ней; навыков отстаивания своих границ; навыков защиты своего Я; навыков избегания ситуаций, связанных с употребление ПАВ и другими формами саморазрушающего поведения; навыков бестконфликтного и эффективного общ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СОДЕРЖАНИЕ КАЖДОЙ ВСТРЕЧИ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035080" y="914400"/>
          <a:ext cx="4457880" cy="371520"/>
        </p:xfrm>
        <a:graphic>
          <a:graphicData uri="http://schemas.openxmlformats.org/drawingml/2006/table">
            <a:tbl>
              <a:tblPr/>
              <a:tblGrid>
                <a:gridCol w="708120"/>
                <a:gridCol w="1371600"/>
                <a:gridCol w="990720"/>
                <a:gridCol w="1387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057400" y="1295280"/>
          <a:ext cx="4419720" cy="4064040"/>
        </p:xfrm>
        <a:graphic>
          <a:graphicData uri="http://schemas.openxmlformats.org/drawingml/2006/table">
            <a:tbl>
              <a:tblPr/>
              <a:tblGrid>
                <a:gridCol w="649440"/>
                <a:gridCol w="1415880"/>
                <a:gridCol w="973080"/>
                <a:gridCol w="1381320"/>
              </a:tblGrid>
              <a:tr h="10980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ль ведущего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ветствие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означить начало занятия, создать атмосферу безопасности. Самоопределение участников (с чем пришли на гр., как себя сейчас ощущают)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пределенные ритуалы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ить для каждого участникам максимально комфортное  вхождение в группу. Предоставить возм. поделится своими переживаниями, помочь осознать и принять свои чувства. 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Обьединение, сплочение групп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Развитие межличностных связей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 Включение в самостоятельную деятельность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е или менее подвижные игры с четко определенными правилам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 Обозначение правил и границ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Обеспечение безопасности участников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бота по теме 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чи соответствуют теме занятий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мые разнообразные формы активности (игровые, рисование, психодрама и т.д.)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Дать определенную информацию  в доступной форме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Предоставить возможность выразить свои чувства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Помочь овладеть новыми навыками, основываясь на полученной информаци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вершение занятия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 Возможность выплеснуть накопившееся напряжение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Завершение работы в позитивном эмоциональном состояни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вижные  и/или релаксационные игр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участников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означить конец занятия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пределенные ритуал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моциональная поддержка детей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3204360" y="-31320"/>
            <a:ext cx="27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Примерная структура занятия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римерные темы тренинговых занятий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1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Знакомство, принятие правил группы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Установление контакта с учениками. Создание доверительной атмосферы, достижение взаимопонимания. Обсуждение тем для совместной работы, поддержка настроя на дальнейшую самостоятельную работ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2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нформация о действиях и последствиях употребление психоактивных веществ. Понятие зависимости. Зависимость, как деструктивная форма защиты личности, как иллюзорный способ ухода от проблем. Мое отношение к алкоголизму и наркомани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беспечение детей объективной информацией о действии ПАВ, формирование собственного отношение к этой проблем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3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ловек, как социальное существо. Общение. Решение некоторых проблем в общении. 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сознание собственной потребности и способности к общению. Решение некоторых проблем в обще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4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личности, структура моей и твоей личности. Понятие границ личности, развитие личност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Сфокусировать внимание участников на собственном мироощущении, обсудить понятие ценности каждой личности, похожесть или индивидуальность отдельных людей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Тема 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тношение к себе, самооценка, развитие и личностный рост. Ценность моей и твоей личност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сознание возможности формирования адекватной самооцен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увства. Сложности идентификации чувств, выражение чувств, отделение чувств от поведения. Формирование умения осознавать сове эмоциональное состояние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Научится идентифицировать собственное эмоциональное состояни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7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облемы межполового общения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Разрешение конфликтного отношения между пол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8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Семья, химическая зависимость в семье. Какой я вижу свою будущую семью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позитивного отношения к понятию семьи и ответственного отношения к межполовому общению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 9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группового давления и принятие собственного решения. Навыки выражения и отстаивания собственного мнения, поиск компромиссов, умение говорить «нет»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навыков противостояния групповому давлению и насилию и осознание прав и необходимости защищать себ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10.1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стресса и проблемно-разрешающее поведение. Преодоление проблемных и стрессовых ситуаций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Тренировка навыков оценки стрессовой ситуации и ее преодолени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филактическое занятие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ключает в себя первичную и вторичную профилактическую работу с целевой группой «Учащиеся»,  направленное на формирование знаний, отношений и установок на здоровый образ жизни через просветительскую деятельность (беседы лекции, семинары)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ип воздействия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общих знаний, отношений и установок (о здоровье, самих себе, об окружающих)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нструмент воздействия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предметные занятия. Проводятся с учетом возрастной дифференциации – средний школьный возраст, старший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Задачи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Сформировать у подростков представление о ПАВ, как о веществах, разрушающих психическое и физическое здоровь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Способствовать обсуждению детьми ответственного поведения в ситуациях, связанных с ПА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бсуждение возможных альтернативных форм организации своего времени и пространств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Arial"/>
              </a:rPr>
              <a:t>План профилактического занятия (7 класс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Обозначение темы встреч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* в данной возрастной группе ПАВ рассматриваются на примере табака и алкоголя!!!!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Причины употребления ПА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Зависимость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механизм формирования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виды зависимости: 1). социальная  2).психологическая  3). физическа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8. Последствия употребления ПАВ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реимущества здорового образа жизн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9. 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cc"/>
                </a:solidFill>
                <a:uFillTx/>
                <a:latin typeface="Arial"/>
              </a:rPr>
              <a:t>План профилактического занятия (9класс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Информация о работе ДПО «Катарсис». Обозначение темы встреч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4 Легальные и нелегальные наркотик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Информация о влиянии ПАВ на физическое и психологическое здоровье человека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Социальные последствия употребления ПАВ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7. Зависимое и независимое поведени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8. 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eaeaea"/>
                </a:solidFill>
                <a:uFillTx/>
                <a:latin typeface="Verdana"/>
              </a:rPr>
              <a:t>План профилактического занятия (10 класс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Информация о работе ДПО «Катарсис». Обозначение темы встреч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4. Влияние употребления ПАВ на репродуктивное здоровь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Обсуждение и разоблачение существующих мифов о ПАВ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Обсуждение планов на будуще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Times New Roman"/>
              </a:rPr>
              <a:t>Табак, сигареты, кур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тивное вещество в табаке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икотин.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бак делают из высушенных листьев растения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Nicotiana. Табак курят в виде сигарет, трубок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ли сигар, но его также можно нюхать или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ев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зывает умеренную физическую и очень сильную психическую зависимость.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 временем нужно увеличивать дозу, чтобы получать тот же эффект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ратковременные эффекты: возбуждение, трясущиеся руки, усиленное сердцебиение, кашель, холодные пальцы на руках и ногах, раздраженные глаз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 длительном употреблении: ухудшение общего физического состояния, сердечные и  сердечнососудистые заболевания, бронхит, ра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вонючие бычки "/>
          <p:cNvPicPr/>
          <p:nvPr/>
        </p:nvPicPr>
        <p:blipFill>
          <a:blip r:embed="rId1"/>
          <a:stretch/>
        </p:blipFill>
        <p:spPr>
          <a:xfrm>
            <a:off x="152280" y="1295280"/>
            <a:ext cx="24386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ависимость от табака означае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до конца своих дней определённую часть денег тратить на ежедневную дозу сигарет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сильную одышку после того, как подбежал к автобусной остановке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ое откашливание каждое утро, которое из года в год становится всё хуже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убы и пальцы приобретают жёлто-коричневый оттенок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ый запах изо рта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ый запах, которым пропитана вся одежда;    </a:t>
            </a:r>
            <a:br>
              <a:rPr sz="22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о всё это чепуха по сравнению с тем, что последует дальше: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25-30% раковых заболеваний в развитых странах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являются следствием курения. Научные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следования убедительно доказали, что 83-92% случаев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рака лёгких среди мужчин и 57-80% среди женщин – следстви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табакокурения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В 80-90% случаев раковая опухоль пищеварительного тракта, горла 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полости рта тесно связана с курением как таковым, так и с комбинацией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лкоголя с курением. Нужно заметить, что только очень небольшо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количество курильщиков не употребляет алкоголь. </a:t>
            </a:r>
            <a:br>
              <a:rPr sz="22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Рак жёлчного пузыря, поджелудочной железы, желудка, матки связан,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как  считают специалисты, с табакокурением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едполагается, что из-за курения риск заболеть лейкемией (ра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рови) более высок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олее 20-ти смертельных болезней могут быть вызван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рением, как рак лёгких, болезни сердца, хронический бронхит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ругие заболевания дыхательных путей и т.д. Смертность сред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рильщиков среднего возраста (35-60 лет) в три раза выше, че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реди некурящи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 закуривших подростков каждый четвертый умрет о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болеваний, связанных с курением. Табакокурение снижае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должительность жизни на 10-15 лет (ежедневно на 15 минут)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Половина смертельных случаев из-за курения,  относится к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реднему возрасту (люди живут на 20 лет меньше, чем некурящие)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ждый год во всём мире приблизительно 3.000.000 челове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мирают по причинам, связанным с курением. Количество люде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торые умрут в первой половине 21-го столетия по причина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бакокурения, составит 60.000.000 человек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Times New Roman"/>
              </a:rPr>
              <a:t>Алкоголь, спиртно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60948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лияние алкоголя на нервную систему, содержание алкоголя в кров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лкоголь из желудка попадает в кровь через две минуты после употребления. Кровь разносит его по всем клеткам организма. В первую очередь страдают клетки головного мозга. Замедляется формирование сложных движений, изменяется соотношение процессов возбуждения и торможения в центральной нервной системе. Под влиянием алкоголя нарушаются произвольные движения, человек теряет способность управлять собой.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      Проникновение алкоголя к клеткам лобной доли коры раскрепощает эмоции человека, появляются неоправданная радость, глупый смех, легкость в суждениях. Вслед за усиливающимся возбуждением в коре больших полушарий мозга возникает резкое ослабление процессов торможения. Человек утрачивает сдержанность, стыдливость, он говорит и делает то, чего никогда не сказал и не сделал бы будучи трезвым. Каждая новая порция спиртного все больше парализует высшие нервные центры, начинает преобладать деятельность низших отделов мозга: нарушаются координация движений, например движение глаз (предметы начинают двоиться), появляется неуклюжая шатающаяся походка.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рушение работы нервной системы и внутренних органов наблюдается при любом употреблении алкоголя: одноразовом, эпизодическом и систематическо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5493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рушитель растущего организм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временные исследования позволяют обоснованно утверждать, что в теле человека не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аких органов и тканей, которые не поражались бы алкоголем. Попав в организм, он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остаточно медленно (со скоростью 0,1 г на 1 кг массы тела в час) расщепляется в печени.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олько 10 процентов от общего количества принятого алкоголя выводится из организма 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изменном виде. Оставшийся алкоголь циркулирует вместе с кровью по всему организму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ка не расщепится весь. Высокая проницаемость "молодых" тканей, их насыщеннос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дой позволяет алкоголю быстро распространяться по растущему организму. Даж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большие дозы алкоголя влияют на обмен в нервной ткани, передачу  нервных импульсов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дновременно нарушается работа сосудов головного мозга : происходит их расширение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величение проницаемости, кровоизлияние в ткань мозга. В подростковом возрасте мозгова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кань беднее фосфором, богаче водой, находится в стадии структурного и функциональног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вершенствования, поэтому алкоголь особенно опасен для нее. Даже однократны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потребления спиртного могут иметь самые серьезные последств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однократное или частое употребление алкоголя оказывает буквально опустошающе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здействие на психику подростка. При этом задерживается не только развитие высших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форм мышления, выработка этических и нравственных категорий и эстетических понятий, 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 утрачиваются уже развившиеся способности. Подросток, что называется "тупеет"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нтеллектуально, и эмоционально, и нравственно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"мишенью" алкоголя является печень. Именно здесь, под действие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ерментов происходит его расщепление. Если скорость поступления алкоголя 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летки печени выше скорости его распада, то происходит накопление алкоголя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едущее к поражению клеток печени. Алкоголь нарушает структуру клето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чени, приводя к перерождению ее тканей. При систематических употребления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пиртных напитков жировые изменения в клетках печени приводят 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мертвлению печеночной ткани развивается цирроз печени, весьма грозно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болевание, почти всегда сопровождающее хронический алкоголиз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ействие алкоголя на печень подростка еще более разрушительно, так ка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т орган находится в стадии структурного и функционального формиро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ражение клеток печени приводит к нарушению  белкового и углеродно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мена, синтеза витаминов и ферментов. Спиртные напитки, можно сказать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"разъедают" слизистую оболочку пищевода, желудка, нарушают секрецию 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остав желудочного сока , что затрудняет процесс пищеварения и, в конечно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чете, неблагоприятно сказывается на росте и развитии подростка.</a:t>
            </a:r>
            <a:br>
              <a:rPr sz="20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Таким образом, алкоголь ослабляет организм, тормозит формировани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 созревание его органов и систем, а в некоторых случаях, например при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лоупотреблении, и вовсе останавливает развитие некоторых функций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высшей нервной системы.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Чем моложе организм, тем губительне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действует на него алкоголь.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Кроме того, употребление алкогольны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апитков подростками значительно быстрее, чем у взрослых, ведет к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формированию у них алкоголизм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lcoholicreasons_2"/>
          <p:cNvPicPr/>
          <p:nvPr/>
        </p:nvPicPr>
        <p:blipFill>
          <a:blip r:embed="rId1"/>
          <a:stretch/>
        </p:blipFill>
        <p:spPr>
          <a:xfrm>
            <a:off x="7651800" y="5718240"/>
            <a:ext cx="149220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alcohol_reasons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alcoholic_reasons_3"/>
          <p:cNvPicPr/>
          <p:nvPr/>
        </p:nvPicPr>
        <p:blipFill>
          <a:blip r:embed="rId3"/>
          <a:stretch/>
        </p:blipFill>
        <p:spPr>
          <a:xfrm>
            <a:off x="0" y="4713120"/>
            <a:ext cx="1582560" cy="214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alcohol_reason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2300400" cy="3273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2208600" y="-720"/>
            <a:ext cx="58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лупые причины начать пить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59400"/>
            <a:ext cx="914400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охмелье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Если ты действительно хочешь провести день, метаясь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 пульсирующей головной боли, у тебя есть такая возможность –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пейс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Из-за алкоголя ты чувствуешь себя «взрослым»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Что в этом особенного?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асто взрослые пьют, чтобы забыть о том, что они уже взрослые со всеми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сущими этому обязанностями. Другими словами, они пытаются опять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чувствовать себя детьми! От подражания инфантильным взрослым ты не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лжен чувствовать себя действительно взрослым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, чтобы забыть о проблемах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оверь, твои проблемы никуда не денутся после того, как ты протрезвеешь. 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, чтобы быть принятым друзьями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Ты слышал о «давлении со стороны группы». Дружба, построенная на алкоголе, долго не длится. Эти друзья отойдут по той же причине, что пить становится скучно – это постоянно одно и то же. Это не настоящие друзья, эти отношения идут в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икуда. Когда ты строишь дружбу вокруг общих интересов, спорта или другой деятельности, ваши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ношения будут расти. Это гораздо более крепкое основание для дружбы, чем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ая бутылка…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 от любопытств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алкоголе на самом деле нет ничего таинственного. После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которого времени алкоголь потеряет свой шарм. Вот почему у многих подростков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вается зависимость от алкоголя. Когда алкоголь начинает терять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кательность, им нужно больше алкоголя, для получени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довольствия, часто они теряют способность получать его другим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особами. Вскоре они потеряют шанс хорошо учиться, потеряю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, доверие семьи и друзей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носюкМВ</dc:creator>
  <dc:description/>
  <dc:language>en-US</dc:language>
  <cp:lastModifiedBy>User</cp:lastModifiedBy>
  <dcterms:modified xsi:type="dcterms:W3CDTF">2023-02-16T09:46:4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