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7BEF-2500-4A95-80DF-F493502B7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CA69-911B-4549-8E56-3F046D74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5C8B-FA54-45B0-BCB9-6212A0BAF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DA35-EAC6-4C52-B577-468AE57DF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4D97-3F08-4019-A2AD-0D2BD809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11DF-A97C-4197-8203-A50D3B6F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67E1-ED47-47C4-84CC-6EF6B123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B125-1DB9-4B2E-8C19-8867D9DF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9DEF-0FC9-4B29-81F7-B04539A8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4CC2-6539-4C7F-91D9-1A9B6BAA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78ED-B61A-4A80-91CA-163D89D7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0E89-91A0-45BD-B9F6-D3AFB05F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39C7-F617-48A8-AEB0-39D1C924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41D2-F085-4BA3-9D7E-DCF21EA8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73F0-CAAC-417D-A50A-C33546D9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A85F-73DD-4C9B-BFE5-51E2FBD5C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6ED3-7589-4D14-838A-4C42B3A98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19DC-7873-4FA5-8592-F548C308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4576-3089-40FB-855C-B89C0975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A805-E374-4F8F-9504-E760574F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31CB-2053-4695-B43F-8B27F778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972C-DA58-4384-9CC9-ACAA288A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5816-45F7-42AC-AAB9-34120B09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8108-DB92-4FA7-AA59-0195AB15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CCCD-B744-4579-9C64-0AC6183C81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C2E0-907B-4FA7-B2C6-1D08A4D5DB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15640" y="2712960"/>
            <a:ext cx="6977160" cy="3092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d0d0d"/>
                </a:solidFill>
                <a:latin typeface="Times New Roman"/>
              </a:rPr>
              <a:t>Организация бивака</a:t>
            </a:r>
            <a:br>
              <a:rPr sz="5000"/>
            </a:br>
            <a:r>
              <a:rPr b="1" lang="ru-RU" sz="5000" spc="-1" strike="noStrike">
                <a:solidFill>
                  <a:srgbClr val="0d0d0d"/>
                </a:solidFill>
                <a:latin typeface="Times New Roman"/>
              </a:rPr>
              <a:t>(выбор места, виды работ, обеспечение безопасности)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Заголовок 1"/>
          <p:cNvSpPr/>
          <p:nvPr/>
        </p:nvSpPr>
        <p:spPr>
          <a:xfrm>
            <a:off x="324000" y="152280"/>
            <a:ext cx="723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иды рабо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Содержимое 3"/>
          <p:cNvSpPr/>
          <p:nvPr/>
        </p:nvSpPr>
        <p:spPr>
          <a:xfrm>
            <a:off x="684360" y="105264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готовка др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д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становка палато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ведение кост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жигание печки или примус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готовление пищ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Рисунок 2" descr="img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Заголовок 1"/>
          <p:cNvSpPr/>
          <p:nvPr/>
        </p:nvSpPr>
        <p:spPr>
          <a:xfrm>
            <a:off x="179280" y="189000"/>
            <a:ext cx="763128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беспечение безопаснос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Содержимое 3"/>
          <p:cNvSpPr/>
          <p:nvPr/>
        </p:nvSpPr>
        <p:spPr>
          <a:xfrm>
            <a:off x="684360" y="105264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Рисунок 5" descr="ава.JPG"/>
          <p:cNvPicPr/>
          <p:nvPr/>
        </p:nvPicPr>
        <p:blipFill>
          <a:blip r:embed="rId1"/>
          <a:stretch/>
        </p:blipFill>
        <p:spPr>
          <a:xfrm>
            <a:off x="468360" y="1268280"/>
            <a:ext cx="7948440" cy="407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3" descr="img7.jpg"/>
          <p:cNvPicPr/>
          <p:nvPr/>
        </p:nvPicPr>
        <p:blipFill>
          <a:blip r:embed="rId1"/>
          <a:stretch/>
        </p:blipFill>
        <p:spPr>
          <a:xfrm>
            <a:off x="755640" y="495360"/>
            <a:ext cx="7561440" cy="581184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2"/>
          <p:cNvSpPr/>
          <p:nvPr/>
        </p:nvSpPr>
        <p:spPr>
          <a:xfrm>
            <a:off x="468360" y="17002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ыбор мес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мфортн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идим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стетичность (пожелание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Содержимое 4" descr="opredelenie-mesta-dlya-bivaka-2-768x528.jpg"/>
          <p:cNvPicPr/>
          <p:nvPr/>
        </p:nvPicPr>
        <p:blipFill>
          <a:blip r:embed="rId1"/>
          <a:stretch/>
        </p:blipFill>
        <p:spPr>
          <a:xfrm>
            <a:off x="611280" y="765000"/>
            <a:ext cx="788508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сновные критерии при выборе мес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личие поблизости пресной вод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личие поблизости деревье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личие поблизости населенного пунк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льеф и другие особенности местн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8920" y="764640"/>
            <a:ext cx="806292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личие поблизости пресной вод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Рисунок 4" descr="Вода.JPG"/>
          <p:cNvPicPr/>
          <p:nvPr/>
        </p:nvPicPr>
        <p:blipFill>
          <a:blip r:embed="rId1"/>
          <a:stretch/>
        </p:blipFill>
        <p:spPr>
          <a:xfrm>
            <a:off x="826920" y="1628640"/>
            <a:ext cx="744696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личие поблизости деревье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Рисунок 4" descr="IMG_2646 (2).jpg"/>
          <p:cNvPicPr/>
          <p:nvPr/>
        </p:nvPicPr>
        <p:blipFill>
          <a:blip r:embed="rId1"/>
          <a:stretch/>
        </p:blipFill>
        <p:spPr>
          <a:xfrm>
            <a:off x="1116000" y="1773360"/>
            <a:ext cx="68007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Наличие поблизости населенного пункт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Рисунок 4" descr="1650368940.jpg"/>
          <p:cNvPicPr/>
          <p:nvPr/>
        </p:nvPicPr>
        <p:blipFill>
          <a:blip r:embed="rId1"/>
          <a:stretch/>
        </p:blipFill>
        <p:spPr>
          <a:xfrm>
            <a:off x="1476360" y="1773360"/>
            <a:ext cx="63961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ельеф и другие особенности местнос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Рисунок 4" descr="уу.JPG"/>
          <p:cNvPicPr/>
          <p:nvPr/>
        </p:nvPicPr>
        <p:blipFill>
          <a:blip r:embed="rId1"/>
          <a:stretch/>
        </p:blipFill>
        <p:spPr>
          <a:xfrm>
            <a:off x="1332000" y="1844640"/>
            <a:ext cx="619128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9T21:39:56Z</dcterms:created>
  <dc:creator>Haljapina</dc:creator>
  <dc:description/>
  <dc:language>en-US</dc:language>
  <cp:lastModifiedBy>Гуляева Голубева Ольга</cp:lastModifiedBy>
  <dcterms:modified xsi:type="dcterms:W3CDTF">2022-04-20T07:33:39Z</dcterms:modified>
  <cp:revision>159</cp:revision>
  <dc:subject/>
  <dc:title> Презентация опыта работы  Чермошенцевой Елены Анатольевны, учителя начальных классов МОУ «Первомайская средняя общеобразовательная школа»  Первомайского района Тамбовской области «Развитие креативного мышления учащихся на уроках окружающего мира»  2010 год </dc:title>
</cp:coreProperties>
</file>