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D5A-F458-4065-AE8F-9FAD1DB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062-05EF-4748-877B-D57FB96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507-1441-4F10-82A0-C7E83685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DA8-9CA0-4E3C-B879-AC5FB0D7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4D3C-FC92-46E9-A2E6-CD62D380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B055-AC29-4679-B9F4-CC8895D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2F0-DD66-42C3-A933-3083B701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74F7-A219-4ECD-ABB0-05CFDEC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1A8-FD5A-4393-A527-87477E7F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DB09-992C-4C38-9397-0DC058D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EDC-5B3D-474A-AE89-E2CF9CF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603-74CF-444E-A2B1-7EF55F6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E3E9-06CA-464C-BD40-6EA1520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E3A-A878-4429-9987-54CC203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0B50-A787-43A3-A8F3-BCD20A88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C4C5-DA18-4844-A4FD-DF47401D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F9EE-5BCF-49D5-8B57-D5E187A7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AB6-DF8D-4EB6-BB14-92F31AE0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ECD-9583-45AE-9B41-92B4B16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659-3AFD-4D73-BB1F-393FC208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590-E404-4CF0-9046-E570BB0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06E-CBD5-4DAA-BF16-3F4AD4F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F3C-F419-48B1-A19E-EA5D0074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11C-64E9-40E0-83BA-4AB2E2C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A81-82C0-44B7-B6A3-2C8760051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1269-A9EE-403F-ABC3-261B7B7E5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2712960"/>
            <a:ext cx="6977160" cy="3092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d0d0d"/>
                </a:solidFill>
                <a:latin typeface="Times New Roman"/>
              </a:rPr>
              <a:t>Организация бивака</a:t>
            </a:r>
            <a:br>
              <a:rPr sz="5000"/>
            </a:br>
            <a:r>
              <a:rPr b="1" lang="ru-RU" sz="5000" spc="-1" strike="noStrike">
                <a:solidFill>
                  <a:srgbClr val="0d0d0d"/>
                </a:solidFill>
                <a:latin typeface="Times New Roman"/>
              </a:rPr>
              <a:t>(выбор места, виды работ, обеспечение безопасности)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324000" y="152280"/>
            <a:ext cx="723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рабо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Содержимое 3"/>
          <p:cNvSpPr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готовка д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ановка палат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едение кост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жигание печки или приму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готовление пищ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" descr="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1"/>
          <p:cNvSpPr/>
          <p:nvPr/>
        </p:nvSpPr>
        <p:spPr>
          <a:xfrm>
            <a:off x="179280" y="189000"/>
            <a:ext cx="76312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еспечение безопас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Содержимое 3"/>
          <p:cNvSpPr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Рисунок 5" descr="ава.JPG"/>
          <p:cNvPicPr/>
          <p:nvPr/>
        </p:nvPicPr>
        <p:blipFill>
          <a:blip r:embed="rId1"/>
          <a:stretch/>
        </p:blipFill>
        <p:spPr>
          <a:xfrm>
            <a:off x="468360" y="1268280"/>
            <a:ext cx="794844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img7.jpg"/>
          <p:cNvPicPr/>
          <p:nvPr/>
        </p:nvPicPr>
        <p:blipFill>
          <a:blip r:embed="rId1"/>
          <a:stretch/>
        </p:blipFill>
        <p:spPr>
          <a:xfrm>
            <a:off x="755640" y="495360"/>
            <a:ext cx="7561440" cy="58118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468360" y="170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бор 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фор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дим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стетичность (пожела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Содержимое 4" descr="opredelenie-mesta-dlya-bivaka-2-768x528.jpg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новные критерии при выборе 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пресной 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деревь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поблизости населенного пун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льеф и другие особенности мест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0629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личие поблизости пресной 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4" descr="Вода.JPG"/>
          <p:cNvPicPr/>
          <p:nvPr/>
        </p:nvPicPr>
        <p:blipFill>
          <a:blip r:embed="rId1"/>
          <a:stretch/>
        </p:blipFill>
        <p:spPr>
          <a:xfrm>
            <a:off x="826920" y="1628640"/>
            <a:ext cx="744696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личие поблизости деревь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Рисунок 4" descr="IMG_2646 (2)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00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аличие поблизости населенного пунк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4" descr="1650368940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льеф и другие особенности мест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4" descr="уу.JPG"/>
          <p:cNvPicPr/>
          <p:nvPr/>
        </p:nvPicPr>
        <p:blipFill>
          <a:blip r:embed="rId1"/>
          <a:stretch/>
        </p:blipFill>
        <p:spPr>
          <a:xfrm>
            <a:off x="1332000" y="1844640"/>
            <a:ext cx="6191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21:39:56Z</dcterms:created>
  <dc:creator>Haljapina</dc:creator>
  <dc:description/>
  <dc:language>en-US</dc:language>
  <cp:lastModifiedBy>Гуляева Голубева Ольга</cp:lastModifiedBy>
  <dcterms:modified xsi:type="dcterms:W3CDTF">2022-04-20T07:33:39Z</dcterms:modified>
  <cp:revision>159</cp:revision>
  <dc:subject/>
  <dc:title> Презентация опыта работы  Чермошенцевой Елены Анатольевны, учителя начальных классов МОУ «Первомайская средняя общеобразовательная школа»  Первомайского района Тамбовской области «Развитие креативного мышления учащихся на уроках окружающего мира»  2010 год </dc:title>
</cp:coreProperties>
</file>