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438F-A81B-48CE-BF58-F8B6AA1B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EBC4-D459-403C-A19B-1F4E8A47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8A2-F2DD-4E6A-9760-8BAE60BCC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63D-6C90-41B5-8D9D-1DD7D30F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2BF-A366-4D22-9068-1917E20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B29-9DB8-4641-9AC7-762896C4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201-7ED2-4C7B-89BB-9E4A5A10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C08-F0B5-403D-87B7-6678FA53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FA81-FEE8-46DC-87A3-186D9F7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B301-2D20-4F4E-AAAB-0A99B70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E7D2-13A2-4187-86F8-769E9447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84E-B3C3-4CB1-943B-718BD1F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6F4-463E-4EDD-9506-4BC9FBD7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FD44-B4C3-4D67-BC83-E079328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424-27C3-4BB0-888A-813C3C2F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2954-305D-4F35-B7E1-708AAD0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906-AF88-4232-BC1D-1160B60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CB4-FA47-4952-B4EC-3731F31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D3BE-C8CE-4B42-B7D9-21393966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611-E303-4A9B-9195-2A611F43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A2637-4388-4525-8C9C-08BB8DC9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81E8E-560A-4D5D-A0BC-791B9AA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C98BA-F4B8-4726-9C91-3A0BF61F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9BBC2-ECB7-4294-B42E-8D1A610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DD0EA-B438-448E-8D1D-BB211984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6E4-6776-4082-A5D8-DDE2A76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24F84-5D0A-4233-A461-D79E633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6B343-1232-480A-89F2-A989381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9AB5B-4B7A-418C-A9BD-5CC36C7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E5A33-4EDA-4746-A6B5-6DD0D28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E32EF-08A3-490B-9C6F-CDCD573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81988-2395-4636-AC86-B311E389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B6A4F-02E8-4DAF-8756-4F576C6D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5AB4-6CE7-4CC4-A79A-6042F84D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8E29-9E00-49AD-BB26-294EA91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01A4-D0A1-43B0-AC34-8D73E72A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24-93B3-435E-A07B-138E301B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6B3D-279C-4513-A60B-6B68F8E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02D8-E6BF-4DBD-B61E-107B4E0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DAF3-D6BB-49E5-94D5-B39128A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5686-C185-45B4-AF20-74DE9AC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85CB-8F27-4769-BDF4-97DBDC3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90CC-2C92-47F8-9FE3-8D946DF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2F1D-E9DD-4E48-B397-FFC8BA8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4EF6-5205-4100-8269-77B57DA6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57DB-09C7-48C4-8538-223C1043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AA2-403C-47BB-895C-7075BE67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6C8-20A8-43AF-A2A4-6D06CDF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0F2-7551-40A9-BFF1-67CA028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C1E-6B5A-462E-BB17-51A7DC4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4A1-6F7B-4D99-B3F9-FC3E7E6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26B-1554-4FB3-80EE-3175E6B14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A45-F35E-4CB0-989D-2B0F0F371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BEB-CC99-4D34-A1CF-5F99166AD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6F2-7601-4240-B76B-51B2972DCA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yandex.ru/maps/?mode=search&amp;oid=1010348803&amp;ol=biz&amp;source=wizbiz_new_map_single" TargetMode="External"/><Relationship Id="rId2" Type="http://schemas.openxmlformats.org/officeDocument/2006/relationships/hyperlink" Target="https://yandex.ru/maps/?mode=search&amp;oid=1010348803&amp;ol=biz&amp;source=wizbiz_new_map_singl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3 класс 2021-2022 уч.го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68680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ата проведения: 24.09.202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лассный руководитель:Саидова Берлант Даид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1"/>
          <a:stretch/>
        </p:blipFill>
        <p:spPr>
          <a:xfrm>
            <a:off x="2340000" y="3905280"/>
            <a:ext cx="47401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математике 14.09.2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179280" y="2133720"/>
            <a:ext cx="864072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писали 2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 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6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литературному чтению 15.09.21 ( Техника чтения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79280" y="2133720"/>
            <a:ext cx="86407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6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13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5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1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рмы техники чтения в 3 класс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0920" y="1989000"/>
          <a:ext cx="5664240" cy="4114800"/>
        </p:xfrm>
        <a:graphic>
          <a:graphicData uri="http://schemas.openxmlformats.org/drawingml/2006/table">
            <a:tbl>
              <a:tblPr/>
              <a:tblGrid>
                <a:gridCol w="1887480"/>
                <a:gridCol w="1888920"/>
                <a:gridCol w="188784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 полугод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 полуг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олее 75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олее 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4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-75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-9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-59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-74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нее 40 с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нее 60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72" name="AutoShape 7"/>
          <p:cNvSpPr/>
          <p:nvPr/>
        </p:nvSpPr>
        <p:spPr>
          <a:xfrm>
            <a:off x="6227640" y="2349360"/>
            <a:ext cx="2687760" cy="289584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3548a"/>
              </a:gs>
              <a:gs pos="100000">
                <a:srgbClr val="3a3b6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372360" y="263700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входной контрольной работы по русскому языку 16.09.21 (диктант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250920" y="2349360"/>
            <a:ext cx="468144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5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10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6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5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643280" y="2421000"/>
            <a:ext cx="450072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ат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 –  8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8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–  7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–  3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и слож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280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283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86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96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301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иболее сложные т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310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313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316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08000" y="548280"/>
            <a:ext cx="90360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327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330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333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343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348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иболее сложные т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356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359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362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214200" y="1139040"/>
            <a:ext cx="8715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376200" y="6192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24456"/>
                </a:solidFill>
                <a:latin typeface="Trebuchet MS"/>
              </a:rPr>
              <a:t>Психологические особенности (режим).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9047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ретий класс является переломным в жизни младшего школьни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этот период у некоторых детей происходит снижение самооцен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ежду вторым и третьим классами происходит скачок в умственном развитии учащихся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ает активно развиваться воля ребен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бенок хорошо осознает свою роль в семье, оценивает отношения между родителя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этот период  ребенку главный помощник и советчик – семья, его родные и близкие люди.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2124000" y="5300640"/>
            <a:ext cx="5256000" cy="531720"/>
            <a:chOff x="2124000" y="5300640"/>
            <a:chExt cx="5256000" cy="531720"/>
          </a:xfrm>
        </p:grpSpPr>
        <p:sp>
          <p:nvSpPr>
            <p:cNvPr id="225" name="AutoShape 3"/>
            <p:cNvSpPr/>
            <p:nvPr/>
          </p:nvSpPr>
          <p:spPr>
            <a:xfrm>
              <a:off x="2124000" y="5300640"/>
              <a:ext cx="5256000" cy="531720"/>
            </a:xfrm>
            <a:prstGeom prst="roundRect">
              <a:avLst>
                <a:gd name="adj" fmla="val 16667"/>
              </a:avLst>
            </a:prstGeom>
            <a:solidFill>
              <a:srgbClr val="c2a87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2166480" y="5319720"/>
              <a:ext cx="519516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2a87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"/>
          <p:cNvGrpSpPr/>
          <p:nvPr/>
        </p:nvGrpSpPr>
        <p:grpSpPr>
          <a:xfrm>
            <a:off x="2128680" y="4410000"/>
            <a:ext cx="5251320" cy="531720"/>
            <a:chOff x="2128680" y="4410000"/>
            <a:chExt cx="5251320" cy="531720"/>
          </a:xfrm>
        </p:grpSpPr>
        <p:sp>
          <p:nvSpPr>
            <p:cNvPr id="228" name="AutoShape 7"/>
            <p:cNvSpPr/>
            <p:nvPr/>
          </p:nvSpPr>
          <p:spPr>
            <a:xfrm>
              <a:off x="2128680" y="4410000"/>
              <a:ext cx="5251320" cy="5317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8"/>
            <p:cNvSpPr/>
            <p:nvPr/>
          </p:nvSpPr>
          <p:spPr>
            <a:xfrm>
              <a:off x="2171160" y="4429080"/>
              <a:ext cx="51904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3548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128680" y="3571920"/>
            <a:ext cx="5179680" cy="531720"/>
            <a:chOff x="2128680" y="3571920"/>
            <a:chExt cx="5179680" cy="531720"/>
          </a:xfrm>
        </p:grpSpPr>
        <p:sp>
          <p:nvSpPr>
            <p:cNvPr id="231" name="AutoShape 11"/>
            <p:cNvSpPr/>
            <p:nvPr/>
          </p:nvSpPr>
          <p:spPr>
            <a:xfrm>
              <a:off x="2128680" y="3571920"/>
              <a:ext cx="5179680" cy="531720"/>
            </a:xfrm>
            <a:prstGeom prst="roundRect">
              <a:avLst>
                <a:gd name="adj" fmla="val 16667"/>
              </a:avLst>
            </a:prstGeom>
            <a:solidFill>
              <a:srgbClr val="438086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>
              <a:off x="2170440" y="3591000"/>
              <a:ext cx="511956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3808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1640" y="1268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548a"/>
                </a:solidFill>
                <a:latin typeface="Trebuchet MS"/>
              </a:rPr>
              <a:t>ПОВЕСТКА Д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438086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53548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c2a87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2"/>
          <p:cNvGrpSpPr/>
          <p:nvPr/>
        </p:nvGrpSpPr>
        <p:grpSpPr>
          <a:xfrm>
            <a:off x="2106720" y="2693880"/>
            <a:ext cx="5273280" cy="531720"/>
            <a:chOff x="2106720" y="2693880"/>
            <a:chExt cx="5273280" cy="531720"/>
          </a:xfrm>
        </p:grpSpPr>
        <p:sp>
          <p:nvSpPr>
            <p:cNvPr id="242" name="AutoShape 23"/>
            <p:cNvSpPr/>
            <p:nvPr/>
          </p:nvSpPr>
          <p:spPr>
            <a:xfrm>
              <a:off x="2106720" y="2693880"/>
              <a:ext cx="5273280" cy="531720"/>
            </a:xfrm>
            <a:prstGeom prst="roundRect">
              <a:avLst>
                <a:gd name="adj" fmla="val 16667"/>
              </a:avLst>
            </a:prstGeom>
            <a:solidFill>
              <a:srgbClr val="67afbd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4"/>
            <p:cNvSpPr/>
            <p:nvPr/>
          </p:nvSpPr>
          <p:spPr>
            <a:xfrm>
              <a:off x="2149200" y="2712960"/>
              <a:ext cx="5212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7af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67afbd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2489040" y="278136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2557440" y="3643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2566440" y="450756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2633400" y="5373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320" y="838080"/>
            <a:ext cx="9067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424456"/>
                </a:solidFill>
                <a:uFillTx/>
                <a:latin typeface="Trebuchet MS"/>
              </a:rPr>
              <a:t>Что необходимо вашему ребенку сейчас?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1.Вера в свои силы, успех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2.Уход за своей одеждой, комнатой, книг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3.Приучать к пунктуа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4.Учить уважать права и чувства других люд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5.Учить терпению, самоконтрол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лимпиады и конкурсы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125000"/>
            <a:ext cx="874872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.ру ( олимпиады бес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актор роста ( Международный блицтурнир «Всезнайка» для 1-4 классов - 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ФО ( платн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шая школа делового администрирования ( творческие конкурсы - бесплатно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476280" y="558972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частие во всех конкурсах и олимпиадах ДОБРОВОЛЬНОЕ и исключительно по желанию обучающихся и их родител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курс поделок из природного материала «Осенняя фантаз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6920" y="2349000"/>
            <a:ext cx="843588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роки проведения: 16.09-27.09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родительского комитет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родительского комитет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одительский комитет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8"/>
          <p:cNvSpPr txBox="1"/>
          <p:nvPr/>
        </p:nvSpPr>
        <p:spPr>
          <a:xfrm>
            <a:off x="611280" y="472428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395280" y="1317600"/>
            <a:ext cx="824724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4 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ной русский язык – 1 урок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3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0" y="5493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21-2022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8000" y="177336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0 - 07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8.1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12 – 09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0.0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03 - 03.04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4.04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05 - 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50920" y="912960"/>
            <a:ext cx="8497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школы: 08.00 – 18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ГПД: 12.30 – 18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00 – 08.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8.55 – 09.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09.50 – 10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0.50 – 11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1.50 – 12.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684360" y="335772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277920" y="3789360"/>
            <a:ext cx="8866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Ракина Анастасия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ькова Елена Александров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рбанова Нурана Илга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24000" y="692280"/>
            <a:ext cx="860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изо, му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лассный руководитель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аидова  Берлант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68360" y="981000"/>
          <a:ext cx="8315280" cy="5745240"/>
        </p:xfrm>
        <a:graphic>
          <a:graphicData uri="http://schemas.openxmlformats.org/drawingml/2006/table">
            <a:tbl>
              <a:tblPr/>
              <a:tblGrid>
                <a:gridCol w="1693800"/>
                <a:gridCol w="1327320"/>
                <a:gridCol w="2043000"/>
                <a:gridCol w="3251160"/>
              </a:tblGrid>
              <a:tr h="44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нь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вание кру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53100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50-1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ст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джиева Гульмира Бикмурз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30-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кина Анастасия Алекс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57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50-1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теря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рокисян Марьям Юри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45-14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кина Анастасия Алекс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67500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 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нансовая грамо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ванова Юлия Юр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ники и ум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53100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50-1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теря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рокисян Марьям Юри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00-1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джиева Гульмира Бикмурз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ники и ум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идова Берлант Даид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2119040" y="375300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9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6f8d"/>
                </a:solidFill>
                <a:latin typeface="Trebuchet MS"/>
              </a:rPr>
              <a:t>Внеурочная деяте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24456"/>
                </a:solidFill>
                <a:latin typeface="Trebuchet MS"/>
              </a:rPr>
              <a:t>Основные требования школы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орма (школьная, физкультурная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менная обув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отовность к урокам изо, технолог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комендовано обернуть учебник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гулярное выполнение домашних зада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гласие на внеурочную деятельно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невник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Электронный дневник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явление ( пропуск 1-3 дня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правка( пропуск по болезни больше 3 дней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личие пропус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язательно носить с собой пропус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делать в случае утери пропус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вый пропуск можно сделать по адрес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3 мкр. ул. Романа Кузоваткина, дом 8 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пускной режим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User</cp:lastModifiedBy>
  <dcterms:modified xsi:type="dcterms:W3CDTF">2023-05-01T16:56:50Z</dcterms:modified>
  <cp:revision>55</cp:revision>
  <dc:subject/>
  <dc:title>Презентация PowerPoint</dc:title>
</cp:coreProperties>
</file>