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CA3-3DE1-4F16-B33F-00EDA0B7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746-2DF1-411B-8FC3-4ECCFAA7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8C82-0831-419C-90C1-75D08BD46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F8E-03FC-4064-B0C4-6287E131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640-CE22-473B-BC6E-4E39B4F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10-1555-4F3A-9CF5-1EB9CEE2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A19-5725-40C0-A8F4-04DF6A16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8AF0-3AFA-4870-B417-F210EBB0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06DC-3E3D-494A-A1EF-45BCC898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BAF-85CD-45A8-AE8E-5FF04464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801-A485-4A2D-BA00-F1C20D0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82B-F77A-4231-8450-EAC40590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2B7-CFC7-4C7B-8657-908BA45D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3C5-F905-4550-8B65-9CB3226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1D3-DDBD-42BB-8E76-BA5EE43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0DF2-776E-47C9-824B-BE0AFDA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BF3D-22BE-4CCA-8F1A-8E8E3C9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4CA-D4B9-4867-9A94-9C4F91F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799C-CE0B-4C24-9231-58BE1C7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FEC6-B1D0-4875-BBBF-F94F57FB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0DB7A-706C-423C-8A97-10DF765D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02F95-9DE9-4A2A-B485-B143B85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E3525-1D28-4BCE-9F70-3BA1FC1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ECEA6-ACD4-48F1-9EA9-DACEB88D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A25D7-F6B5-4B03-933B-D838359A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8AF-3627-4B1E-B0C0-193634C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7EEC6-3787-475F-ABE3-DAFF0C27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12010-633A-4187-9934-2A6EBDB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DD2E3-8366-4406-971C-254A6FD5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BBA5A-5CD1-44F6-9919-B3568F97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A006C-9A3E-4220-98CE-5ACDD11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AAABE-8E80-4017-A408-0B8BAE26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DC600-79D6-402D-B81A-92C8D08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2047-3A68-4986-9ED1-E7BDD170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19F4-445E-4968-8ABA-39584A0D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38BF-B673-4BDC-BD45-DE466A0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4AF-9C76-4878-9F83-9B0BBDD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36C8-0FB2-4516-B0C8-5C5E84B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8C6C-44BA-42AE-9D2E-19F6C7FD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69BD-FB45-4CCD-AEF6-B0C5BCA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D8B6-2831-4441-B50B-DEA6F06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9319-5E86-4107-8663-B0AAE9B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D003-9B15-4FBA-8650-23A19F2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A858-E863-47BD-A008-E0B75686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5FFE-7CE2-4707-93CD-D9773E9A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92E6-CDC8-4A3F-B389-DBDB86EB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821-3FAC-4370-9BDB-8F203330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B25-4BD3-41C4-8ECC-8BE7E59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242-A533-48CD-98D3-DF849F6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DE6-103C-4AA4-AC2E-68CD18C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D2B-C315-4E16-94FE-5D8FC69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870-1930-4C08-AE21-C40C95F32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8F2-6C3E-44FB-B538-4B5312E8C5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46F6-F3DA-4025-9609-5DCB08CD33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B6A-875D-4C7E-A8CE-765A6A22B5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yandex.ru/maps/?mode=search&amp;oid=1010348803&amp;ol=biz&amp;source=wizbiz_new_map_single" TargetMode="External"/><Relationship Id="rId2" Type="http://schemas.openxmlformats.org/officeDocument/2006/relationships/hyperlink" Target="https://yandex.ru/maps/?mode=search&amp;oid=1010348803&amp;ol=biz&amp;source=wizbiz_new_map_singl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3 класс 2021-2022 уч.го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68680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ата проведения: 24.09.202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лассный руководитель:Саидова Берлант Даид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1"/>
          <a:stretch/>
        </p:blipFill>
        <p:spPr>
          <a:xfrm>
            <a:off x="2340000" y="3905280"/>
            <a:ext cx="47401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математике 14.09.2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179280" y="2133720"/>
            <a:ext cx="864072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писали 2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 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6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литературному чтению 15.09.21 ( Техника чтения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79280" y="2133720"/>
            <a:ext cx="86407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6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13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5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1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рмы техники чтения в 3 класс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0920" y="1989000"/>
          <a:ext cx="5664240" cy="4114800"/>
        </p:xfrm>
        <a:graphic>
          <a:graphicData uri="http://schemas.openxmlformats.org/drawingml/2006/table">
            <a:tbl>
              <a:tblPr/>
              <a:tblGrid>
                <a:gridCol w="1887480"/>
                <a:gridCol w="1888920"/>
                <a:gridCol w="188784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 полугод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 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олее 75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олее 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4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-75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-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-59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-74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нее 40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нее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72" name="AutoShape 7"/>
          <p:cNvSpPr/>
          <p:nvPr/>
        </p:nvSpPr>
        <p:spPr>
          <a:xfrm>
            <a:off x="6227640" y="2349360"/>
            <a:ext cx="2687760" cy="289584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3548a"/>
              </a:gs>
              <a:gs pos="100000">
                <a:srgbClr val="3a3b6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372360" y="263700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русскому языку 16.09.21 (диктант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250920" y="2349360"/>
            <a:ext cx="468144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5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10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5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643280" y="2421000"/>
            <a:ext cx="450072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ат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 8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8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7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3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и слож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280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283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86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96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301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иболее сложные т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310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313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316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08000" y="548280"/>
            <a:ext cx="90360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327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330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333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343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348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иболее сложные т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356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359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362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214200" y="1139040"/>
            <a:ext cx="8715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376200" y="6192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24456"/>
                </a:solidFill>
                <a:latin typeface="Trebuchet MS"/>
              </a:rPr>
              <a:t>Психологические особенности (режим).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9047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ретий класс является переломным в жизни младшего школьни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этот период у некоторых детей происходит снижение самооцен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ежду вторым и третьим классами происходит скачок в умственном развитии учащихся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ает активно развиваться воля ребен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бенок хорошо осознает свою роль в семье, оценивает отношения между родителя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этот период  ребенку главный помощник и советчик – семья, его родные и близкие люди.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2124000" y="5300640"/>
            <a:ext cx="5256000" cy="531720"/>
            <a:chOff x="2124000" y="5300640"/>
            <a:chExt cx="5256000" cy="531720"/>
          </a:xfrm>
        </p:grpSpPr>
        <p:sp>
          <p:nvSpPr>
            <p:cNvPr id="225" name="AutoShape 3"/>
            <p:cNvSpPr/>
            <p:nvPr/>
          </p:nvSpPr>
          <p:spPr>
            <a:xfrm>
              <a:off x="2124000" y="5300640"/>
              <a:ext cx="5256000" cy="53172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2166480" y="5319720"/>
              <a:ext cx="519516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"/>
          <p:cNvGrpSpPr/>
          <p:nvPr/>
        </p:nvGrpSpPr>
        <p:grpSpPr>
          <a:xfrm>
            <a:off x="2128680" y="4410000"/>
            <a:ext cx="5251320" cy="531720"/>
            <a:chOff x="2128680" y="4410000"/>
            <a:chExt cx="5251320" cy="531720"/>
          </a:xfrm>
        </p:grpSpPr>
        <p:sp>
          <p:nvSpPr>
            <p:cNvPr id="228" name="AutoShape 7"/>
            <p:cNvSpPr/>
            <p:nvPr/>
          </p:nvSpPr>
          <p:spPr>
            <a:xfrm>
              <a:off x="2128680" y="4410000"/>
              <a:ext cx="5251320" cy="5317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8"/>
            <p:cNvSpPr/>
            <p:nvPr/>
          </p:nvSpPr>
          <p:spPr>
            <a:xfrm>
              <a:off x="2171160" y="4429080"/>
              <a:ext cx="51904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3548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128680" y="3571920"/>
            <a:ext cx="5179680" cy="531720"/>
            <a:chOff x="2128680" y="3571920"/>
            <a:chExt cx="5179680" cy="531720"/>
          </a:xfrm>
        </p:grpSpPr>
        <p:sp>
          <p:nvSpPr>
            <p:cNvPr id="231" name="AutoShape 11"/>
            <p:cNvSpPr/>
            <p:nvPr/>
          </p:nvSpPr>
          <p:spPr>
            <a:xfrm>
              <a:off x="2128680" y="3571920"/>
              <a:ext cx="5179680" cy="53172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>
              <a:off x="2170440" y="3591000"/>
              <a:ext cx="511956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1640" y="1268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548a"/>
                </a:solidFill>
                <a:latin typeface="Trebuchet MS"/>
              </a:rPr>
              <a:t>ПОВЕСТКА Д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438086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53548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c2a87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2"/>
          <p:cNvGrpSpPr/>
          <p:nvPr/>
        </p:nvGrpSpPr>
        <p:grpSpPr>
          <a:xfrm>
            <a:off x="2106720" y="2693880"/>
            <a:ext cx="5273280" cy="531720"/>
            <a:chOff x="2106720" y="2693880"/>
            <a:chExt cx="5273280" cy="531720"/>
          </a:xfrm>
        </p:grpSpPr>
        <p:sp>
          <p:nvSpPr>
            <p:cNvPr id="242" name="AutoShape 23"/>
            <p:cNvSpPr/>
            <p:nvPr/>
          </p:nvSpPr>
          <p:spPr>
            <a:xfrm>
              <a:off x="2106720" y="2693880"/>
              <a:ext cx="5273280" cy="53172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4"/>
            <p:cNvSpPr/>
            <p:nvPr/>
          </p:nvSpPr>
          <p:spPr>
            <a:xfrm>
              <a:off x="2149200" y="2712960"/>
              <a:ext cx="5212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67afbd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2489040" y="278136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2557440" y="3643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2566440" y="450756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2633400" y="5373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320" y="838080"/>
            <a:ext cx="9067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424456"/>
                </a:solidFill>
                <a:uFillTx/>
                <a:latin typeface="Trebuchet MS"/>
              </a:rPr>
              <a:t>Что необходимо вашему ребенку сейчас?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1.Вера в свои силы, успех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2.Уход за своей одеждой, комнатой, книг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3.Приучать к пунктуа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4.Учить уважать права и чувства других люд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5.Учить терпению, самоконтрол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лимпиады и конкурсы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125000"/>
            <a:ext cx="874872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.ру ( олимпиады бес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актор роста ( Международный блицтурнир «Всезнайка» для 1-4 классов - 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ФО ( 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шая школа делового администрирования ( творческие конкурсы - бесплатно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476280" y="558972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частие во всех конкурсах и олимпиадах ДОБРОВОЛЬНОЕ и исключительно по желанию обучающихся и их родител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курс поделок из природного материала «Осенняя фантаз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6920" y="2349000"/>
            <a:ext cx="843588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роки проведения: 16.09-27.09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родительского комитет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родительского комитет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одительский комитет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8"/>
          <p:cNvSpPr txBox="1"/>
          <p:nvPr/>
        </p:nvSpPr>
        <p:spPr>
          <a:xfrm>
            <a:off x="611280" y="472428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395280" y="1317600"/>
            <a:ext cx="824724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4 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ной русский язык – 1 урок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3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0" y="5493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21-2022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8000" y="177336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0 - 07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8.1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12 – 09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0.0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03 - 03.04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4.04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05 - 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50920" y="912960"/>
            <a:ext cx="8497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школы: 08.00 – 18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ГПД: 12.30 – 18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00 – 08.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8.55 – 09.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09.50 – 10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0.50 – 11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1.50 – 12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684360" y="335772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277920" y="3789360"/>
            <a:ext cx="8866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Ракина Анастасия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ькова Елена Александров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рбанова Нурана Илга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24000" y="692280"/>
            <a:ext cx="860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изо, му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лассный руководитель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аидова  Берлант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68360" y="981000"/>
          <a:ext cx="8315280" cy="5745240"/>
        </p:xfrm>
        <a:graphic>
          <a:graphicData uri="http://schemas.openxmlformats.org/drawingml/2006/table">
            <a:tbl>
              <a:tblPr/>
              <a:tblGrid>
                <a:gridCol w="1693800"/>
                <a:gridCol w="1327320"/>
                <a:gridCol w="2043000"/>
                <a:gridCol w="3251160"/>
              </a:tblGrid>
              <a:tr h="44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нь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вание кру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53100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50-1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т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джиева Гульмира Бикмурз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30-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кина Анастасия Алекс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57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50-1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теря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рокисян Марьям Юри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45-14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кина Анастасия Алекс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67500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 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нансовая грамо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ванова Юлия Юр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ники и ум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53100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50-1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теря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рокисян Марьям Юри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джиева Гульмира Бикмурз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ники и ум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2119040" y="375300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9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6f8d"/>
                </a:solidFill>
                <a:latin typeface="Trebuchet MS"/>
              </a:rPr>
              <a:t>Внеурочная деяте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24456"/>
                </a:solidFill>
                <a:latin typeface="Trebuchet MS"/>
              </a:rPr>
              <a:t>Основные требования школы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орма (школьная, физкультурная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менная обув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отовность к урокам изо, технолог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комендовано обернуть учебник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гулярное выполнение домашних зада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гласие на внеурочную деятельно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невник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Электронный дневник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явление ( пропуск 1-3 дня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правка( пропуск по болезни больше 3 дней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личие пропус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язательно носить с собой пропус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делать в случае утери пропус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вый пропуск можно сделать по адрес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3 мкр. ул. Романа Кузоваткина, дом 8 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пускной режим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User</cp:lastModifiedBy>
  <dcterms:modified xsi:type="dcterms:W3CDTF">2023-05-01T16:56:50Z</dcterms:modified>
  <cp:revision>55</cp:revision>
  <dc:subject/>
  <dc:title>Презентация PowerPoint</dc:title>
</cp:coreProperties>
</file>