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EDE-D392-4781-A0B1-D7F326D2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9D8-34B0-44D4-891A-2BD2A253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C33-5953-4E66-85FA-C57C338C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FD6-2AF1-4D37-8120-EC0B8373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2FF-B9A9-460C-A778-2C708728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C68-1D0F-4BCA-B0A6-977E8855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5D9-FC8B-4568-A2FD-DA9FC89A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B42-1E40-43F9-B775-859A0D1C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4CF-6CFB-4A70-A7B8-1B6F4583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ABB-0AED-42E8-AED3-3D489DFC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847-C175-490C-8DB0-05873BFF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CCD-F4DC-486B-905A-4EFA2592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CF90-FB35-42BC-979D-4DAA943A3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H:\=рабочий стол=\2022-2023\конкурс питание\фото\20230127_171844.jpg"/>
          <p:cNvPicPr/>
          <p:nvPr/>
        </p:nvPicPr>
        <p:blipFill>
          <a:blip r:embed="rId1"/>
          <a:stretch/>
        </p:blipFill>
        <p:spPr>
          <a:xfrm>
            <a:off x="590400" y="963720"/>
            <a:ext cx="2775240" cy="31082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H:\=рабочий стол=\2022-2023\конкурс питание\фото\20230130_063241.jpg"/>
          <p:cNvPicPr/>
          <p:nvPr/>
        </p:nvPicPr>
        <p:blipFill>
          <a:blip r:embed="rId2"/>
          <a:stretch/>
        </p:blipFill>
        <p:spPr>
          <a:xfrm>
            <a:off x="5200560" y="3986280"/>
            <a:ext cx="3492720" cy="21286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H:\=рабочий стол=\2022-2023\конкурс питание\фото\20230130_063602.jpg"/>
          <p:cNvPicPr/>
          <p:nvPr/>
        </p:nvPicPr>
        <p:blipFill>
          <a:blip r:embed="rId3"/>
          <a:stretch/>
        </p:blipFill>
        <p:spPr>
          <a:xfrm>
            <a:off x="3041640" y="4059360"/>
            <a:ext cx="212076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Пособия для организации культуры еды во время приема пищи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оспитанниками старше-подготовительной групп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8" descr="H:\=рабочий стол=\2022-2023\конкурс питание\фото\IMG-7d0bb89dfc2da48f8442c1d4eaf87c08-V.jpg"/>
          <p:cNvPicPr/>
          <p:nvPr/>
        </p:nvPicPr>
        <p:blipFill>
          <a:blip r:embed="rId4"/>
          <a:stretch/>
        </p:blipFill>
        <p:spPr>
          <a:xfrm>
            <a:off x="523800" y="4559400"/>
            <a:ext cx="2341800" cy="15127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2" descr=""/>
          <p:cNvPicPr/>
          <p:nvPr/>
        </p:nvPicPr>
        <p:blipFill>
          <a:blip r:embed="rId5"/>
          <a:stretch/>
        </p:blipFill>
        <p:spPr>
          <a:xfrm>
            <a:off x="884160" y="4194000"/>
            <a:ext cx="1908360" cy="3351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13" descr=""/>
          <p:cNvPicPr/>
          <p:nvPr/>
        </p:nvPicPr>
        <p:blipFill>
          <a:blip r:embed="rId6"/>
          <a:stretch/>
        </p:blipFill>
        <p:spPr>
          <a:xfrm>
            <a:off x="523800" y="6029280"/>
            <a:ext cx="2341800" cy="5238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4" descr=""/>
          <p:cNvPicPr/>
          <p:nvPr/>
        </p:nvPicPr>
        <p:blipFill>
          <a:blip r:embed="rId7"/>
          <a:stretch/>
        </p:blipFill>
        <p:spPr>
          <a:xfrm>
            <a:off x="5705640" y="6132600"/>
            <a:ext cx="2627280" cy="341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6" descr="H:\=рабочий стол=\2022-2023\конкурс питание\фото\20230130_063022.jpg"/>
          <p:cNvPicPr/>
          <p:nvPr/>
        </p:nvPicPr>
        <p:blipFill>
          <a:blip r:embed="rId8"/>
          <a:stretch/>
        </p:blipFill>
        <p:spPr>
          <a:xfrm>
            <a:off x="4700520" y="1036800"/>
            <a:ext cx="3200400" cy="22795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7" descr=""/>
          <p:cNvPicPr/>
          <p:nvPr/>
        </p:nvPicPr>
        <p:blipFill>
          <a:blip r:embed="rId9"/>
          <a:stretch/>
        </p:blipFill>
        <p:spPr>
          <a:xfrm>
            <a:off x="2895480" y="6029280"/>
            <a:ext cx="2560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8" descr=""/>
          <p:cNvPicPr/>
          <p:nvPr/>
        </p:nvPicPr>
        <p:blipFill>
          <a:blip r:embed="rId10"/>
          <a:stretch/>
        </p:blipFill>
        <p:spPr>
          <a:xfrm>
            <a:off x="4986360" y="3402000"/>
            <a:ext cx="262728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1</cp:lastModifiedBy>
  <dcterms:modified xsi:type="dcterms:W3CDTF">2023-03-04T11:20:42Z</dcterms:modified>
  <cp:revision>70</cp:revision>
  <dc:subject/>
  <dc:title>Шаблон презентации</dc:title>
</cp:coreProperties>
</file>