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8A5-95DB-4B86-9B19-8E4B5FB7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705-F96C-48EE-8DD9-82EDFE5D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3B6-E162-45B4-8632-6D8A4F05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001-0A1C-4759-A99D-2AA7F6AC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BF9-459E-448D-AB32-2E2B2DDC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E57-77AD-40D8-856F-2E6766C4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587-8F8C-4F96-B0A4-2C4CD429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E59-8CD0-44EA-905C-F31AE4D3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DFF-544F-47B1-A099-BF102749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5AE-E86B-4748-8087-3D274B34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D37-43D7-4C50-B971-86E86309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59B-CF5C-41AB-9AD5-D55A5C79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C832-C4F1-433F-8773-2B85EAC02F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H:\=рабочий стол=\2022-2023\конкурс питание\фото\20230127_171844.jpg"/>
          <p:cNvPicPr/>
          <p:nvPr/>
        </p:nvPicPr>
        <p:blipFill>
          <a:blip r:embed="rId1"/>
          <a:stretch/>
        </p:blipFill>
        <p:spPr>
          <a:xfrm>
            <a:off x="590400" y="963720"/>
            <a:ext cx="2775240" cy="31082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H:\=рабочий стол=\2022-2023\конкурс питание\фото\20230130_063241.jpg"/>
          <p:cNvPicPr/>
          <p:nvPr/>
        </p:nvPicPr>
        <p:blipFill>
          <a:blip r:embed="rId2"/>
          <a:stretch/>
        </p:blipFill>
        <p:spPr>
          <a:xfrm>
            <a:off x="5200560" y="3986280"/>
            <a:ext cx="3492720" cy="21286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H:\=рабочий стол=\2022-2023\конкурс питание\фото\20230130_063602.jpg"/>
          <p:cNvPicPr/>
          <p:nvPr/>
        </p:nvPicPr>
        <p:blipFill>
          <a:blip r:embed="rId3"/>
          <a:stretch/>
        </p:blipFill>
        <p:spPr>
          <a:xfrm>
            <a:off x="3041640" y="4059360"/>
            <a:ext cx="2120760" cy="19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Пособия для организации культуры еды во время приема пищи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воспитанниками старше-подготовительной групп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8" descr="H:\=рабочий стол=\2022-2023\конкурс питание\фото\IMG-7d0bb89dfc2da48f8442c1d4eaf87c08-V.jpg"/>
          <p:cNvPicPr/>
          <p:nvPr/>
        </p:nvPicPr>
        <p:blipFill>
          <a:blip r:embed="rId4"/>
          <a:stretch/>
        </p:blipFill>
        <p:spPr>
          <a:xfrm>
            <a:off x="523800" y="4559400"/>
            <a:ext cx="2341800" cy="151272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2" descr=""/>
          <p:cNvPicPr/>
          <p:nvPr/>
        </p:nvPicPr>
        <p:blipFill>
          <a:blip r:embed="rId5"/>
          <a:stretch/>
        </p:blipFill>
        <p:spPr>
          <a:xfrm>
            <a:off x="884160" y="4194000"/>
            <a:ext cx="1908360" cy="3351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13" descr=""/>
          <p:cNvPicPr/>
          <p:nvPr/>
        </p:nvPicPr>
        <p:blipFill>
          <a:blip r:embed="rId6"/>
          <a:stretch/>
        </p:blipFill>
        <p:spPr>
          <a:xfrm>
            <a:off x="523800" y="6029280"/>
            <a:ext cx="2341800" cy="5238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4" descr=""/>
          <p:cNvPicPr/>
          <p:nvPr/>
        </p:nvPicPr>
        <p:blipFill>
          <a:blip r:embed="rId7"/>
          <a:stretch/>
        </p:blipFill>
        <p:spPr>
          <a:xfrm>
            <a:off x="5705640" y="6132600"/>
            <a:ext cx="2627280" cy="3412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6" descr="H:\=рабочий стол=\2022-2023\конкурс питание\фото\20230130_063022.jpg"/>
          <p:cNvPicPr/>
          <p:nvPr/>
        </p:nvPicPr>
        <p:blipFill>
          <a:blip r:embed="rId8"/>
          <a:stretch/>
        </p:blipFill>
        <p:spPr>
          <a:xfrm>
            <a:off x="4700520" y="1036800"/>
            <a:ext cx="3200400" cy="22795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7" descr=""/>
          <p:cNvPicPr/>
          <p:nvPr/>
        </p:nvPicPr>
        <p:blipFill>
          <a:blip r:embed="rId9"/>
          <a:stretch/>
        </p:blipFill>
        <p:spPr>
          <a:xfrm>
            <a:off x="2895480" y="6029280"/>
            <a:ext cx="2560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8" descr=""/>
          <p:cNvPicPr/>
          <p:nvPr/>
        </p:nvPicPr>
        <p:blipFill>
          <a:blip r:embed="rId10"/>
          <a:stretch/>
        </p:blipFill>
        <p:spPr>
          <a:xfrm>
            <a:off x="4986360" y="3402000"/>
            <a:ext cx="262728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1</cp:lastModifiedBy>
  <dcterms:modified xsi:type="dcterms:W3CDTF">2023-03-04T11:20:42Z</dcterms:modified>
  <cp:revision>70</cp:revision>
  <dc:subject/>
  <dc:title>Шаблон презентации</dc:title>
</cp:coreProperties>
</file>