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00E-A8EA-4FF8-9C07-DC979156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FF7-C7DF-4CD5-9929-F4CDEBEF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5F6-026A-4A82-8A86-A7A7489D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ECD-74C8-42FA-ABAC-C7F6E4FF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742-9364-4C16-8FC9-5FD9A714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4CE-0EA7-4FBE-8967-0173D77B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2C6-FE18-45EE-ABCA-00B59CEF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C14-A453-4E93-9BE6-2A1CDDA7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C4C-A406-42E5-8B2A-DA7DC17C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DF2-EBD2-497A-8F24-62E01BDC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A3E-500D-430E-B48E-28E8B97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ACF-AFB0-4F4E-AFC1-6A095A11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3CC-03AE-49B0-BE24-F23E987A6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adm-leninskiy.ru/media/project_mo_187/09/66/7d/bc/b6/9c/1-mayaya.jpg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928800" y="642960"/>
            <a:ext cx="7500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ФИНЛЯ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Финляндии Первомай празднуют не так, как у нас. Этот день в стране посвящен учащимся ВУЗов. Он называется "День студент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s://www.vikids.ru/cdn-vikids-ru/uploads/ckeditor/pictures/5c90c2da6c1d4073c0d6e10d/content_7.jpg"/>
          <p:cNvPicPr/>
          <p:nvPr/>
        </p:nvPicPr>
        <p:blipFill>
          <a:blip r:embed="rId2"/>
          <a:stretch/>
        </p:blipFill>
        <p:spPr>
          <a:xfrm>
            <a:off x="1428840" y="2357280"/>
            <a:ext cx="64245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www.vikids.ru/cdn-vikids-ru/uploads/ckeditor/pictures/5c90c31d6c1d4073c0d6e1da/content_8.jpg"/>
          <p:cNvPicPr/>
          <p:nvPr/>
        </p:nvPicPr>
        <p:blipFill>
          <a:blip r:embed="rId2"/>
          <a:stretch/>
        </p:blipFill>
        <p:spPr>
          <a:xfrm>
            <a:off x="1285920" y="2214720"/>
            <a:ext cx="6643800" cy="4438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928800" y="42876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ВЕЛИКОБР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мая англичане отдают дань уважения природе. Во время него, жители Великобритании надевают на себя государственные костюмы. А затем идут плясать вокруг столбов на улице, которые украшают ленточками и другими красивыми вещами.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1042920" y="2160"/>
            <a:ext cx="735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играйте в игру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«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Что лишнее и почему?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»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пать, сажать, мариновать, поли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д, огород, грабли, клум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бли, кукла, лопата, т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428760" y="736920"/>
            <a:ext cx="871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те в игру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«Великан и Гномик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назови ласков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сад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огород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парник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грядка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еликана теплица, а у Гноми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428760" y="454680"/>
            <a:ext cx="87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те в игру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«Один – много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пата – лопаты – много лоп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ица - …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ядка - …  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ород - … 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д - …       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ник - …               мног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000080" y="457920"/>
            <a:ext cx="7358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грайте в игру  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«Сосчитай до 5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грядка, две 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огород, два 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тачка, две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секатор, два 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 ведро, два… три … четыре … пя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7758360" cy="22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Тёплым днём весенним ясным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Раньше всех, дружок, встречай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Удивительный, прекрасный,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Добрый праздник Первомай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2022120" y="3857760"/>
            <a:ext cx="52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fs01.vseosvita.ua/010095bl-7934-1200x8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28800" y="64512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РЕКОМЕНДАЦИИ РОДИТЕЛЯМ ПО ЛЕКСИЧЕСКОЙ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«1 МАЯ – ПРАЗДНИК ВЕСНЫ И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571760" y="151524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просите у ребенка, какие времена года он знает? Сколько месяцев в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вторите с ребенком весенние месяцы. Какие весенние праздники вы зн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Расскажите ребенку, какое событие мы отмечаем 1 мая и почему отмечается этот праздник, что он означает. Найдите в интернете старые открытки – поздравления с праздником и покажите ребе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бъясните ребенку значение слов: Первомай, демонстрация, суббот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беседуйте с ребенком о том, что нужно делать весной в огороде, в сад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fs01.vseosvita.ua/010095bl-7934-1200x8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9"/>
          <p:cNvSpPr/>
          <p:nvPr/>
        </p:nvSpPr>
        <p:spPr>
          <a:xfrm>
            <a:off x="4286160" y="2143080"/>
            <a:ext cx="40388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4356000" y="3068640"/>
            <a:ext cx="40388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годня мы поговорим о первом майском празднике –1 Мая. Но вначале давайте вспомним: что мы знаем о месяце мае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ай последний месяц весны, красивый, цветущий. В мае полностью оживает природа, оживает земля. Все труженики земли стараются успеть с весенними работами. Вот почему этот праздник называют Праздником весны и труд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http://zabavnik.club/wp-content/uploads/Syuzhetnye_kartinki_36_24043016-1024x705.jpg"/>
          <p:cNvPicPr/>
          <p:nvPr/>
        </p:nvPicPr>
        <p:blipFill>
          <a:blip r:embed="rId2"/>
          <a:stretch/>
        </p:blipFill>
        <p:spPr>
          <a:xfrm>
            <a:off x="857160" y="1928880"/>
            <a:ext cx="7431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fs01.vseosvita.ua/010095bl-7934-1200x847.jpg"/>
          <p:cNvPicPr/>
          <p:nvPr/>
        </p:nvPicPr>
        <p:blipFill>
          <a:blip r:embed="rId1"/>
          <a:srcRect l="0" t="89589" r="0" b="0"/>
          <a:stretch/>
        </p:blipFill>
        <p:spPr>
          <a:xfrm>
            <a:off x="0" y="614376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90000"/>
            <a:ext cx="3143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В далеком 1886 году в Америке на улицу вышло много трудящихся на демонстрацию с требованиями к властям о том, чтобы они улучшили их жизнь. Но эту демонстрацию разогнали. Об этом узнал весь мир. В знак солидарности их поддержали рабочие многих стран. Солидарность – это поддержка, единая позиция в каком-то вопросе. В память о борцах с 1890 года день 1 Мая назвали Праздником трудящихся и начали отмечать во многих странах ми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Дни, посвященные труду и трудящимся, существуют в 142 стра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s://s16.stc.all.kpcdn.net/share/i/4/1487138/inx960x640.jpg"/>
          <p:cNvPicPr/>
          <p:nvPr/>
        </p:nvPicPr>
        <p:blipFill>
          <a:blip r:embed="rId2"/>
          <a:stretch/>
        </p:blipFill>
        <p:spPr>
          <a:xfrm>
            <a:off x="3005280" y="285840"/>
            <a:ext cx="61387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fs01.vseosvita.ua/010095bl-7934-1200x847.jpg"/>
          <p:cNvPicPr/>
          <p:nvPr/>
        </p:nvPicPr>
        <p:blipFill>
          <a:blip r:embed="rId1"/>
          <a:srcRect l="0" t="36461" r="0" b="0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Каждый год в этот день школьники, студенты и трудящиеся шли на демонстр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Взрослые несли в руках большие флаги, цветы и транспаранты, а в руках у детишек были маленькие флажки и воздушные шарики. Все радовались весне, обновлению природы и теплым солнечным лучам. Вернувшись, домой, все садились за праздничный 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Первомай был прекрасным поводом отправить друзьям и близким поздравительные открытки и пожелать здоровья и сча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://xn----7sbgbb2blsmakmo6k.xn--p1ai/images/IMG_6511.jpg"/>
          <p:cNvPicPr/>
          <p:nvPr/>
        </p:nvPicPr>
        <p:blipFill>
          <a:blip r:embed="rId2"/>
          <a:stretch/>
        </p:blipFill>
        <p:spPr>
          <a:xfrm>
            <a:off x="1285920" y="2500200"/>
            <a:ext cx="64674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fs01.vseosvita.ua/010095bl-7934-1200x847.jpg"/>
          <p:cNvPicPr/>
          <p:nvPr/>
        </p:nvPicPr>
        <p:blipFill>
          <a:blip r:embed="rId1"/>
          <a:srcRect l="0" t="36461" r="0" b="0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0" y="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1 мая 1990 года состоялась последняя первомайская демонстрация. День международной солидарности трудящихся был переименован в Праздник весны и труда. Сегодня его отмечают не так активно, как в былые годы. Но, поскольку этот день выходной, люди имеют возможность отдохнуть от работы, пригласить гостей или самим сходить в гости и приятно провести время в хороший весенний день. А некоторые, напротив, считают, что в День труда нужно непременно трудиться — отправляются на дачу и работают на ого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s://ds03.infourok.ru/uploads/ex/0548/0001c67f-b3efcb55/img6.jpg"/>
          <p:cNvPicPr/>
          <p:nvPr/>
        </p:nvPicPr>
        <p:blipFill>
          <a:blip r:embed="rId2"/>
          <a:srcRect l="5469" t="20835" r="3126" b="8331"/>
          <a:stretch/>
        </p:blipFill>
        <p:spPr>
          <a:xfrm>
            <a:off x="1071720" y="2500200"/>
            <a:ext cx="6827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В разных странах 1 Мая приурочен к разным событиям, отмечается по-разному и имеет свои тради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42960" y="785880"/>
            <a:ext cx="8001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ФРАНЦИЯ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мая французы празднуют День ландыша. Эти цветы принято дарить друзьям, близким и просто прохожим. Французы засушивают цветок и хранят его на счастье до следующе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День ландыша Франция"/>
          <p:cNvPicPr/>
          <p:nvPr/>
        </p:nvPicPr>
        <p:blipFill>
          <a:blip r:embed="rId2"/>
          <a:stretch/>
        </p:blipFill>
        <p:spPr>
          <a:xfrm>
            <a:off x="1643040" y="2500200"/>
            <a:ext cx="58802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928800" y="0"/>
            <a:ext cx="750096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ГЕРМАНИЯ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честь возрождающейся природы и расцветающей весны на центральных площадях городов Германии 1 мая традиционно устанавливают Майское дерево, символ плодородия и нов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майское дерево в Германии"/>
          <p:cNvPicPr/>
          <p:nvPr/>
        </p:nvPicPr>
        <p:blipFill>
          <a:blip r:embed="rId2"/>
          <a:stretch/>
        </p:blipFill>
        <p:spPr>
          <a:xfrm>
            <a:off x="1571760" y="2000160"/>
            <a:ext cx="63500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fs01.vseosvita.ua/010095bl-7934-1200x84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928800" y="0"/>
            <a:ext cx="75009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ИТАЛИЯ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мая в Италии – Праздник флоры и цветов. Этот день считается самым счастливым в году, а потому многие юноши именно 1 мая делают предложение руки и сердца своим возлюбленным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италия праздник флоры"/>
          <p:cNvPicPr/>
          <p:nvPr/>
        </p:nvPicPr>
        <p:blipFill>
          <a:blip r:embed="rId2"/>
          <a:stretch/>
        </p:blipFill>
        <p:spPr>
          <a:xfrm>
            <a:off x="1500120" y="1857240"/>
            <a:ext cx="628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7T18:18:45Z</dcterms:created>
  <dc:creator>Ритм</dc:creator>
  <dc:description/>
  <dc:language>en-US</dc:language>
  <cp:lastModifiedBy>Admin</cp:lastModifiedBy>
  <dcterms:modified xsi:type="dcterms:W3CDTF">2023-05-01T15:47:49Z</dcterms:modified>
  <cp:revision>184</cp:revision>
  <dc:subject/>
  <dc:title>Слайд 1</dc:title>
</cp:coreProperties>
</file>