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6BCA-8674-4991-B9D9-4FE2FFD8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078F-B74C-4A15-9B47-5C3921E6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FBA7-B6F1-4981-BB77-7C029A80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8263-B81B-42D7-9FAB-E261F61E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3D62-1B3B-4A89-B641-D4BA029C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27A2-917C-4206-B3A0-E3D53EA9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0E0A-4D8B-4DC4-9839-6BE7DEAA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F997-9235-418B-942B-1190921C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9A8A-1272-4658-8347-764AB908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734E-828F-4855-B72F-CD902171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24C4-427E-4AB2-A1DC-E4A1FF36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B21D-A491-4BBE-93F9-93217349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076E-FB9A-487C-A180-646A17099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http://adm-leninskiy.ru/media/project_mo_187/09/66/7d/bc/b6/9c/1-mayaya.jpg"/>
          <p:cNvPicPr/>
          <p:nvPr/>
        </p:nvPicPr>
        <p:blipFill>
          <a:blip r:embed="rId1"/>
          <a:stretch/>
        </p:blipFill>
        <p:spPr>
          <a:xfrm>
            <a:off x="0" y="-28440"/>
            <a:ext cx="918216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s://fs01.vseosvita.ua/010095bl-7934-1200x84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928800" y="642960"/>
            <a:ext cx="75009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ФИНЛЯНД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Финляндии Первомай празднуют не так, как у нас. Этот день в стране посвящен учащимся ВУЗов. Он называется "День студента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https://www.vikids.ru/cdn-vikids-ru/uploads/ckeditor/pictures/5c90c2da6c1d4073c0d6e10d/content_7.jpg"/>
          <p:cNvPicPr/>
          <p:nvPr/>
        </p:nvPicPr>
        <p:blipFill>
          <a:blip r:embed="rId2"/>
          <a:stretch/>
        </p:blipFill>
        <p:spPr>
          <a:xfrm>
            <a:off x="1428840" y="2357280"/>
            <a:ext cx="642456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s://fs01.vseosvita.ua/010095bl-7934-1200x84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s://www.vikids.ru/cdn-vikids-ru/uploads/ckeditor/pictures/5c90c31d6c1d4073c0d6e1da/content_8.jpg"/>
          <p:cNvPicPr/>
          <p:nvPr/>
        </p:nvPicPr>
        <p:blipFill>
          <a:blip r:embed="rId2"/>
          <a:stretch/>
        </p:blipFill>
        <p:spPr>
          <a:xfrm>
            <a:off x="1285920" y="2214720"/>
            <a:ext cx="6643800" cy="44384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8"/>
          <p:cNvSpPr/>
          <p:nvPr/>
        </p:nvSpPr>
        <p:spPr>
          <a:xfrm>
            <a:off x="928800" y="42876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ВЕЛИКОБР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мая англичане отдают дань уважения природе. Во время него, жители Великобритании надевают на себя государственные костюмы. А затем идут плясать вокруг столбов на улице, которые украшают ленточками и другими красивыми вещами. 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s://fs01.vseosvita.ua/010095bl-7934-1200x84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/>
          <p:cNvSpPr/>
          <p:nvPr/>
        </p:nvSpPr>
        <p:spPr>
          <a:xfrm>
            <a:off x="1042920" y="2160"/>
            <a:ext cx="7358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играйте в игру 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  <a:ea typeface="Calibri"/>
              </a:rPr>
              <a:t>«</a:t>
            </a: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Что лишнее и почему?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  <a:ea typeface="Calibri"/>
              </a:rPr>
              <a:t>»</a:t>
            </a: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пать, сажать, мариновать, полив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д, огород, грабли, клумб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абли, кукла, лопата, тяп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s://fs01.vseosvita.ua/010095bl-7934-1200x84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"/>
          <p:cNvSpPr/>
          <p:nvPr/>
        </p:nvSpPr>
        <p:spPr>
          <a:xfrm>
            <a:off x="428760" y="736920"/>
            <a:ext cx="8715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играйте в игру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«Великан и Гномик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назови ласково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Великана сад, а у Гномик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Великана огород, а у Гномик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Великана парник, а у Гномик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Великана грядка, а у Гномик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Великана теплица, а у Гномик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s://fs01.vseosvita.ua/010095bl-7934-1200x84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"/>
          <p:cNvSpPr/>
          <p:nvPr/>
        </p:nvSpPr>
        <p:spPr>
          <a:xfrm>
            <a:off x="428760" y="454680"/>
            <a:ext cx="8715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играйте в игру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«Один – много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пата – лопаты – много лоп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плица - …              мног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ядка - …                мног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город - …               мног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д - …                     мног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ник - …               мног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s://fs01.vseosvita.ua/010095bl-7934-1200x84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1000080" y="457920"/>
            <a:ext cx="73580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играйте в игру  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«Сосчитай до 5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а грядка, две … три … четыре … пят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 огород, два … три … четыре … пят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а тачка, две… три … четыре … пят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 секатор, два … три … четыре … пят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о ведро, два… три … четыре … пят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s://fs01.vseosvita.ua/010095bl-7934-1200x84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56800" y="642600"/>
            <a:ext cx="7758360" cy="22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Тёплым днём весенним ясным</a:t>
            </a:r>
            <a:br>
              <a:rPr sz="2800"/>
            </a:b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Раньше всех, дружок, встречай</a:t>
            </a:r>
            <a:br>
              <a:rPr sz="2800"/>
            </a:b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Удивительный, прекрасный,</a:t>
            </a:r>
            <a:br>
              <a:rPr sz="2800"/>
            </a:b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Добрый праздник Первомай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2022120" y="3857760"/>
            <a:ext cx="52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s://fs01.vseosvita.ua/010095bl-7934-1200x8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28800" y="645120"/>
            <a:ext cx="735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РЕКОМЕНДАЦИИ РОДИТЕЛЯМ ПО ЛЕКСИЧЕСКОЙ 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«1 МАЯ – ПРАЗДНИК ВЕСНЫ И ТРУ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1571760" y="1515240"/>
            <a:ext cx="621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Спросите у ребенка, какие времена года он знает? Сколько месяцев в год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овторите с ребенком весенние месяцы. Какие весенние праздники вы знае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Расскажите ребенку, какое событие мы отмечаем 1 мая и почему отмечается этот праздник, что он означает. Найдите в интернете старые открытки – поздравления с праздником и покажите ребен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Объясните ребенку значение слов: Первомай, демонстрация, субботн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обеседуйте с ребенком о том, что нужно делать весной в огороде, в сад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s://fs01.vseosvita.ua/010095bl-7934-1200x8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9"/>
          <p:cNvSpPr/>
          <p:nvPr/>
        </p:nvSpPr>
        <p:spPr>
          <a:xfrm>
            <a:off x="4286160" y="2143080"/>
            <a:ext cx="403884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0"/>
          <p:cNvSpPr/>
          <p:nvPr/>
        </p:nvSpPr>
        <p:spPr>
          <a:xfrm>
            <a:off x="4356000" y="3068640"/>
            <a:ext cx="403884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годня мы поговорим о первом майском празднике –1 Мая. Но вначале давайте вспомним: что мы знаем о месяце мае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Май последний месяц весны, красивый, цветущий. В мае полностью оживает природа, оживает земля. Все труженики земли стараются успеть с весенними работами. Вот почему этот праздник называют Праздником весны и труда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4" descr="http://zabavnik.club/wp-content/uploads/Syuzhetnye_kartinki_36_24043016-1024x705.jpg"/>
          <p:cNvPicPr/>
          <p:nvPr/>
        </p:nvPicPr>
        <p:blipFill>
          <a:blip r:embed="rId2"/>
          <a:stretch/>
        </p:blipFill>
        <p:spPr>
          <a:xfrm>
            <a:off x="857160" y="1928880"/>
            <a:ext cx="74311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s://fs01.vseosvita.ua/010095bl-7934-1200x847.jpg"/>
          <p:cNvPicPr/>
          <p:nvPr/>
        </p:nvPicPr>
        <p:blipFill>
          <a:blip r:embed="rId1"/>
          <a:srcRect l="0" t="89589" r="0" b="0"/>
          <a:stretch/>
        </p:blipFill>
        <p:spPr>
          <a:xfrm>
            <a:off x="0" y="614376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0" y="90000"/>
            <a:ext cx="3143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В далеком 1886 году в Америке на улицу вышло много трудящихся на демонстрацию с требованиями к властям о том, чтобы они улучшили их жизнь. Но эту демонстрацию разогнали. Об этом узнал весь мир. В знак солидарности их поддержали рабочие многих стран. Солидарность – это поддержка, единая позиция в каком-то вопросе. В память о борцах с 1890 года день 1 Мая назвали Праздником трудящихся и начали отмечать во многих странах мир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Дни, посвященные труду и трудящимся, существуют в 142 стран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s://s16.stc.all.kpcdn.net/share/i/4/1487138/inx960x640.jpg"/>
          <p:cNvPicPr/>
          <p:nvPr/>
        </p:nvPicPr>
        <p:blipFill>
          <a:blip r:embed="rId2"/>
          <a:stretch/>
        </p:blipFill>
        <p:spPr>
          <a:xfrm>
            <a:off x="3005280" y="285840"/>
            <a:ext cx="613872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s://fs01.vseosvita.ua/010095bl-7934-1200x847.jpg"/>
          <p:cNvPicPr/>
          <p:nvPr/>
        </p:nvPicPr>
        <p:blipFill>
          <a:blip r:embed="rId1"/>
          <a:srcRect l="0" t="36461" r="0" b="0"/>
          <a:stretch/>
        </p:blipFill>
        <p:spPr>
          <a:xfrm>
            <a:off x="0" y="264312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0" y="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Каждый год в этот день школьники, студенты и трудящиеся шли на демонстр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Взрослые несли в руках большие флаги, цветы и транспаранты, а в руках у детишек были маленькие флажки и воздушные шарики. Все радовались весне, обновлению природы и теплым солнечным лучам. Вернувшись, домой, все садились за праздничный сто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Первомай был прекрасным поводом отправить друзьям и близким поздравительные открытки и пожелать здоровья и счаст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http://xn----7sbgbb2blsmakmo6k.xn--p1ai/images/IMG_6511.jpg"/>
          <p:cNvPicPr/>
          <p:nvPr/>
        </p:nvPicPr>
        <p:blipFill>
          <a:blip r:embed="rId2"/>
          <a:stretch/>
        </p:blipFill>
        <p:spPr>
          <a:xfrm>
            <a:off x="1285920" y="2500200"/>
            <a:ext cx="64674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s://fs01.vseosvita.ua/010095bl-7934-1200x847.jpg"/>
          <p:cNvPicPr/>
          <p:nvPr/>
        </p:nvPicPr>
        <p:blipFill>
          <a:blip r:embed="rId1"/>
          <a:srcRect l="0" t="36461" r="0" b="0"/>
          <a:stretch/>
        </p:blipFill>
        <p:spPr>
          <a:xfrm>
            <a:off x="0" y="200016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0" y="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1 мая 1990 года состоялась последняя первомайская демонстрация. День международной солидарности трудящихся был переименован в Праздник весны и труда. Сегодня его отмечают не так активно, как в былые годы. Но, поскольку этот день выходной, люди имеют возможность отдохнуть от работы, пригласить гостей или самим сходить в гости и приятно провести время в хороший весенний день. А некоторые, напротив, считают, что в День труда нужно непременно трудиться — отправляются на дачу и работают на ого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s://ds03.infourok.ru/uploads/ex/0548/0001c67f-b3efcb55/img6.jpg"/>
          <p:cNvPicPr/>
          <p:nvPr/>
        </p:nvPicPr>
        <p:blipFill>
          <a:blip r:embed="rId2"/>
          <a:srcRect l="5469" t="20835" r="3126" b="8331"/>
          <a:stretch/>
        </p:blipFill>
        <p:spPr>
          <a:xfrm>
            <a:off x="1071720" y="2500200"/>
            <a:ext cx="6827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s://fs01.vseosvita.ua/010095bl-7934-1200x84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В разных странах 1 Мая приурочен к разным событиям, отмечается по-разному и имеет свои тради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642960" y="785880"/>
            <a:ext cx="80010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ФРАНЦИЯ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мая французы празднуют День ландыша. Эти цветы принято дарить друзьям, близким и просто прохожим. Французы засушивают цветок и хранят его на счастье до следующего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День ландыша Франция"/>
          <p:cNvPicPr/>
          <p:nvPr/>
        </p:nvPicPr>
        <p:blipFill>
          <a:blip r:embed="rId2"/>
          <a:stretch/>
        </p:blipFill>
        <p:spPr>
          <a:xfrm>
            <a:off x="1643040" y="2500200"/>
            <a:ext cx="588024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s://fs01.vseosvita.ua/010095bl-7934-1200x84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5"/>
          <p:cNvSpPr/>
          <p:nvPr/>
        </p:nvSpPr>
        <p:spPr>
          <a:xfrm>
            <a:off x="928800" y="0"/>
            <a:ext cx="750096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ГЕРМАНИЯ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честь возрождающейся природы и расцветающей весны на центральных площадях городов Германии 1 мая традиционно устанавливают Майское дерево, символ плодородия и нов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майское дерево в Германии"/>
          <p:cNvPicPr/>
          <p:nvPr/>
        </p:nvPicPr>
        <p:blipFill>
          <a:blip r:embed="rId2"/>
          <a:stretch/>
        </p:blipFill>
        <p:spPr>
          <a:xfrm>
            <a:off x="1571760" y="2000160"/>
            <a:ext cx="635004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s://fs01.vseosvita.ua/010095bl-7934-1200x84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928800" y="0"/>
            <a:ext cx="75009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ИТАЛИЯ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мая в Италии – Праздник флоры и цветов. Этот день считается самым счастливым в году, а потому многие юноши именно 1 мая делают предложение руки и сердца своим возлюбленным.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италия праздник флоры"/>
          <p:cNvPicPr/>
          <p:nvPr/>
        </p:nvPicPr>
        <p:blipFill>
          <a:blip r:embed="rId2"/>
          <a:stretch/>
        </p:blipFill>
        <p:spPr>
          <a:xfrm>
            <a:off x="1500120" y="1857240"/>
            <a:ext cx="628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7T18:18:45Z</dcterms:created>
  <dc:creator>Ритм</dc:creator>
  <dc:description/>
  <dc:language>en-US</dc:language>
  <cp:lastModifiedBy>Admin</cp:lastModifiedBy>
  <dcterms:modified xsi:type="dcterms:W3CDTF">2023-05-01T15:47:49Z</dcterms:modified>
  <cp:revision>184</cp:revision>
  <dc:subject/>
  <dc:title>Слайд 1</dc:title>
</cp:coreProperties>
</file>