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EA05-2312-4FA3-8A95-A20C93EDA9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96FF-58DF-492D-A9C6-5781E7C774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4723-521A-4E90-8620-77EB5A6BB0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0B0-E96A-43DB-9633-C78D004B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236-65D5-41C8-ACEE-B5923DF4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53B-8CB8-4B89-99E0-11BDE54D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104-931F-43AD-84E6-602B6804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39DA-8D9E-4021-B3D8-D59FB9CC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E117-B782-4137-8B90-AEAD0797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8811-E056-427E-90EF-1B50B84A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877E-7933-4082-B3E8-256A90A5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DD96-D3D5-4393-AE4C-0F0B9094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CA00-0E27-4573-8FB0-113F62FA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2BF6-A33B-40D2-9FDA-0653F6B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91D-C6D3-471F-B775-D085CE50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3817-5182-449B-BA18-021268A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F76E-4F8F-406D-9C7B-B71631E5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3749-D148-4B76-9135-E31A7C6D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E831-577B-41E3-9E94-2BFF1F0D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BD1F-755A-4FE4-AF6A-D89C2479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E74-BC7B-4346-907F-E8F524B3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599-886C-4B26-99D4-B0090ABA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09A-915A-433D-9374-284A76B0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0DA-2047-4F3E-8009-8275C4F7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02D-3534-4FEC-94D9-C3ED07C1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084-5A5C-4942-B068-7B07BDE8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C67-A868-483E-BC78-943D7616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7B62-20AD-4C31-925B-C43E17BE3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F4A2-6756-467F-9754-CCAC25751B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ef0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356760"/>
            <a:ext cx="87138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«Здоровьесберегающие  технологии на уроках обслуживающего труда»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6" descr="картинки о здоровье"/>
          <p:cNvPicPr/>
          <p:nvPr/>
        </p:nvPicPr>
        <p:blipFill>
          <a:blip r:embed="rId1"/>
          <a:stretch/>
        </p:blipFill>
        <p:spPr>
          <a:xfrm>
            <a:off x="2357280" y="2714760"/>
            <a:ext cx="47149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991280" cy="4464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539640" y="333360"/>
            <a:ext cx="842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e4700"/>
                </a:solidFill>
                <a:latin typeface="Calibri"/>
              </a:rPr>
              <a:t>Мы думаем, Вы без сомнения знаете,</a:t>
            </a:r>
            <a:br>
              <a:rPr sz="2800"/>
            </a:br>
            <a:r>
              <a:rPr b="1" i="1" lang="ru-RU" sz="2800" spc="-1" strike="noStrike">
                <a:solidFill>
                  <a:srgbClr val="8e4700"/>
                </a:solidFill>
                <a:latin typeface="Calibri"/>
              </a:rPr>
              <a:t>Что пользу приносит не все, что съедаете.</a:t>
            </a:r>
            <a:br>
              <a:rPr sz="2800"/>
            </a:br>
            <a:r>
              <a:rPr b="1" i="1" lang="ru-RU" sz="2800" spc="-1" strike="noStrike">
                <a:solidFill>
                  <a:srgbClr val="8e4700"/>
                </a:solidFill>
                <a:latin typeface="Calibri"/>
              </a:rPr>
              <a:t>Запомним и всем объясним очень ясно:</a:t>
            </a:r>
            <a:br>
              <a:rPr sz="2800"/>
            </a:br>
            <a:r>
              <a:rPr b="1" i="1" lang="ru-RU" sz="2800" spc="-1" strike="noStrike">
                <a:solidFill>
                  <a:srgbClr val="8e4700"/>
                </a:solidFill>
                <a:latin typeface="Calibri"/>
              </a:rPr>
              <a:t>Желудок нельзя обижать понапрасн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283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4700"/>
                </a:solidFill>
                <a:latin typeface="Calibri"/>
              </a:rPr>
              <a:t>Гастрономическая револю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0" t="3789" r="7084" b="0"/>
          <a:stretch/>
        </p:blipFill>
        <p:spPr>
          <a:xfrm>
            <a:off x="395280" y="1197000"/>
            <a:ext cx="1517760" cy="2087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2843280" y="1197000"/>
            <a:ext cx="2016000" cy="1952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6" name="Picture 10" descr=""/>
          <p:cNvPicPr/>
          <p:nvPr/>
        </p:nvPicPr>
        <p:blipFill>
          <a:blip r:embed="rId3"/>
          <a:stretch/>
        </p:blipFill>
        <p:spPr>
          <a:xfrm>
            <a:off x="5940360" y="1197000"/>
            <a:ext cx="2303640" cy="16635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grpSp>
        <p:nvGrpSpPr>
          <p:cNvPr id="117" name="Group 19"/>
          <p:cNvGrpSpPr/>
          <p:nvPr/>
        </p:nvGrpSpPr>
        <p:grpSpPr>
          <a:xfrm>
            <a:off x="179280" y="1052640"/>
            <a:ext cx="1871640" cy="2447640"/>
            <a:chOff x="179280" y="1052640"/>
            <a:chExt cx="1871640" cy="2447640"/>
          </a:xfrm>
        </p:grpSpPr>
        <p:sp>
          <p:nvSpPr>
            <p:cNvPr id="118" name="Line 13"/>
            <p:cNvSpPr/>
            <p:nvPr/>
          </p:nvSpPr>
          <p:spPr>
            <a:xfrm>
              <a:off x="179280" y="1052640"/>
              <a:ext cx="1871640" cy="2339640"/>
            </a:xfrm>
            <a:prstGeom prst="line">
              <a:avLst/>
            </a:prstGeom>
            <a:ln w="7632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 flipH="1">
              <a:off x="230760" y="1052640"/>
              <a:ext cx="1691280" cy="2447640"/>
            </a:xfrm>
            <a:prstGeom prst="line">
              <a:avLst/>
            </a:prstGeom>
            <a:ln w="7632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20"/>
          <p:cNvGrpSpPr/>
          <p:nvPr/>
        </p:nvGrpSpPr>
        <p:grpSpPr>
          <a:xfrm>
            <a:off x="2914560" y="981000"/>
            <a:ext cx="1728000" cy="2303640"/>
            <a:chOff x="2914560" y="981000"/>
            <a:chExt cx="1728000" cy="2303640"/>
          </a:xfrm>
        </p:grpSpPr>
        <p:sp>
          <p:nvSpPr>
            <p:cNvPr id="121" name="Line 14"/>
            <p:cNvSpPr/>
            <p:nvPr/>
          </p:nvSpPr>
          <p:spPr>
            <a:xfrm>
              <a:off x="2914560" y="981000"/>
              <a:ext cx="1702800" cy="2202120"/>
            </a:xfrm>
            <a:prstGeom prst="line">
              <a:avLst/>
            </a:prstGeom>
            <a:ln w="7632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H="1">
              <a:off x="3103560" y="981000"/>
              <a:ext cx="1539000" cy="2303640"/>
            </a:xfrm>
            <a:prstGeom prst="line">
              <a:avLst/>
            </a:prstGeom>
            <a:ln w="7632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21"/>
          <p:cNvGrpSpPr/>
          <p:nvPr/>
        </p:nvGrpSpPr>
        <p:grpSpPr>
          <a:xfrm>
            <a:off x="6227640" y="981000"/>
            <a:ext cx="1583640" cy="2087640"/>
            <a:chOff x="6227640" y="981000"/>
            <a:chExt cx="1583640" cy="2087640"/>
          </a:xfrm>
        </p:grpSpPr>
        <p:sp>
          <p:nvSpPr>
            <p:cNvPr id="124" name="Line 15"/>
            <p:cNvSpPr/>
            <p:nvPr/>
          </p:nvSpPr>
          <p:spPr>
            <a:xfrm>
              <a:off x="6227640" y="981000"/>
              <a:ext cx="1481400" cy="1969560"/>
            </a:xfrm>
            <a:prstGeom prst="line">
              <a:avLst/>
            </a:prstGeom>
            <a:ln w="7632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18"/>
            <p:cNvSpPr/>
            <p:nvPr/>
          </p:nvSpPr>
          <p:spPr>
            <a:xfrm flipH="1">
              <a:off x="6334920" y="981000"/>
              <a:ext cx="1476360" cy="2087640"/>
            </a:xfrm>
            <a:prstGeom prst="line">
              <a:avLst/>
            </a:prstGeom>
            <a:ln w="76320">
              <a:solidFill>
                <a:srgbClr val="8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6" name="Picture 6" descr=""/>
          <p:cNvPicPr/>
          <p:nvPr/>
        </p:nvPicPr>
        <p:blipFill>
          <a:blip r:embed="rId4"/>
          <a:srcRect l="18481" t="0" r="19372" b="0"/>
          <a:stretch/>
        </p:blipFill>
        <p:spPr>
          <a:xfrm>
            <a:off x="395280" y="3068640"/>
            <a:ext cx="1990800" cy="3097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7" name="Picture 8" descr=""/>
          <p:cNvPicPr/>
          <p:nvPr/>
        </p:nvPicPr>
        <p:blipFill>
          <a:blip r:embed="rId5"/>
          <a:srcRect l="17883" t="16580" r="16151" b="8855"/>
          <a:stretch/>
        </p:blipFill>
        <p:spPr>
          <a:xfrm>
            <a:off x="3203640" y="2924280"/>
            <a:ext cx="2232000" cy="1888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3995640" y="4437000"/>
            <a:ext cx="1803600" cy="2160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9" name="Picture 11" descr=""/>
          <p:cNvPicPr/>
          <p:nvPr/>
        </p:nvPicPr>
        <p:blipFill>
          <a:blip r:embed="rId7"/>
          <a:stretch/>
        </p:blipFill>
        <p:spPr>
          <a:xfrm>
            <a:off x="7236000" y="2708280"/>
            <a:ext cx="1441440" cy="2521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0" name="Picture 12" descr=""/>
          <p:cNvPicPr/>
          <p:nvPr/>
        </p:nvPicPr>
        <p:blipFill>
          <a:blip r:embed="rId8"/>
          <a:stretch/>
        </p:blipFill>
        <p:spPr>
          <a:xfrm>
            <a:off x="6443640" y="4797360"/>
            <a:ext cx="1800360" cy="1629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283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4700"/>
                </a:solidFill>
                <a:latin typeface="Calibri"/>
              </a:rPr>
              <a:t>Актуальность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95280" y="1989000"/>
            <a:ext cx="7848720" cy="576360"/>
          </a:xfrm>
          <a:custGeom>
            <a:avLst/>
            <a:gdLst>
              <a:gd name="textAreaLeft" fmla="*/ 55800 w 7848720"/>
              <a:gd name="textAreaRight" fmla="*/ 7792920 w 7848720"/>
              <a:gd name="textAreaTop" fmla="*/ 55800 h 576360"/>
              <a:gd name="textAreaBottom" fmla="*/ 520560 h 576360"/>
            </a:gdLst>
            <a:ahLst/>
            <a:rect l="textAreaLeft" t="textAreaTop" r="textAreaRight" b="textAreaBottom"/>
            <a:pathLst>
              <a:path w="293973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291003" y="21600"/>
                </a:lnTo>
                <a:arcTo wR="2970" hR="2970" stAng="10800000" swAng="5400000"/>
                <a:lnTo>
                  <a:pt x="293973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000"/>
                </a:solidFill>
                <a:latin typeface="Calibri"/>
              </a:rPr>
              <a:t>Дисбаланс нутриентов приводит к снижению  иммунитет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000"/>
                </a:solidFill>
                <a:latin typeface="Calibri"/>
              </a:rPr>
              <a:t>ряду заболеваний и нагрузке на нервную сист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95280" y="3429000"/>
            <a:ext cx="7775640" cy="431640"/>
          </a:xfrm>
          <a:custGeom>
            <a:avLst/>
            <a:gdLst>
              <a:gd name="textAreaLeft" fmla="*/ 41760 w 7775640"/>
              <a:gd name="textAreaRight" fmla="*/ 7733880 w 7775640"/>
              <a:gd name="textAreaTop" fmla="*/ 41760 h 431640"/>
              <a:gd name="textAreaBottom" fmla="*/ 389880 h 431640"/>
            </a:gdLst>
            <a:ahLst/>
            <a:rect l="textAreaLeft" t="textAreaTop" r="textAreaRight" b="textAreaBottom"/>
            <a:pathLst>
              <a:path w="388800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385830" y="21600"/>
                </a:lnTo>
                <a:arcTo wR="2970" hR="2970" stAng="10800000" swAng="5400000"/>
                <a:lnTo>
                  <a:pt x="388800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3000"/>
                </a:solidFill>
                <a:latin typeface="Calibri"/>
              </a:rPr>
              <a:t>Неорганизованное пит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0920" y="4797360"/>
            <a:ext cx="1657080" cy="1224000"/>
          </a:xfrm>
          <a:custGeom>
            <a:avLst/>
            <a:gdLst>
              <a:gd name="textAreaLeft" fmla="*/ 118800 w 1657080"/>
              <a:gd name="textAreaRight" fmla="*/ 1538280 w 1657080"/>
              <a:gd name="textAreaTop" fmla="*/ 118800 h 1224000"/>
              <a:gd name="textAreaBottom" fmla="*/ 1105200 h 1224000"/>
            </a:gdLst>
            <a:ahLst/>
            <a:rect l="textAreaLeft" t="textAreaTop" r="textAreaRight" b="textAreaBottom"/>
            <a:pathLst>
              <a:path w="29240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26270" y="21600"/>
                </a:lnTo>
                <a:arcTo wR="2970" hR="2970" stAng="10800000" swAng="5400000"/>
                <a:lnTo>
                  <a:pt x="29240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85dfd0"/>
              </a:gs>
              <a:gs pos="50000">
                <a:srgbClr val="ffffff"/>
              </a:gs>
              <a:gs pos="100000">
                <a:srgbClr val="85dfd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508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Отсут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полноценн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школьн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1979640" y="4797360"/>
            <a:ext cx="1942920" cy="1224000"/>
          </a:xfrm>
          <a:custGeom>
            <a:avLst/>
            <a:gdLst>
              <a:gd name="textAreaLeft" fmla="*/ 118800 w 1942920"/>
              <a:gd name="textAreaRight" fmla="*/ 1824120 w 1942920"/>
              <a:gd name="textAreaTop" fmla="*/ 118800 h 1224000"/>
              <a:gd name="textAreaBottom" fmla="*/ 1105200 h 1224000"/>
            </a:gdLst>
            <a:ahLst/>
            <a:rect l="textAreaLeft" t="textAreaTop" r="textAreaRight" b="textAreaBottom"/>
            <a:pathLst>
              <a:path w="34283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31313" y="21600"/>
                </a:lnTo>
                <a:arcTo wR="2970" hR="2970" stAng="10800000" swAng="5400000"/>
                <a:lnTo>
                  <a:pt x="34283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85dfd0"/>
              </a:gs>
              <a:gs pos="50000">
                <a:srgbClr val="ffffff"/>
              </a:gs>
              <a:gs pos="100000">
                <a:srgbClr val="85dfd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508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Несогласова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школьного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домашн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раци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067280" y="4797360"/>
            <a:ext cx="1224000" cy="1224000"/>
          </a:xfrm>
          <a:custGeom>
            <a:avLst/>
            <a:gdLst>
              <a:gd name="textAreaLeft" fmla="*/ 118800 w 1224000"/>
              <a:gd name="textAreaRight" fmla="*/ 1105200 w 1224000"/>
              <a:gd name="textAreaTop" fmla="*/ 118800 h 1224000"/>
              <a:gd name="textAreaBottom" fmla="*/ 1105200 h 1224000"/>
            </a:gdLst>
            <a:ahLst/>
            <a:rect l="textAreaLeft" t="textAreaTop" r="textAreaRight" b="textAreaBottom"/>
            <a:pathLst>
              <a:path w="21600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18630" y="21600"/>
                </a:lnTo>
                <a:arcTo wR="2970" hR="2970" stAng="10800000" swAng="5400000"/>
                <a:lnTo>
                  <a:pt x="21600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85dfd0"/>
              </a:gs>
              <a:gs pos="50000">
                <a:srgbClr val="ffffff"/>
              </a:gs>
              <a:gs pos="100000">
                <a:srgbClr val="85dfd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508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Отсут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режи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435640" y="4797360"/>
            <a:ext cx="1224000" cy="1224000"/>
          </a:xfrm>
          <a:custGeom>
            <a:avLst/>
            <a:gdLst>
              <a:gd name="textAreaLeft" fmla="*/ 118800 w 1224000"/>
              <a:gd name="textAreaRight" fmla="*/ 1105200 w 1224000"/>
              <a:gd name="textAreaTop" fmla="*/ 118800 h 1224000"/>
              <a:gd name="textAreaBottom" fmla="*/ 1105200 h 1224000"/>
            </a:gdLst>
            <a:ahLst/>
            <a:rect l="textAreaLeft" t="textAreaTop" r="textAreaRight" b="textAreaBottom"/>
            <a:pathLst>
              <a:path w="21600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18630" y="21600"/>
                </a:lnTo>
                <a:arcTo wR="2970" hR="2970" stAng="10800000" swAng="5400000"/>
                <a:lnTo>
                  <a:pt x="21600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85dfd0"/>
              </a:gs>
              <a:gs pos="50000">
                <a:srgbClr val="ffffff"/>
              </a:gs>
              <a:gs pos="100000">
                <a:srgbClr val="85dfd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508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Отсут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культур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804000" y="4797360"/>
            <a:ext cx="1584360" cy="1224000"/>
          </a:xfrm>
          <a:custGeom>
            <a:avLst/>
            <a:gdLst>
              <a:gd name="textAreaLeft" fmla="*/ 118800 w 1584360"/>
              <a:gd name="textAreaRight" fmla="*/ 1465560 w 1584360"/>
              <a:gd name="textAreaTop" fmla="*/ 118800 h 1224000"/>
              <a:gd name="textAreaBottom" fmla="*/ 1105200 h 1224000"/>
            </a:gdLst>
            <a:ahLst/>
            <a:rect l="textAreaLeft" t="textAreaTop" r="textAreaRight" b="textAreaBottom"/>
            <a:pathLst>
              <a:path w="27957" h="21600">
                <a:moveTo>
                  <a:pt x="2970" y="0"/>
                </a:moveTo>
                <a:arcTo wR="2970" hR="2970" stAng="0" swAng="5400000"/>
                <a:lnTo>
                  <a:pt x="0" y="18630"/>
                </a:lnTo>
                <a:arcTo wR="2970" hR="2970" stAng="16200000" swAng="5400000"/>
                <a:lnTo>
                  <a:pt x="24987" y="21600"/>
                </a:lnTo>
                <a:arcTo wR="2970" hR="2970" stAng="10800000" swAng="5400000"/>
                <a:lnTo>
                  <a:pt x="27957" y="2970"/>
                </a:lnTo>
                <a:arcTo wR="2970" hR="2970" stAng="5400000" swAng="5400000"/>
                <a:close/>
              </a:path>
            </a:pathLst>
          </a:custGeom>
          <a:gradFill rotWithShape="0">
            <a:gsLst>
              <a:gs pos="0">
                <a:srgbClr val="85dfd0"/>
              </a:gs>
              <a:gs pos="50000">
                <a:srgbClr val="ffffff"/>
              </a:gs>
              <a:gs pos="100000">
                <a:srgbClr val="85dfd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5086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Отсут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достовер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информ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14"/>
          <p:cNvSpPr/>
          <p:nvPr/>
        </p:nvSpPr>
        <p:spPr>
          <a:xfrm rot="16200000">
            <a:off x="3817080" y="1087920"/>
            <a:ext cx="646200" cy="1152360"/>
          </a:xfrm>
          <a:prstGeom prst="pie">
            <a:avLst/>
          </a:prstGeom>
          <a:solidFill>
            <a:srgbClr val="f1b499"/>
          </a:solidFill>
          <a:ln w="12600">
            <a:solidFill>
              <a:srgbClr val="603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15"/>
          <p:cNvSpPr/>
          <p:nvPr/>
        </p:nvSpPr>
        <p:spPr>
          <a:xfrm rot="16200000">
            <a:off x="3817080" y="2527920"/>
            <a:ext cx="646200" cy="1152360"/>
          </a:xfrm>
          <a:prstGeom prst="pie">
            <a:avLst/>
          </a:prstGeom>
          <a:solidFill>
            <a:srgbClr val="f1b499"/>
          </a:solidFill>
          <a:ln w="12600">
            <a:solidFill>
              <a:srgbClr val="603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21"/>
          <p:cNvGrpSpPr/>
          <p:nvPr/>
        </p:nvGrpSpPr>
        <p:grpSpPr>
          <a:xfrm>
            <a:off x="1039680" y="4005000"/>
            <a:ext cx="6627960" cy="790920"/>
            <a:chOff x="1039680" y="4005000"/>
            <a:chExt cx="6627960" cy="790920"/>
          </a:xfrm>
        </p:grpSpPr>
        <p:sp>
          <p:nvSpPr>
            <p:cNvPr id="142" name="AutoShape 16"/>
            <p:cNvSpPr/>
            <p:nvPr/>
          </p:nvSpPr>
          <p:spPr>
            <a:xfrm rot="16200000">
              <a:off x="861120" y="4183200"/>
              <a:ext cx="788760" cy="432000"/>
            </a:xfrm>
            <a:prstGeom prst="pie">
              <a:avLst/>
            </a:prstGeom>
            <a:solidFill>
              <a:srgbClr val="f3ffd1"/>
            </a:solidFill>
            <a:ln w="12600">
              <a:solidFill>
                <a:srgbClr val="00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AutoShape 17"/>
            <p:cNvSpPr/>
            <p:nvPr/>
          </p:nvSpPr>
          <p:spPr>
            <a:xfrm rot="16200000">
              <a:off x="2589120" y="4184640"/>
              <a:ext cx="790560" cy="431640"/>
            </a:xfrm>
            <a:prstGeom prst="pie">
              <a:avLst/>
            </a:prstGeom>
            <a:solidFill>
              <a:srgbClr val="f3ffd1"/>
            </a:solidFill>
            <a:ln w="12600">
              <a:solidFill>
                <a:srgbClr val="00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AutoShape 18"/>
            <p:cNvSpPr/>
            <p:nvPr/>
          </p:nvSpPr>
          <p:spPr>
            <a:xfrm rot="16200000">
              <a:off x="4246560" y="4184640"/>
              <a:ext cx="790560" cy="432000"/>
            </a:xfrm>
            <a:prstGeom prst="pie">
              <a:avLst/>
            </a:prstGeom>
            <a:solidFill>
              <a:srgbClr val="f3ffd1"/>
            </a:solidFill>
            <a:ln w="12600">
              <a:solidFill>
                <a:srgbClr val="00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AutoShape 19"/>
            <p:cNvSpPr/>
            <p:nvPr/>
          </p:nvSpPr>
          <p:spPr>
            <a:xfrm rot="16200000">
              <a:off x="5686200" y="4184640"/>
              <a:ext cx="790560" cy="431640"/>
            </a:xfrm>
            <a:prstGeom prst="pie">
              <a:avLst/>
            </a:prstGeom>
            <a:solidFill>
              <a:srgbClr val="f3ffd1"/>
            </a:solidFill>
            <a:ln w="12600">
              <a:solidFill>
                <a:srgbClr val="00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AutoShape 20"/>
            <p:cNvSpPr/>
            <p:nvPr/>
          </p:nvSpPr>
          <p:spPr>
            <a:xfrm rot="16200000">
              <a:off x="7056360" y="4184640"/>
              <a:ext cx="790560" cy="431640"/>
            </a:xfrm>
            <a:prstGeom prst="pie">
              <a:avLst/>
            </a:prstGeom>
            <a:solidFill>
              <a:srgbClr val="f3ffd1"/>
            </a:solidFill>
            <a:ln w="12600">
              <a:solidFill>
                <a:srgbClr val="00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e4700"/>
                </a:solidFill>
                <a:uFillTx/>
                <a:latin typeface="Calibri"/>
              </a:rPr>
              <a:t>Условия здорового пит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395280" y="1703520"/>
            <a:ext cx="1657440" cy="79200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5" y="0"/>
                </a:lnTo>
                <a:lnTo>
                  <a:pt x="21600" y="10800"/>
                </a:lnTo>
                <a:lnTo>
                  <a:pt x="142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e00"/>
          </a:solidFill>
          <a:ln w="0">
            <a:noFill/>
          </a:ln>
          <a:effectLst>
            <a:outerShdw dist="153753" dir="2700000" blurRad="0" rotWithShape="0">
              <a:srgbClr val="005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ж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763640" y="1700280"/>
            <a:ext cx="6769080" cy="79200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7" y="0"/>
                </a:lnTo>
                <a:lnTo>
                  <a:pt x="21600" y="10800"/>
                </a:lnTo>
                <a:lnTo>
                  <a:pt x="19477" y="21600"/>
                </a:lnTo>
                <a:lnTo>
                  <a:pt x="0" y="21600"/>
                </a:lnTo>
                <a:lnTo>
                  <a:pt x="2123" y="10800"/>
                </a:lnTo>
                <a:close/>
              </a:path>
            </a:pathLst>
          </a:custGeom>
          <a:solidFill>
            <a:srgbClr val="f3ffd1"/>
          </a:solidFill>
          <a:ln w="0">
            <a:noFill/>
          </a:ln>
          <a:effectLst>
            <a:outerShdw dist="153753" dir="2700000" blurRad="0" rotWithShape="0">
              <a:srgbClr val="929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4 – 5 разовое пита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395280" y="2854440"/>
            <a:ext cx="1657440" cy="79200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5" y="0"/>
                </a:lnTo>
                <a:lnTo>
                  <a:pt x="21600" y="10800"/>
                </a:lnTo>
                <a:lnTo>
                  <a:pt x="142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e00"/>
          </a:solidFill>
          <a:ln w="0">
            <a:noFill/>
          </a:ln>
          <a:effectLst>
            <a:outerShdw dist="153753" dir="2700000" blurRad="0" rotWithShape="0">
              <a:srgbClr val="005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ци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763640" y="2852640"/>
            <a:ext cx="6769080" cy="79236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6" y="0"/>
                </a:lnTo>
                <a:lnTo>
                  <a:pt x="21600" y="10800"/>
                </a:lnTo>
                <a:lnTo>
                  <a:pt x="19366" y="21600"/>
                </a:lnTo>
                <a:lnTo>
                  <a:pt x="0" y="21600"/>
                </a:lnTo>
                <a:lnTo>
                  <a:pt x="2234" y="10800"/>
                </a:lnTo>
                <a:close/>
              </a:path>
            </a:pathLst>
          </a:custGeom>
          <a:solidFill>
            <a:srgbClr val="f3ffd1"/>
          </a:solidFill>
          <a:ln w="0">
            <a:noFill/>
          </a:ln>
          <a:effectLst>
            <a:outerShdw dist="153753" dir="2700000" blurRad="0" rotWithShape="0">
              <a:srgbClr val="929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-качественные, полезные продук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обеспечивающие рост и развитие ребё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395280" y="3933720"/>
            <a:ext cx="1657440" cy="79236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5" y="0"/>
                </a:lnTo>
                <a:lnTo>
                  <a:pt x="21600" y="10800"/>
                </a:lnTo>
                <a:lnTo>
                  <a:pt x="142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e00"/>
          </a:solidFill>
          <a:ln w="0">
            <a:noFill/>
          </a:ln>
          <a:effectLst>
            <a:outerShdw dist="153753" dir="2700000" blurRad="0" rotWithShape="0">
              <a:srgbClr val="005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ци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11"/>
          <p:cNvSpPr/>
          <p:nvPr/>
        </p:nvSpPr>
        <p:spPr>
          <a:xfrm>
            <a:off x="1763640" y="3933720"/>
            <a:ext cx="6769080" cy="79236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7" y="0"/>
                </a:lnTo>
                <a:lnTo>
                  <a:pt x="21600" y="10800"/>
                </a:lnTo>
                <a:lnTo>
                  <a:pt x="19477" y="21600"/>
                </a:lnTo>
                <a:lnTo>
                  <a:pt x="0" y="21600"/>
                </a:lnTo>
                <a:lnTo>
                  <a:pt x="2123" y="10800"/>
                </a:lnTo>
                <a:close/>
              </a:path>
            </a:pathLst>
          </a:custGeom>
          <a:solidFill>
            <a:srgbClr val="f3ffd1"/>
          </a:solidFill>
          <a:ln w="0">
            <a:noFill/>
          </a:ln>
          <a:effectLst>
            <a:outerShdw dist="153753" dir="2700000" blurRad="0" rotWithShape="0">
              <a:srgbClr val="929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-строгое соблюдения содерж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нутриентов согласно возрас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12"/>
          <p:cNvSpPr/>
          <p:nvPr/>
        </p:nvSpPr>
        <p:spPr>
          <a:xfrm>
            <a:off x="395280" y="5013360"/>
            <a:ext cx="1657440" cy="79200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5" y="0"/>
                </a:lnTo>
                <a:lnTo>
                  <a:pt x="21600" y="10800"/>
                </a:lnTo>
                <a:lnTo>
                  <a:pt x="142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e00"/>
          </a:solidFill>
          <a:ln w="0">
            <a:noFill/>
          </a:ln>
          <a:effectLst>
            <a:outerShdw dist="153753" dir="2700000" blurRad="0" rotWithShape="0">
              <a:srgbClr val="005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о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сло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1763640" y="5013360"/>
            <a:ext cx="6769080" cy="79200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7" y="0"/>
                </a:lnTo>
                <a:lnTo>
                  <a:pt x="21600" y="10800"/>
                </a:lnTo>
                <a:lnTo>
                  <a:pt x="19477" y="21600"/>
                </a:lnTo>
                <a:lnTo>
                  <a:pt x="0" y="21600"/>
                </a:lnTo>
                <a:lnTo>
                  <a:pt x="2123" y="10800"/>
                </a:lnTo>
                <a:close/>
              </a:path>
            </a:pathLst>
          </a:custGeom>
          <a:solidFill>
            <a:srgbClr val="f3ffd1"/>
          </a:solidFill>
          <a:ln w="0">
            <a:noFill/>
          </a:ln>
          <a:effectLst>
            <a:outerShdw dist="153753" dir="2700000" blurRad="0" rotWithShape="0">
              <a:srgbClr val="929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2a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00"/>
                </a:solidFill>
                <a:latin typeface="Calibri"/>
              </a:rPr>
              <a:t>наличие горячих блю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2a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a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a00"/>
                </a:solidFill>
                <a:latin typeface="Calibri"/>
              </a:rPr>
              <a:t>выработка правильных вкусовых предпочт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2a00"/>
                </a:solidFill>
                <a:latin typeface="Calibri"/>
              </a:rPr>
              <a:t>Исследования показывают</a:t>
            </a:r>
            <a:r>
              <a:rPr b="0" lang="ru-RU" sz="4400" spc="-1" strike="noStrike">
                <a:solidFill>
                  <a:srgbClr val="682a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755640" y="2276640"/>
            <a:ext cx="2016000" cy="115236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819" y="0"/>
                </a:lnTo>
                <a:lnTo>
                  <a:pt x="21600" y="10800"/>
                </a:lnTo>
                <a:lnTo>
                  <a:pt x="128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e00"/>
          </a:solidFill>
          <a:ln w="0">
            <a:noFill/>
          </a:ln>
          <a:effectLst>
            <a:outerShdw dist="153753" dir="2700000" blurRad="0" rotWithShape="0">
              <a:srgbClr val="005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124000" y="1916280"/>
            <a:ext cx="7020000" cy="1728720"/>
          </a:xfrm>
          <a:custGeom>
            <a:avLst/>
            <a:gdLst>
              <a:gd name="textAreaLeft" fmla="*/ 0 w 7020000"/>
              <a:gd name="textAreaRight" fmla="*/ 7020360 w 702000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36" y="0"/>
                </a:lnTo>
                <a:lnTo>
                  <a:pt x="21600" y="10800"/>
                </a:lnTo>
                <a:lnTo>
                  <a:pt x="17136" y="21600"/>
                </a:lnTo>
                <a:lnTo>
                  <a:pt x="0" y="21600"/>
                </a:lnTo>
                <a:lnTo>
                  <a:pt x="4464" y="10800"/>
                </a:lnTo>
                <a:close/>
              </a:path>
            </a:pathLst>
          </a:custGeom>
          <a:solidFill>
            <a:srgbClr val="f3ffd1"/>
          </a:solidFill>
          <a:ln w="0">
            <a:noFill/>
          </a:ln>
          <a:effectLst>
            <a:outerShdw dist="153753" dir="2700000" blurRad="0" rotWithShape="0">
              <a:srgbClr val="929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первые признаки хронических заболев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(ожирение, сердечно-сосудистые заболеван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онкология, нарушения пищеваре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82a00"/>
                </a:solidFill>
                <a:latin typeface="Calibri"/>
              </a:rPr>
              <a:t>проявляются  в ю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2195640" y="3933720"/>
            <a:ext cx="6948360" cy="1871640"/>
          </a:xfrm>
          <a:custGeom>
            <a:avLst/>
            <a:gdLst>
              <a:gd name="textAreaLeft" fmla="*/ 0 w 6948360"/>
              <a:gd name="textAreaRight" fmla="*/ 6948720 w 6948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9" y="0"/>
                </a:lnTo>
                <a:lnTo>
                  <a:pt x="21600" y="10800"/>
                </a:lnTo>
                <a:lnTo>
                  <a:pt x="16709" y="21600"/>
                </a:lnTo>
                <a:lnTo>
                  <a:pt x="0" y="21600"/>
                </a:lnTo>
                <a:lnTo>
                  <a:pt x="4891" y="10800"/>
                </a:lnTo>
                <a:close/>
              </a:path>
            </a:pathLst>
          </a:custGeom>
          <a:solidFill>
            <a:srgbClr val="f3ffd1"/>
          </a:solidFill>
          <a:ln w="0">
            <a:noFill/>
          </a:ln>
          <a:effectLst>
            <a:outerShdw dist="153753" dir="2700000" blurRad="0" rotWithShape="0">
              <a:srgbClr val="929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просвещение в области питания оказыв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существен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влияние на формирование полезных для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привычек и ведет к уменьшению 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82a00"/>
                </a:solidFill>
                <a:latin typeface="Calibri"/>
              </a:rPr>
              <a:t>возникновения болезней, связанных с питан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826920" y="4221000"/>
            <a:ext cx="2016360" cy="122400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270" y="0"/>
                </a:lnTo>
                <a:lnTo>
                  <a:pt x="21600" y="10800"/>
                </a:lnTo>
                <a:lnTo>
                  <a:pt x="122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e00"/>
          </a:solidFill>
          <a:ln w="0">
            <a:noFill/>
          </a:ln>
          <a:effectLst>
            <a:outerShdw dist="153753" dir="2700000" blurRad="0" rotWithShape="0">
              <a:srgbClr val="005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7"/>
          <p:cNvSpPr/>
          <p:nvPr/>
        </p:nvSpPr>
        <p:spPr>
          <a:xfrm>
            <a:off x="4211640" y="6237360"/>
            <a:ext cx="172872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сло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6"/>
          <p:cNvSpPr/>
          <p:nvPr/>
        </p:nvSpPr>
        <p:spPr>
          <a:xfrm>
            <a:off x="2411280" y="6237360"/>
            <a:ext cx="172908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ж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3348000" y="5661000"/>
            <a:ext cx="172872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Микроэлемен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1332000" y="5661000"/>
            <a:ext cx="424800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неральные ве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332000" y="274680"/>
            <a:ext cx="7354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e47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8e4700"/>
                </a:solidFill>
                <a:latin typeface="Calibri"/>
              </a:rPr>
              <a:t>Выво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4788000" y="1413000"/>
          <a:ext cx="139536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139536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4"/>
          <p:cNvGraphicFramePr/>
          <p:nvPr/>
        </p:nvGraphicFramePr>
        <p:xfrm>
          <a:off x="2268360" y="1268280"/>
          <a:ext cx="1629000" cy="35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268280"/>
                    <a:ext cx="16290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18"/>
          <p:cNvSpPr/>
          <p:nvPr/>
        </p:nvSpPr>
        <p:spPr>
          <a:xfrm>
            <a:off x="826920" y="5084640"/>
            <a:ext cx="172908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е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2627280" y="5084640"/>
            <a:ext cx="172872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Жи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4427640" y="5084640"/>
            <a:ext cx="172872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гле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6227640" y="5084640"/>
            <a:ext cx="172908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итам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4"/>
          <p:cNvSpPr/>
          <p:nvPr/>
        </p:nvSpPr>
        <p:spPr>
          <a:xfrm>
            <a:off x="5580000" y="5661000"/>
            <a:ext cx="1728720" cy="503280"/>
          </a:xfrm>
          <a:prstGeom prst="rect">
            <a:avLst/>
          </a:prstGeom>
          <a:solidFill>
            <a:srgbClr val="68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ал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5"/>
          <p:cNvSpPr/>
          <p:nvPr/>
        </p:nvSpPr>
        <p:spPr>
          <a:xfrm>
            <a:off x="826920" y="4437000"/>
            <a:ext cx="7058160" cy="503280"/>
          </a:xfrm>
          <a:prstGeom prst="rect">
            <a:avLst/>
          </a:prstGeom>
          <a:solidFill>
            <a:srgbClr val="cde9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82a00"/>
                </a:solidFill>
                <a:uFillTx/>
                <a:latin typeface="Calibri"/>
              </a:rPr>
              <a:t>Здоровое п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187280" y="112320"/>
            <a:ext cx="6553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  <a:ea typeface="Times New Roman"/>
              </a:rPr>
              <a:t>Здоровье человека – одна из предпосылок счастья и его полноценной жизни. Не случайно на вопрос о том, что является более ценным для человека – богатство или слава, Артур Шопенгауэр ответил: «Ни богатство, ни слава не делают человека счастливым. Здоровый нищий счастливее больного короля»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324000" y="333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50"/>
                </a:solidFill>
                <a:uFillTx/>
                <a:latin typeface="Calibri"/>
              </a:rPr>
              <a:t>На уроках трудового обучения прежде всего создаются условия для здорового развития детей: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fotofilmi.ru/files/thumbs/300235579490071-big.jpg"/>
          <p:cNvPicPr/>
          <p:nvPr/>
        </p:nvPicPr>
        <p:blipFill>
          <a:blip r:embed="rId1"/>
          <a:stretch/>
        </p:blipFill>
        <p:spPr>
          <a:xfrm>
            <a:off x="755640" y="2276640"/>
            <a:ext cx="7777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Гигиенические условия в кабине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64000" y="1125000"/>
            <a:ext cx="518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нитарно-эпидемиологические правила и нормативы СанПиН 2.4.2.1178-02 :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истота, температура и свежесть воздуха, рациональность освещения класса и дос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14680" y="6138720"/>
            <a:ext cx="648324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592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иды деятельности, используемые учителями технологии на уроках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400" y="135720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ос учащихс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ени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шани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каз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з материалов с применением ИК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атривание наглядных пособи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ы на вопрос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технологических зада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ческие работы( Для учащихся 5-7 классов 65% времени занятия. Длительность непрерывной работы по основным трудовым операциям в 5-х классах – 10минут, в 6-х – 12, в 7-х – 15 мину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259920"/>
            <a:ext cx="8229600" cy="16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 методов, способствующих активизации инициативы и творческого самовыражения учащихся,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торые позволяют им превратиться в субъекты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ы свободного выбор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вободная беседа; выбор действия, его способа; выбор приемов взаимодействия; свобода творчества и т.д.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ктивные методы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ученики в роли учителя, обсуждение в группах, ролевая игра, дискуссия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 проек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аправленный на развитие творческих способностей, самопознание и развитие интеллекта, эмоций, общения, воображения, самооценки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оцен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6" descr="http://www.v3wall.com/wallpaper/medium/1001/medium_20100116095202369756.jpg"/>
          <p:cNvPicPr/>
          <p:nvPr/>
        </p:nvPicPr>
        <p:blipFill>
          <a:blip r:embed="rId1"/>
          <a:stretch/>
        </p:blipFill>
        <p:spPr>
          <a:xfrm>
            <a:off x="3203640" y="2060640"/>
            <a:ext cx="5940360" cy="4456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7"/>
          <p:cNvSpPr/>
          <p:nvPr/>
        </p:nvSpPr>
        <p:spPr>
          <a:xfrm>
            <a:off x="3276720" y="333360"/>
            <a:ext cx="55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изкультминутки, физкультпау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0" y="476280"/>
            <a:ext cx="313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вляются обязательной составной частью уро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Норма - на 15-20 минуте урока по 1 минуте из трех легких упражнений с 3-4 повторениями каждого, а также важен эмоциональный климат во время выполнения упражнений и наличие у школьников желания их выполня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95280" y="260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технологии позволяет органично вписывать принципы здоровьясбережения в темы уро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2" descr="картинки про здоровье"/>
          <p:cNvPicPr/>
          <p:nvPr/>
        </p:nvPicPr>
        <p:blipFill>
          <a:blip r:embed="rId1"/>
          <a:stretch/>
        </p:blipFill>
        <p:spPr>
          <a:xfrm>
            <a:off x="1547640" y="1844640"/>
            <a:ext cx="6409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картинки про здоровье"/>
          <p:cNvPicPr/>
          <p:nvPr/>
        </p:nvPicPr>
        <p:blipFill>
          <a:blip r:embed="rId1"/>
          <a:stretch/>
        </p:blipFill>
        <p:spPr>
          <a:xfrm>
            <a:off x="2771640" y="333360"/>
            <a:ext cx="6147000" cy="63626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324000" y="692280"/>
            <a:ext cx="27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рагмент с урока по культуре п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17:07:33Z</dcterms:created>
  <dc:creator>Nadezda</dc:creator>
  <dc:description/>
  <dc:language>en-US</dc:language>
  <cp:lastModifiedBy>User</cp:lastModifiedBy>
  <dcterms:modified xsi:type="dcterms:W3CDTF">2023-05-01T09:43:42Z</dcterms:modified>
  <cp:revision>48</cp:revision>
  <dc:subject/>
  <dc:title>Профориентация          на уроках технологии  Учитель технологии Уралева Н.С.</dc:title>
</cp:coreProperties>
</file>