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7F7-3C87-4CF5-9AEB-516A1A78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366-1935-49A0-BAF5-F03DD859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453-E117-449F-895E-CE4A27A1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2FA-206E-4CF3-83B2-B5655442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408-AC7E-4863-B473-CB9B7E74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53F-02FC-4972-8871-85BA7753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02F-622C-4BB7-BD93-863024F1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549-462E-44AF-85D6-8ABAF30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99C-C77C-41E6-9F80-08C44C5E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ED1-CCEC-427A-8A87-70ED3FC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3FF-9736-446B-8619-8308712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93D-F643-4AED-AAA3-397FBC18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CE9F-BCE5-4E51-8EBB-C8A8ADEDE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4437000"/>
            <a:ext cx="741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Georgia"/>
              </a:rPr>
              <a:t>Профилактика наркомании и токсикома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СТРУКТУРА И ОСНОВНЫЕ НАПРАВЛЕНИЯ           КОМПЛЕКСНОЙ ПРОФИЛАКТИКИ НАРКОМАНИИ И ТОКСИКОМАН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384360" cy="2260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35226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20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70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7854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омплексная профилактика наркомании и токсикомании включа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ервичную профилактик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комплекс социальных,  образовательных   и медико-психологических мероприятий, предупреждающих употребление   наркотических средств, токсических и психотропных в-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вторичную профилактик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комплекс социальных,  образовательных   и медико-психологических мероп-ий, предупреждающих формирование   болезни  у  лиц,   злоупотребляющих   наркотическими   средствами,   токсическими и психотропными веществами, и осложнений наркотизации   у  лиц,   эпизодически   употребляющих   наркотические   средства,   токсические   и   психотропные   вещества,  но  не  обнаруживающих   признаков боле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третичную профилактик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комплекс социальных,  образовательных   и медико-психологических мероп-ий лечебного и реабилитационного   характера,    напр-ых   на   восстановление   физического   и   психического   здоровья   лиц,   злоупотребляющих   наркотическими   средствами, токсическими и психотропными веще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eorgia"/>
              </a:rPr>
              <a:t>Последствия злоупотребления токсичными веществ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113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оследствия злоупотребления обнаруживаются спустя 1-2 месяца. Утрачивается интерес к работе, учебе, появляются прогулы, исчезновения из дома на много часов или на несколько д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1312920"/>
            <a:ext cx="320652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30970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лед за поведенческими появляются биологические признаки заболевания: раздражительность, конфликтность, колебания настроения-от беспричинно веселого до мрачного и злобного. Эмоциональная лабильность в течение первого полугодия сменяется вялостью, апатией. На общем апатическом фоне возникают длительные, многодневные состояния раздражения-злобность, придирчивость, стремление к скандалам, дра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35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350"/>
                            </p:stCondLst>
                            <p:childTnLst>
                              <p:par>
                                <p:cTn id="2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024000" cy="2419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4321080" cy="3058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328464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раллельно с аффективным и волевым снижением развивается снижение интеллектуальное. Вначале отмечаются трудности сосредоточения, быстрая утомляемость при умственной работе, затем трудности осмысления, запоминания, и, наконец, трудности в использовании прежних знаний и навыков. Полная картина заболевания представлена всеми признаками органического поражения центральной нервной системы-токсической энцефалопат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Причины употребления наркот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мление к подражанию, обычаи и нормы, существующие в среде сверс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потребление наркотиков родителями, братьями и сестр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лемы в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ихологические особенности, а именно: низкая самооценка, подверженность влиянию сверстников и психические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изис подросткового возра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значение врачами лекарств, которыми потенциально возможно злоупотребление, например анаболические стероиды, бензодиазепины и опиа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4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9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4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9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4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eorgia"/>
              </a:rPr>
              <a:t>Общая характеристика наркомании и токсиком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преодолимое влечение и прием препаратов (пристрастие к ним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тенденция к повышению количества принимаемого веще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сихическая (психологическая), а иногда и физическая (физиологическая) зависимость от препара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Психическая или эмоциональная зависимость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- это форма отношения между наркотиком и личностью, а его степень зависит как от специфичности эффекта наркотика, так и от потребностей личности, которые этот наркотик удовлетво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Физическая зависимость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- это состояние адаптации, выражающееся в явных нарушениях физиологии в случае прекращения употребления наркотиков или в случае нейтрализации их эффектов посредством применения соответствующих антагонист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Психическая зависимость возникает в процессе привыкания к наркотику. Зависимость характери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сильное желание или непреодолимая потребность (навязчивое состояние) дальнейшего приема наркотика, а также попытки получить его любой це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тенденция увеличения дозировки по мере развития зависим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психическая (психологическая или эмоциональная) зависимость от эффекта наркот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губительные последствия для личности и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Привыкание характери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желание (но не непреодолимое) дальнейшего приема наркотика с целью улучшения настро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незначительная тенденция или ее отсутствие к увеличению дозиро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некоторая степень психической зависимости от эффекта наркотика, но отсутствие физической зависимости, что означает отсутствие абстинентного синдро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отрицательные последствия если и наступают, то касаются только личности нарко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Georgia"/>
              </a:rPr>
              <a:t>К наркотическим веществам относ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3048120" cy="3311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6720" y="981000"/>
            <a:ext cx="575928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Группа препаратов опия, содержащих опиумные алкалоиды и их производные-героин, морфин, омпонон, кодеин, дионин, текодин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репараты индийской или южноамериканской конопли-гашиш, анаша, банг, хурус, план, марихуана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Препараты снотворного, успокаивающего действия, отнесенные к наркотикам, например: ноксирон, амитал натрия (барбами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Группа стимуляторов нервной системы-пробуждающие амины (фенамин, первитин, риталин), сюда же относится кокаин, получаемый из южноамериканского кустарника кок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Галлюциногены (психоделики, психотомиметики). Группа насчитывает свыше 100 природных и синтетических пре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8785440" cy="69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Злоупотребление другими лекарственными, биологическими или химическими веществами, не внесенными в список наркотиков, приводит к формированию токсикоман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Снотворные, производные барбитуровой кислоты: нембутал, мединал, веронал, фенобарбитал (люминал). Сюда же входят снотворные, не относящиеся к барбитуратам: бромурал, эуноктин, радедорм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Группа успокаивающих средств-транквилизаторов: седуксен, реланиум, мепробамат, тазепам, феназепам, элениум, фенибут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Группа стимуляторов центральной нервной системы, не отнесенных к наркотикам, таких, как крепкий чай (экстракт)-"чифир", кофеин, центедр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Группа холинолитиков: циклодол, артан, ромпаркин, наком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Группа антигистаминных препаратов: димедрол, пипольфен, супраст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. Средства бытовой и промышленной химии: летучие растворители, эфир, хлороформ, бензин, ацетон, керосин, толуол, этиленгликоль, пятновыводители, синтетические клеи, лаки, нитрокраски, дезодоранты в баллонах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Признаки наркотическ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92280"/>
            <a:ext cx="8713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     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Необъяснимое снижение работо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2.    Необъяснимое изменение отношения к окружаю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3.    Изменение личных привычек и внешнего вида, обычно в худшую сторону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оявляется неопрятность, неряшливость, не стригутся волосы или наоборот, стригутся наголо, ногти длинные, гряз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4.    Неадекватное поведение: например, ношение в очень жаркую погоду рубашек с длинными рукавами, для сокрытия следов от уколов, а также ношение темных очков, чтобы скрыть суженные или расширенные зра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50"/>
                            </p:stCondLst>
                            <p:childTnLst>
                              <p:par>
                                <p:cTn id="1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5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50"/>
                            </p:stCondLst>
                            <p:childTnLst>
                              <p:par>
                                <p:cTn id="1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5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0"/>
            <a:ext cx="8856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.    Следы от уколов и синяки на руках и бедрах, а также гнойнички, возникающие в результате использования нестерильных и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    Желтуха, Вич-инфе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.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    Обнаружение предметов для приема наркотиков или сырья для их изготовления (шприцы,  иглы,  жгуты  и  т.п.).  Свернутые  в трубочку  бумажки  и  фольга, маленькие ложечки, капсулы бутылочки, неизвестные таблет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8. 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   Изменение аппетита подростка, который может стать «волчьим» (пр.наркотики канабисной группы) или заметно пониж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9.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    Появление новых подозрительных друзей, общение с которыми   происходит в основном   наедине  или   с   использованием непонятных закодированных ф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Вызывающее поведение  в школе   и дома, снижение успеваемость,   пропуск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11. У потребление жаргонных  выражений приемлемых в  наркоманской 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дростки постоянно в разговорах обращаются к темам дискотек, молодежных тусовок, различных комп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12. Все возрастающая лживость и скрыт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2:40:27Z</dcterms:created>
  <dc:creator>Николай</dc:creator>
  <dc:description/>
  <dc:language>en-US</dc:language>
  <cp:lastModifiedBy>User</cp:lastModifiedBy>
  <dcterms:modified xsi:type="dcterms:W3CDTF">2023-05-02T19:44:43Z</dcterms:modified>
  <cp:revision>5</cp:revision>
  <dc:subject/>
  <dc:title>Слайд 1</dc:title>
</cp:coreProperties>
</file>