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BC7-4CA0-4355-A487-78D711CE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6F0-432B-476D-8FB2-6A40DA82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533-8D62-4D2E-9218-35397A98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1CC-3004-425E-AD54-37A39D29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B655-7760-4B61-99F6-36A28852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B3CB-5ECB-418E-AC99-6D6B1D27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DC95-BF22-4273-BF29-DDD02335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E1E7-D9E0-4D67-8D17-EBEA86FB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A58F-ADE1-47CF-9FBB-E3F9719E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B959-D63C-438F-A158-4AF1638B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C770-BBD9-443E-A006-F6B441F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F67A-C049-433A-93E0-CCA1B1B2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FCDB-AC15-4676-B13D-3E8D9154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81D0-7D84-41D3-BCD9-FC302657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EF22-5992-42FE-B785-AB19827F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48C4-3CA9-4F2B-B8A2-0ADB00DD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445A-E5FA-4F11-B135-1CC204BA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3B6F-C4E2-4A99-88CE-E5659F4A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D792-D461-466A-9CFE-9600CF51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D1C3-42E0-43DD-999D-48F0C53A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66D3-F167-4747-AE94-50A803BE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43C49-E32D-447A-93B0-1D2433EE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618-F86D-4AFB-AD00-1DE50D66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D1ED-C6FD-4890-82D7-1B6EB6C0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8365-F414-4731-B3EC-1DF8E9C7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43F4-B149-4486-B5C9-783BB005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6A2C1-C02B-4AAC-82E3-BE833AFA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C7696-E794-4924-9528-A9A0AD41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D626-8172-430D-BCAF-88E853D2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6E7B-FBFD-4E69-AEAB-2C8ED7A5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1BBA-5C50-4B8B-A1F7-C7A245EE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690B-E6AF-43DA-9A5F-4FF17FE7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D2C5-7C22-42F3-988D-58FA0337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9B8-7F28-4A1D-8F4A-C646CB0D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E9F24-F063-47A6-95D6-33FD60D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4C4E7-66D6-4080-AAA0-8EA86F81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2230-970F-49FB-8A26-F7D640A2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378A-C0C4-4093-9266-797D5DAB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584F-B65E-4CAC-AA9D-63DD05B3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9258-9DBD-4B1D-ABB5-957A03C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E06B-61E1-4B75-A962-3E2C66D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56C2D-3821-41D6-9202-F04E903C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523E-43CE-4A85-A63B-3280BAB6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DBA-65DE-425F-8467-D7C3F94D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988-6EFA-4A78-9C6E-BADDD777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4BA-46BE-489E-8BA4-B9705F64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F44-30F3-4BF5-9B73-D53BA9DE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0FC-9AC5-45CB-A090-935F0756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316D-7853-48A0-9AED-A1559CC8D4E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341C-02E3-495A-82CA-FD2984FA6FC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1D7F-2422-4A7E-A936-DA2C1D26D4D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232-E89A-476C-9381-3AB1317B302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"/>
          <p:cNvPicPr/>
          <p:nvPr/>
        </p:nvPicPr>
        <p:blipFill>
          <a:blip r:embed="rId1"/>
          <a:srcRect l="8586" t="0" r="4422" b="33716"/>
          <a:stretch/>
        </p:blipFill>
        <p:spPr>
          <a:xfrm>
            <a:off x="-36360" y="0"/>
            <a:ext cx="9180360" cy="699444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682560" y="2298600"/>
            <a:ext cx="8302680" cy="2090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94920" y="479736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роводит экипаж «СКОРПИОН-120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МБОУ Школа № 12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Рисунок 5" descr=""/>
          <p:cNvPicPr/>
          <p:nvPr/>
        </p:nvPicPr>
        <p:blipFill>
          <a:blip r:embed="rId3"/>
          <a:srcRect l="0" t="0" r="0" b="5205"/>
          <a:stretch/>
        </p:blipFill>
        <p:spPr>
          <a:xfrm>
            <a:off x="0" y="0"/>
            <a:ext cx="9144000" cy="25858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6"/>
          <p:cNvSpPr/>
          <p:nvPr/>
        </p:nvSpPr>
        <p:spPr>
          <a:xfrm>
            <a:off x="2965680" y="615636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Февраль 2020 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682560" y="487440"/>
            <a:ext cx="7785000" cy="792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Какая звезда показывает на север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Большой Ковш"/>
          <p:cNvPicPr/>
          <p:nvPr/>
        </p:nvPicPr>
        <p:blipFill>
          <a:blip r:embed="rId1"/>
          <a:stretch/>
        </p:blipFill>
        <p:spPr>
          <a:xfrm>
            <a:off x="4067280" y="1557360"/>
            <a:ext cx="4321080" cy="431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5" name="WordArt 6"/>
          <p:cNvSpPr txBox="1"/>
          <p:nvPr/>
        </p:nvSpPr>
        <p:spPr>
          <a:xfrm>
            <a:off x="1332000" y="333360"/>
            <a:ext cx="604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491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ярная звезда</a:t>
            </a:r>
            <a:endParaRPr b="0" lang="en-US" sz="1800" spc="1" strike="noStrike">
              <a:ln w="9360">
                <a:solidFill>
                  <a:srgbClr val="f491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471636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8" descr="Большой Ковш"/>
          <p:cNvPicPr/>
          <p:nvPr/>
        </p:nvPicPr>
        <p:blipFill>
          <a:blip r:embed="rId4"/>
          <a:stretch/>
        </p:blipFill>
        <p:spPr>
          <a:xfrm>
            <a:off x="203040" y="1628640"/>
            <a:ext cx="5015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лярная звезда показывает направление на Север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4" descr="Треки звезд"/>
          <p:cNvPicPr/>
          <p:nvPr/>
        </p:nvPicPr>
        <p:blipFill>
          <a:blip r:embed="rId1"/>
          <a:stretch/>
        </p:blipFill>
        <p:spPr>
          <a:xfrm>
            <a:off x="179280" y="2492280"/>
            <a:ext cx="3095640" cy="2303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3564000" y="177840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небесной сфере, также как и на Земле, есть свои экватор и полюсы. Небесные полюсы находятся над земными, так как лежат на продолжениях воображаемой оси вращения Зем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564000" y="3413880"/>
            <a:ext cx="540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нно вблизи Северного небесного полюса земному наблюдателю видна Полярная звез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этому, когда вследствие вращения Земли ночному наблюдателю кажется, что звезды перемещаются по небосводу, Полярная остается неподвижной (на фотографиях, сделанных неподвижной фотокамерой, этот эффект особенно заметен). Значит, ее можно использовать как ориенти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536400" y="36360"/>
            <a:ext cx="7785360" cy="1159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Волчок, волчок,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Покажи другой бочок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Другой бок не покажу,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Я привязанный хожу.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У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Без него плачемся, а как появится –от него прячемся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ЛНЦ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На каком пути ни один человек не бывал?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ЛЕЧНЫЙ ПУ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"/>
          <p:cNvPicPr/>
          <p:nvPr/>
        </p:nvPicPr>
        <p:blipFill>
          <a:blip r:embed="rId1"/>
          <a:srcRect l="8586" t="0" r="4422" b="33716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grpSp>
        <p:nvGrpSpPr>
          <p:cNvPr id="201" name="Группа 6"/>
          <p:cNvGrpSpPr/>
          <p:nvPr/>
        </p:nvGrpSpPr>
        <p:grpSpPr>
          <a:xfrm>
            <a:off x="19080" y="189000"/>
            <a:ext cx="1960920" cy="1603800"/>
            <a:chOff x="19080" y="189000"/>
            <a:chExt cx="1960920" cy="1603800"/>
          </a:xfrm>
        </p:grpSpPr>
        <p:pic>
          <p:nvPicPr>
            <p:cNvPr id="202" name="Рисунок 4" descr=""/>
            <p:cNvPicPr/>
            <p:nvPr/>
          </p:nvPicPr>
          <p:blipFill>
            <a:blip r:embed="rId2"/>
            <a:stretch/>
          </p:blipFill>
          <p:spPr>
            <a:xfrm>
              <a:off x="251640" y="189000"/>
              <a:ext cx="158364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5"/>
            <p:cNvSpPr/>
            <p:nvPr/>
          </p:nvSpPr>
          <p:spPr>
            <a:xfrm>
              <a:off x="19080" y="1393920"/>
              <a:ext cx="196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ffffff"/>
                  </a:solidFill>
                  <a:uFillTx/>
                  <a:latin typeface="Constantia"/>
                </a:rPr>
                <a:t>галактяне.рф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04" name="TextBox 7"/>
          <p:cNvSpPr/>
          <p:nvPr/>
        </p:nvSpPr>
        <p:spPr>
          <a:xfrm>
            <a:off x="2050920" y="4809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onstantia"/>
              </a:rPr>
              <a:t>Наша команда и наше созвезди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F:\GALOCHKA\Галактяне\ЗВЕЗДНЫЙ ЧАС\6Cn-YC-zacI.jpg"/>
          <p:cNvPicPr/>
          <p:nvPr/>
        </p:nvPicPr>
        <p:blipFill>
          <a:blip r:embed="rId3"/>
          <a:stretch/>
        </p:blipFill>
        <p:spPr>
          <a:xfrm>
            <a:off x="2143080" y="1285920"/>
            <a:ext cx="6229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"/>
          <p:cNvPicPr/>
          <p:nvPr/>
        </p:nvPicPr>
        <p:blipFill>
          <a:blip r:embed="rId1"/>
          <a:srcRect l="8586" t="0" r="4422" b="33716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grpSp>
        <p:nvGrpSpPr>
          <p:cNvPr id="207" name="Группа 6"/>
          <p:cNvGrpSpPr/>
          <p:nvPr/>
        </p:nvGrpSpPr>
        <p:grpSpPr>
          <a:xfrm>
            <a:off x="19080" y="189000"/>
            <a:ext cx="1960920" cy="1603800"/>
            <a:chOff x="19080" y="189000"/>
            <a:chExt cx="1960920" cy="1603800"/>
          </a:xfrm>
        </p:grpSpPr>
        <p:pic>
          <p:nvPicPr>
            <p:cNvPr id="208" name="Рисунок 4" descr=""/>
            <p:cNvPicPr/>
            <p:nvPr/>
          </p:nvPicPr>
          <p:blipFill>
            <a:blip r:embed="rId2"/>
            <a:stretch/>
          </p:blipFill>
          <p:spPr>
            <a:xfrm>
              <a:off x="251640" y="189000"/>
              <a:ext cx="158364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5"/>
            <p:cNvSpPr/>
            <p:nvPr/>
          </p:nvSpPr>
          <p:spPr>
            <a:xfrm>
              <a:off x="19080" y="1393920"/>
              <a:ext cx="196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ffffff"/>
                  </a:solidFill>
                  <a:uFillTx/>
                  <a:latin typeface="Constantia"/>
                </a:rPr>
                <a:t>галактяне.рф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10" name="Picture 4" descr="Созвездие с очертаниями скорпиона."/>
          <p:cNvPicPr/>
          <p:nvPr/>
        </p:nvPicPr>
        <p:blipFill>
          <a:blip r:embed="rId3"/>
          <a:stretch/>
        </p:blipFill>
        <p:spPr>
          <a:xfrm>
            <a:off x="0" y="494164800"/>
            <a:ext cx="4762440" cy="3238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:\GALOCHKA\Галактяне\ЗВЕЗДНЫЙ ЧАС\02-skorpion.jpg"/>
          <p:cNvPicPr/>
          <p:nvPr/>
        </p:nvPicPr>
        <p:blipFill>
          <a:blip r:embed="rId4"/>
          <a:stretch/>
        </p:blipFill>
        <p:spPr>
          <a:xfrm>
            <a:off x="163440" y="3843360"/>
            <a:ext cx="4408560" cy="2997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3132000" y="56988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рпион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дно из 12 зодиакальных созвезди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западного края он соседствует с Весам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восточного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 Стрельц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акже граничит с незодиакальными Змееносцем и Жертвенник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им очертаниям это скопление звёзд действительно похоже на скорпиона. Греческие астрономы увидели в нём тело, хвост и клеш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682560" y="480960"/>
            <a:ext cx="778500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7" name="Picture 2" descr="F:\GALOCHKA\Галактяне\скорпион-120 коллаж.jpg"/>
          <p:cNvPicPr/>
          <p:nvPr/>
        </p:nvPicPr>
        <p:blipFill>
          <a:blip r:embed="rId2"/>
          <a:stretch/>
        </p:blipFill>
        <p:spPr>
          <a:xfrm>
            <a:off x="31680" y="1341360"/>
            <a:ext cx="8937720" cy="53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2" name="Рисунок 1" descr=""/>
          <p:cNvPicPr/>
          <p:nvPr/>
        </p:nvPicPr>
        <p:blipFill>
          <a:blip r:embed="rId1"/>
          <a:srcRect l="28459" t="25617" r="22970" b="18597"/>
          <a:stretch/>
        </p:blipFill>
        <p:spPr>
          <a:xfrm>
            <a:off x="0" y="0"/>
            <a:ext cx="10650600" cy="7118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"/>
          <p:cNvSpPr/>
          <p:nvPr/>
        </p:nvSpPr>
        <p:spPr>
          <a:xfrm>
            <a:off x="324000" y="189000"/>
            <a:ext cx="8712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расота звездного неба пробуждает в нас высокие и светлые чувства, его тайны призывают разум к размышлению, исследованию Вселенной. Планета Земля затерялась в этом мире малой пылинкой. Но нам повезло с нашей родной планетой: ни на одной из ее сестер, обращающихся вокруг Солнца, нет условий для высокоорганизованной жизни. Нам повезло с Солнцем: это спокойная, почти не пульсирующая звезда (а ведь есть звезды – убийцы, опасные для планет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32000" y="33300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Еще в 1584 году Джордано Бруно в своей книге “О бесконечности, Вселенной и мирах” писал: «Существуют … бесчисленные Солнца, бесчисленные Земли, которые кружатся вокруг своих Солнц подобно тому, как наши планеты кружатся вокруг нашего Солнца. Между бесчисленными звездами существует множество других Лун, множество других миров… И быть может на пыльных дорожках далеких планет останутся наши следы”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м предстоит сегодня ответить на несколько вопросов. Хорошо ли вы знаете астрономию, Вселенную и истори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682560" y="480960"/>
            <a:ext cx="7785000" cy="8413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рам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урн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иза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карет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тепло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улан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682560" y="487440"/>
            <a:ext cx="7785000" cy="792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1.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Имя первого космонавта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2. Сколько минут был в космосе первый космонавт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3. Название корабля, на котором полетел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Ю.А. Гагарин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682560" y="487440"/>
            <a:ext cx="7785000" cy="792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4.</a:t>
            </a: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Первая женщина-космонавт, побывавшая в космосе 16-19 июня 1963?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onstantia"/>
              </a:rPr>
              <a:t>5. Как называлась серия американских космических кораблей, один из которых совершил 21 июля 1969 года посадку на Луну?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195640" y="1268280"/>
            <a:ext cx="71280" cy="730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12"/>
          <p:cNvSpPr txBox="1"/>
          <p:nvPr/>
        </p:nvSpPr>
        <p:spPr>
          <a:xfrm>
            <a:off x="179280" y="1484280"/>
            <a:ext cx="828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8T19:34:38Z</dcterms:created>
  <dc:creator>Admin</dc:creator>
  <dc:description/>
  <dc:language>en-US</dc:language>
  <cp:lastModifiedBy>user</cp:lastModifiedBy>
  <dcterms:modified xsi:type="dcterms:W3CDTF">2023-05-02T10:11:25Z</dcterms:modified>
  <cp:revision>25</cp:revision>
  <dc:subject/>
  <dc:title>АСТРОЧАС в … классе</dc:title>
</cp:coreProperties>
</file>