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7E43-9731-424D-8535-9C27D9686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BED0-DDBD-413E-B8EF-FCD742974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DDF6-3298-45A6-B80B-9B2B18341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2ECE-9C0D-4B87-8439-C91AB2EDB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C225A-F261-4EFB-9DA9-E1B3F4F35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BA22B-18FA-4625-8BFE-4E7F4553C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C1FDA-E42C-4F6D-B96B-2069EBDFB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6D038-BA60-449D-A5A6-A86D4D7E9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377F7-FF06-46E3-99F6-F0E940BE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C7F7A-0224-4E3F-A4CB-EF29FC1C0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B5F6A-EDC9-4A90-A985-AF11DBF8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9761-A1E2-4294-BF9D-5918C0B7F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7E3AA-ABC7-48F9-B56E-631524C3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2A72D-4A2E-49B1-BC88-F00ADB61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8FEC8-CBDB-4EFD-AC53-4B4744232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9147B-320C-40D3-9B05-7DF1F504D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ED298-3FFF-4CC9-91A5-0F2C1AE26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C5DA3-17FD-470F-984E-F0FDB5ADE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1A94A-8882-4DD3-A904-4D2E60163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81F7B-FB8E-4E6A-93E0-DDF5472CE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12FBE-28AB-47FC-B759-B03FB84F4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4444C-236B-42DB-A87C-07D8E1D49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2A19-D46C-4203-8DA1-DC6981B52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C7B1E-4AB4-40F8-96D0-187BB4DF6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AF48B-C159-4C7A-8FDA-D598E4DF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4176E-CE99-4E9D-BB7E-5189C1AE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4D60D-3D44-45FB-896F-64BCFE0B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5AF5D-6F4F-47E0-B440-B10178116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2B9FE-7692-4C72-A76A-AE5D493B1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E92AD-0689-440C-8CC7-942C0F961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21600-192D-49A8-8885-110F70462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37F0C-E0A5-452C-B274-E0FB2D33E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D16B2-AF37-4C16-BC4D-9086A5823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A837-DE62-453C-B520-5F925970F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29283-2E80-4026-AD48-6629F0B77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87F0C-AFC9-40FE-B9E9-0742538C0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B1CD6-A8B3-46C7-B5B9-3BDA08AB0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66CF2-FD69-4E54-B196-3A06E347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46650-0676-4A4F-9EDF-91EF4785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77A9D-0185-4AF4-9915-A2FA8FC1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BF323-A362-49F5-9E66-03D4F94E2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0F9C7-E292-43EA-BB3A-51C989B3B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7CF56-F9FF-4E36-B81D-8E70DAA27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39DA-97FF-491C-823F-10197CADF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7F71-0C60-49CE-AF45-E30DA15B0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F91F-8027-46E1-91F3-9EC4D036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59FF-20E2-415A-A6C5-9699F220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8C93-813B-47F3-B647-BEFCC267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C4F9E-2C97-4891-BC9F-B43BF44EC615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511C0-4133-4D05-92A3-79B9B7C41304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E0908-874E-4BE1-8CAD-7840B2A5D4C0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F9CD3-77D3-45D1-94B1-CF8F635E055D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pn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Рисунок 4" descr=""/>
          <p:cNvPicPr/>
          <p:nvPr/>
        </p:nvPicPr>
        <p:blipFill>
          <a:blip r:embed="rId1"/>
          <a:srcRect l="8586" t="0" r="4422" b="33716"/>
          <a:stretch/>
        </p:blipFill>
        <p:spPr>
          <a:xfrm>
            <a:off x="-36360" y="0"/>
            <a:ext cx="9180360" cy="6994440"/>
          </a:xfrm>
          <a:prstGeom prst="rect">
            <a:avLst/>
          </a:prstGeom>
          <a:ln w="0">
            <a:noFill/>
          </a:ln>
        </p:spPr>
      </p:pic>
      <p:pic>
        <p:nvPicPr>
          <p:cNvPr id="196" name="Заголовок 1" descr=""/>
          <p:cNvPicPr/>
          <p:nvPr/>
        </p:nvPicPr>
        <p:blipFill>
          <a:blip r:embed="rId2"/>
          <a:stretch/>
        </p:blipFill>
        <p:spPr>
          <a:xfrm>
            <a:off x="682560" y="2298600"/>
            <a:ext cx="8302680" cy="209088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394920" y="4797360"/>
            <a:ext cx="82803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Constantia"/>
              </a:rPr>
              <a:t>Проводит экипаж «СКОРПИОН-120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Constantia"/>
              </a:rPr>
              <a:t>МБОУ Школа № 120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8" name="Рисунок 5" descr=""/>
          <p:cNvPicPr/>
          <p:nvPr/>
        </p:nvPicPr>
        <p:blipFill>
          <a:blip r:embed="rId3"/>
          <a:srcRect l="0" t="0" r="0" b="5205"/>
          <a:stretch/>
        </p:blipFill>
        <p:spPr>
          <a:xfrm>
            <a:off x="0" y="0"/>
            <a:ext cx="9144000" cy="2585880"/>
          </a:xfrm>
          <a:prstGeom prst="rect">
            <a:avLst/>
          </a:prstGeom>
          <a:ln w="0">
            <a:noFill/>
          </a:ln>
        </p:spPr>
      </p:pic>
      <p:sp>
        <p:nvSpPr>
          <p:cNvPr id="199" name="TextBox 6"/>
          <p:cNvSpPr/>
          <p:nvPr/>
        </p:nvSpPr>
        <p:spPr>
          <a:xfrm>
            <a:off x="2965680" y="6156360"/>
            <a:ext cx="333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Февраль 2020 г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Rectangle 2" descr=""/>
          <p:cNvPicPr/>
          <p:nvPr/>
        </p:nvPicPr>
        <p:blipFill>
          <a:blip r:embed="rId1"/>
          <a:stretch/>
        </p:blipFill>
        <p:spPr>
          <a:xfrm>
            <a:off x="682560" y="487440"/>
            <a:ext cx="7785000" cy="79200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332000" y="1484280"/>
            <a:ext cx="6400800" cy="51134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Какая звезда показывает на север?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2195640" y="1268280"/>
            <a:ext cx="71280" cy="7308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WordArt 12"/>
          <p:cNvSpPr txBox="1"/>
          <p:nvPr/>
        </p:nvSpPr>
        <p:spPr>
          <a:xfrm>
            <a:off x="179280" y="1484280"/>
            <a:ext cx="828036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4" descr="Большой Ковш"/>
          <p:cNvPicPr/>
          <p:nvPr/>
        </p:nvPicPr>
        <p:blipFill>
          <a:blip r:embed="rId1"/>
          <a:stretch/>
        </p:blipFill>
        <p:spPr>
          <a:xfrm>
            <a:off x="4067280" y="1557360"/>
            <a:ext cx="4321080" cy="4319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45" name="WordArt 6"/>
          <p:cNvSpPr txBox="1"/>
          <p:nvPr/>
        </p:nvSpPr>
        <p:spPr>
          <a:xfrm>
            <a:off x="1332000" y="333360"/>
            <a:ext cx="604836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491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лярная звезда</a:t>
            </a:r>
            <a:endParaRPr b="0" lang="en-US" sz="1800" spc="1" strike="noStrike">
              <a:ln w="9360">
                <a:solidFill>
                  <a:srgbClr val="f491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6" name="Line 7"/>
          <p:cNvSpPr/>
          <p:nvPr/>
        </p:nvSpPr>
        <p:spPr>
          <a:xfrm>
            <a:off x="4716360" y="3573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Picture 8" descr="Большой Ковш"/>
          <p:cNvPicPr/>
          <p:nvPr/>
        </p:nvPicPr>
        <p:blipFill>
          <a:blip r:embed="rId4"/>
          <a:stretch/>
        </p:blipFill>
        <p:spPr>
          <a:xfrm>
            <a:off x="203040" y="1628640"/>
            <a:ext cx="501516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Полярная звезда показывает направление на Север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9" name="Picture 4" descr="Треки звезд"/>
          <p:cNvPicPr/>
          <p:nvPr/>
        </p:nvPicPr>
        <p:blipFill>
          <a:blip r:embed="rId1"/>
          <a:stretch/>
        </p:blipFill>
        <p:spPr>
          <a:xfrm>
            <a:off x="179280" y="2492280"/>
            <a:ext cx="3095640" cy="230364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9"/>
          <p:cNvSpPr/>
          <p:nvPr/>
        </p:nvSpPr>
        <p:spPr>
          <a:xfrm>
            <a:off x="3564000" y="1778400"/>
            <a:ext cx="5257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небесной сфере, также как и на Земле, есть свои экватор и полюсы. Небесные полюсы находятся над земными, так как лежат на продолжениях воображаемой оси вращения Земл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Rectangle 10"/>
          <p:cNvSpPr/>
          <p:nvPr/>
        </p:nvSpPr>
        <p:spPr>
          <a:xfrm>
            <a:off x="3564000" y="3413880"/>
            <a:ext cx="5402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менно вблизи Северного небесного полюса земному наблюдателю видна Полярная звезд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 поэтому, когда вследствие вращения Земли ночному наблюдателю кажется, что звезды перемещаются по небосводу, Полярная остается неподвижной (на фотографиях, сделанных неподвижной фотокамерой, этот эффект особенно заметен). Значит, ее можно использовать как ориентир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536400" y="36360"/>
            <a:ext cx="7785360" cy="11592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1.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Волчок, волчок,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Покажи другой бочок,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Другой бок не покажу,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Я привязанный хожу.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ЛУН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2.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Без него плачемся, а как появится –от него прячемся.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ОЛНЦ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На каком пути ни один человек не бывал?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МЛЕЧНЫЙ ПУТЬ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4" dur="5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3" dur="500"/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Рисунок 1" descr=""/>
          <p:cNvPicPr/>
          <p:nvPr/>
        </p:nvPicPr>
        <p:blipFill>
          <a:blip r:embed="rId1"/>
          <a:srcRect l="8586" t="0" r="4422" b="33716"/>
          <a:stretch/>
        </p:blipFill>
        <p:spPr>
          <a:xfrm>
            <a:off x="0" y="0"/>
            <a:ext cx="9144000" cy="6967440"/>
          </a:xfrm>
          <a:prstGeom prst="rect">
            <a:avLst/>
          </a:prstGeom>
          <a:ln w="0">
            <a:noFill/>
          </a:ln>
        </p:spPr>
      </p:pic>
      <p:grpSp>
        <p:nvGrpSpPr>
          <p:cNvPr id="201" name="Группа 6"/>
          <p:cNvGrpSpPr/>
          <p:nvPr/>
        </p:nvGrpSpPr>
        <p:grpSpPr>
          <a:xfrm>
            <a:off x="19080" y="189000"/>
            <a:ext cx="1960920" cy="1603800"/>
            <a:chOff x="19080" y="189000"/>
            <a:chExt cx="1960920" cy="1603800"/>
          </a:xfrm>
        </p:grpSpPr>
        <p:pic>
          <p:nvPicPr>
            <p:cNvPr id="202" name="Рисунок 4" descr=""/>
            <p:cNvPicPr/>
            <p:nvPr/>
          </p:nvPicPr>
          <p:blipFill>
            <a:blip r:embed="rId2"/>
            <a:stretch/>
          </p:blipFill>
          <p:spPr>
            <a:xfrm>
              <a:off x="251640" y="189000"/>
              <a:ext cx="1583640" cy="11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TextBox 5"/>
            <p:cNvSpPr/>
            <p:nvPr/>
          </p:nvSpPr>
          <p:spPr>
            <a:xfrm>
              <a:off x="19080" y="1393920"/>
              <a:ext cx="196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 u="sng">
                  <a:solidFill>
                    <a:srgbClr val="ffffff"/>
                  </a:solidFill>
                  <a:uFillTx/>
                  <a:latin typeface="Constantia"/>
                </a:rPr>
                <a:t>галактяне.рф 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204" name="TextBox 7"/>
          <p:cNvSpPr/>
          <p:nvPr/>
        </p:nvSpPr>
        <p:spPr>
          <a:xfrm>
            <a:off x="2050920" y="480960"/>
            <a:ext cx="65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000"/>
                </a:solidFill>
                <a:latin typeface="Constantia"/>
              </a:rPr>
              <a:t>Наша команда и наше созвездие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2" descr="F:\GALOCHKA\Галактяне\ЗВЕЗДНЫЙ ЧАС\6Cn-YC-zacI.jpg"/>
          <p:cNvPicPr/>
          <p:nvPr/>
        </p:nvPicPr>
        <p:blipFill>
          <a:blip r:embed="rId3"/>
          <a:stretch/>
        </p:blipFill>
        <p:spPr>
          <a:xfrm>
            <a:off x="2143080" y="1285920"/>
            <a:ext cx="62294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Рисунок 1" descr=""/>
          <p:cNvPicPr/>
          <p:nvPr/>
        </p:nvPicPr>
        <p:blipFill>
          <a:blip r:embed="rId1"/>
          <a:srcRect l="8586" t="0" r="4422" b="33716"/>
          <a:stretch/>
        </p:blipFill>
        <p:spPr>
          <a:xfrm>
            <a:off x="0" y="0"/>
            <a:ext cx="9144000" cy="6967440"/>
          </a:xfrm>
          <a:prstGeom prst="rect">
            <a:avLst/>
          </a:prstGeom>
          <a:ln w="0">
            <a:noFill/>
          </a:ln>
        </p:spPr>
      </p:pic>
      <p:grpSp>
        <p:nvGrpSpPr>
          <p:cNvPr id="207" name="Группа 6"/>
          <p:cNvGrpSpPr/>
          <p:nvPr/>
        </p:nvGrpSpPr>
        <p:grpSpPr>
          <a:xfrm>
            <a:off x="19080" y="189000"/>
            <a:ext cx="1960920" cy="1603800"/>
            <a:chOff x="19080" y="189000"/>
            <a:chExt cx="1960920" cy="1603800"/>
          </a:xfrm>
        </p:grpSpPr>
        <p:pic>
          <p:nvPicPr>
            <p:cNvPr id="208" name="Рисунок 4" descr=""/>
            <p:cNvPicPr/>
            <p:nvPr/>
          </p:nvPicPr>
          <p:blipFill>
            <a:blip r:embed="rId2"/>
            <a:stretch/>
          </p:blipFill>
          <p:spPr>
            <a:xfrm>
              <a:off x="251640" y="189000"/>
              <a:ext cx="1583640" cy="11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TextBox 5"/>
            <p:cNvSpPr/>
            <p:nvPr/>
          </p:nvSpPr>
          <p:spPr>
            <a:xfrm>
              <a:off x="19080" y="1393920"/>
              <a:ext cx="196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 u="sng">
                  <a:solidFill>
                    <a:srgbClr val="ffffff"/>
                  </a:solidFill>
                  <a:uFillTx/>
                  <a:latin typeface="Constantia"/>
                </a:rPr>
                <a:t>галактяне.рф 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pic>
        <p:nvPicPr>
          <p:cNvPr id="210" name="Picture 4" descr="Созвездие с очертаниями скорпиона."/>
          <p:cNvPicPr/>
          <p:nvPr/>
        </p:nvPicPr>
        <p:blipFill>
          <a:blip r:embed="rId3"/>
          <a:stretch/>
        </p:blipFill>
        <p:spPr>
          <a:xfrm>
            <a:off x="0" y="494164800"/>
            <a:ext cx="4762440" cy="32385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F:\GALOCHKA\Галактяне\ЗВЕЗДНЫЙ ЧАС\02-skorpion.jpg"/>
          <p:cNvPicPr/>
          <p:nvPr/>
        </p:nvPicPr>
        <p:blipFill>
          <a:blip r:embed="rId4"/>
          <a:stretch/>
        </p:blipFill>
        <p:spPr>
          <a:xfrm>
            <a:off x="163440" y="3843360"/>
            <a:ext cx="4408560" cy="299700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3"/>
          <p:cNvSpPr/>
          <p:nvPr/>
        </p:nvSpPr>
        <p:spPr>
          <a:xfrm>
            <a:off x="3132000" y="569880"/>
            <a:ext cx="5688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корпион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—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одно из 12 зодиакальных созвездий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 западного края он соседствует с Весами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 восточного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—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о Стрельцом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 также граничит с незодиакальными Змееносцем и Жертвеннико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своим очертаниям это скопление звёзд действительно похоже на скорпиона. Греческие астрономы увидели в нём тело, хвост и клешн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Rectangle 2" descr=""/>
          <p:cNvPicPr/>
          <p:nvPr/>
        </p:nvPicPr>
        <p:blipFill>
          <a:blip r:embed="rId1"/>
          <a:stretch/>
        </p:blipFill>
        <p:spPr>
          <a:xfrm>
            <a:off x="682560" y="480960"/>
            <a:ext cx="7785000" cy="8413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332000" y="1484280"/>
            <a:ext cx="640080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2195640" y="1268280"/>
            <a:ext cx="71280" cy="7308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WordArt 12"/>
          <p:cNvSpPr txBox="1"/>
          <p:nvPr/>
        </p:nvSpPr>
        <p:spPr>
          <a:xfrm>
            <a:off x="179280" y="1484280"/>
            <a:ext cx="828036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17" name="Picture 2" descr="F:\GALOCHKA\Галактяне\скорпион-120 коллаж.jpg"/>
          <p:cNvPicPr/>
          <p:nvPr/>
        </p:nvPicPr>
        <p:blipFill>
          <a:blip r:embed="rId2"/>
          <a:stretch/>
        </p:blipFill>
        <p:spPr>
          <a:xfrm>
            <a:off x="31680" y="1341360"/>
            <a:ext cx="8937720" cy="535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11280"/>
            <a:ext cx="7772400" cy="656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1916280"/>
            <a:ext cx="6400800" cy="37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2195640" y="1268280"/>
            <a:ext cx="71280" cy="7308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WordArt 12"/>
          <p:cNvSpPr txBox="1"/>
          <p:nvPr/>
        </p:nvSpPr>
        <p:spPr>
          <a:xfrm>
            <a:off x="179280" y="1484280"/>
            <a:ext cx="828036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22" name="Рисунок 1" descr=""/>
          <p:cNvPicPr/>
          <p:nvPr/>
        </p:nvPicPr>
        <p:blipFill>
          <a:blip r:embed="rId1"/>
          <a:srcRect l="28459" t="25617" r="22970" b="18597"/>
          <a:stretch/>
        </p:blipFill>
        <p:spPr>
          <a:xfrm>
            <a:off x="0" y="0"/>
            <a:ext cx="10650600" cy="7118280"/>
          </a:xfrm>
          <a:prstGeom prst="rect">
            <a:avLst/>
          </a:prstGeom>
          <a:ln w="0">
            <a:noFill/>
          </a:ln>
        </p:spPr>
      </p:pic>
      <p:sp>
        <p:nvSpPr>
          <p:cNvPr id="223" name="Прямоугольник 1"/>
          <p:cNvSpPr/>
          <p:nvPr/>
        </p:nvSpPr>
        <p:spPr>
          <a:xfrm>
            <a:off x="324000" y="189000"/>
            <a:ext cx="871200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Красота звездного неба пробуждает в нас высокие и светлые чувства, его тайны призывают разум к размышлению, исследованию Вселенной. Планета Земля затерялась в этом мире малой пылинкой. Но нам повезло с нашей родной планетой: ни на одной из ее сестер, обращающихся вокруг Солнца, нет условий для высокоорганизованной жизни. Нам повезло с Солнцем: это спокойная, почти не пульсирующая звезда (а ведь есть звезды – убийцы, опасные для планет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11280"/>
            <a:ext cx="7772400" cy="656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332000" y="333000"/>
            <a:ext cx="6400800" cy="626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Еще в 1584 году Джордано Бруно в своей книге “О бесконечности, Вселенной и мирах” писал: «Существуют … бесчисленные Солнца, бесчисленные Земли, которые кружатся вокруг своих Солнц подобно тому, как наши планеты кружатся вокруг нашего Солнца. Между бесчисленными звездами существует множество других Лун, множество других миров… И быть может на пыльных дорожках далеких планет останутся наши следы”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ам предстоит сегодня ответить на несколько вопросов. Хорошо ли вы знаете астрономию, Вселенную и историю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2195640" y="1268280"/>
            <a:ext cx="71280" cy="7308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WordArt 12"/>
          <p:cNvSpPr txBox="1"/>
          <p:nvPr/>
        </p:nvSpPr>
        <p:spPr>
          <a:xfrm>
            <a:off x="179280" y="1484280"/>
            <a:ext cx="828036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Rectangle 2" descr=""/>
          <p:cNvPicPr/>
          <p:nvPr/>
        </p:nvPicPr>
        <p:blipFill>
          <a:blip r:embed="rId1"/>
          <a:stretch/>
        </p:blipFill>
        <p:spPr>
          <a:xfrm>
            <a:off x="682560" y="480960"/>
            <a:ext cx="7785000" cy="84132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332000" y="1484280"/>
            <a:ext cx="6400800" cy="51134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срам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урна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низал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карета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тепло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улан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0" name="Rectangle 8"/>
          <p:cNvSpPr/>
          <p:nvPr/>
        </p:nvSpPr>
        <p:spPr>
          <a:xfrm>
            <a:off x="2195640" y="1268280"/>
            <a:ext cx="71280" cy="7308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WordArt 12"/>
          <p:cNvSpPr txBox="1"/>
          <p:nvPr/>
        </p:nvSpPr>
        <p:spPr>
          <a:xfrm>
            <a:off x="179280" y="1484280"/>
            <a:ext cx="828036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Rectangle 2" descr=""/>
          <p:cNvPicPr/>
          <p:nvPr/>
        </p:nvPicPr>
        <p:blipFill>
          <a:blip r:embed="rId1"/>
          <a:stretch/>
        </p:blipFill>
        <p:spPr>
          <a:xfrm>
            <a:off x="682560" y="487440"/>
            <a:ext cx="7785000" cy="79200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332000" y="1484280"/>
            <a:ext cx="6400800" cy="51134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1.</a:t>
            </a: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Имя первого космонавта?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2. Сколько минут был в космосе первый космонавт?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3. Название корабля, на котором полетел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Ю.А. Гагарин?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4" name="Rectangle 8"/>
          <p:cNvSpPr/>
          <p:nvPr/>
        </p:nvSpPr>
        <p:spPr>
          <a:xfrm>
            <a:off x="2195640" y="1268280"/>
            <a:ext cx="71280" cy="7308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WordArt 12"/>
          <p:cNvSpPr txBox="1"/>
          <p:nvPr/>
        </p:nvSpPr>
        <p:spPr>
          <a:xfrm>
            <a:off x="179280" y="1484280"/>
            <a:ext cx="828036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Rectangle 2" descr=""/>
          <p:cNvPicPr/>
          <p:nvPr/>
        </p:nvPicPr>
        <p:blipFill>
          <a:blip r:embed="rId1"/>
          <a:stretch/>
        </p:blipFill>
        <p:spPr>
          <a:xfrm>
            <a:off x="682560" y="487440"/>
            <a:ext cx="7785000" cy="79200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332000" y="1484280"/>
            <a:ext cx="6400800" cy="51134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Constantia"/>
              </a:rPr>
              <a:t>4.</a:t>
            </a:r>
            <a:r>
              <a:rPr b="0" lang="ru-RU" sz="37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3700" spc="-1" strike="noStrike">
                <a:solidFill>
                  <a:srgbClr val="ffffff"/>
                </a:solidFill>
                <a:latin typeface="Constantia"/>
              </a:rPr>
              <a:t>Первая женщина-космонавт, побывавшая в космосе 16-19 июня 1963?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Constantia"/>
              </a:rPr>
              <a:t>5. Как называлась серия американских космических кораблей, один из которых совершил 21 июля 1969 года посадку на Луну?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2195640" y="1268280"/>
            <a:ext cx="71280" cy="7308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WordArt 12"/>
          <p:cNvSpPr txBox="1"/>
          <p:nvPr/>
        </p:nvSpPr>
        <p:spPr>
          <a:xfrm>
            <a:off x="179280" y="1484280"/>
            <a:ext cx="828036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8T19:34:38Z</dcterms:created>
  <dc:creator>Admin</dc:creator>
  <dc:description/>
  <dc:language>en-US</dc:language>
  <cp:lastModifiedBy>user</cp:lastModifiedBy>
  <dcterms:modified xsi:type="dcterms:W3CDTF">2023-05-02T10:11:25Z</dcterms:modified>
  <cp:revision>25</cp:revision>
  <dc:subject/>
  <dc:title>АСТРОЧАС в … классе</dc:title>
</cp:coreProperties>
</file>