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gif" ContentType="image/gif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7A1F-C8E9-43A4-8472-3522A443A5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6549-1B0E-45DD-82A7-8189D289C6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B49D-6B2D-4721-B07D-CEDCA72A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0027-C66E-4D92-93A0-A15E09CA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E0C-E93E-4B72-8668-8F207BD1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428-9982-41BF-A6C4-92A49807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A539-4FF3-4FEC-9563-5C3CBAE9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284-8905-479A-8E70-0678AFF4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18F7-ECB2-4D07-9934-007FE280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B416-F0D2-414D-9311-B71F7E1F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98EF-0A06-45CF-9089-E2D794C1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58A-00C7-45C1-BF71-2709DDB9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C655-9091-46D9-AE47-527177E5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9396-01CA-4D91-84BF-2D0A153E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8C19-830B-4332-BAB0-90CFA77213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0" y="23760"/>
            <a:ext cx="9124920" cy="1629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tretch/>
        </p:blipFill>
        <p:spPr>
          <a:xfrm>
            <a:off x="468360" y="1189080"/>
            <a:ext cx="3672000" cy="5315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>
            <a:off x="4643280" y="1176480"/>
            <a:ext cx="398628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Шли по крыше три кота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шагают на мест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Три кота Васил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однимали три хвоста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(руки вверх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ямо в небо сине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ели киски на карниз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(присели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осмотрели сверху вниз (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И сказали три кота: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(встали, руки в стороны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Вот какая красота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174840" cy="42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3" name="TextBox 4"/>
          <p:cNvSpPr/>
          <p:nvPr/>
        </p:nvSpPr>
        <p:spPr>
          <a:xfrm>
            <a:off x="3995640" y="213372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р.52-53прочита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разительн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 стр.53 ответить на вопрос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332720" y="549360"/>
            <a:ext cx="6345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 знаешь ли ты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казки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.С. Пушкина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books_9"/>
          <p:cNvPicPr/>
          <p:nvPr/>
        </p:nvPicPr>
        <p:blipFill>
          <a:blip r:embed="rId1"/>
          <a:stretch/>
        </p:blipFill>
        <p:spPr>
          <a:xfrm>
            <a:off x="3419640" y="3573360"/>
            <a:ext cx="2447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560" y="5358960"/>
            <a:ext cx="6913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«Сказка о мертвой царевне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и семи богатырях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золотая рыбка"/>
          <p:cNvPicPr/>
          <p:nvPr/>
        </p:nvPicPr>
        <p:blipFill>
          <a:blip r:embed="rId1"/>
          <a:srcRect l="0" t="0" r="-24" b="102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Сказка о рыбаке и рыбк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рис"/>
          <p:cNvPicPr/>
          <p:nvPr/>
        </p:nvPicPr>
        <p:blipFill>
          <a:blip r:embed="rId1"/>
          <a:stretch/>
        </p:blipFill>
        <p:spPr>
          <a:xfrm>
            <a:off x="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04000" y="3789000"/>
            <a:ext cx="3240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азк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 цар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алтане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933720"/>
            <a:ext cx="346716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азк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 золотом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петушк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рис"/>
          <p:cNvPicPr/>
          <p:nvPr/>
        </p:nvPicPr>
        <p:blipFill>
          <a:blip r:embed="rId1"/>
          <a:stretch/>
        </p:blipFill>
        <p:spPr>
          <a:xfrm>
            <a:off x="3513240" y="0"/>
            <a:ext cx="563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27280" y="2997000"/>
            <a:ext cx="3132360" cy="30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Сказ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 поп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его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ботник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алд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8" descr="рис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3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174840" cy="42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0" name="TextBox 4"/>
          <p:cNvSpPr/>
          <p:nvPr/>
        </p:nvSpPr>
        <p:spPr>
          <a:xfrm>
            <a:off x="3995640" y="213372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р.52-53прочитать, выучить любое стихотвор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iz1"/>
          <p:cNvPicPr/>
          <p:nvPr/>
        </p:nvPicPr>
        <p:blipFill>
          <a:blip r:embed="rId1"/>
          <a:stretch/>
        </p:blipFill>
        <p:spPr>
          <a:xfrm>
            <a:off x="1403280" y="1413000"/>
            <a:ext cx="6284880" cy="5040360"/>
          </a:xfrm>
          <a:prstGeom prst="rect">
            <a:avLst/>
          </a:prstGeom>
          <a:ln w="0">
            <a:noFill/>
          </a:ln>
        </p:spPr>
      </p:pic>
      <p:sp>
        <p:nvSpPr>
          <p:cNvPr id="52" name="WordArt 3"/>
          <p:cNvSpPr txBox="1"/>
          <p:nvPr/>
        </p:nvSpPr>
        <p:spPr>
          <a:xfrm>
            <a:off x="250920" y="189000"/>
            <a:ext cx="856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ьно сиди при письме</a:t>
            </a:r>
            <a:endParaRPr b="0" lang="en-US" sz="1800" spc="1" strike="noStrike">
              <a:ln w="19080">
                <a:solidFill>
                  <a:srgbClr val="9933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Урок закончен.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Спасибо за рабо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280" y="1599840"/>
            <a:ext cx="814716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5" descr="буратино1.png"/>
          <p:cNvPicPr/>
          <p:nvPr/>
        </p:nvPicPr>
        <p:blipFill>
          <a:blip r:embed="rId1"/>
          <a:stretch/>
        </p:blipFill>
        <p:spPr>
          <a:xfrm rot="21012000">
            <a:off x="-180720" y="2781000"/>
            <a:ext cx="4248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" descr="071013144031.jpg"/>
          <p:cNvPicPr/>
          <p:nvPr/>
        </p:nvPicPr>
        <p:blipFill>
          <a:blip r:embed="rId1"/>
          <a:stretch/>
        </p:blipFill>
        <p:spPr>
          <a:xfrm>
            <a:off x="214200" y="428760"/>
            <a:ext cx="4873680" cy="5857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4989600" y="1714680"/>
            <a:ext cx="4011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Bookman Old Style"/>
              </a:rPr>
              <a:t>Александ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Bookman Old Style"/>
              </a:rPr>
              <a:t>Сергееви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Bookman Old Style"/>
              </a:rPr>
              <a:t>Пушк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Bookman Old Style"/>
              </a:rPr>
              <a:t>1799-183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324000" y="285840"/>
            <a:ext cx="442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ookman Old Style"/>
              </a:rPr>
              <a:t>6 июня 1799 го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 Москве в дворянской помещичьей семье Пушкиных родился мальчик, которому суждено было стать одним из величайших поэтов Рос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6" descr="pushkin_04.jpg"/>
          <p:cNvPicPr/>
          <p:nvPr/>
        </p:nvPicPr>
        <p:blipFill>
          <a:blip r:embed="rId1"/>
          <a:stretch/>
        </p:blipFill>
        <p:spPr>
          <a:xfrm>
            <a:off x="4659480" y="306360"/>
            <a:ext cx="4182840" cy="5452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7"/>
          <p:cNvSpPr/>
          <p:nvPr/>
        </p:nvSpPr>
        <p:spPr>
          <a:xfrm>
            <a:off x="4500720" y="575928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ушкин-ребенок. 1800-18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pushkin_s_l.jpg"/>
          <p:cNvPicPr/>
          <p:nvPr/>
        </p:nvPicPr>
        <p:blipFill>
          <a:blip r:embed="rId1"/>
          <a:stretch/>
        </p:blipFill>
        <p:spPr>
          <a:xfrm>
            <a:off x="324000" y="404640"/>
            <a:ext cx="4248000" cy="53341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4357800" y="214200"/>
            <a:ext cx="457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Отец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Сергей Львович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, небогатый помещик, человек образованный, хорошо знал литератур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был знаком со многими русскими писателями и сам немного пис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428760" y="58053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.Л. Пушкин. 182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pushkina_n_o.jpg"/>
          <p:cNvPicPr/>
          <p:nvPr/>
        </p:nvPicPr>
        <p:blipFill>
          <a:blip r:embed="rId1"/>
          <a:stretch/>
        </p:blipFill>
        <p:spPr>
          <a:xfrm>
            <a:off x="333360" y="363600"/>
            <a:ext cx="3313080" cy="37130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3786120" y="142920"/>
            <a:ext cx="52149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Мать,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 u="sng">
                <a:solidFill>
                  <a:srgbClr val="000000"/>
                </a:solidFill>
                <a:uFillTx/>
                <a:latin typeface="Bookman Old Style"/>
              </a:rPr>
              <a:t>Надежда Осиповна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приходилась внучкой арапу Петра </a:t>
            </a:r>
            <a:r>
              <a:rPr b="0" i="1" lang="en-US" sz="31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впоследствии русскому генералу Ганнибалу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24000" y="43164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.О. Пушкина. 1800-е г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7" descr="gannibal_a_p.jpg"/>
          <p:cNvPicPr/>
          <p:nvPr/>
        </p:nvPicPr>
        <p:blipFill>
          <a:blip r:embed="rId2"/>
          <a:stretch/>
        </p:blipFill>
        <p:spPr>
          <a:xfrm>
            <a:off x="3646440" y="3044880"/>
            <a:ext cx="2571840" cy="3217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8"/>
          <p:cNvSpPr/>
          <p:nvPr/>
        </p:nvSpPr>
        <p:spPr>
          <a:xfrm>
            <a:off x="6234120" y="3200400"/>
            <a:ext cx="271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адедушк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Абрам Петрович Ганниб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Арап Петра Великого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3672000" y="625140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А.П. Ганниба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C:\Documents and Settings\Admin\Рабочий стол\Пушкин\pushkin_l_s.jpg"/>
          <p:cNvPicPr/>
          <p:nvPr/>
        </p:nvPicPr>
        <p:blipFill>
          <a:blip r:embed="rId1"/>
          <a:stretch/>
        </p:blipFill>
        <p:spPr>
          <a:xfrm>
            <a:off x="6095880" y="307800"/>
            <a:ext cx="2692440" cy="3484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Documents and Settings\Admin\Рабочий стол\Пушкин\pavlischeva_o_s.jpg"/>
          <p:cNvPicPr/>
          <p:nvPr/>
        </p:nvPicPr>
        <p:blipFill>
          <a:blip r:embed="rId2"/>
          <a:stretch/>
        </p:blipFill>
        <p:spPr>
          <a:xfrm>
            <a:off x="328680" y="214200"/>
            <a:ext cx="2865240" cy="328608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3214800" y="214200"/>
            <a:ext cx="285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етей в семье Пушкиных было трое. Старшая -Ольга,  второй  - Александр и младший – Лёвушка, любимец семь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C:\Documents and Settings\Admin\Рабочий стол\Пушкин\pushkin_11.jpg"/>
          <p:cNvPicPr/>
          <p:nvPr/>
        </p:nvPicPr>
        <p:blipFill>
          <a:blip r:embed="rId3"/>
          <a:stretch/>
        </p:blipFill>
        <p:spPr>
          <a:xfrm>
            <a:off x="3575160" y="3227400"/>
            <a:ext cx="1920600" cy="274320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297000" y="353700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льга Серг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6346440" y="38448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е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2556000" y="59832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анд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Documents and Settings\Admin\Рабочий стол\Пушкин\gannibal_m_a.jpg"/>
          <p:cNvPicPr/>
          <p:nvPr/>
        </p:nvPicPr>
        <p:blipFill>
          <a:blip r:embed="rId1"/>
          <a:stretch/>
        </p:blipFill>
        <p:spPr>
          <a:xfrm>
            <a:off x="900000" y="372960"/>
            <a:ext cx="2610000" cy="3649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Admin\Рабочий стол\пушкин1\arina.jpg"/>
          <p:cNvPicPr/>
          <p:nvPr/>
        </p:nvPicPr>
        <p:blipFill>
          <a:blip r:embed="rId2"/>
          <a:stretch/>
        </p:blipFill>
        <p:spPr>
          <a:xfrm>
            <a:off x="5786280" y="372960"/>
            <a:ext cx="2460960" cy="362772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324000" y="4778280"/>
            <a:ext cx="854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юбовь к родному языку маленькому Пушкину привили бабушка, Мария Алексеевна Ганнибал, превосходно говорившая и писавшая по-русски,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няня Арина Родионов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503280" y="4000680"/>
            <a:ext cx="30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Ганниб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ар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5424480" y="392904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Яковле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р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одио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good_full_803"/>
          <p:cNvPicPr/>
          <p:nvPr/>
        </p:nvPicPr>
        <p:blipFill>
          <a:blip r:embed="rId1"/>
          <a:stretch/>
        </p:blipFill>
        <p:spPr>
          <a:xfrm>
            <a:off x="1619280" y="836640"/>
            <a:ext cx="57610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4:22:51Z</dcterms:created>
  <dc:creator>Ольга</dc:creator>
  <dc:description/>
  <dc:language>en-US</dc:language>
  <cp:lastModifiedBy>Папа и Мама</cp:lastModifiedBy>
  <dcterms:modified xsi:type="dcterms:W3CDTF">2020-04-09T04:07:55Z</dcterms:modified>
  <cp:revision>52</cp:revision>
  <dc:subject/>
  <dc:title>Презентация PowerPoint</dc:title>
</cp:coreProperties>
</file>