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AD59-863F-4574-B6B8-F4A07547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515A-CBBB-4E60-A8EA-14A837FF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BFE5-CE37-48B3-96DC-27F990DF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7006-9D54-4AAA-A7FD-022EAF68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E5E5-4A80-4539-8F3A-A4FA47CC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34C1-283D-45FB-A5E8-862D2F13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1878-C428-4960-9C52-6D40DC88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6AF5-1CB0-460C-910C-57116981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DA68-CD73-4902-912F-2B47F00B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B1B0-6B79-471E-B1A9-F17AD18E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6591-5739-4F7F-8408-89AE6708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12AE-F9BF-4636-A760-246B1CEC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32C5-4D91-458C-B82F-8029CDD8FF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5600" y="2179800"/>
            <a:ext cx="7050240" cy="1249200"/>
          </a:xfrm>
          <a:prstGeom prst="rect">
            <a:avLst/>
          </a:prstGeom>
          <a:solidFill>
            <a:srgbClr val="00e200"/>
          </a:solidFill>
          <a:ln w="1260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РАЗВИТИЕ ДЕТСКОЙ ИНИЦИАТИВЫ С ПОМОЩЬЮ ТВОРЧЕСКИХ ЗАДАНИЙ В ПОВСЕДНЕВНОЙ ЖИЗНИ».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44360" y="5168520"/>
            <a:ext cx="5473800" cy="700200"/>
          </a:xfrm>
          <a:prstGeom prst="rect">
            <a:avLst/>
          </a:prstGeom>
          <a:solidFill>
            <a:srgbClr val="ffd100"/>
          </a:solidFill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зентацию подготовила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арковская Лариса Алексеев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сперимент «Из чего пекут хлеб?»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3" name="Picture 5" descr="https://sun9-77.userapi.com/impg/0uqUFaaDEZWcTTIwQO71J9Z0GxFo1ltUz2Qcgg/TOCEmTuot2I.jpg?size=1280x960&amp;quality=96&amp;sign=05f14c060538d4381784334dbbc11634&amp;type=album"/>
          <p:cNvPicPr/>
          <p:nvPr/>
        </p:nvPicPr>
        <p:blipFill>
          <a:blip r:embed="rId1"/>
          <a:stretch/>
        </p:blipFill>
        <p:spPr>
          <a:xfrm>
            <a:off x="4406760" y="1825560"/>
            <a:ext cx="4108680" cy="4351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https://sun9-41.userapi.com/impg/CGfuTSfcLkIe0N68IGJglIxPtv28mZUzW6rOrA/5H24xRJTQD0.jpg?size=1280x960&amp;quality=96&amp;sign=8b345d4be5609847a618829231c13c42&amp;type=album"/>
          <p:cNvPicPr/>
          <p:nvPr/>
        </p:nvPicPr>
        <p:blipFill>
          <a:blip r:embed="rId2"/>
          <a:stretch/>
        </p:blipFill>
        <p:spPr>
          <a:xfrm>
            <a:off x="198360" y="1825560"/>
            <a:ext cx="4208400" cy="42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175680"/>
            <a:ext cx="7886880" cy="128916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 «Кораблик из листика»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7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5" descr=""/>
          <p:cNvPicPr/>
          <p:nvPr/>
        </p:nvPicPr>
        <p:blipFill>
          <a:blip r:embed="rId1"/>
          <a:stretch/>
        </p:blipFill>
        <p:spPr>
          <a:xfrm>
            <a:off x="1674720" y="1652760"/>
            <a:ext cx="573876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 Light"/>
              </a:rPr>
              <a:t>Эксперимент «Сравнение овощей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0" name="Picture 6" descr="https://sun9-2.userapi.com/impg/Ixa9ooFw1pNCk5phGJwJnWfsE8Ps3gbgMR7l2g/55rFqHzkQ2A.jpg?size=1280x960&amp;quality=96&amp;sign=3cb2ea783989edcc50d9e8f0f35dd9ff&amp;type=album"/>
          <p:cNvPicPr/>
          <p:nvPr/>
        </p:nvPicPr>
        <p:blipFill>
          <a:blip r:embed="rId1"/>
          <a:stretch/>
        </p:blipFill>
        <p:spPr>
          <a:xfrm>
            <a:off x="276120" y="2100240"/>
            <a:ext cx="4483080" cy="4351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s://sun9-12.userapi.com/impg/0RLsSCe9t-H7ZSfY26yt40tWxPS-QxMGzIU_Ww/BQmd6Kcu6lY.jpg?size=1280x960&amp;quality=96&amp;sign=95a27ed8069899aed8fbc7bf9b5058c4&amp;type=album"/>
          <p:cNvPicPr/>
          <p:nvPr/>
        </p:nvPicPr>
        <p:blipFill>
          <a:blip r:embed="rId2"/>
          <a:stretch/>
        </p:blipFill>
        <p:spPr>
          <a:xfrm>
            <a:off x="4759200" y="2100240"/>
            <a:ext cx="415296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152280"/>
            <a:ext cx="7886880" cy="123048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 Light"/>
              </a:rPr>
              <a:t>Коллективная работа «Дерево осенью»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3" name="Picture 5" descr="https://sun9-13.userapi.com/impg/2auTIUDAVMhdr3ALfwBglPqHHIdqaOOQAqbW5w/slmpHXmu1kQ.jpg?size=1280x960&amp;quality=96&amp;sign=a7768c0bdc2515c3ffbca1ae98f95b5b&amp;type=album"/>
          <p:cNvPicPr/>
          <p:nvPr/>
        </p:nvPicPr>
        <p:blipFill>
          <a:blip r:embed="rId1"/>
          <a:stretch/>
        </p:blipFill>
        <p:spPr>
          <a:xfrm>
            <a:off x="274680" y="1825560"/>
            <a:ext cx="4043160" cy="4351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https://sun9-36.userapi.com/impg/QqD4WdOr4ODByIr6QWEHm0jpftLIxmU0bfGWQQ/m1NntT44OZQ.jpg?size=810x1080&amp;quality=96&amp;sign=3109dcbd26f30ab48f6e5efc8eac8a88&amp;type=album"/>
          <p:cNvPicPr/>
          <p:nvPr/>
        </p:nvPicPr>
        <p:blipFill>
          <a:blip r:embed="rId2"/>
          <a:stretch/>
        </p:blipFill>
        <p:spPr>
          <a:xfrm>
            <a:off x="4397400" y="1825560"/>
            <a:ext cx="365616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011240"/>
          </a:xfrm>
          <a:prstGeom prst="rect">
            <a:avLst/>
          </a:prstGeom>
          <a:solidFill>
            <a:srgbClr val="00e2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</a:t>
            </a:r>
            <a:r>
              <a:rPr b="0" lang="ru-RU" sz="4400" spc="-1" strike="noStrike">
                <a:solidFill>
                  <a:srgbClr val="ffffff"/>
                </a:solidFill>
                <a:latin typeface="Calibri Light"/>
              </a:rPr>
              <a:t>Игра «Угадай - ка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Объект 4" descr=""/>
          <p:cNvPicPr/>
          <p:nvPr/>
        </p:nvPicPr>
        <p:blipFill>
          <a:blip r:embed="rId1"/>
          <a:stretch/>
        </p:blipFill>
        <p:spPr>
          <a:xfrm>
            <a:off x="925560" y="1690560"/>
            <a:ext cx="66754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Объект 4" descr=""/>
          <p:cNvPicPr/>
          <p:nvPr/>
        </p:nvPicPr>
        <p:blipFill>
          <a:blip r:embed="rId1">
            <a:alphaModFix amt="31000"/>
          </a:blip>
          <a:stretch/>
        </p:blipFill>
        <p:spPr>
          <a:xfrm>
            <a:off x="4554360" y="4890960"/>
            <a:ext cx="35280" cy="4608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формление выставки «Осенние листочки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8" descr=""/>
          <p:cNvPicPr/>
          <p:nvPr/>
        </p:nvPicPr>
        <p:blipFill>
          <a:blip r:embed="rId2"/>
          <a:stretch/>
        </p:blipFill>
        <p:spPr>
          <a:xfrm>
            <a:off x="1817640" y="1994040"/>
            <a:ext cx="547524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https://sun9-69.userapi.com/impg/Mnfk4EsxObREKR0qIiY473xxey7dxNzS_BalbQ/qJgFGjfOM9w.jpg?size=605x807&amp;quality=96&amp;sign=1ba6dbac7ce1603c94e04d6ceed5fac2&amp;type=album"/>
          <p:cNvPicPr/>
          <p:nvPr/>
        </p:nvPicPr>
        <p:blipFill>
          <a:blip r:embed="rId1"/>
          <a:stretch/>
        </p:blipFill>
        <p:spPr>
          <a:xfrm>
            <a:off x="2004840" y="1554120"/>
            <a:ext cx="5531040" cy="51656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64476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 Light"/>
              </a:rPr>
              <a:t>Аппликация «Павлиний хвост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>
            <a:alphaModFix amt="31000"/>
          </a:blip>
          <a:stretch/>
        </p:blipFill>
        <p:spPr>
          <a:xfrm>
            <a:off x="1245960" y="1539360"/>
            <a:ext cx="7886520" cy="4351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s://sun9-69.userapi.com/impg/Mnfk4EsxObREKR0qIiY473xxey7dxNzS_BalbQ/qJgFGjfOM9w.jpg?size=605x807&amp;quality=96&amp;sign=1ba6dbac7ce1603c94e04d6ceed5fac2&amp;type=album"/>
          <p:cNvPicPr/>
          <p:nvPr/>
        </p:nvPicPr>
        <p:blipFill>
          <a:blip r:embed="rId3"/>
          <a:stretch/>
        </p:blipFill>
        <p:spPr>
          <a:xfrm>
            <a:off x="2004840" y="1270080"/>
            <a:ext cx="5553360" cy="54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144800"/>
          </a:xfrm>
          <a:prstGeom prst="rect">
            <a:avLst/>
          </a:prstGeom>
          <a:solidFill>
            <a:srgbClr val="00e200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стоятельная деятельность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8" name="Рисунок 2" descr=""/>
          <p:cNvPicPr/>
          <p:nvPr/>
        </p:nvPicPr>
        <p:blipFill>
          <a:blip r:embed="rId1"/>
          <a:stretch/>
        </p:blipFill>
        <p:spPr>
          <a:xfrm>
            <a:off x="4392720" y="1884240"/>
            <a:ext cx="4751280" cy="356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https://sun9-76.userapi.com/impg/mBpBq2t1hMLx4WDd-eg85W6g3A8VczfZuFd35w/yrH0rDdPXWQ.jpg?size=810x1080&amp;quality=95&amp;sign=7fd906a6554b21c339ec1e36b164f48b&amp;type=album"/>
          <p:cNvPicPr/>
          <p:nvPr/>
        </p:nvPicPr>
        <p:blipFill>
          <a:blip r:embed="rId2"/>
          <a:stretch/>
        </p:blipFill>
        <p:spPr>
          <a:xfrm>
            <a:off x="307800" y="1884240"/>
            <a:ext cx="3621240" cy="48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2181240"/>
            <a:ext cx="788688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33240" y="2004840"/>
            <a:ext cx="8182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 такое инициатива? Это то, что человек делает так, как надо, хотя его об этом не просят»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Элберт Грин Хаббард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3989520" y="252108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574560" y="1828800"/>
            <a:ext cx="8299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детско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ициативы детей старшего дошкольного возраста в разных видах деятельност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2"/>
          <p:cNvSpPr/>
          <p:nvPr/>
        </p:nvSpPr>
        <p:spPr>
          <a:xfrm>
            <a:off x="387360" y="1933560"/>
            <a:ext cx="854568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условия для поддержки детской инициативы детей старшего дошкольного возрас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способствовать развитию творческого потенциала и самостоятельности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создавать  предметно-пространственную развивающую среду, способствующую поддержке детской инициатив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120600" y="231840"/>
            <a:ext cx="8585280" cy="37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е результаты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27200" y="1825200"/>
            <a:ext cx="71596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бенок проявляет инициативу в разных видах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ладает развитым воображение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статочно хорошо владеет устной речью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являет любознательность ,задаёт вопрос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клонен наблюдать и экспериментироват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остоятельно придумывать объяснение явлениям природы    и поступкам люд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 Light"/>
              </a:rPr>
              <a:t>Условия, необходимые для развития детской инициатив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ая предметно-пространственная среда разнообразна по своему содержан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-24414120" y="32446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" descr=""/>
          <p:cNvPicPr/>
          <p:nvPr/>
        </p:nvPicPr>
        <p:blipFill>
          <a:blip r:embed="rId2"/>
          <a:stretch/>
        </p:blipFill>
        <p:spPr>
          <a:xfrm>
            <a:off x="1409760" y="2631960"/>
            <a:ext cx="555300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330720" y="1730520"/>
            <a:ext cx="2754000" cy="304776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: скругленные углы 4"/>
          <p:cNvSpPr/>
          <p:nvPr/>
        </p:nvSpPr>
        <p:spPr>
          <a:xfrm>
            <a:off x="500040" y="4376880"/>
            <a:ext cx="2424240" cy="91440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лечет в свою деятельность других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: скругленные углы 6"/>
          <p:cNvSpPr/>
          <p:nvPr/>
        </p:nvSpPr>
        <p:spPr>
          <a:xfrm>
            <a:off x="500040" y="2797200"/>
            <a:ext cx="2424240" cy="91440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включиться в разгов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: скругленные углы 11"/>
          <p:cNvSpPr/>
          <p:nvPr/>
        </p:nvSpPr>
        <p:spPr>
          <a:xfrm>
            <a:off x="6491160" y="1273320"/>
            <a:ext cx="2424240" cy="91440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самостоятельно организовать знакомую игру с группой сверстников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: скругленные углы 12"/>
          <p:cNvSpPr/>
          <p:nvPr/>
        </p:nvSpPr>
        <p:spPr>
          <a:xfrm>
            <a:off x="522360" y="4376880"/>
            <a:ext cx="2423880" cy="91440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лечет в свою деятельность других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: скругленные углы 14"/>
          <p:cNvSpPr/>
          <p:nvPr/>
        </p:nvSpPr>
        <p:spPr>
          <a:xfrm>
            <a:off x="6491160" y="2797200"/>
            <a:ext cx="2424240" cy="91440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 спланировать свое свободное врем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: скругленные углы 15"/>
          <p:cNvSpPr/>
          <p:nvPr/>
        </p:nvSpPr>
        <p:spPr>
          <a:xfrm>
            <a:off x="6491160" y="4376880"/>
            <a:ext cx="2424240" cy="91440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интересует окружающи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: скругленные углы 16"/>
          <p:cNvSpPr/>
          <p:nvPr/>
        </p:nvSpPr>
        <p:spPr>
          <a:xfrm>
            <a:off x="500040" y="1258920"/>
            <a:ext cx="2424240" cy="91440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редложить интересное де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4154400" y="0"/>
            <a:ext cx="978120" cy="1693800"/>
          </a:xfrm>
          <a:prstGeom prst="rect">
            <a:avLst/>
          </a:prstGeom>
          <a:ln w="0">
            <a:noFill/>
          </a:ln>
        </p:spPr>
      </p:pic>
      <p:sp>
        <p:nvSpPr>
          <p:cNvPr id="63" name="Стрелка: вправо 7"/>
          <p:cNvSpPr/>
          <p:nvPr/>
        </p:nvSpPr>
        <p:spPr>
          <a:xfrm>
            <a:off x="5805360" y="3178080"/>
            <a:ext cx="662040" cy="27324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Стрелка: вправо 17"/>
          <p:cNvSpPr/>
          <p:nvPr/>
        </p:nvSpPr>
        <p:spPr>
          <a:xfrm rot="9772800">
            <a:off x="3042720" y="4342680"/>
            <a:ext cx="711360" cy="2890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Стрелка: вправо 20"/>
          <p:cNvSpPr/>
          <p:nvPr/>
        </p:nvSpPr>
        <p:spPr>
          <a:xfrm rot="19846200">
            <a:off x="5847840" y="1761840"/>
            <a:ext cx="627120" cy="226800"/>
          </a:xfrm>
          <a:prstGeom prst="rightArrow">
            <a:avLst>
              <a:gd name="adj1" fmla="val 50000"/>
              <a:gd name="adj2" fmla="val 50053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Стрелка: вправо 21"/>
          <p:cNvSpPr/>
          <p:nvPr/>
        </p:nvSpPr>
        <p:spPr>
          <a:xfrm rot="10800000">
            <a:off x="3088800" y="3117600"/>
            <a:ext cx="692280" cy="27468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трелка: вправо 22"/>
          <p:cNvSpPr/>
          <p:nvPr/>
        </p:nvSpPr>
        <p:spPr>
          <a:xfrm rot="11920200">
            <a:off x="3065040" y="1753560"/>
            <a:ext cx="738360" cy="26172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Стрелка: вправо 23"/>
          <p:cNvSpPr/>
          <p:nvPr/>
        </p:nvSpPr>
        <p:spPr>
          <a:xfrm rot="1924200">
            <a:off x="5832000" y="4378320"/>
            <a:ext cx="600120" cy="26028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же развивать детскую инициативу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044720" y="1987560"/>
            <a:ext cx="705456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ВАТЬ ПРОСТЫЕ ЗАДАНИЯ! (снимая страх «не справлюсь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ВАТЬ ИНТЕРЕСНЫЕ ЗАДАНИЯ! (где у ребенка есть личный интерес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ДЕРЖИВАТЬ ИНИЦИАТИВУ! (хвалить ребенка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УЧИТЬ ПРАВИЛЬНО ОТНОСИТЬСЯ К СОБСТВЕННЫМ ОШИБКАМ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20:52:53Z</dcterms:created>
  <dc:creator>Инна</dc:creator>
  <dc:description/>
  <dc:language>en-US</dc:language>
  <cp:lastModifiedBy>User00</cp:lastModifiedBy>
  <dcterms:modified xsi:type="dcterms:W3CDTF">2023-05-02T03:47:02Z</dcterms:modified>
  <cp:revision>58</cp:revision>
  <dc:subject/>
  <dc:title>Название презентации</dc:title>
</cp:coreProperties>
</file>