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5D2-F6EE-424D-B208-3409567E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574-95D3-4A7B-8CFF-F8E5EBD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D9-7550-48EB-B377-E351D629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6B3-9714-4373-BB2C-668B4DF8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1A8-9858-466B-8FA4-19804D4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C95-BF92-4C1B-A35B-BE9BF03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4AB-E254-4749-AF54-BFE20B9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7EA-D1FE-4F01-B474-EFE61BF8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654-99DF-4FB9-AF12-497030BA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804-4348-42A4-8EC9-757ACAF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891-8A9C-4E97-925B-6376F4FA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BF1-281F-41C3-91E8-8903C5F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E61-7F48-4B59-8FFB-C1F027449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600" y="2179800"/>
            <a:ext cx="7050240" cy="124920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ДЕТСКОЙ ИНИЦИАТИВЫ С ПОМОЩЬЮ ТВОРЧЕСКИХ ЗАДАНИЙ В ПОВСЕДНЕВНОЙ ЖИЗНИ»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4360" y="5168520"/>
            <a:ext cx="5473800" cy="70020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ю подготовил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рковская Лариса Алексе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еримент «Из чего пекут хлеб?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5" descr="https://sun9-77.userapi.com/impg/0uqUFaaDEZWcTTIwQO71J9Z0GxFo1ltUz2Qcgg/TOCEmTuot2I.jpg?size=1280x960&amp;quality=96&amp;sign=05f14c060538d4381784334dbbc11634&amp;type=album"/>
          <p:cNvPicPr/>
          <p:nvPr/>
        </p:nvPicPr>
        <p:blipFill>
          <a:blip r:embed="rId1"/>
          <a:stretch/>
        </p:blipFill>
        <p:spPr>
          <a:xfrm>
            <a:off x="4406760" y="1825560"/>
            <a:ext cx="4108680" cy="435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s://sun9-41.userapi.com/impg/CGfuTSfcLkIe0N68IGJglIxPtv28mZUzW6rOrA/5H24xRJTQD0.jpg?size=1280x960&amp;quality=96&amp;sign=8b345d4be5609847a618829231c13c42&amp;type=album"/>
          <p:cNvPicPr/>
          <p:nvPr/>
        </p:nvPicPr>
        <p:blipFill>
          <a:blip r:embed="rId2"/>
          <a:stretch/>
        </p:blipFill>
        <p:spPr>
          <a:xfrm>
            <a:off x="198360" y="1825560"/>
            <a:ext cx="42084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175680"/>
            <a:ext cx="7886880" cy="12891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«Кораблик из листика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1674720" y="1652760"/>
            <a:ext cx="57387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Эксперимент «Сравнение овощей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Picture 6" descr="https://sun9-2.userapi.com/impg/Ixa9ooFw1pNCk5phGJwJnWfsE8Ps3gbgMR7l2g/55rFqHzkQ2A.jpg?size=1280x960&amp;quality=96&amp;sign=3cb2ea783989edcc50d9e8f0f35dd9ff&amp;type=album"/>
          <p:cNvPicPr/>
          <p:nvPr/>
        </p:nvPicPr>
        <p:blipFill>
          <a:blip r:embed="rId1"/>
          <a:stretch/>
        </p:blipFill>
        <p:spPr>
          <a:xfrm>
            <a:off x="276120" y="2100240"/>
            <a:ext cx="44830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sun9-12.userapi.com/impg/0RLsSCe9t-H7ZSfY26yt40tWxPS-QxMGzIU_Ww/BQmd6Kcu6lY.jpg?size=1280x960&amp;quality=96&amp;sign=95a27ed8069899aed8fbc7bf9b5058c4&amp;type=album"/>
          <p:cNvPicPr/>
          <p:nvPr/>
        </p:nvPicPr>
        <p:blipFill>
          <a:blip r:embed="rId2"/>
          <a:stretch/>
        </p:blipFill>
        <p:spPr>
          <a:xfrm>
            <a:off x="4759200" y="2100240"/>
            <a:ext cx="41529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886880" cy="1230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Коллективная работа «Дерево осенью»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Picture 5" descr="https://sun9-13.userapi.com/impg/2auTIUDAVMhdr3ALfwBglPqHHIdqaOOQAqbW5w/slmpHXmu1kQ.jpg?size=1280x960&amp;quality=96&amp;sign=a7768c0bdc2515c3ffbca1ae98f95b5b&amp;type=album"/>
          <p:cNvPicPr/>
          <p:nvPr/>
        </p:nvPicPr>
        <p:blipFill>
          <a:blip r:embed="rId1"/>
          <a:stretch/>
        </p:blipFill>
        <p:spPr>
          <a:xfrm>
            <a:off x="274680" y="1825560"/>
            <a:ext cx="404316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s://sun9-36.userapi.com/impg/QqD4WdOr4ODByIr6QWEHm0jpftLIxmU0bfGWQQ/m1NntT44OZQ.jpg?size=810x1080&amp;quality=96&amp;sign=3109dcbd26f30ab48f6e5efc8eac8a88&amp;type=album"/>
          <p:cNvPicPr/>
          <p:nvPr/>
        </p:nvPicPr>
        <p:blipFill>
          <a:blip r:embed="rId2"/>
          <a:stretch/>
        </p:blipFill>
        <p:spPr>
          <a:xfrm>
            <a:off x="4397400" y="1825560"/>
            <a:ext cx="3656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1240"/>
          </a:xfrm>
          <a:prstGeom prst="rect">
            <a:avLst/>
          </a:prstGeom>
          <a:solidFill>
            <a:srgbClr val="00e2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гра «Угадай - к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4" descr=""/>
          <p:cNvPicPr/>
          <p:nvPr/>
        </p:nvPicPr>
        <p:blipFill>
          <a:blip r:embed="rId1"/>
          <a:stretch/>
        </p:blipFill>
        <p:spPr>
          <a:xfrm>
            <a:off x="925560" y="1690560"/>
            <a:ext cx="6675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Объект 4" descr="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4554360" y="4890960"/>
            <a:ext cx="35280" cy="460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выставки «Осенние листочк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1817640" y="1994040"/>
            <a:ext cx="54752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s://sun9-69.userapi.com/impg/Mnfk4EsxObREKR0qIiY473xxey7dxNzS_BalbQ/qJgFGjfOM9w.jpg?size=605x807&amp;quality=96&amp;sign=1ba6dbac7ce1603c94e04d6ceed5fac2&amp;type=album"/>
          <p:cNvPicPr/>
          <p:nvPr/>
        </p:nvPicPr>
        <p:blipFill>
          <a:blip r:embed="rId1"/>
          <a:stretch/>
        </p:blipFill>
        <p:spPr>
          <a:xfrm>
            <a:off x="2004840" y="1554120"/>
            <a:ext cx="5531040" cy="5165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44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Аппликация «Павлиний хвост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>
            <a:alphaModFix amt="31000"/>
          </a:blip>
          <a:stretch/>
        </p:blipFill>
        <p:spPr>
          <a:xfrm>
            <a:off x="1245960" y="1539360"/>
            <a:ext cx="788652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sun9-69.userapi.com/impg/Mnfk4EsxObREKR0qIiY473xxey7dxNzS_BalbQ/qJgFGjfOM9w.jpg?size=605x807&amp;quality=96&amp;sign=1ba6dbac7ce1603c94e04d6ceed5fac2&amp;type=album"/>
          <p:cNvPicPr/>
          <p:nvPr/>
        </p:nvPicPr>
        <p:blipFill>
          <a:blip r:embed="rId3"/>
          <a:stretch/>
        </p:blipFill>
        <p:spPr>
          <a:xfrm>
            <a:off x="2004840" y="1270080"/>
            <a:ext cx="555336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44800"/>
          </a:xfrm>
          <a:prstGeom prst="rect">
            <a:avLst/>
          </a:prstGeom>
          <a:solidFill>
            <a:srgbClr val="00e2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4392720" y="188424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sun9-76.userapi.com/impg/mBpBq2t1hMLx4WDd-eg85W6g3A8VczfZuFd35w/yrH0rDdPXWQ.jpg?size=810x1080&amp;quality=95&amp;sign=7fd906a6554b21c339ec1e36b164f48b&amp;type=album"/>
          <p:cNvPicPr/>
          <p:nvPr/>
        </p:nvPicPr>
        <p:blipFill>
          <a:blip r:embed="rId2"/>
          <a:stretch/>
        </p:blipFill>
        <p:spPr>
          <a:xfrm>
            <a:off x="307800" y="1884240"/>
            <a:ext cx="362124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181240"/>
            <a:ext cx="78868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33240" y="2004840"/>
            <a:ext cx="818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акое инициатива? Это то, что человек делает так, как надо, хотя его об этом не просят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лберт Грин Хаббард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989520" y="252108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74560" y="1828800"/>
            <a:ext cx="829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ы детей старшего дошкольного возраста в разных видах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87360" y="1933560"/>
            <a:ext cx="85456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поддержки детской инициативы детей старшего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пособствовать развитию творческого потенциала и самостоятельности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оздавать  предметно-пространственную развивающую среду, способствующую поддержке детской инициати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20600" y="231840"/>
            <a:ext cx="85852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7200" y="1825200"/>
            <a:ext cx="71596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проявляет инициативу в раз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ладает развитым воображе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таточно хорошо владеет устной реч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ет любознательность ,задаёт вопрос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онен наблюдать и экспериментирова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придумывать объяснение явлениям природы    и поступкам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Условия, необходимые для развития детской инициатив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предметно-пространственная среда разнообразна по своему содерж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-24414120" y="324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1409760" y="2631960"/>
            <a:ext cx="55530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330720" y="1730520"/>
            <a:ext cx="27540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: скругленные углы 4"/>
          <p:cNvSpPr/>
          <p:nvPr/>
        </p:nvSpPr>
        <p:spPr>
          <a:xfrm>
            <a:off x="500040" y="437688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т в свою деятельность друг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: скругленные углы 6"/>
          <p:cNvSpPr/>
          <p:nvPr/>
        </p:nvSpPr>
        <p:spPr>
          <a:xfrm>
            <a:off x="500040" y="279720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ключиться в разго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11"/>
          <p:cNvSpPr/>
          <p:nvPr/>
        </p:nvSpPr>
        <p:spPr>
          <a:xfrm>
            <a:off x="6491160" y="127332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амостоятельно организовать знакомую игру с группой сверстник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: скругленные углы 12"/>
          <p:cNvSpPr/>
          <p:nvPr/>
        </p:nvSpPr>
        <p:spPr>
          <a:xfrm>
            <a:off x="522360" y="4376880"/>
            <a:ext cx="242388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т в свою деятельность други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: скругленные углы 14"/>
          <p:cNvSpPr/>
          <p:nvPr/>
        </p:nvSpPr>
        <p:spPr>
          <a:xfrm>
            <a:off x="6491160" y="279720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спланировать свое свободное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: скругленные углы 15"/>
          <p:cNvSpPr/>
          <p:nvPr/>
        </p:nvSpPr>
        <p:spPr>
          <a:xfrm>
            <a:off x="6491160" y="437688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ует окружающ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: скругленные углы 16"/>
          <p:cNvSpPr/>
          <p:nvPr/>
        </p:nvSpPr>
        <p:spPr>
          <a:xfrm>
            <a:off x="500040" y="1258920"/>
            <a:ext cx="2424240" cy="914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едложить интересное д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154400" y="0"/>
            <a:ext cx="978120" cy="169380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: вправо 7"/>
          <p:cNvSpPr/>
          <p:nvPr/>
        </p:nvSpPr>
        <p:spPr>
          <a:xfrm>
            <a:off x="5805360" y="3178080"/>
            <a:ext cx="662040" cy="27324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: вправо 17"/>
          <p:cNvSpPr/>
          <p:nvPr/>
        </p:nvSpPr>
        <p:spPr>
          <a:xfrm rot="9772800">
            <a:off x="3042720" y="4342680"/>
            <a:ext cx="711360" cy="289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: вправо 20"/>
          <p:cNvSpPr/>
          <p:nvPr/>
        </p:nvSpPr>
        <p:spPr>
          <a:xfrm rot="19846200">
            <a:off x="5847840" y="1761840"/>
            <a:ext cx="627120" cy="22680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трелка: вправо 21"/>
          <p:cNvSpPr/>
          <p:nvPr/>
        </p:nvSpPr>
        <p:spPr>
          <a:xfrm rot="10800000">
            <a:off x="3088800" y="3117600"/>
            <a:ext cx="692280" cy="274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: вправо 22"/>
          <p:cNvSpPr/>
          <p:nvPr/>
        </p:nvSpPr>
        <p:spPr>
          <a:xfrm rot="11920200">
            <a:off x="3065040" y="1753560"/>
            <a:ext cx="738360" cy="2617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: вправо 23"/>
          <p:cNvSpPr/>
          <p:nvPr/>
        </p:nvSpPr>
        <p:spPr>
          <a:xfrm rot="1924200">
            <a:off x="5832000" y="4378320"/>
            <a:ext cx="600120" cy="26028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развивать детскую инициативу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44720" y="1987560"/>
            <a:ext cx="7054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ТЬ ПРОСТЫЕ ЗАДАНИЯ! (снимая страх «не справлюсь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ТЬ ИНТЕРЕСНЫЕ ЗАДАНИЯ! (где у ребенка есть личный интерес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ИНИЦИАТИВУ! (хвалить ребенк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ПРАВИЛЬНО ОТНОСИТЬСЯ К СОБСТВЕННЫМ ОШИБКА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User00</cp:lastModifiedBy>
  <dcterms:modified xsi:type="dcterms:W3CDTF">2023-05-02T03:47:02Z</dcterms:modified>
  <cp:revision>58</cp:revision>
  <dc:subject/>
  <dc:title>Название презентации</dc:title>
</cp:coreProperties>
</file>