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C0A-AD90-4825-AB80-E2419FBE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5A5-AA16-48CB-9010-67E76DCD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8B3CD-01E7-4A4B-88C8-91F6E7F3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86CFD-276A-4E6C-8F61-B1A2C68C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5DBBE-99C2-4ABB-BFE4-ADC1EA97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96567-D603-40B5-BC75-09D6A44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43079-347B-460C-B1BD-B0582A6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23FF5-59CA-44D7-9553-110EACC4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AD19E-BD6C-485E-9C5A-8836EC0C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81BEA-5C4B-42E0-92AF-965515DD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987B5-0EAD-4D7A-984E-9C0E2D35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D6A76-8B44-444B-A6AC-4A26BC8D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EA5-B47D-48CC-AE50-DFEAB9DA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6B551-E0F4-47D0-B2F7-948C7A84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66172-4832-49C0-8857-40C5F8D1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80430-9384-474F-B529-4204A666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6FB01-9242-4C4B-83D9-0BA25A57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101A6-6056-4EE4-B529-746B56C6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E6151-FBE7-4605-B94D-DFD96E1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59437-05D2-4AF7-920A-1DA74B89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C5795-72ED-4A2F-8145-B363018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62F99-A5C1-474A-9EA0-0496DA11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1D1E6-8702-4EB1-BDE4-F787F90F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14E-ACEC-41E9-8584-AAD6FF87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AE878-D446-4200-AE46-6C0DBE2D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786DB-A92B-4ED0-8EE4-A5DFEB34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996BA-31E1-4938-8173-48958748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63F8D-76A6-4259-963B-C762C67E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32432-7044-4686-8DA5-9AE9D2A6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BD4B8-4F0E-49A4-9953-6B1E700A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31A06-2357-428E-BC88-1256DC74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03E2E-09A7-483E-A3DE-55A638F7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97A63-80F1-49C5-8FDF-47A7E3B3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61424-7CB5-4DDD-8EA0-3CC8561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AF4B-AC7B-4F66-8262-027A56C3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A26B4-0866-41B2-AFEA-3AA660A5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2955D-671F-4BD4-AD89-6DAA5A49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CD866-1340-4C10-8852-ED694257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7BB61-C77D-4699-8DC6-DECBB517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F3E39-E24B-45B7-8F07-57302906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960DA-D08C-440F-B344-3569B002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F919E-BCFE-49BB-88A2-DA3FEBC0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CB78B-D24C-4858-A4B3-D171A2D0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C578C-59CD-4F15-932D-FE7E9D08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33429-E0C6-4112-9841-DB8E271C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4743-C96A-426E-8FB9-BAA3858F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4743A-90B4-4500-A25C-D1A9D56E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F1310-B12C-46CB-B9F4-885F5EDE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A6E9C-044F-4265-B155-0EE5B471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3B46D-B0B8-42AB-96CC-36C39A98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EA160-CFF7-4821-A320-BADB4030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E39EF-5348-47A0-A767-9B43C399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3D8DC-6FAB-45A0-B3B7-E65D752D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8B5F4-ECE0-4911-875E-0C610B52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77903-A631-4240-935C-CE647086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1ACB6-AE2C-4962-A3EA-3456A480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2E4A-F4A4-4E5C-A3FF-55C1CEEC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93603-EB5C-4807-BA46-A5364202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97913-F4EE-40F7-8F90-79AAA43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16B56-F01A-4E2C-853D-4F4D2EE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438C4-3954-46C7-BAE0-27D1A958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24A5A-7E97-487B-ACF9-6692A52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F8272-F04F-4A72-A2FB-0C005BB5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EC40C-B7EB-49C9-A978-FE116778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3A71-0707-48DF-A96B-271D9827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E7DC-7CED-42CD-AF56-372E6ADD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10A2-2BF5-4FD5-983F-5DC20F3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697A-8D7B-4707-8C4F-A552A1E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77C-58F3-4BBE-9D5B-463216D4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F046-3EA6-4634-ACBD-F8997D94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177B-5630-4C1B-B7FA-3BFE1678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993A-6094-4F52-99E5-AF9DE71A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A6AC-B282-4C25-A099-FF5254A9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24BD-6692-45BA-901B-FAF32009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10F9-D6A2-4869-B309-3B1497F0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5BF0-2F58-42D4-957A-506BA4DE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3939-544B-4F94-9CCF-7F66A366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4551-E07A-46D6-8FA6-E25D31D5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BE77-7DDD-453C-8D8F-427283E2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B25-4814-4E6F-A301-87AC393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F905-DEF6-4572-B75D-43F79A52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93BD1-E2D9-4745-A31C-D39524E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33AD6-C86E-4F7A-A4EC-AD35C9EC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F316-BEF6-4576-94D8-944305B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C025-46BA-4D5F-B17E-4D5DB0EB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C000-CF65-4916-ADC9-DCB2D8EF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AB8E-98FF-4892-B215-6D5E8A4B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F2DBC-5F17-4FCF-8CF6-916B9A8C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D95B5-209D-479C-BC5E-1D324A92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700C-8848-4D78-949E-386F881D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08E-E6D9-4B2A-80DE-9F67CCCB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D9A6-8B38-4A41-811B-38360172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9C9A-4A2B-4D1E-95A1-2E49F938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E1EED-AF66-4DEC-8831-EA4441C5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80124-EBBC-45CE-B879-CFB65CFF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1180-234F-4CFE-9115-A71DBA45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B52C0-F1BA-4B07-BF47-07917036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E538-18F6-419A-9969-B871D660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B5CC-5DE9-41D0-BA7F-9A77E83D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1927A-28CF-4849-A861-19EC3959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B896F-FC32-4F2B-BFCA-5C9D4795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6A1-2787-4634-9127-E247451C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22BC-7D23-4E27-AD41-4556B2D3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B97F-6676-4B54-90B2-CD5DADC7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D006-F5CF-455A-864E-5CCE87D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F1CAE-FD2C-42DD-A881-25AFDABE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7D73-F552-4FCC-82D4-FDA27DED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E41F-C5EB-4780-95CF-57653F22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A0F20-A321-46A2-B6C0-663557E3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01233-E717-4EEA-8CA6-67654E6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426A9-BA93-45CD-95E8-1DE30BF0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CEC9-5A2B-4529-B2EA-5497F727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1F3-DF9F-4311-A7C3-F6ACACBC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2DB6-F824-4739-90E5-8DCF13E7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8DF8-4A7E-42B3-AFB0-EBFB61E0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A1A3C-9C40-457A-8866-4774EE2F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CE1F5-6DAC-4FFC-99BF-236F6FE4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6AC06-EC23-4C58-BCD1-83AD3BA1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C7AAF-734D-4C01-8342-5E63E87C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A8DF4-BCE7-49B3-A84B-348268DC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B7C31-55C4-4BB1-AECF-20F2D9E5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7C89-E671-4F5B-93EF-A5E5650A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8CCA3-340C-4B1A-8669-BD5B901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292-62B2-48E0-90D2-EF5753C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AA5C7-33F1-4E58-9B59-FA29706B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31DA2-64AE-4E8A-889B-BE4C9FAB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C2097-4D56-4B33-9123-6712D3AF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8000F-79AA-46ED-8BCA-5AF7D13D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2EAA7-E586-41E5-9541-F85A06E7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B87DB-3469-4125-8A13-CAA128F8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0EAF7-62E5-4B85-9147-42F48A90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BE597-E5DF-4AB3-9498-316C94F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D4D4-F4C8-4574-BC1B-40AFCABA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47523-8F4A-4868-8EB7-3E8C8FF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464-E815-493C-9DC4-1A5A4CB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EE199-303C-42A7-8FEC-6F154F9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87044-0825-4E00-8F98-4ACAEB02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52D7E-DE7F-4DC0-B05D-6E4C4BE4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C2868-F340-40A3-9CCA-8A6A14F7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F575C-7CE8-4031-A7B7-C0AF5557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50D0ED-34D2-49A8-8BF9-40B41C68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89330A-4950-433D-A8A8-3B90115E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323F1D-5404-4ECE-8483-B070F23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75D76E-A62F-4128-84FD-3296287B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D815D-61AE-40B7-A988-322F9E58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D6B-E192-45C7-8075-D90DA6E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88720C-F6F5-4E6D-ACE5-F562B596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F544E3-76D1-4069-9961-42149E03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99029-B1F9-49A3-87F7-829FFE5D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2C6C7-9BD3-4BA2-AD21-915179B9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5C5F8-72DD-4222-A29D-98121D71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27439D-9477-45C3-815B-D8C147A2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EABAB4-E173-4680-B559-A6FE1FDB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B5D65-5489-4F0E-AE5C-0B08ABAE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AB3C-9C0F-49B7-AACA-A1354D96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865F2-DCC6-45C5-9023-2DB09D5C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1600-5674-40B2-93E8-31103B27BD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2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2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5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29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2CFD-9C33-4394-A032-0C2FB99B8E2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92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AFD-1030-4C4C-BE15-9054E71E41D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76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6EB3-FBE1-498A-A02E-5CC98633C4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2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3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3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4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4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5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69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8B0D-FD6D-4F8D-9E8D-636C3F926EA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38F1-DA0C-4B98-9905-5D41D0DEAF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3ADC-D15E-47D1-B079-61A3AFD607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9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0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0B6A-90F0-401C-AE24-222C1534DF4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7A27-3290-489C-BE3A-6815054E897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DFB3-18C7-4549-AF9B-2AF53E2825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206A-7D2A-4432-835B-C016FE931C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0A9-11C7-4727-8C6F-7E92CEA3DD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1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6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0555-E988-4642-8640-0F9074CE1A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1476360" y="1196640"/>
            <a:ext cx="6400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оспитательский час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f32556"/>
                </a:solidFill>
                <a:latin typeface="Tahoma"/>
              </a:rPr>
              <a:t>«Дружба»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</a:t>
            </a:r>
            <a:r>
              <a:rPr b="1" lang="ru-RU" sz="6000" spc="-1" strike="noStrike">
                <a:solidFill>
                  <a:srgbClr val="eaeaea"/>
                </a:solidFill>
                <a:latin typeface="Tahoma"/>
              </a:rPr>
              <a:t>Враги дружбы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руб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ра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идные сл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го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л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4" name="Picture 13" descr="MCj02324460000[1]"/>
          <p:cNvPicPr/>
          <p:nvPr/>
        </p:nvPicPr>
        <p:blipFill>
          <a:blip r:embed="rId1"/>
          <a:stretch/>
        </p:blipFill>
        <p:spPr>
          <a:xfrm>
            <a:off x="4932360" y="2349360"/>
            <a:ext cx="3816360" cy="37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5438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Игра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Торопись обрадовать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ословицы о дружб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т друга – ищи, а нашел – бере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жба, что стекло – разобьешь, не склеи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й сто рублей, а имей сто друз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без друзей, что дерево без кор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ый друг лучше новых двух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лучаи из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9" name="Рисунок 8" descr="http://static.chance.ru/sites/default/files/styles/big_photo_gallery/public/images/article578.jpg?itok=iJUWbFLy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Рисунок 5" descr="http://159.detirkutsk.ru/upload/159/%D0%9A%D0%B0%D1%80%D1%82%D0%B8%D0%BD%D0%BA%D0%B8/%D0%A0%D0%B8%D1%81%D1%83%D0%BD%D0%BE%D0%BA6.jpg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а «Мечта в мешочк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7" descr="f_41gDOCIIfTfe4i4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231040" cy="572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32556"/>
                </a:solidFill>
                <a:latin typeface="Tahoma"/>
              </a:rPr>
              <a:t>Дружба</a:t>
            </a:r>
            <a:r>
              <a:rPr b="0" lang="ru-RU" sz="6000" spc="-1" strike="noStrike">
                <a:solidFill>
                  <a:srgbClr val="f32556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– это близкие отношения, основанные на взаимном доверии, привязанности, общности интересов. 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(Ожегов С.И.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Рисунок 12" descr="http://uch.znate.ru/tw_files2/urls_1/15/d-14168/img13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66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Рисунок 4" descr="http://mypresentation.ru/documents/9dba4ee855bd122f78529c91a560bdfd/img10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Настоящий друг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а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ром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жел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оч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ры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7" name="Picture 7" descr="MCj04296910000[1]"/>
          <p:cNvPicPr/>
          <p:nvPr/>
        </p:nvPicPr>
        <p:blipFill>
          <a:blip r:embed="rId1"/>
          <a:stretch/>
        </p:blipFill>
        <p:spPr>
          <a:xfrm>
            <a:off x="324000" y="1484280"/>
            <a:ext cx="38908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Рисунок 9" descr="http://bygaga.com.ua/uploads/posts/2011-11/1320876429_73451887_large_motivator10418.jpg"/>
          <p:cNvPicPr/>
          <p:nvPr/>
        </p:nvPicPr>
        <p:blipFill>
          <a:blip r:embed="rId1"/>
          <a:stretch/>
        </p:blipFill>
        <p:spPr>
          <a:xfrm>
            <a:off x="1258920" y="274680"/>
            <a:ext cx="66978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Рисунок 11" descr="http://900igr.net/datas/psikhologija/O-druzhbe-i-druzjakh/0009-009-CHtoby-stat-khoroshim-drugom-neobkhodimo.jpg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Рисунок 7" descr="http://cs543105.vk.me/v543105129/14527/ZVtWHJZU5Io.jpg"/>
          <p:cNvPicPr/>
          <p:nvPr/>
        </p:nvPicPr>
        <p:blipFill>
          <a:blip r:embed="rId1"/>
          <a:stretch/>
        </p:blipFill>
        <p:spPr>
          <a:xfrm>
            <a:off x="395280" y="27792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Рисунок 2" descr="http://f2.mylove.ru/mMpw5mPWSx.jpg"/>
          <p:cNvPicPr/>
          <p:nvPr/>
        </p:nvPicPr>
        <p:blipFill>
          <a:blip r:embed="rId1"/>
          <a:stretch/>
        </p:blipFill>
        <p:spPr>
          <a:xfrm>
            <a:off x="1763640" y="333360"/>
            <a:ext cx="5977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2:21:32Z</dcterms:created>
  <dc:creator>Левендеева </dc:creator>
  <dc:description/>
  <dc:language>en-US</dc:language>
  <cp:lastModifiedBy>qwerty</cp:lastModifiedBy>
  <dcterms:modified xsi:type="dcterms:W3CDTF">2023-05-02T14:59:27Z</dcterms:modified>
  <cp:revision>16</cp:revision>
  <dc:subject/>
  <dc:title>Муниципальное общеобразовательное учреждение средняя общеобразовательная школа №17</dc:title>
</cp:coreProperties>
</file>