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21E-2030-4CC0-89C8-C1B04C6C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2ED-F1EE-4215-A65B-1C2AC475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69B59-A663-4DCE-ACD8-E29FCBC5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5E42B-6CA3-4BBF-B832-808B6310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69F4B-096A-40BA-B195-904EF2FC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7B2CB-FD65-4523-8533-B3A10B8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AAA92-A93D-47A3-BFE3-15253B6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B7D65-C00D-4ABD-9FA0-3BDF0CBC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1EE97-6813-43C9-B2A4-FEF83C49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8A5C6-A911-4F8B-8D35-187CF45D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D80AF-CAA1-4B23-AEA2-3144B706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2F35F-E58C-4EF8-AF1C-E1B7C537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87E-BF01-4615-B2DC-7AAA3F40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F5112-CEC6-49B4-94E2-778A8F34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49DBE-55FA-4D0D-8E65-BAA7428D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F975E-0648-4745-935E-AA57D299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9F9DA-3634-438E-B5BD-654A9BBE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7BE13-92B3-42E6-8AC0-BC1A0EB8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6BD1A-0B51-4A2D-80C1-6ED4A1EE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0208C-EB02-4A6B-ADBA-85759BC8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5FF1F-2D26-4F78-A571-0C0C4FD0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D8E60-9EB5-4F1A-A869-93A0F4DA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166C2-E123-4C7B-93EC-13BB4F5B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10F-34DD-4E61-9869-D591D3B6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5A967-E459-40B9-AA5D-C137D619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37918-D95F-46B5-B0C6-736DB06F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CBCD4-5D16-477E-980D-428CF730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E7B03-34FA-4C5D-AD30-0BE45050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668F2-849D-4B52-8370-EFFABC41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71115-4075-4E52-947A-27C34E6E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62D9F-381D-45FA-828F-2F06CB57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4AD85-3A1D-420E-A376-5FA59DEC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6A458-8D56-403D-A984-8352D95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7FDB1-97D6-4BD5-B0CB-2C3ABF5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34E5-7B7E-47BF-B6B5-E598F49E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5FA06-14B1-41B5-B833-D6AC135C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AE71F-C766-4D27-AD87-F5E16A08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47C49-6193-4CE5-8B2E-53405F79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39F70-81CD-4571-9B20-DA6CEE80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45ADB-0382-4C50-8070-4586EB37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FEF5E-6E5F-45F4-B2DC-23F9DA64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A2FB5-D24A-445E-991E-7FDBA812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612F7-9369-48A0-A214-347CF723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65FD2-CAF1-437B-9ED3-BBD9DE14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9689E-2303-4CFD-A2FE-DA9CFA12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E8F7-71FB-48FD-8C21-A9659DC1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DCB64-0C45-4A1D-9E02-6519F40C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5581C-AEC9-436C-9AAD-0D7EF625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A372D-20E8-46B5-AC89-BEE5F94D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A4DAE-F4ED-4745-932F-487C9FBD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471F0-A2A2-48A6-891C-B14935F1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48832-EB15-478F-A9ED-A508018F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E7857-BE04-4D19-86E3-2AD0F499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328B1-F9AB-49E1-AC68-46E21C62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B6E11-7244-4B6C-ABB0-57A93938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7DE51-C0CD-4A9A-8565-7E57E694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5A10-D7AA-43D1-B386-A13C7F11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2C127-79BA-4B3E-9144-15C2E5E3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ECA6E-F066-42B4-8E99-AD32941B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CFCA9-1583-4D04-ACBD-081E58AE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E65C3-489D-4711-8DC7-77B36700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8C27D-6347-47FB-9ECF-B3E902C7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EBFCB-428E-4250-87B3-25243857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102BA-6DFB-4473-824D-6D0F8426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A3BE-2BA9-4CBE-9D07-77FB967C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D564-6675-4613-8E8A-C5D6F824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B5B3-1294-4FD5-89D0-40BF925B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9BC1-BAB4-4311-9869-A30FE6DF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EB0-6BEC-4A31-830F-DB89B366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BD90-12E3-42AE-B47B-BB6817B5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6F63-57B9-42F6-9221-30D03059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A294-73A9-462F-BC11-83A5AADA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75E1-C107-4F09-95B0-9CFD534A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7CEF-ABB7-4A80-A68F-0E283281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E251-86E4-49D8-9164-54A88F51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25E2-E398-4D20-9093-70BE5A8F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C2FA1-58DB-4D7F-82AA-B7177DC6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42B6-67D0-4FE7-A76F-CC077B17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4B7F-8D43-4F48-916A-128A4CBC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B2C-B532-4F4A-958D-14D34348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187A-042C-4504-AAF5-17B294B2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9956D-71FA-4107-B049-5B26739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ADE2-D2E9-4C7F-81A7-40E5A838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2B45-3FB0-4A97-9F09-16E9CCB9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7C4D-F4E3-4CDD-8F9F-0E788689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5B36-F0A9-447E-A47A-B288D406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4711-9586-4087-80D5-878715B9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7975-0271-454A-BB2E-B2C131AB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F73AD-E8F3-4A1E-87E1-AE2B8963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87EC1-666A-4A38-A404-1E110261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BE9-CF41-4CD3-8973-CFB088A6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6D179-4C48-4DF1-B808-80BB6C38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57203-76DE-4A6D-B410-606B34B5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68DE-E0F2-4C9E-BEC7-614EDCB7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AFD3E-7505-4954-9AFB-DF14EA3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02B18-83A4-4D1B-A2EE-343AEF4E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AB3C-62E7-4299-9377-2C975FDC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EFA67-9C71-42BC-8D75-A4655ACB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A1779-405B-4768-B2D0-7EEB9B39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51835-2F20-4E70-9FB0-51937A15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09EFB-249B-4B07-8694-A2900A45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ABF-8733-4740-A729-A7028387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6741D-50B4-49B8-B908-D30E421D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588F9-7950-4AC6-95C0-00571BF9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A5CC3-2FEC-4113-9F9A-2F1F63DF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7EAED-BBAB-4C9F-9CE5-5EA5FFD2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2DAF3-1A08-401F-85B4-F9C8BCFC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959A1-1F35-4A39-BBC5-3513F34B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9208-ECD4-45EC-82AE-B5BA7EC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1E029-EE57-44CF-A131-6BC8703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8316C-FB41-40BE-81CC-7EC0AF3B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06FE0-10C5-4466-B3B6-ADA82C31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7E2-74AE-4467-8168-3C4CDF73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DF9D8-0471-4D10-9A1B-7C3A0E0B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0D112-B6D3-4C00-93CC-C50DDD0B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E6428-0348-4F52-8768-614449CB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31AA7-F430-4DB7-B574-57EDF768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1922D-5AF8-4AF0-AF7B-423821C7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4452D-72B9-4374-9975-9D9C0374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4D1DE-9E4D-400F-8B43-670A186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8B580-9A61-4400-9287-7429A511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A3B53-2A40-4CBE-9B6F-3B6663BF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2E152-2AC4-41F8-B9B4-5367E87D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B3F-2B08-4136-B55C-2054B39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16BC1-23DA-4F58-908A-BAEAFE8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2031B-1085-440C-B167-0BB44176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FAFFC-C63D-47D8-B18F-626EF0E2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92AED-9FAE-4EDD-8C96-72A7F838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EF976-4E75-4F01-BD17-02172781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7B389-CFC9-49DB-A1C3-F09F9D0B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16A16-DD39-486D-A6F3-7675F9D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24B18-0C08-461D-AB68-03C2872E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59F58-C170-4D9C-BA73-0CB28289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512C3-7353-4355-A836-0962DE27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49B-A36D-48A2-AB8C-B484A02E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46EC5-EE19-407F-AD95-4466E7E1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6CB36-78A2-4783-A704-88EEF69C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C6B4-8154-48B0-9A3F-B5C484D6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F990E-38E1-4F36-A20D-5E901762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1A4B1-5C1F-4675-AA15-8A390C5E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E97691-663F-4D0E-B7B5-D0100771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0908FE-281D-4528-B26C-C4EBA3F5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7E20D5-347B-4FEA-85A6-C65118CE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6681CE-BD9C-4DBD-9CCF-7098769A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17FBE9-B94F-45A0-9A58-F90DD9DE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7A1-3D4F-4866-8ABB-0B9CEBEE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CDF250-66BB-40E0-A759-C753B1E6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308A4C-B39B-4BE4-9B0A-4FBE25DB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797820-645B-4120-A3EC-B3C136B7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38C652-3885-43BE-AD0C-615CF3B4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F2279-D5DC-49BB-B7FD-23653F8D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665D11-F6E8-49F3-929B-DDF08D67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701EF-7F1E-4948-9C3A-C2C27106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C450A-F30E-4CC1-AE14-9CA96B70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C2E37-3834-4BA7-B2F6-2F9849C0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F59D9-CE63-4C2D-9F94-D5A6471F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50E1-4A3E-41FB-8A6B-17DF2CD7D2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2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2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5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29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6DEE-F34A-4E08-ACF3-AFD488ED50D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92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9EA1-B171-4679-A631-9CCAC9BB2A6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76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2395-8FD6-455E-8430-063D9E88A3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2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3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3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3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4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4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5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69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6A4E-9E2E-455A-8317-81D3B2D4FB3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FB08-20B3-4B2A-8D13-50EE9C542A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65BA-53BE-49F9-8AEE-955FB47093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9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0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2FFA-8AD0-4421-AFF8-EFE9C1274EA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4B55-3EA7-43A5-A8C2-D700A6C2938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1B4F-D953-42FF-9B44-6AB191DAB6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D409-4820-4F91-AA34-B33C3E26FA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F031-8C6A-4C3F-B963-FC6C00ECC4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1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6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03F5-F0FB-4FBB-B0F1-9BC393D310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1476360" y="1196640"/>
            <a:ext cx="6400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оспитательский час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f32556"/>
                </a:solidFill>
                <a:latin typeface="Tahoma"/>
              </a:rPr>
              <a:t>«Дружба»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</a:t>
            </a:r>
            <a:r>
              <a:rPr b="1" lang="ru-RU" sz="6000" spc="-1" strike="noStrike">
                <a:solidFill>
                  <a:srgbClr val="eaeaea"/>
                </a:solidFill>
                <a:latin typeface="Tahoma"/>
              </a:rPr>
              <a:t>Враги дружбы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руб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ра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идные сл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го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л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4" name="Picture 13" descr="MCj02324460000[1]"/>
          <p:cNvPicPr/>
          <p:nvPr/>
        </p:nvPicPr>
        <p:blipFill>
          <a:blip r:embed="rId1"/>
          <a:stretch/>
        </p:blipFill>
        <p:spPr>
          <a:xfrm>
            <a:off x="4932360" y="2349360"/>
            <a:ext cx="3816360" cy="37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5438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Игра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Торопись обрадовать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ословицы о дружб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т друга – ищи, а нашел – бере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жба, что стекло – разобьешь, не склеи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й сто рублей, а имей сто друз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без друзей, что дерево без кор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ый друг лучше новых двух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лучаи из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9" name="Рисунок 8" descr="http://static.chance.ru/sites/default/files/styles/big_photo_gallery/public/images/article578.jpg?itok=iJUWbFLy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Рисунок 5" descr="http://159.detirkutsk.ru/upload/159/%D0%9A%D0%B0%D1%80%D1%82%D0%B8%D0%BD%D0%BA%D0%B8/%D0%A0%D0%B8%D1%81%D1%83%D0%BD%D0%BE%D0%BA6.jpg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а «Мечта в мешочк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7" descr="f_41gDOCIIfTfe4i4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231040" cy="572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32556"/>
                </a:solidFill>
                <a:latin typeface="Tahoma"/>
              </a:rPr>
              <a:t>Дружба</a:t>
            </a:r>
            <a:r>
              <a:rPr b="0" lang="ru-RU" sz="6000" spc="-1" strike="noStrike">
                <a:solidFill>
                  <a:srgbClr val="f32556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– это близкие отношения, основанные на взаимном доверии, привязанности, общности интересов. 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(Ожегов С.И.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Рисунок 12" descr="http://uch.znate.ru/tw_files2/urls_1/15/d-14168/img13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66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Рисунок 4" descr="http://mypresentation.ru/documents/9dba4ee855bd122f78529c91a560bdfd/img10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Настоящий друг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а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ром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жел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оч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оры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7" name="Picture 7" descr="MCj04296910000[1]"/>
          <p:cNvPicPr/>
          <p:nvPr/>
        </p:nvPicPr>
        <p:blipFill>
          <a:blip r:embed="rId1"/>
          <a:stretch/>
        </p:blipFill>
        <p:spPr>
          <a:xfrm>
            <a:off x="324000" y="1484280"/>
            <a:ext cx="38908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Рисунок 9" descr="http://bygaga.com.ua/uploads/posts/2011-11/1320876429_73451887_large_motivator10418.jpg"/>
          <p:cNvPicPr/>
          <p:nvPr/>
        </p:nvPicPr>
        <p:blipFill>
          <a:blip r:embed="rId1"/>
          <a:stretch/>
        </p:blipFill>
        <p:spPr>
          <a:xfrm>
            <a:off x="1258920" y="274680"/>
            <a:ext cx="66978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Рисунок 11" descr="http://900igr.net/datas/psikhologija/O-druzhbe-i-druzjakh/0009-009-CHtoby-stat-khoroshim-drugom-neobkhodimo.jpg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Рисунок 7" descr="http://cs543105.vk.me/v543105129/14527/ZVtWHJZU5Io.jpg"/>
          <p:cNvPicPr/>
          <p:nvPr/>
        </p:nvPicPr>
        <p:blipFill>
          <a:blip r:embed="rId1"/>
          <a:stretch/>
        </p:blipFill>
        <p:spPr>
          <a:xfrm>
            <a:off x="395280" y="27792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Рисунок 2" descr="http://f2.mylove.ru/mMpw5mPWSx.jpg"/>
          <p:cNvPicPr/>
          <p:nvPr/>
        </p:nvPicPr>
        <p:blipFill>
          <a:blip r:embed="rId1"/>
          <a:stretch/>
        </p:blipFill>
        <p:spPr>
          <a:xfrm>
            <a:off x="1763640" y="333360"/>
            <a:ext cx="5977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2:21:32Z</dcterms:created>
  <dc:creator>Левендеева </dc:creator>
  <dc:description/>
  <dc:language>en-US</dc:language>
  <cp:lastModifiedBy>qwerty</cp:lastModifiedBy>
  <dcterms:modified xsi:type="dcterms:W3CDTF">2023-05-02T14:59:27Z</dcterms:modified>
  <cp:revision>16</cp:revision>
  <dc:subject/>
  <dc:title>Муниципальное общеобразовательное учреждение средняя общеобразовательная школа №17</dc:title>
</cp:coreProperties>
</file>