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743B6F-F24F-4906-83E1-799599304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63294A-7FD8-425E-AD71-909F9B54B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для добавления зам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0E2-8D5A-4E02-82C0-B46ED50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391-FF07-4EB2-8830-587A966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412-55BB-452E-883F-CCBC08C1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9A6-4B8B-4EFE-AE54-659BB61D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B8CC-2C7C-4EC7-A40F-A039995C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2ACE-FAB3-415D-91B5-A0D19861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0AC-9B05-47E0-B0BB-0A587FF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DD88-BC66-4285-9AFC-D9364B8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DEB4-31DA-429F-B362-8EDE46C0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235-C850-4F4D-8910-9848DF8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BE90-E7CF-4843-839F-3B10540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DDB-19E8-458E-8425-DE2E47C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F4C8-855F-486A-908E-4363068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24B-FA74-4624-825A-F541B97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F37-A71E-408E-89B2-675CAB1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681-E26A-4CE0-8BB4-F225E0E6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358-CE34-4842-BB0A-36C4647C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C7A8-97E9-4498-922C-140C1055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5D48-E322-408C-B626-25CB2B48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E5E6-5DCD-4E92-8561-596F9F7B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12AA-3196-44B4-86E0-6B296D6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1F5E-7BB9-4FE6-B08C-47B7CF8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86E-4D9F-4B90-9FF2-5BCE917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D317-969B-464C-AAB8-33BA61F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0E56-16FA-4C77-99FD-7E5C11E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D9FF-66A6-4F1F-8EFB-E784C10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5557-7627-4CE9-8DED-31705B3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D4CE-5559-48FB-BF09-AE34B11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3756-4048-4650-9D8F-93AF7E2E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B42C-8F35-4ABE-B45B-31B93E0C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F4DE-87FA-44C2-AA22-F2DD835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9A9A-1935-4E13-9084-FD443581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E3B6-D804-4F26-9B42-A0A412D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55B-DA2F-480A-ADF8-1121951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ED9A-696D-4DC5-AFEB-0EE4F60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E8BD-0A5C-4761-B66F-14D9E800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AE72-3329-4240-9629-664E8A9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5F48-9FD7-45BA-BB7D-F7B37C0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A2B0-BAB0-4450-B486-0990DAD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334A-9E07-441B-B32E-C21B837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0AE6-FD02-4F68-9661-906DECEA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CFA9-6977-4452-8C2E-16D697EA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6672-3949-4BE5-AADB-91B16431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7F5-11FF-4D7E-B441-69AB0F1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440-81E2-420A-A587-75A170D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404-D9FA-4D32-B863-9EDFBF9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CCB-102C-40EC-9DB4-7EC1004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7EC-3E84-4821-B5E6-5A96B23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1D3-2BF3-4780-AC8F-A02469418B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37B-612A-4CB7-A080-728670AF9AD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CF8-2EA7-4B51-B0C5-B917A58E63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615C-B2BA-40FD-9C40-4C97CF49F0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1992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Реализация принципов воспитания в подходе к разным категориям дете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040" y="4869000"/>
            <a:ext cx="7545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ыполнил: студент группы Д2392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лахова Алина Илну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верил: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Казанцева Наталья Витальевн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ринцип социальной адекватно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связь воспитательных задач и задач социального развития демократического обще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ординация взаимодействия социальных институт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комплекса социально-педагогической помощи детя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ация педагогического процесса на реальные возможности социум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разнообразных факторов окружающей социально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рекция воспринимаемой учащимися разнообразной информации, в том числе С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спитательный процесс строиться с учётом реалий социальных отношений, особенностей экономики, политики, духовности обществ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Школа не должна замыкать воспитание ребёнка своими стенами, необходимо использовать и учитывать реальные факторы социум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ррекция негативного влияния на ребёнка окружающей сред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се участники воспитательного процесса должны взаимодействов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индивидуализации воспита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ниторинг изменений индивидуальных качеств в ребё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ффективности влияния фронтальных подходов на индивидуальность ребё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пециальных средств педагогического влияния на каждого ребё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индивидуальных качеств ребёнка, его сущностных сфер пр  выборе воспитательных средст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оставление возможности учащимися для самостоятельного выбора способов участия во внеурочно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1483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бота, проводимая с группой, должна ориентироваться на развитие каждого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бор воспитательного воздействия при работе с одним учащимся не должен негативно влиять на воспитание други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существляя выбор воспитательного средства, необходимо учитывать индивидуальные качества ребён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основе взаимодействия с учеником вести поиск способов коррекции его повед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стоянное отслеживание эффективности воспитательного воздействия на каждого ребёнка определяет совокупность воспитательных средст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социального закаливания детей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1844280"/>
            <a:ext cx="6348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ключение детей в ситуации, которые требуют волевого усилия для преодоления негативного воздействия социума, овладения определёнными способами этого преодоления, адекватными индивидуальными особенностями человека, формирования социального иммунитета, стрессоустойчивости, рефлексивной позиц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3269880"/>
            <a:ext cx="6348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ключение детей в решение различных проблем социальных отношений в реальных и имитируемых ситуаций(социальные пробы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иагностирование волевой готовности к системе социальных отношени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тимулирование самопознания детей в различных социальных ситуациях, определения своей позиции и способа адекватного поведения в различных ситуациях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казание помощи детям в анализе проблем социальных отношений и вариативном проектировании своего поведения в сложных жизненных ситуациях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971640" y="2900520"/>
            <a:ext cx="57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блемы отношений детей надо решать с детьми, а не за ни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бёнок не всегда должен легко добиваться успеха в своих отношениях с людь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только радость, но и страдания, переживания воспитывают челове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олевых усилий для преодоления трудностей у человека не будет завтра, если их нет сегодн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льзя предусмотреть все трудности жизни. Но человеку надо быть готовым к их преодолени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создания воспитывающей сред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28640"/>
            <a:ext cx="6050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В учебном заведении должны быть такие отношения, которые бы формировали социальность ребёнка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Единство коллектива школы педагогов и учащихс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6000" y="2781360"/>
            <a:ext cx="64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ыделение доминирующей цели коллектив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пределение ведущей деятельности, являющейся значимой для всех членов коллектив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и детского самоуправления, инициативе и самостоятельности детей и взрослых, создании разнообразных детских объединени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позитивного отношения к творчеству(воспитывающая среда должна быть эвристической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еповторимости учебного заведения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аличии отношений ответственной зависимости» в среде педагогов и учащихс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Школа для ребёнка должна быть родной, он должен ощущать сопричастность к общим успехам и работе педагог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и и учащиеся, члены одного коллектива, помогают друг друг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щая цель школы- цель каждого педагога и уче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обходимо реально доверять детям, а не играть в доверие и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ждый в коллективе должен быть творцом отношений и новых де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внодушный педагог рождает равнодушных уча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.В. Мудрик определяет следующие принципы воспит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иродосообраз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ультуросообраз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Центрац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полнительности образов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ринцип природосообразно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70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связь естественных и социальных процес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ловек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себя гражданином Вселенно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чётливо понимал происходящие планетарные процессы и существующи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взаимосвязь ноосферы и жизнедеятельности человеческих сообщест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мел чувство сопричастности природе и социуму как её ча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л у себя личную ответственность за ноосферу как среду и продукт человеческой жизне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самого себя как субъекта, творящего ноосферу, разумно и сохранно «потребляющего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», сберегающего и воспроизводящего её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634860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культуросообразности воспитания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ридрих Дистервер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должно основываться на общечеловеческих ценностях культуры и строиться в соответствии с ценностями и нормами тех или иных национальных культур и специфическими особенностями, присущими традициям тех или иных регионов, не противоречащих общечеловеческим ценностям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4076280"/>
            <a:ext cx="6348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Необходимо, чтобы воспитание помогало растущему человеку ориентироваться в тех изменениях, которые постоянно происходят в нём самом и в окружающем его мире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центрац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знание приоритета личности по отношению к обществу, государству, социальным института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воспитания-средство развития лич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дополнительности образов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492280"/>
            <a:ext cx="634860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зация подхода к воспитанию человека как к совокупности взаимодополняющих процес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спитание- совокупность процессов семейного, религиозного и общественного воспит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Реализация принцип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гуманистической ориент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циальной адекват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индивидуал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циального закали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здания воспитывающей сред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гуманистической ориентации воспитания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бровольность включения ребёнка в ту или иную деятель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верие ребёнку в выборе средств достижения поставленной ц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тимистическая стратегия в определении воспитательных задач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упреждение негативных последствий в процессе педагогического воздейств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ние ребёнком социальной защищённости, формирование готовности к защите своих интерес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интересов учащихся, их индивидуальных вкусов, предпочтений, пробуждение новых интере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пираться на активную позицию ребёнка, его самостоятельность и инициатив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бщении с ребёнком должно доминировать уважительное отношение к нем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 должен не только призывать ребёнка к добру, но и быть добры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 должен защищать интересы ребёнка и помогать ему в решении его актуальных пробле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щита ребёнка-приоритетная задача педагогическ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ормирование гуманистических отношений, не допускающие унижения достоинства де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3:51:29Z</dcterms:created>
  <dc:creator>Пользователь</dc:creator>
  <dc:description/>
  <cp:keywords/>
  <dc:language>en-US</dc:language>
  <cp:lastModifiedBy>1</cp:lastModifiedBy>
  <dcterms:modified xsi:type="dcterms:W3CDTF">2021-01-15T07:22:01Z</dcterms:modified>
  <cp:revision>14</cp:revision>
  <dc:subject/>
  <dc:title>Название учебной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8081049</vt:lpwstr>
  </property>
</Properties>
</file>