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349C39-A48E-4831-92DF-92DFF4480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536A2F-56DD-433C-AC42-860B2E67A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для добавления зам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863-DF5A-416B-A7B9-24F255D9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0C5-6B13-4369-9BE6-3C7FD4E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A43-14E9-43A2-B8B3-5E6E6411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1F6-5B5B-4F3C-B369-51EDBA32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41DE-EAFD-4832-B782-2CEEB861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C936-4B69-4174-BC5F-83FDDC6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D7F0-AE13-4548-AFF8-512D9F58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93CA-E954-4DBE-95EE-027EE3CD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7F04-2E03-45C3-8CFB-D704682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DB0B-DF5D-4A80-B365-EBEE67E0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A604-65D7-4A32-A44D-3D37A94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D54-D639-4BCA-9CE0-1B4D250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185-FEF5-4C16-BC5E-749D57A3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C156-28C2-464C-8370-A897A4A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1013-1FDF-4ECD-8284-A3465C6C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501E-4940-4B65-8769-9C94A375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6B69-7E90-4017-81EB-B18329DC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0DD4-6565-4F58-9A73-942F5F57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5FA1-6794-46D1-874C-FF2550B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BD29-7B40-41ED-81CA-8B10E8FF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A75F-356B-4214-863A-3232CBCD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11BC-90F6-4B47-A57D-D16EE28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A11-242D-4AD2-B8DC-79A3E3E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88FC-E01C-4DDD-B727-50AB272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7F6C-68D9-4C48-8C0D-8D5C156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125E-7CF1-4993-A295-6484B159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7060-E23F-41FF-982A-E92FB87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4EB5-3E90-4372-B873-ECBB897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7687-7101-4FA0-92D4-BC698C6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7A48-0BF0-4BCC-A827-9D732E0D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CEAE-9C22-4984-9CD9-8DCAD910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D3FD-F91A-4DDA-960D-017C83D2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A660-29D3-47CD-8424-55B3376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9AB-429A-4909-9A08-967D892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B59E-8C65-4B0D-BC78-0CEBE4E7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C4C0-301D-421A-A4FB-91CE8CA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DB6B-5B8D-4504-8515-28990FDD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29CE-5BC9-4C1F-BEB2-F36CB3BF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FFA8-E3AC-46AD-84C0-A82E5EC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4446-61A6-48B4-B18E-4D0D216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28D2-3097-4F83-B4BF-1A1A1EA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B22C-B958-4FD7-AF2B-8BBA5F0B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F45E-234D-4B06-B6D4-16B1D5D0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9CC-F17F-455A-867C-323D29E3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FE6-CDC3-40DD-B218-B59BBB71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3CF-B486-4BB6-AFA1-8C0CDE1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DA2-D888-45F8-BBC5-322BCC8A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B8E-5ECC-4232-A3FF-8F7478F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8DCC-613F-4E9D-8A0D-1029ED7C7B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46F-634F-4B19-933C-82832A584FF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64F-CA7F-411D-B38D-8E14568270A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4A9-B6E7-4700-88D9-44EEC768954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1992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Реализация принципов воспитания в подходе к разным категориям дете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040" y="4869000"/>
            <a:ext cx="7545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ыполнил: студент группы Д2392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алахова Алина Илну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верил: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Казанцева Наталья Витальевн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ринцип социальной адекватност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связь воспитательных задач и задач социального развития демократического обще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ординация взаимодействия социальных институт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комплекса социально-педагогической помощи детя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ация педагогического процесса на реальные возможности социум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ёт разнообразных факторов окружающей социально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рекция воспринимаемой учащимися разнообразной информации, в том числе С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спитательный процесс строиться с учётом реалий социальных отношений, особенностей экономики, политики, духовности обществ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Школа не должна замыкать воспитание ребёнка своими стенами, необходимо использовать и учитывать реальные факторы социум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оррекция негативного влияния на ребёнка окружающей сред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се участники воспитательного процесса должны взаимодействов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индивидуализации воспита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ниторинг изменений индивидуальных качеств в ребё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ффективности влияния фронтальных подходов на индивидуальность ребё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пециальных средств педагогического влияния на каждого ребё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ёт индивидуальных качеств ребёнка, его сущностных сфер пр  выборе воспитательных средст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оставление возможности учащимися для самостоятельного выбора способов участия во внеурочно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ктическ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360" y="1483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бота, проводимая с группой, должна ориентироваться на развитие каждого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бор воспитательного воздействия при работе с одним учащимся не должен негативно влиять на воспитание други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существляя выбор воспитательного средства, необходимо учитывать индивидуальные качества ребён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основе взаимодействия с учеником вести поиск способов коррекции его повед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стоянное отслеживание эффективности воспитательного воздействия на каждого ребёнка определяет совокупность воспитательных средст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социального закаливания детей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1844280"/>
            <a:ext cx="6348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ключение детей в ситуации, которые требуют волевого усилия для преодоления негативного воздействия социума, овладения определёнными способами этого преодоления, адекватными индивидуальными особенностями человека, формирования социального иммунитета, стрессоустойчивости, рефлексивной позиц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3269880"/>
            <a:ext cx="634860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ключение детей в решение различных проблем социальных отношений в реальных и имитируемых ситуаций(социальные пробы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иагностирование волевой готовности к системе социальных отношени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тимулирование самопознания детей в различных социальных ситуациях, определения своей позиции и способа адекватного поведения в различных ситуациях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казание помощи детям в анализе проблем социальных отношений и вариативном проектировании своего поведения в сложных жизненных ситуациях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971640" y="2900520"/>
            <a:ext cx="57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блемы отношений детей надо решать с детьми, а не за ни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бёнок не всегда должен легко добиваться успеха в своих отношениях с людь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 только радость, но и страдания, переживания воспитывают челове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олевых усилий для преодоления трудностей у человека не будет завтра, если их нет сегодн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льзя предусмотреть все трудности жизни. Но человеку надо быть готовым к их преодолени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создания воспитывающей сред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28640"/>
            <a:ext cx="6050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В учебном заведении должны быть такие отношения, которые бы формировали социальность ребёнка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Единство коллектива школы педагогов и учащихс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16000" y="2781360"/>
            <a:ext cx="64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ыделение доминирующей цели коллектив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пределение ведущей деятельности, являющейся значимой для всех членов коллектив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и детского самоуправления, инициативе и самостоятельности детей и взрослых, создании разнообразных детских объединени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Формирование позитивного отношения к творчеству(воспитывающая среда должна быть эвристической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Неповторимости учебного заведения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Наличии отношений ответственной зависимости» в среде педагогов и учащихс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Школа для ребёнка должна быть родной, он должен ощущать сопричастность к общим успехам и работе педагог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и и учащиеся, члены одного коллектива, помогают друг друг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щая цель школы- цель каждого педагога и уче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обходимо реально доверять детям, а не играть в доверие и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ждый в коллективе должен быть творцом отношений и новых де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внодушный педагог рождает равнодушных уча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.В. Мудрик определяет следующие принципы воспит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иродосообраз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ультуросообраз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Центрац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ополнительности образов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ринцип природосообразност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2160360"/>
            <a:ext cx="70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связь естественных и социальных процесс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ловек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вал себя гражданином Вселенно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чётливо понимал происходящие планетарные процессы и существующи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вал взаимосвязь ноосферы и жизнедеятельности человеческих сообщест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мел чувство сопричастности природе и социуму как её ча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л у себя личную ответственность за ноосферу как среду и продукт человеческой жизне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вал самого себя как субъекта, творящего ноосферу, разумно и сохранно «потребляющего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», сберегающего и воспроизводящего её»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634860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Принцип культуросообразности воспитания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ридрих Дистервер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должно основываться на общечеловеческих ценностях культуры и строиться в соответствии с ценностями и нормами тех или иных национальных культур и специфическими особенностями, присущими традициям тех или иных регионов, не противоречащих общечеловеческим ценностям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4076280"/>
            <a:ext cx="6348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Необходимо, чтобы воспитание помогало растущему человеку ориентироваться в тех изменениях, которые постоянно происходят в нём самом и в окружающем его мире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нцип центрац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знание приоритета личности по отношению к обществу, государству, социальным института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воспитания-средство развития лич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нцип дополнительности образов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492280"/>
            <a:ext cx="634860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зация подхода к воспитанию человека как к совокупности взаимодополняющих процесс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спитание- совокупность процессов семейного, религиозного и общественного воспит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Реализация принцип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гуманистической ориент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циальной адекват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индивидуал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циального закалива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здания воспитывающей сред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нцип гуманистической ориентации воспитания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Условия реализац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бровольность включения ребёнка в ту или иную деятель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верие ребёнку в выборе средств достижения поставленной ц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тимистическая стратегия в определении воспитательных задач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упреждение негативных последствий в процессе педагогического воздейств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ознание ребёнком социальной защищённости, формирование готовности к защите своих интерес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ёт интересов учащихся, их индивидуальных вкусов, предпочтений, пробуждение новых интерес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ктическая деятельно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пираться на активную позицию ребёнка, его самостоятельность и инициатив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общении с ребёнком должно доминировать уважительное отношение к нем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 должен не только призывать ребёнка к добру, но и быть добры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дагог должен защищать интересы ребёнка и помогать ему в решении его актуальных пробле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щита ребёнка-приоритетная задача педагогическ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ормирование гуманистических отношений, не допускающие унижения достоинства дет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3:51:29Z</dcterms:created>
  <dc:creator>Пользователь</dc:creator>
  <dc:description/>
  <cp:keywords/>
  <dc:language>en-US</dc:language>
  <cp:lastModifiedBy>1</cp:lastModifiedBy>
  <dcterms:modified xsi:type="dcterms:W3CDTF">2021-01-15T07:22:01Z</dcterms:modified>
  <cp:revision>14</cp:revision>
  <dc:subject/>
  <dc:title>Название учебной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8081049</vt:lpwstr>
  </property>
</Properties>
</file>