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68E-83DB-4AA3-BD4D-4A3EE86F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3A5-9369-4B84-BE9D-1C047F5A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013-E506-4437-AD1E-78E552F9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F03-7006-4CAA-B48A-2F88DC59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BEB-7A61-496B-AC7A-84F53F8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B71-96E4-4FD6-AB7F-86F7FFE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C6D-BBD1-48CD-BEB2-B89F339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CF7-9B66-4B2F-99AF-9C3BF9F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50-65BB-4470-AC81-B52739F6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214-55EE-424E-813E-44C060B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AB9-39AA-4D13-9CEA-E5CD18E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BB1-3C30-4439-BAAC-FA2E7BF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974-3B41-4586-A7E4-951F4AA7A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5915160"/>
            <a:ext cx="914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старших дошкольников «День Поб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1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алкина Елена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71680" y="571680"/>
            <a:ext cx="80722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возможность знакомства  с государственным устройством  России. Способствовать  развитию интереса к историческому прошлому России, к подвигам людей – защитников Отечества, к традициям празднования Дня Победы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пользователь</cp:lastModifiedBy>
  <dcterms:modified xsi:type="dcterms:W3CDTF">2018-01-01T20:30:21Z</dcterms:modified>
  <cp:revision>13</cp:revision>
  <dc:subject/>
  <dc:title>Слайд 1</dc:title>
</cp:coreProperties>
</file>