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7CBC-C4F8-412D-BF5D-D7E7EF79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655C-46DD-497F-9239-48174833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23A3-831A-41E7-AD85-68CC4990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1A04-6D05-4CBE-BDB7-CA484E62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A430-F761-4999-858C-6D078F48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0A77-8CC4-4B0E-8280-64A233AA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B577-4896-4908-89C2-CE7C322D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1BC8-A017-4B37-A3E9-6457D5B5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6EF6-9FFA-42C0-844E-85AA7494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5651-B093-4F8F-8312-51B2C444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DFC6-0B65-4E77-BFD8-F089A81B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5721-C0D4-423A-92C0-D37603BA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9161-7BFB-433B-837B-F0E57495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914E-CD45-49AE-A1D2-47FA43F0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766A-0F45-47ED-85D2-45FB0020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2992-A756-470F-B27E-6D9CFF45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ACE2-AC02-4C1C-B525-42968CD1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6A3F-E048-43B7-ACCD-AF50A35D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D8F3-8769-49EF-98D0-948B02C1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855C-D468-4DBC-9C53-E3B26F48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B732-F4FF-4E71-BE1C-AFF2127C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B1A9-756E-4289-8315-31A1CBFE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7585-82C2-45E1-94F8-9B75E617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8237-B01F-4D4A-95B4-C4A75570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FC2E-A156-47E7-9A52-D7272588406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A1DF-8B42-4B73-A61F-C2B1E866D7B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11280" y="9428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Обобщение опыта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ндивидуализация работы логопеда с семьёй, воспитывающей ребёнк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-7 лет с дислалией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итель-логопед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рухина Анна Александров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1486080" y="198360"/>
            <a:ext cx="64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бюджетное образовательное учреждение лицей №3  (дошкольное отделение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бъект исследован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процесс индивидуализации взаимодействия логопеда с родителями, воспитывающими детей 5-7 лет с дислалие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Задачи исследован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анализировать психолого-педагогическую литературу по проблеме исследовани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ить готовность родителей, воспитывающих старших дошкольников с дислалией к сотрудничеству с логопедом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ить индивидуальные рекомендации по коррекции дислалии у ребенка 5-7 лет в условиях семь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74480" y="-210960"/>
            <a:ext cx="8211960" cy="65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Чтобы всесторонне воспитать человека его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жно узнать во всех отношениях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.Д. Ушинск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ивидуальный подход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важный психолого-педагогический принцип, согласно которому в учебно-воспитательной работе с детьми учитываются индивидуальные особенности каждого ребенка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едостаточность степени дифференцировки артикуляционных движений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рушение фонематического восприятия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рушение звукопроизношения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рушения фонетической и фонематической сторон речи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Прямоугольник 2"/>
          <p:cNvSpPr/>
          <p:nvPr/>
        </p:nvSpPr>
        <p:spPr>
          <a:xfrm>
            <a:off x="250920" y="333360"/>
            <a:ext cx="864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лалия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рушение звукопроизнош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ормальном слухе и сохранной иннервации мышц речевого аппарат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4248000" y="1989000"/>
            <a:ext cx="648000" cy="549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657080"/>
            <a:ext cx="822960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78920" y="527040"/>
            <a:ext cx="8280360" cy="112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трудничество 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ап в развитии взаимодействия между людьми, предполагающий передачу опыта и формирование потребности перенять его. 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6" name="Picture 12" descr="2702"/>
          <p:cNvPicPr/>
          <p:nvPr/>
        </p:nvPicPr>
        <p:blipFill>
          <a:blip r:embed="rId1"/>
          <a:stretch/>
        </p:blipFill>
        <p:spPr>
          <a:xfrm>
            <a:off x="719280" y="1689120"/>
            <a:ext cx="3024000" cy="2303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index_10"/>
          <p:cNvPicPr/>
          <p:nvPr/>
        </p:nvPicPr>
        <p:blipFill>
          <a:blip r:embed="rId2"/>
          <a:stretch/>
        </p:blipFill>
        <p:spPr>
          <a:xfrm>
            <a:off x="4962600" y="1712880"/>
            <a:ext cx="3468600" cy="229860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7"/>
          <p:cNvSpPr/>
          <p:nvPr/>
        </p:nvSpPr>
        <p:spPr>
          <a:xfrm rot="10800000">
            <a:off x="2987280" y="3561840"/>
            <a:ext cx="2376360" cy="505080"/>
          </a:xfrm>
          <a:custGeom>
            <a:avLst/>
            <a:gdLst>
              <a:gd name="textAreaLeft" fmla="*/ 415800 w 2376360"/>
              <a:gd name="textAreaRight" fmla="*/ 1722960 w 237636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3276720" y="1590840"/>
            <a:ext cx="2376360" cy="504720"/>
          </a:xfrm>
          <a:custGeom>
            <a:avLst/>
            <a:gdLst>
              <a:gd name="textAreaLeft" fmla="*/ 415800 w 2376360"/>
              <a:gd name="textAreaRight" fmla="*/ 1722960 w 237636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900000" y="4869000"/>
            <a:ext cx="7559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WordArt 16"/>
          <p:cNvSpPr txBox="1"/>
          <p:nvPr/>
        </p:nvSpPr>
        <p:spPr>
          <a:xfrm>
            <a:off x="684360" y="4724280"/>
            <a:ext cx="81356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Verdana"/>
              </a:rPr>
              <a:t> </a:t>
            </a:r>
            <a:endParaRPr b="0" lang="en-US" sz="1800" spc="1" strike="noStrike">
              <a:ln w="1584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Verdana"/>
              <a:ea typeface="Verdana"/>
            </a:endParaRPr>
          </a:p>
        </p:txBody>
      </p:sp>
      <p:sp>
        <p:nvSpPr>
          <p:cNvPr id="172" name="WordArt 16"/>
          <p:cNvSpPr txBox="1"/>
          <p:nvPr/>
        </p:nvSpPr>
        <p:spPr>
          <a:xfrm>
            <a:off x="836640" y="4876920"/>
            <a:ext cx="813600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Verdana"/>
              </a:rPr>
              <a:t> </a:t>
            </a:r>
            <a:endParaRPr b="0" lang="en-US" sz="1800" spc="1" strike="noStrike">
              <a:ln w="1584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Verdana"/>
              <a:ea typeface="Verdana"/>
            </a:endParaRPr>
          </a:p>
        </p:txBody>
      </p:sp>
      <p:sp>
        <p:nvSpPr>
          <p:cNvPr id="173" name="Прямоугольник 4"/>
          <p:cNvSpPr/>
          <p:nvPr/>
        </p:nvSpPr>
        <p:spPr>
          <a:xfrm>
            <a:off x="176040" y="4151160"/>
            <a:ext cx="87919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ы сотрудничест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449280">
              <a:lnSpc>
                <a:spcPct val="100000"/>
              </a:lnSpc>
              <a:buClr>
                <a:srgbClr val="ffffff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ивидуальный подход к каждой семье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449280">
              <a:lnSpc>
                <a:spcPct val="100000"/>
              </a:lnSpc>
              <a:buClr>
                <a:srgbClr val="ffffff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манный подход ко всем участникам процесса коррекции, преемственность, согласованных действий, открытость отношений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449280">
              <a:lnSpc>
                <a:spcPct val="100000"/>
              </a:lnSpc>
              <a:buClr>
                <a:srgbClr val="ffffff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этапность реализации задач, обратная связ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500520" y="5478480"/>
            <a:ext cx="103644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7200" y="411120"/>
            <a:ext cx="8229600" cy="1006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терии оценки уровня родительской мотивации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6" name="Picture 2" descr="http://sweemb.kiev.ua/wp-content/uploads/40.jpg"/>
          <p:cNvPicPr/>
          <p:nvPr/>
        </p:nvPicPr>
        <p:blipFill>
          <a:blip r:embed="rId1"/>
          <a:stretch/>
        </p:blipFill>
        <p:spPr>
          <a:xfrm>
            <a:off x="-96840" y="1066680"/>
            <a:ext cx="4078440" cy="2859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http://www.oceania-kindergarden.com/wp-content/uploads/2014/08/logo.jpg?63d3e9"/>
          <p:cNvPicPr/>
          <p:nvPr/>
        </p:nvPicPr>
        <p:blipFill>
          <a:blip r:embed="rId2"/>
          <a:stretch/>
        </p:blipFill>
        <p:spPr>
          <a:xfrm>
            <a:off x="5145120" y="3870360"/>
            <a:ext cx="3730680" cy="292716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2"/>
          <p:cNvSpPr/>
          <p:nvPr/>
        </p:nvSpPr>
        <p:spPr>
          <a:xfrm>
            <a:off x="3944880" y="152244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екватность восприятия состояния речевого развития своего ребенк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товность к полноценному сотрудничеству с логопедом в процессе коррекционной работы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Прямоугольник 6"/>
          <p:cNvSpPr/>
          <p:nvPr/>
        </p:nvSpPr>
        <p:spPr>
          <a:xfrm>
            <a:off x="220680" y="3933720"/>
            <a:ext cx="4856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имание её важности и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бходимост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пень инициативы в плане сотрудничества и продуктивность использования рекомендаци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апы коррекционной работы при дислал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Прямоугольник 1"/>
          <p:cNvSpPr/>
          <p:nvPr/>
        </p:nvSpPr>
        <p:spPr>
          <a:xfrm>
            <a:off x="250920" y="1916280"/>
            <a:ext cx="8435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- подготовительный этап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- этап формирования первичных произносительных умений и навыков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- этап формирования коммуникативных, умений и навыко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ультаты исследования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Прямоугольник 1"/>
          <p:cNvSpPr/>
          <p:nvPr/>
        </p:nvSpPr>
        <p:spPr>
          <a:xfrm>
            <a:off x="457200" y="1773360"/>
            <a:ext cx="8229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- положительная динамика речевого развития детей в более короткие сроки, вследствие комплексного воздействия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взаимосвязи всех участников коррекционного процесс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- выработка у детей устойчивой мотивации к речевой самореализации, гармонизация развития личности детей в целом             успешная социальная адаптации детей  в ДОУ, а в дальнейшем в школ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Стрелка влево 4"/>
          <p:cNvSpPr/>
          <p:nvPr/>
        </p:nvSpPr>
        <p:spPr>
          <a:xfrm rot="10800000">
            <a:off x="4356000" y="4868640"/>
            <a:ext cx="865440" cy="360360"/>
          </a:xfrm>
          <a:prstGeom prst="leftArrow">
            <a:avLst>
              <a:gd name="adj1" fmla="val 50000"/>
              <a:gd name="adj2" fmla="val 50011"/>
            </a:avLst>
          </a:prstGeom>
          <a:solidFill>
            <a:srgbClr val="33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9T07:30:50Z</dcterms:created>
  <dc:creator>Пользователь</dc:creator>
  <dc:description/>
  <dc:language>en-US</dc:language>
  <cp:lastModifiedBy>Мозг</cp:lastModifiedBy>
  <dcterms:modified xsi:type="dcterms:W3CDTF">2023-05-03T20:35:28Z</dcterms:modified>
  <cp:revision>42</cp:revision>
  <dc:subject/>
  <dc:title>Слайд 1</dc:title>
</cp:coreProperties>
</file>