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E782-BFFE-45E7-A72A-7ED82F776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4345-139C-4C71-AE7E-C5BC16D4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6208-A11F-4308-9153-FD4F22C80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9D6C-09CF-435A-AE7B-716957C1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E845-0049-428E-800D-17FDFCBF2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B65D-4DEB-4322-A1AA-882801FD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5A98-AF20-43FF-AAFF-4D98C4A9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9C57-D6B2-4EED-B711-C77A5C1D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436B-85DF-427C-AF09-076962A6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C099-6377-4707-A6B9-4C081103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D501-73BF-4450-8AFC-75C78DE4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902D-FFC6-4825-855A-60026079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8D33-B77F-4EC8-BD33-9DA2214C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0689-E3EC-4200-8E1A-9DE4A972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23E7-7144-411C-8719-8008C7ED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B869-1C2A-4C3D-8C2E-D9AC66191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23F2-4BBC-44BA-9CFB-01B7028D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6E62-4B7E-451E-B020-F9E1BE1F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49A9-E15F-417B-869B-8EF28B86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6E1E-028E-40CC-81BB-382F0617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2DB6-009B-43E9-A85C-2968F355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1743-7D82-489E-9378-86840E23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D948-4A48-4D66-AA6F-F28EFFB4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EF93-C8BB-4186-9989-75C32F92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3A2F-9B70-4B93-AA9C-FB4735ED172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2303-406D-4139-A04C-E2A5F055345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11280" y="9428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Обобщение опыта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ндивидуализация работы логопеда с семьёй, воспитывающей ребёнк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5-7 лет с дислалией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читель-логопед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Трухина Анна Александровн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1486080" y="198360"/>
            <a:ext cx="64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ое бюджетное образовательное учреждение лицей №3  (дошкольное отделение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Объект исследован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процесс индивидуализации взаимодействия логопеда с родителями, воспитывающими детей 5-7 лет с дислалие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Задачи исследован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анализировать психолого-педагогическую литературу по проблеме исследования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ить готовность родителей, воспитывающих старших дошкольников с дислалией к сотрудничеству с логопедом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авить индивидуальные рекомендации по коррекции дислалии у ребенка 5-7 лет в условиях семь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74480" y="-210960"/>
            <a:ext cx="8211960" cy="65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Чтобы всесторонне воспитать человека его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ужно узнать во всех отношениях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.Д. Ушинск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19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дивидуальный подход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важный психолого-педагогический принцип, согласно которому в учебно-воспитательной работе с детьми учитываются индивидуальные особенности каждого ребенка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недостаточность степени дифференцировки артикуляционных движений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нарушение фонематического восприятия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рушение звукопроизношения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нарушения фонетической и фонематической сторон речи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Прямоугольник 2"/>
          <p:cNvSpPr/>
          <p:nvPr/>
        </p:nvSpPr>
        <p:spPr>
          <a:xfrm>
            <a:off x="250920" y="333360"/>
            <a:ext cx="8642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лалия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нарушение звукопроизношен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нормальном слухе и сохранной иннервации мышц речевого аппарат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4248000" y="1989000"/>
            <a:ext cx="648000" cy="549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657080"/>
            <a:ext cx="8229600" cy="32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78920" y="527040"/>
            <a:ext cx="8280360" cy="112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трудничество -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ап в развитии взаимодействия между людьми, предполагающий передачу опыта и формирование потребности перенять его. 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6" name="Picture 12" descr="2702"/>
          <p:cNvPicPr/>
          <p:nvPr/>
        </p:nvPicPr>
        <p:blipFill>
          <a:blip r:embed="rId1"/>
          <a:stretch/>
        </p:blipFill>
        <p:spPr>
          <a:xfrm>
            <a:off x="719280" y="1689120"/>
            <a:ext cx="3024000" cy="2303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index_10"/>
          <p:cNvPicPr/>
          <p:nvPr/>
        </p:nvPicPr>
        <p:blipFill>
          <a:blip r:embed="rId2"/>
          <a:stretch/>
        </p:blipFill>
        <p:spPr>
          <a:xfrm>
            <a:off x="4962600" y="1712880"/>
            <a:ext cx="3468600" cy="229860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7"/>
          <p:cNvSpPr/>
          <p:nvPr/>
        </p:nvSpPr>
        <p:spPr>
          <a:xfrm rot="10800000">
            <a:off x="2987280" y="3561840"/>
            <a:ext cx="2376360" cy="505080"/>
          </a:xfrm>
          <a:custGeom>
            <a:avLst/>
            <a:gdLst>
              <a:gd name="textAreaLeft" fmla="*/ 415800 w 2376360"/>
              <a:gd name="textAreaRight" fmla="*/ 1722960 w 237636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3276720" y="1590840"/>
            <a:ext cx="2376360" cy="504720"/>
          </a:xfrm>
          <a:custGeom>
            <a:avLst/>
            <a:gdLst>
              <a:gd name="textAreaLeft" fmla="*/ 415800 w 2376360"/>
              <a:gd name="textAreaRight" fmla="*/ 1722960 w 237636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Прямоугольник 2"/>
          <p:cNvSpPr/>
          <p:nvPr/>
        </p:nvSpPr>
        <p:spPr>
          <a:xfrm>
            <a:off x="900000" y="4869000"/>
            <a:ext cx="7559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WordArt 16"/>
          <p:cNvSpPr txBox="1"/>
          <p:nvPr/>
        </p:nvSpPr>
        <p:spPr>
          <a:xfrm>
            <a:off x="684360" y="4724280"/>
            <a:ext cx="81356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Verdana"/>
              </a:rPr>
              <a:t> </a:t>
            </a:r>
            <a:endParaRPr b="0" lang="en-US" sz="1800" spc="1" strike="noStrike">
              <a:ln w="1584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Verdana"/>
              <a:ea typeface="Verdana"/>
            </a:endParaRPr>
          </a:p>
        </p:txBody>
      </p:sp>
      <p:sp>
        <p:nvSpPr>
          <p:cNvPr id="172" name="WordArt 16"/>
          <p:cNvSpPr txBox="1"/>
          <p:nvPr/>
        </p:nvSpPr>
        <p:spPr>
          <a:xfrm>
            <a:off x="836640" y="4876920"/>
            <a:ext cx="8136000" cy="13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Verdana"/>
              </a:rPr>
              <a:t> </a:t>
            </a:r>
            <a:endParaRPr b="0" lang="en-US" sz="1800" spc="1" strike="noStrike">
              <a:ln w="1584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Verdana"/>
              <a:ea typeface="Verdana"/>
            </a:endParaRPr>
          </a:p>
        </p:txBody>
      </p:sp>
      <p:sp>
        <p:nvSpPr>
          <p:cNvPr id="173" name="Прямоугольник 4"/>
          <p:cNvSpPr/>
          <p:nvPr/>
        </p:nvSpPr>
        <p:spPr>
          <a:xfrm>
            <a:off x="176040" y="4151160"/>
            <a:ext cx="879192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ципы сотрудничеств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449280">
              <a:lnSpc>
                <a:spcPct val="100000"/>
              </a:lnSpc>
              <a:buClr>
                <a:srgbClr val="ffffff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дивидуальный подход к каждой семье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449280">
              <a:lnSpc>
                <a:spcPct val="100000"/>
              </a:lnSpc>
              <a:buClr>
                <a:srgbClr val="ffffff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уманный подход ко всем участникам процесса коррекции, преемственность, согласованных действий, открытость отношений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449280">
              <a:lnSpc>
                <a:spcPct val="100000"/>
              </a:lnSpc>
              <a:buClr>
                <a:srgbClr val="ffffff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этапность реализации задач, обратная связ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500520" y="5478480"/>
            <a:ext cx="1036440" cy="19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457200" y="411120"/>
            <a:ext cx="8229600" cy="1006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итерии оценки уровня родительской мотивации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6" name="Picture 2" descr="http://sweemb.kiev.ua/wp-content/uploads/40.jpg"/>
          <p:cNvPicPr/>
          <p:nvPr/>
        </p:nvPicPr>
        <p:blipFill>
          <a:blip r:embed="rId1"/>
          <a:stretch/>
        </p:blipFill>
        <p:spPr>
          <a:xfrm>
            <a:off x="-96840" y="1066680"/>
            <a:ext cx="4078440" cy="2859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http://www.oceania-kindergarden.com/wp-content/uploads/2014/08/logo.jpg?63d3e9"/>
          <p:cNvPicPr/>
          <p:nvPr/>
        </p:nvPicPr>
        <p:blipFill>
          <a:blip r:embed="rId2"/>
          <a:stretch/>
        </p:blipFill>
        <p:spPr>
          <a:xfrm>
            <a:off x="5145120" y="3870360"/>
            <a:ext cx="3730680" cy="292716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2"/>
          <p:cNvSpPr/>
          <p:nvPr/>
        </p:nvSpPr>
        <p:spPr>
          <a:xfrm>
            <a:off x="3944880" y="1522440"/>
            <a:ext cx="51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екватность восприятия состояния речевого развития своего ребенк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товность к полноценному сотрудничеству с логопедом в процессе коррекционной работы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Прямоугольник 6"/>
          <p:cNvSpPr/>
          <p:nvPr/>
        </p:nvSpPr>
        <p:spPr>
          <a:xfrm>
            <a:off x="220680" y="3933720"/>
            <a:ext cx="4856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имание её важности и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бходимост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пень инициативы в плане сотрудничества и продуктивность использования рекомендаци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апы коррекционной работы при дислал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Прямоугольник 1"/>
          <p:cNvSpPr/>
          <p:nvPr/>
        </p:nvSpPr>
        <p:spPr>
          <a:xfrm>
            <a:off x="250920" y="1916280"/>
            <a:ext cx="8435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- подготовительный этап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- этап формирования первичных произносительных умений и навыков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- этап формирования коммуникативных, умений и навыков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ультаты исследования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Прямоугольник 1"/>
          <p:cNvSpPr/>
          <p:nvPr/>
        </p:nvSpPr>
        <p:spPr>
          <a:xfrm>
            <a:off x="457200" y="1773360"/>
            <a:ext cx="8229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- положительная динамика речевого развития детей в более короткие сроки, вследствие комплексного воздействия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взаимосвязи всех участников коррекционного процесса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- выработка у детей устойчивой мотивации к речевой самореализации, гармонизация развития личности детей в целом             успешная социальная адаптации детей  в ДОУ, а в дальнейшем в школ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Стрелка влево 4"/>
          <p:cNvSpPr/>
          <p:nvPr/>
        </p:nvSpPr>
        <p:spPr>
          <a:xfrm rot="10800000">
            <a:off x="4356000" y="4868640"/>
            <a:ext cx="865440" cy="360360"/>
          </a:xfrm>
          <a:prstGeom prst="leftArrow">
            <a:avLst>
              <a:gd name="adj1" fmla="val 50000"/>
              <a:gd name="adj2" fmla="val 50011"/>
            </a:avLst>
          </a:prstGeom>
          <a:solidFill>
            <a:srgbClr val="33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9T07:30:50Z</dcterms:created>
  <dc:creator>Пользователь</dc:creator>
  <dc:description/>
  <dc:language>en-US</dc:language>
  <cp:lastModifiedBy>Мозг</cp:lastModifiedBy>
  <dcterms:modified xsi:type="dcterms:W3CDTF">2023-05-03T20:35:28Z</dcterms:modified>
  <cp:revision>42</cp:revision>
  <dc:subject/>
  <dc:title>Слайд 1</dc:title>
</cp:coreProperties>
</file>