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51.gif" ContentType="image/gif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1.jpeg" ContentType="image/jpeg"/>
  <Override PartName="/ppt/media/image3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92FB8-316D-430C-869E-20257185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45AC7-3E8A-4B2D-BDB7-2148720E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40EDA-FDDC-4B49-9AB4-06B7B40C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BBCF0-D0A3-4AE7-9BF0-7C12AEA4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42165-7F69-4F5E-9963-C92C326D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32A7D-57F3-4808-AD03-51F2E1BE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87E64-84C0-42C9-9AF7-9526F1A6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7B310-8E75-4111-B838-FEC18778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8075F-FEFA-4D6B-991A-9AFFA243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CF481-79F8-4F0D-9D80-1F615599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DA760-6470-4FED-A017-93A544DA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DC87-5919-4FEB-B991-1872E4D1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8322F-0AB2-4A04-8107-217E8BA5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C0B02-6E14-48D8-92F3-AD2C90B1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86FD1-B4FC-4203-99F0-C2CBBCFB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9F00B-01D7-481D-BBF6-33DB5872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C9845-0BB1-4262-942E-B3A874D1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D4C23-F3BB-4B6C-B791-2CF3B2AD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8203B6-D7AA-42D7-8624-16A7237D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04A41-FFFB-4F8C-BE91-1CF26099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45735-E0B4-4DA9-996E-66E18BFA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98105-B553-4F78-A526-534C3B35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D0B7-4E9F-4EDB-A1C5-4693E6DB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EC522-07FC-439B-B1FC-A12230C9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231C4-41FA-4D55-AFCF-45A7DB38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550C4-E833-4964-9D26-F2F81551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AB79C-4199-4412-A235-CCD36E2B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E7851-BBD1-4182-A108-611DD0CA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76522-1B7F-48C7-AB08-A7D2CF55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DC769-84C2-4B06-8CDF-AAB2AEF3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869CA-7444-407E-89DD-8CAC4833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8A82A7-C46B-4B74-8282-2C3E7772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E28F15-6A4B-4D60-8711-0057262A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0BD0-9AA3-4121-9AE6-753A3042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5B1F1-92C4-49EB-AFBD-C7CFEA70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160C6B-6C60-4B4D-A913-129724F2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51DF5-F2DE-4753-B05E-9FC787E9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0A6A5-DC60-416A-88F7-13831A15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0B2E6-1764-4515-85E2-A6D0181D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E9BEC-EC4E-4573-853A-7F9FD174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0CECD-4298-413B-8FEB-6EFCF0E4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FCB549-3863-40AD-B9C1-D929C1D8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4052D4-A3EA-40E9-A627-FED04E12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9BA07-A629-4057-B67A-9353DB39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1A162-E82D-433C-986F-AA988EC7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831B0-B054-4CAB-A817-7EFE1DB2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92746-8844-4B56-9CE9-221D0599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9964B-2310-44D3-8CFB-51B4E324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5FDC5-49E1-4D68-BEA7-9B15466B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447FD2-FF67-4B41-A36E-9A9706D2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7D264E-EAF2-469F-9EF0-2FF38108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25678-6B8A-4F4B-ABF2-852EFF06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53AC0-FEEA-4AFF-BC48-36676FDD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7F8463-084E-4351-87F6-DF1061DE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17926-5F75-42E4-86D3-33E6F725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5834-ED54-40D3-A2B2-1BC3E920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9733C-032B-4134-AC58-760BCC9F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5DD6C-A430-42AB-9ED1-61C5F74F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8C5DBC-497E-48B2-BC8B-555B715F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60164-D96E-4911-A46D-DBBDAF1B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859AF6-2FAA-4093-B935-F932DB17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2B3064-86EC-493F-A9B9-7585E097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330E3-E6D7-4A6C-9281-AB61C5E4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765DCB-AC7D-4EED-99BB-883F9407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8BDCB-6292-4B3B-9BA7-B856F3F8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43BEA-83CA-49E9-BAE4-2561B912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153D1-DC44-454E-A6DE-25468049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7FB1E-7236-48F4-8CB5-171A5DC9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A85C3-8035-48B4-9761-815515C1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7F9A3F-7DCD-488F-8D75-AF95C654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8EE52-3719-419A-8D7F-36B40D0D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EE8E1A-6A74-4558-B6B7-BB81D92F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FF43D2-59F6-4F71-BBC0-D97773F8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605384-426B-4288-8311-1A4580B1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789E28-01A5-4512-8E95-A297EFB4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FA2EC-33C1-467B-8918-56C24F25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51D71-8417-4550-B239-45B27896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A802C-44E3-4271-964B-5403D70E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C2DC8-D30D-4D37-89A7-D288883D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7FE70-632D-4CF2-89BA-13229412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8C8BAD-2592-4BAA-982F-5D61D640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6C02F-9304-4AF7-A7F2-3D576C67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C50477-D096-46C3-B4F3-79FD6174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8F73-DE2F-49C2-9C09-E3A553D7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122D-392F-4936-8E06-90DA2D840F9A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3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79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83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108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24AA-F177-4F4F-8492-7256869CA094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6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157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161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186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ftr" idx="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C0C4-7198-4C24-AE30-2EC8A200EB97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9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235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239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264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ftr" idx="1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D9B0-435E-43FE-9A70-C8C34BF62AB5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2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313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317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342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ftr" idx="1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A4D5-2375-4E0D-B15F-CEE77FB17172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5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391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395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420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ftr" idx="1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9A88-3193-4DF7-A6E3-CDC6586C759B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8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469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473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498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ftr" idx="1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FBA4-68A8-483A-91B2-DE458FAACB1F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6.xml"/><Relationship Id="rId3" Type="http://schemas.openxmlformats.org/officeDocument/2006/relationships/image" Target="../media/image24.jpeg"/><Relationship Id="rId4" Type="http://schemas.openxmlformats.org/officeDocument/2006/relationships/slide" Target="slide17.xml"/><Relationship Id="rId5" Type="http://schemas.openxmlformats.org/officeDocument/2006/relationships/image" Target="../media/image25.jpeg"/><Relationship Id="rId6" Type="http://schemas.openxmlformats.org/officeDocument/2006/relationships/slide" Target="slide18.xml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" Target="slide24.xml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42.jpeg"/><Relationship Id="rId3" Type="http://schemas.openxmlformats.org/officeDocument/2006/relationships/slide" Target="slide14.xml"/><Relationship Id="rId4" Type="http://schemas.openxmlformats.org/officeDocument/2006/relationships/image" Target="../media/image43.jpeg"/><Relationship Id="rId5" Type="http://schemas.openxmlformats.org/officeDocument/2006/relationships/slide" Target="slide16.xml"/><Relationship Id="rId6" Type="http://schemas.openxmlformats.org/officeDocument/2006/relationships/image" Target="../media/image44.jpeg"/><Relationship Id="rId7" Type="http://schemas.openxmlformats.org/officeDocument/2006/relationships/slide" Target="slide14.xml"/><Relationship Id="rId8" Type="http://schemas.openxmlformats.org/officeDocument/2006/relationships/image" Target="../media/image45.jpeg"/><Relationship Id="rId9" Type="http://schemas.openxmlformats.org/officeDocument/2006/relationships/slide" Target="slide15.xml"/><Relationship Id="rId10" Type="http://schemas.openxmlformats.org/officeDocument/2006/relationships/image" Target="../media/image46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1.gif"/><Relationship Id="rId4" Type="http://schemas.openxmlformats.org/officeDocument/2006/relationships/image" Target="../media/image51.gif"/><Relationship Id="rId5" Type="http://schemas.openxmlformats.org/officeDocument/2006/relationships/image" Target="../media/image51.gif"/><Relationship Id="rId6" Type="http://schemas.openxmlformats.org/officeDocument/2006/relationships/image" Target="../media/image51.gif"/><Relationship Id="rId7" Type="http://schemas.openxmlformats.org/officeDocument/2006/relationships/image" Target="../media/image51.gif"/><Relationship Id="rId8" Type="http://schemas.openxmlformats.org/officeDocument/2006/relationships/image" Target="../media/image51.gif"/><Relationship Id="rId9" Type="http://schemas.openxmlformats.org/officeDocument/2006/relationships/image" Target="../media/image51.gif"/><Relationship Id="rId10" Type="http://schemas.openxmlformats.org/officeDocument/2006/relationships/image" Target="../media/image51.gif"/><Relationship Id="rId11" Type="http://schemas.openxmlformats.org/officeDocument/2006/relationships/image" Target="../media/image51.gif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509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История развития национального костюм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algn="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algn="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Виртуальная экскурсия в музей имени Н.Н. Пальмова г.Элист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algn="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Автор: Немкеева Анджима Сергеевн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755640" y="1558800"/>
            <a:ext cx="2362320" cy="29545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6948360" y="1341360"/>
            <a:ext cx="1609920" cy="28069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>
            <a:off x="4140360" y="1436760"/>
            <a:ext cx="1511280" cy="288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455616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есс-конференци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Из истории развития костюм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Мужской национальный костюм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Женский национальный костюм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Головные уборы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Обувь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Украшени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0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708360" y="1989000"/>
            <a:ext cx="4896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Мужской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национальный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костюм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421080" cy="619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0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103640" y="692280"/>
            <a:ext cx="504036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Женский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национальный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костюм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6" name=""/>
          <p:cNvSpPr/>
          <p:nvPr/>
        </p:nvSpPr>
        <p:spPr>
          <a:xfrm>
            <a:off x="4716360" y="3068640"/>
            <a:ext cx="302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13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man Old Style"/>
              </a:rPr>
              <a:t>Цегдык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3633840" cy="633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0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-396720" y="333360"/>
            <a:ext cx="54720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Женский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национальный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костюм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9" name=""/>
          <p:cNvSpPr/>
          <p:nvPr/>
        </p:nvSpPr>
        <p:spPr>
          <a:xfrm>
            <a:off x="684360" y="2997360"/>
            <a:ext cx="4174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Цегдык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535"/>
                </a:solidFill>
                <a:latin typeface="Bookman Old Style"/>
              </a:rPr>
              <a:t>Зимняя верхняя одежда</a:t>
            </a: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949920" cy="561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0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Женский национальный костюм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2" name=""/>
          <p:cNvSpPr/>
          <p:nvPr/>
        </p:nvSpPr>
        <p:spPr>
          <a:xfrm>
            <a:off x="826920" y="2924280"/>
            <a:ext cx="28814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Цегдык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087720" cy="453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0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Женский национальный костюм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" y="1600200"/>
            <a:ext cx="44020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213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man Old Style"/>
              </a:rPr>
              <a:t>Терлык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535"/>
                </a:solidFill>
                <a:latin typeface="Bookman Old Style"/>
              </a:rPr>
              <a:t>Одевается под цегдык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5148360" y="1197000"/>
            <a:ext cx="2770200" cy="56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0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95280" y="277920"/>
            <a:ext cx="388944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Национальный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девичий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костюм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8" name=""/>
          <p:cNvSpPr/>
          <p:nvPr/>
        </p:nvSpPr>
        <p:spPr>
          <a:xfrm>
            <a:off x="179280" y="3500280"/>
            <a:ext cx="489744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Биизе или бешмет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5343480" y="620640"/>
            <a:ext cx="3535560" cy="604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dur="indefinite" fill="hold">
                      <p:stCondLst>
                        <p:cond delay="0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-154944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ookman Old Style"/>
              </a:rPr>
              <a:t>Головные уборы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1" name=""/>
          <p:cNvSpPr/>
          <p:nvPr/>
        </p:nvSpPr>
        <p:spPr>
          <a:xfrm>
            <a:off x="5105520" y="54936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,2, 3. Хазык махла (киргизская шапка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4.</a:t>
            </a: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Тоорцыг махла (хошоутовская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5,</a:t>
            </a: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6. Хаджилга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7, 8, 9. Томша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0. Хаджилга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1.Халвынг (юсюн уча халвынг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2. Юста-халвынг (булгун халвынг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3. Юста-халвынг (хошоутовская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Шапки гелюнгов: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4. Махла шаным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5. Джатык (носят духовные лица всех званий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6. Хаджилга (геплая, меховая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7. Бадма махла (для торжественных случаев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18. Тоорцыг (носят пожилые гелюнги)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535"/>
                </a:solidFill>
                <a:latin typeface="Verdana"/>
              </a:rPr>
              <a:t>С рисунков из книги Ир. Житецкого, «Очерки быта   астрахан­ских калмыков», Москва, 1893 г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163440" y="1268280"/>
            <a:ext cx="4510080" cy="532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0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619280" y="260280"/>
            <a:ext cx="6048360" cy="1008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latin typeface="DejaVu Sans"/>
              </a:rPr>
              <a:t>волшебная шапка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latin typeface="DejaVu Sans"/>
              <a:ea typeface="DejaVu Sans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1584360" cy="19476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84360" y="177336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59280" y="1773360"/>
            <a:ext cx="1656000" cy="201600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093080" y="1773360"/>
            <a:ext cx="1728720" cy="20160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8"/>
          <a:stretch/>
        </p:blipFill>
        <p:spPr>
          <a:xfrm>
            <a:off x="1187280" y="3860640"/>
            <a:ext cx="2087640" cy="223236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708360" y="3933720"/>
            <a:ext cx="1943280" cy="20876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11"/>
          <a:stretch/>
        </p:blipFill>
        <p:spPr>
          <a:xfrm>
            <a:off x="6084720" y="4005360"/>
            <a:ext cx="1846440" cy="208764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-1692360" y="0"/>
            <a:ext cx="13030200" cy="76374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2843280" y="184464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5" name=""/>
          <p:cNvSpPr/>
          <p:nvPr/>
        </p:nvSpPr>
        <p:spPr>
          <a:xfrm>
            <a:off x="1042920" y="47628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  <a:ea typeface="DejaVu Sans"/>
              </a:rPr>
              <a:t>Национальный костюм  является визитной карточкой народ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84360" y="333360"/>
            <a:ext cx="7704000" cy="6264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384360" cy="367344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 txBox="1"/>
          <p:nvPr/>
        </p:nvSpPr>
        <p:spPr>
          <a:xfrm>
            <a:off x="2843280" y="907920"/>
            <a:ext cx="3529080" cy="50508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9005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8000"/>
                </a:solidFill>
                <a:latin typeface="DejaVu Sans"/>
              </a:rPr>
              <a:t>"к а м ч а т к а "</a:t>
            </a:r>
            <a:endParaRPr b="0" lang="en-US" sz="1800" spc="-1" strike="noStrike">
              <a:ln w="0">
                <a:noFill/>
              </a:ln>
              <a:solidFill>
                <a:srgbClr val="008000"/>
              </a:solidFill>
              <a:latin typeface="DejaVu Sans"/>
              <a:ea typeface="DejaVu Sans"/>
            </a:endParaRPr>
          </a:p>
        </p:txBody>
      </p:sp>
    </p:spTree>
  </p:cSld>
  <p:transition advTm="5000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755640" y="692280"/>
            <a:ext cx="7488360" cy="5545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2340000" y="1125360"/>
            <a:ext cx="4537080" cy="1366920"/>
          </a:xfrm>
          <a:prstGeom prst="rect">
            <a:avLst/>
          </a:prstGeom>
        </p:spPr>
        <p:txBody>
          <a:bodyPr wrap="none" fromWordArt="1" lIns="90000" rIns="90000" tIns="46800" bIns="46800" anchor="ctr">
            <a:prstTxWarp prst="textArchUp">
              <a:avLst>
                <a:gd name="adj" fmla="val 11893739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9900"/>
                </a:solidFill>
                <a:latin typeface="DejaVu Sans"/>
              </a:rPr>
              <a:t>«тоорцог махла»</a:t>
            </a:r>
            <a:endParaRPr b="0" lang="en-US" sz="1800" spc="-1" strike="noStrike">
              <a:ln w="0">
                <a:noFill/>
              </a:ln>
              <a:solidFill>
                <a:srgbClr val="ff9900"/>
              </a:solidFill>
              <a:latin typeface="DejaVu Sans"/>
              <a:ea typeface="DejaVu Sans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3168720" cy="345600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50920" y="333360"/>
            <a:ext cx="8569080" cy="6191280"/>
          </a:xfrm>
          <a:custGeom>
            <a:avLst/>
            <a:gdLst/>
            <a:ahLst/>
            <a:rect l="l" t="t" r="r" b="b"/>
            <a:pathLst>
              <a:path w="23803" h="9387">
                <a:moveTo>
                  <a:pt x="0" y="8599"/>
                </a:moveTo>
                <a:lnTo>
                  <a:pt x="5642" y="9387"/>
                </a:lnTo>
                <a:lnTo>
                  <a:pt x="18161" y="9387"/>
                </a:lnTo>
                <a:lnTo>
                  <a:pt x="23803" y="8599"/>
                </a:lnTo>
                <a:lnTo>
                  <a:pt x="18161" y="7811"/>
                </a:lnTo>
                <a:lnTo>
                  <a:pt x="5642" y="7811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3024360" cy="29527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 txBox="1"/>
          <p:nvPr/>
        </p:nvSpPr>
        <p:spPr>
          <a:xfrm>
            <a:off x="2771640" y="907920"/>
            <a:ext cx="3456000" cy="505080"/>
          </a:xfrm>
          <a:prstGeom prst="rect">
            <a:avLst/>
          </a:prstGeom>
        </p:spPr>
        <p:txBody>
          <a:bodyPr wrap="none" lIns="90000" rIns="90000" tIns="46800" bIns="46800" anchor="ctr">
            <a:prstTxWarp prst="textDoubleWave1">
              <a:avLst>
                <a:gd name="adj1" fmla="val 6477"/>
                <a:gd name="adj2" fmla="val 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ccff"/>
                </a:solidFill>
                <a:latin typeface="DejaVu Sans"/>
              </a:rPr>
              <a:t>« х а л м а г»</a:t>
            </a:r>
            <a:endParaRPr b="0" lang="en-US" sz="1800" spc="-1" strike="noStrike">
              <a:ln w="0">
                <a:noFill/>
              </a:ln>
              <a:solidFill>
                <a:srgbClr val="33ccff"/>
              </a:solidFill>
              <a:latin typeface="DejaVu Sans"/>
              <a:ea typeface="DejaVu Sans"/>
            </a:endParaRPr>
          </a:p>
        </p:txBody>
      </p:sp>
    </p:spTree>
  </p:cSld>
  <p:transition advTm="5000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95280" y="404640"/>
            <a:ext cx="8353440" cy="5977080"/>
          </a:xfrm>
          <a:custGeom>
            <a:avLst/>
            <a:gdLst/>
            <a:ahLst/>
            <a:rect l="l" t="t" r="r" b="b"/>
            <a:pathLst>
              <a:path w="23204" h="16603">
                <a:moveTo>
                  <a:pt x="0" y="8158"/>
                </a:moveTo>
                <a:lnTo>
                  <a:pt x="8158" y="8158"/>
                </a:lnTo>
                <a:lnTo>
                  <a:pt x="180" y="90"/>
                </a:lnTo>
                <a:lnTo>
                  <a:pt x="15046" y="0"/>
                </a:lnTo>
                <a:lnTo>
                  <a:pt x="8158" y="8158"/>
                </a:lnTo>
                <a:lnTo>
                  <a:pt x="270" y="90"/>
                </a:lnTo>
                <a:lnTo>
                  <a:pt x="23204" y="8445"/>
                </a:lnTo>
                <a:lnTo>
                  <a:pt x="8158" y="8158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3240360" cy="33703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 txBox="1"/>
          <p:nvPr/>
        </p:nvSpPr>
        <p:spPr>
          <a:xfrm>
            <a:off x="1763640" y="836640"/>
            <a:ext cx="4969080" cy="792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FadeUp">
              <a:avLst>
                <a:gd name="adj" fmla="val 9991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" б ю с л я ч и "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613" name=""/>
          <p:cNvSpPr/>
          <p:nvPr/>
        </p:nvSpPr>
        <p:spPr>
          <a:xfrm>
            <a:off x="971640" y="4076640"/>
            <a:ext cx="64764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4" name=""/>
          <p:cNvSpPr/>
          <p:nvPr/>
        </p:nvSpPr>
        <p:spPr>
          <a:xfrm rot="19380000">
            <a:off x="971640" y="4076280"/>
            <a:ext cx="64764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3510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5" name=""/>
          <p:cNvSpPr/>
          <p:nvPr/>
        </p:nvSpPr>
        <p:spPr>
          <a:xfrm>
            <a:off x="1979640" y="1916280"/>
            <a:ext cx="57636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79" y="8979"/>
                </a:lnTo>
                <a:lnTo>
                  <a:pt x="10800" y="0"/>
                </a:lnTo>
                <a:lnTo>
                  <a:pt x="12621" y="8979"/>
                </a:lnTo>
                <a:lnTo>
                  <a:pt x="21600" y="10800"/>
                </a:lnTo>
                <a:lnTo>
                  <a:pt x="12621" y="12621"/>
                </a:lnTo>
                <a:lnTo>
                  <a:pt x="10800" y="21600"/>
                </a:lnTo>
                <a:lnTo>
                  <a:pt x="8979" y="12621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6" name=""/>
          <p:cNvSpPr/>
          <p:nvPr/>
        </p:nvSpPr>
        <p:spPr>
          <a:xfrm rot="1380000">
            <a:off x="2050920" y="1988640"/>
            <a:ext cx="4320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397" y="8397"/>
                </a:lnTo>
                <a:lnTo>
                  <a:pt x="10800" y="0"/>
                </a:lnTo>
                <a:lnTo>
                  <a:pt x="13203" y="8397"/>
                </a:lnTo>
                <a:lnTo>
                  <a:pt x="21600" y="10800"/>
                </a:lnTo>
                <a:lnTo>
                  <a:pt x="13203" y="13203"/>
                </a:lnTo>
                <a:lnTo>
                  <a:pt x="10800" y="21600"/>
                </a:lnTo>
                <a:lnTo>
                  <a:pt x="8397" y="13203"/>
                </a:lnTo>
                <a:lnTo>
                  <a:pt x="0" y="10800"/>
                </a:lnTo>
                <a:close/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7" name=""/>
          <p:cNvSpPr/>
          <p:nvPr/>
        </p:nvSpPr>
        <p:spPr>
          <a:xfrm>
            <a:off x="2556000" y="5877000"/>
            <a:ext cx="504720" cy="47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8" name=""/>
          <p:cNvSpPr/>
          <p:nvPr/>
        </p:nvSpPr>
        <p:spPr>
          <a:xfrm>
            <a:off x="6732720" y="3357720"/>
            <a:ext cx="576000" cy="57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3510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9" name=""/>
          <p:cNvSpPr/>
          <p:nvPr/>
        </p:nvSpPr>
        <p:spPr>
          <a:xfrm rot="3840000">
            <a:off x="6732360" y="3357360"/>
            <a:ext cx="576000" cy="57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4aae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0" name=""/>
          <p:cNvSpPr/>
          <p:nvPr/>
        </p:nvSpPr>
        <p:spPr>
          <a:xfrm>
            <a:off x="7236000" y="1700280"/>
            <a:ext cx="5047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1" name=""/>
          <p:cNvSpPr/>
          <p:nvPr/>
        </p:nvSpPr>
        <p:spPr>
          <a:xfrm rot="3060000">
            <a:off x="7164000" y="1627200"/>
            <a:ext cx="64764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2" name=""/>
          <p:cNvSpPr/>
          <p:nvPr/>
        </p:nvSpPr>
        <p:spPr>
          <a:xfrm>
            <a:off x="8028000" y="5157720"/>
            <a:ext cx="50472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3" name=""/>
          <p:cNvSpPr/>
          <p:nvPr/>
        </p:nvSpPr>
        <p:spPr>
          <a:xfrm rot="1860000">
            <a:off x="8027640" y="5155920"/>
            <a:ext cx="50328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de9a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5000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8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70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76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80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8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6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-973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Украшени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5" name=""/>
          <p:cNvSpPr/>
          <p:nvPr/>
        </p:nvSpPr>
        <p:spPr>
          <a:xfrm>
            <a:off x="539640" y="3357720"/>
            <a:ext cx="40388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Общий вид шивырлыка для женщины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5292720" y="404640"/>
            <a:ext cx="3551400" cy="613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dur="indefinite" fill="hold">
                      <p:stCondLst>
                        <p:cond delay="0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dur="indefinite" fill="hold">
                      <p:stCondLst>
                        <p:cond delay="indefinite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Девичьи пояс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993080" cy="358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dur="indefinite" fill="hold">
                      <p:stCondLst>
                        <p:cond delay="0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dur="indefinite" fill="hold">
                      <p:stCondLst>
                        <p:cond delay="indefinite"/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-1260360" y="260280"/>
            <a:ext cx="6804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Украшение для девичьей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косы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021200" cy="589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dur="indefinite" fill="hold">
                      <p:stCondLst>
                        <p:cond delay="0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dur="indefinite" fill="hold">
                      <p:stCondLst>
                        <p:cond delay="indefinite"/>
                      </p:stCondLst>
                      <p:childTnLst>
                        <p:par>
                          <p:cTn id="4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-1116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Серьги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3635280" y="3933720"/>
            <a:ext cx="1928880" cy="242748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1959120" cy="19749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6608880" y="1844640"/>
            <a:ext cx="2306520" cy="42483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4"/>
          <a:stretch/>
        </p:blipFill>
        <p:spPr>
          <a:xfrm>
            <a:off x="539640" y="1773360"/>
            <a:ext cx="2094120" cy="43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dur="indefinite" fill="hold">
                      <p:stCondLst>
                        <p:cond delay="0"/>
                      </p:stCondLst>
                      <p:childTnLst>
                        <p:par>
                          <p:cTn id="4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dur="indefinite" fill="hold">
                      <p:stCondLst>
                        <p:cond delay="indefinite"/>
                      </p:stCondLst>
                      <p:childTnLst>
                        <p:par>
                          <p:cTn id="4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dur="indefinite" fill="hold">
                      <p:stCondLst>
                        <p:cond delay="indefinite"/>
                      </p:stCondLst>
                      <p:childTnLst>
                        <p:par>
                          <p:cTn id="4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dur="indefinite" fill="hold">
                      <p:stCondLst>
                        <p:cond delay="indefinite"/>
                      </p:stCondLst>
                      <p:childTnLst>
                        <p:par>
                          <p:cTn id="4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dur="indefinite" fill="hold">
                      <p:stCondLst>
                        <p:cond delay="indefinite"/>
                      </p:stCondLst>
                      <p:childTnLst>
                        <p:par>
                          <p:cTn id="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Сценические костюмы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7" name=""/>
          <p:cNvSpPr/>
          <p:nvPr/>
        </p:nvSpPr>
        <p:spPr>
          <a:xfrm>
            <a:off x="3995640" y="1700280"/>
            <a:ext cx="4753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Автор сценических костюмов: Жозефина Михайловна Буль, Заслуженный работник Культуры КАССР, Почетный Гражданин РК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2370240" cy="453096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30240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419640" y="189000"/>
            <a:ext cx="2016000" cy="30970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659640" y="189000"/>
            <a:ext cx="2232000" cy="309708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08720" y="3500280"/>
            <a:ext cx="2663640" cy="31687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332000" y="3429000"/>
            <a:ext cx="2376360" cy="31687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e4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95280" y="476280"/>
            <a:ext cx="5113440" cy="56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DejaVu Sans"/>
              </a:rPr>
              <a:t>Цвета переливаются, играют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DejaVu Sans"/>
              </a:rPr>
              <a:t>Но сделаны не кисточкой они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DejaVu Sans"/>
              </a:rPr>
              <a:t>Мазки иголкой тонкой вышивают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DejaVu Sans"/>
              </a:rPr>
              <a:t>По нежной ткани легкие стежк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DejaVu Sans"/>
              </a:rPr>
              <a:t>Спасибо вышивальщице за сказку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DejaVu Sans"/>
              </a:rPr>
              <a:t>В костюмах этих, вышитых для нас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DejaVu Sans"/>
              </a:rPr>
              <a:t>За удивительную ласку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DejaVu Sans"/>
              </a:rPr>
              <a:t>Для наших восхищенных глаз!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5724360" y="1052640"/>
            <a:ext cx="3240360" cy="468144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356000" y="260280"/>
            <a:ext cx="4608720" cy="583272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900000" y="1125360"/>
            <a:ext cx="273528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  <a:ea typeface="DejaVu Sans"/>
              </a:rPr>
              <a:t>Желтое солнце верхи деревьев зажгло,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  <a:ea typeface="DejaVu Sans"/>
              </a:rPr>
              <a:t>Желтое солнце мира над миром взошло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5000">
    <p:fad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9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616280" cy="604836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5472000" y="981000"/>
            <a:ext cx="3421080" cy="43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cc"/>
                </a:solidFill>
                <a:latin typeface="Arial"/>
                <a:ea typeface="DejaVu Sans"/>
              </a:rPr>
              <a:t>Стан ее гибкий затянут был, говорят,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cc"/>
                </a:solidFill>
                <a:latin typeface="Arial"/>
                <a:ea typeface="DejaVu Sans"/>
              </a:rPr>
              <a:t>В шелковый пышный терлек: богатый халат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cc"/>
                </a:solidFill>
                <a:latin typeface="Arial"/>
                <a:ea typeface="DejaVu Sans"/>
              </a:rPr>
              <a:t>Был у нее на плечах и звался Нармой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5000"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5219640" y="260280"/>
            <a:ext cx="3673440" cy="58327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826920" y="836640"/>
            <a:ext cx="3384720" cy="46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Светом таким сиял владычицы взор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Что вышивали при нем тончайший узор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Так он сиял, что мог бы табунщик при нем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DejaVu Sans"/>
              </a:rPr>
              <a:t>За табуном следить и во мраке ночном…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5000">
    <p:fad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9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49440" cy="590544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5003640" y="836640"/>
            <a:ext cx="3384720" cy="45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99"/>
                </a:solidFill>
                <a:latin typeface="Arial"/>
                <a:ea typeface="DejaVu Sans"/>
              </a:rPr>
              <a:t>Девушка появилась такой чистоты,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99"/>
                </a:solidFill>
                <a:latin typeface="Arial"/>
                <a:ea typeface="DejaVu Sans"/>
              </a:rPr>
              <a:t>Девушка появилась такой красоты,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99"/>
                </a:solidFill>
                <a:latin typeface="Arial"/>
                <a:ea typeface="DejaVu Sans"/>
              </a:rPr>
              <a:t>Что потускнело солнце на</a:t>
            </a:r>
            <a:r>
              <a:rPr b="1" i="1" lang="ru-RU" sz="3200" spc="-1" strike="noStrike">
                <a:solidFill>
                  <a:srgbClr val="ff9999"/>
                </a:solidFill>
                <a:latin typeface="Arial"/>
                <a:ea typeface="DejaVu Sans"/>
              </a:rPr>
              <a:t> небесах!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3" name=""/>
          <p:cNvSpPr/>
          <p:nvPr/>
        </p:nvSpPr>
        <p:spPr>
          <a:xfrm>
            <a:off x="7885080" y="620640"/>
            <a:ext cx="50328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4" name=""/>
          <p:cNvSpPr/>
          <p:nvPr/>
        </p:nvSpPr>
        <p:spPr>
          <a:xfrm>
            <a:off x="5580000" y="476280"/>
            <a:ext cx="71640" cy="71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5" name=""/>
          <p:cNvSpPr/>
          <p:nvPr/>
        </p:nvSpPr>
        <p:spPr>
          <a:xfrm>
            <a:off x="5651640" y="5734080"/>
            <a:ext cx="43308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6" name=""/>
          <p:cNvSpPr/>
          <p:nvPr/>
        </p:nvSpPr>
        <p:spPr>
          <a:xfrm>
            <a:off x="7380360" y="4581360"/>
            <a:ext cx="43164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7" name=""/>
          <p:cNvSpPr/>
          <p:nvPr/>
        </p:nvSpPr>
        <p:spPr>
          <a:xfrm>
            <a:off x="5219640" y="476280"/>
            <a:ext cx="504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8" name=""/>
          <p:cNvSpPr/>
          <p:nvPr/>
        </p:nvSpPr>
        <p:spPr>
          <a:xfrm>
            <a:off x="8748720" y="2781360"/>
            <a:ext cx="39528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9" name=""/>
          <p:cNvSpPr/>
          <p:nvPr/>
        </p:nvSpPr>
        <p:spPr>
          <a:xfrm rot="19740000">
            <a:off x="7810560" y="550800"/>
            <a:ext cx="57456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4"/>
          <a:stretch/>
        </p:blipFill>
        <p:spPr>
          <a:xfrm>
            <a:off x="7236000" y="220500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5"/>
          <a:stretch/>
        </p:blipFill>
        <p:spPr>
          <a:xfrm>
            <a:off x="6372360" y="177336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6"/>
          <a:stretch/>
        </p:blipFill>
        <p:spPr>
          <a:xfrm>
            <a:off x="8244000" y="51577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7"/>
          <a:stretch/>
        </p:blipFill>
        <p:spPr>
          <a:xfrm>
            <a:off x="8639280" y="1197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8"/>
          <a:stretch/>
        </p:blipFill>
        <p:spPr>
          <a:xfrm>
            <a:off x="8639280" y="40053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9"/>
          <a:stretch/>
        </p:blipFill>
        <p:spPr>
          <a:xfrm>
            <a:off x="4572000" y="5300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10"/>
          <a:stretch/>
        </p:blipFill>
        <p:spPr>
          <a:xfrm>
            <a:off x="6732720" y="53737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11"/>
          <a:stretch/>
        </p:blipFill>
        <p:spPr>
          <a:xfrm>
            <a:off x="5724360" y="3500280"/>
            <a:ext cx="505080" cy="50508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3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4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46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5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5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54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5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5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4643280" y="260280"/>
            <a:ext cx="4276800" cy="58327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395280" y="907920"/>
            <a:ext cx="403236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DejaVu Sans"/>
              </a:rPr>
              <a:t>Шелковый пышен халат упругий ее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DejaVu Sans"/>
              </a:rPr>
              <a:t>Выкроен из неизвестной ткани халат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DejaVu Sans"/>
              </a:rPr>
              <a:t>Всыпал он выиграш золотой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DejaVu Sans"/>
              </a:rPr>
              <a:t>В отворот своих рукавов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advTm="5000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535"/>
                </a:solidFill>
                <a:latin typeface="Times New Roman"/>
              </a:rPr>
              <a:t>Закреплени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Игра «Эстафета»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ча игры: объяснить значения слов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dur="indefinite" fill="hold">
                      <p:stCondLst>
                        <p:cond delay="0"/>
                      </p:stCondLst>
                      <p:childTnLst>
                        <p:par>
                          <p:cTn id="5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dur="indefinite" fill="hold">
                      <p:stCondLst>
                        <p:cond delay="indefinite"/>
                      </p:stCondLst>
                      <p:childTnLst>
                        <p:par>
                          <p:cTn id="5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dur="indefinite" fill="hold">
                      <p:stCondLst>
                        <p:cond delay="indefinite"/>
                      </p:stCondLst>
                      <p:childTnLst>
                        <p:par>
                          <p:cTn id="5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лов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5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зумент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асалта шалвур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Эрмег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Хурхс йучи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үшмүд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илг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гдык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лык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6" name="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окуг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Халмаг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Хаджилг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амзол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Биизе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амчатк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ахл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оорцг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3352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3352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dur="indefinite" fill="hold">
                      <p:stCondLst>
                        <p:cond delay="0"/>
                      </p:stCondLst>
                      <p:childTnLst>
                        <p:par>
                          <p:cTn id="5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dur="indefinite" fill="hold">
                      <p:stCondLst>
                        <p:cond delay="indefinite"/>
                      </p:stCondLst>
                      <p:childTnLst>
                        <p:par>
                          <p:cTn id="5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dur="indefinite" fill="hold">
                      <p:stCondLst>
                        <p:cond delay="indefinite"/>
                      </p:stCondLst>
                      <p:childTnLst>
                        <p:par>
                          <p:cTn id="5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dur="indefinite" fill="hold">
                      <p:stCondLst>
                        <p:cond delay="indefinite"/>
                      </p:stCondLst>
                      <p:childTnLst>
                        <p:par>
                          <p:cTn id="6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dur="indefinite" fill="hold">
                      <p:stCondLst>
                        <p:cond delay="indefinite"/>
                      </p:stCondLst>
                      <p:childTnLst>
                        <p:par>
                          <p:cTn id="6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dur="indefinite" fill="hold">
                      <p:stCondLst>
                        <p:cond delay="indefinite"/>
                      </p:stCondLst>
                      <p:childTnLst>
                        <p:par>
                          <p:cTn id="6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dur="indefinite" fill="hold">
                      <p:stCondLst>
                        <p:cond delay="indefinite"/>
                      </p:stCondLst>
                      <p:childTnLst>
                        <p:par>
                          <p:cTn id="6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dur="indefinite" fill="hold">
                      <p:stCondLst>
                        <p:cond delay="indefinite"/>
                      </p:stCondLst>
                      <p:childTnLst>
                        <p:par>
                          <p:cTn id="6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dur="indefinite" fill="hold">
                      <p:stCondLst>
                        <p:cond delay="indefinite"/>
                      </p:stCondLst>
                      <p:childTnLst>
                        <p:par>
                          <p:cTn id="6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dur="indefinite" fill="hold">
                      <p:stCondLst>
                        <p:cond delay="indefinite"/>
                      </p:stCondLst>
                      <p:childTnLst>
                        <p:par>
                          <p:cTn id="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dur="indefinite" fill="hold">
                      <p:stCondLst>
                        <p:cond delay="indefinite"/>
                      </p:stCondLst>
                      <p:childTnLst>
                        <p:par>
                          <p:cTn id="6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dur="indefinite" fill="hold">
                      <p:stCondLst>
                        <p:cond delay="indefinite"/>
                      </p:stCondLst>
                      <p:childTnLst>
                        <p:par>
                          <p:cTn id="6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dur="indefinite" fill="hold">
                      <p:stCondLst>
                        <p:cond delay="indefinite"/>
                      </p:stCondLst>
                      <p:childTnLst>
                        <p:par>
                          <p:cTn id="6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dur="indefinite" fill="hold">
                      <p:stCondLst>
                        <p:cond delay="indefinite"/>
                      </p:stCondLst>
                      <p:childTnLst>
                        <p:par>
                          <p:cTn id="6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dur="indefinite" fill="hold">
                      <p:stCondLst>
                        <p:cond delay="indefinite"/>
                      </p:stCondLst>
                      <p:childTnLst>
                        <p:par>
                          <p:cTn id="6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dur="indefinite" fill="hold">
                      <p:stCondLst>
                        <p:cond delay="indefinite"/>
                      </p:stCondLst>
                      <p:childTnLst>
                        <p:par>
                          <p:cTn id="6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dur="indefinite" fill="hold">
                      <p:stCondLst>
                        <p:cond delay="indefinite"/>
                      </p:stCondLst>
                      <p:childTnLst>
                        <p:par>
                          <p:cTn id="6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Назовите элементы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8" name=""/>
          <p:cNvSpPr/>
          <p:nvPr/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ужского национального костюм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609480" indent="-6094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Женского национального костюм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609480" indent="-6094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Девичьего национального костюм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dur="indefinite" fill="hold">
                      <p:stCondLst>
                        <p:cond delay="0"/>
                      </p:stCondLst>
                      <p:childTnLst>
                        <p:par>
                          <p:cTn id="6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dur="indefinite" fill="hold">
                      <p:stCondLst>
                        <p:cond delay="indefinite"/>
                      </p:stCondLst>
                      <p:childTnLst>
                        <p:par>
                          <p:cTn id="6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dur="indefinite" fill="hold">
                      <p:stCondLst>
                        <p:cond delay="indefinite"/>
                      </p:stCondLst>
                      <p:childTnLst>
                        <p:par>
                          <p:cTn id="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dur="indefinite" fill="hold">
                      <p:stCondLst>
                        <p:cond delay="indefinite"/>
                      </p:stCondLst>
                      <p:childTnLst>
                        <p:par>
                          <p:cTn id="6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гра «Точка зрения»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ча: Доказать, что калмыцкий национальный костюм полностью соответствует требованиям одежды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dur="indefinite" fill="hold">
                      <p:stCondLst>
                        <p:cond delay="0"/>
                      </p:stCondLst>
                      <p:childTnLst>
                        <p:par>
                          <p:cTn id="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dur="indefinite" fill="hold">
                      <p:stCondLst>
                        <p:cond delay="indefinite"/>
                      </p:stCondLst>
                      <p:childTnLst>
                        <p:par>
                          <p:cTn id="6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539640" y="2133720"/>
            <a:ext cx="77043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DejaVu Sans"/>
              </a:rPr>
              <a:t>Изготовление игрушки-сувенир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DejaVu Sans"/>
              </a:rPr>
              <a:t>в калмыцком костюме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2" name=""/>
          <p:cNvSpPr/>
          <p:nvPr/>
        </p:nvSpPr>
        <p:spPr>
          <a:xfrm>
            <a:off x="1187280" y="620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  <a:ea typeface="DejaVu Sans"/>
              </a:rPr>
              <a:t>Практическая работа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e4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50920" y="1268280"/>
            <a:ext cx="4321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b76"/>
                </a:solidFill>
                <a:latin typeface="Arial"/>
              </a:rPr>
              <a:t>В трудных условиях кочевой жизни, не имея элементарных приспособлений, женщины-калмычки создали замечательное искусство вышивания. </a:t>
            </a:r>
            <a:br>
              <a:rPr sz="2300"/>
            </a:br>
            <a:br>
              <a:rPr sz="2300"/>
            </a:br>
            <a:r>
              <a:rPr b="1" i="1" lang="ru-RU" sz="2300" spc="-1" strike="noStrike">
                <a:solidFill>
                  <a:srgbClr val="003b76"/>
                </a:solidFill>
                <a:latin typeface="Arial"/>
              </a:rPr>
              <a:t>Калмыцкий костюм очень своеобразен и красив. Рукоделие (шитье, вышивание) женщин-калмычек было самым красивым и самым тонким народным искусством.</a:t>
            </a:r>
            <a:br>
              <a:rPr sz="2300"/>
            </a:br>
            <a:br>
              <a:rPr sz="2300"/>
            </a:b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4608360" y="3213000"/>
            <a:ext cx="4356360" cy="28083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321440" cy="2735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46836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Назовите все профессии, связанные с изготовлением костюма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dur="indefinite" fill="hold">
                      <p:stCondLst>
                        <p:cond delay="0"/>
                      </p:stCondLst>
                      <p:childTnLst>
                        <p:par>
                          <p:cTn id="6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684360" y="9079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Занятие закончено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6" name=""/>
          <p:cNvSpPr/>
          <p:nvPr/>
        </p:nvSpPr>
        <p:spPr>
          <a:xfrm>
            <a:off x="468360" y="393372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omic Sans MS"/>
              </a:rPr>
              <a:t>До свидания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dur="indefinite" fill="hold">
                      <p:stCondLst>
                        <p:cond delay="0"/>
                      </p:stCondLst>
                      <p:childTnLst>
                        <p:par>
                          <p:cTn id="6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dur="indefinite" fill="hold">
                      <p:stCondLst>
                        <p:cond delay="indefinite"/>
                      </p:stCondLst>
                      <p:childTnLst>
                        <p:par>
                          <p:cTn id="6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Цель работы: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e450"/>
                </a:solidFill>
                <a:latin typeface="Bookman Old Style"/>
              </a:rPr>
              <a:t>Развить творческие способности, научно-познавательный интерес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e450"/>
                </a:solidFill>
                <a:latin typeface="Bookman Old Style"/>
              </a:rPr>
              <a:t>Привить любовь к истории, литературе, культуре и быту калмыцкого народ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e450"/>
                </a:solidFill>
                <a:latin typeface="Bookman Old Style"/>
              </a:rPr>
              <a:t>Ознакомить учащихся с профессиями, которые связаны с данной темой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0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46836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Bookman Old Style"/>
              </a:rPr>
              <a:t>Книжная</a:t>
            </a:r>
            <a:br>
              <a:rPr sz="9600"/>
            </a:br>
            <a:r>
              <a:rPr b="1" lang="ru-RU" sz="9600" spc="-1" strike="noStrike">
                <a:solidFill>
                  <a:srgbClr val="ffff00"/>
                </a:solidFill>
                <a:latin typeface="Bookman Old Style"/>
              </a:rPr>
              <a:t> выставка</a:t>
            </a:r>
            <a:endParaRPr b="0" lang="en-US" sz="9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0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676760" cy="59500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5219640" y="1197000"/>
            <a:ext cx="357192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849840" cy="54626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4398840" cy="576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09:35:48Z</dcterms:created>
  <dc:creator>Учитель</dc:creator>
  <dc:description/>
  <dc:language>en-US</dc:language>
  <cp:lastModifiedBy>сош</cp:lastModifiedBy>
  <dcterms:modified xsi:type="dcterms:W3CDTF">2023-05-03T13:34:23Z</dcterms:modified>
  <cp:revision>13</cp:revision>
  <dc:subject/>
  <dc:title>Использование современных технологий в изучении те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