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E4BE-7453-48E9-881E-9134B42F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D64E-1635-4B8E-9273-6E3031CD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8956-ECD7-4E86-839E-F2DFC7B9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3EC9-77D0-49F5-923C-86FC204D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059AD-F6AA-4686-81D0-75F9D2A0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CF3CE-4DA6-46CE-B455-2973B183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3B7EC-E2E6-4A4E-B7B8-BD8FE213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EC97E-21C0-4F79-8EC1-FDA55B4E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5B7F7-4821-47B1-9F58-BD0B95F8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CAB2-9FFF-4337-83DC-1C96F77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8C729-8908-4F81-86F7-6C4D207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DBC5-81DA-4CC9-AEDD-A33C7337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1251B-4F18-4AE9-BD63-FBFEAA2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86253-B89A-4621-A55F-FFCD2C3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02640-22D0-406E-AB48-E68B957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E5F8D-0FDB-4B0E-A837-FD3321C5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C80A8-067E-4785-A280-59ECBDAB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38F8D-4911-45CB-AC99-47BE8023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F612D-F094-46B3-8040-6F837FEC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5AE7E-5BE0-4579-8A2D-968764D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FF086-CB01-48A8-83A8-3F94B77C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2E344-F9E3-4B2F-B2C7-801A6FB6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26D6-931B-40AE-A329-51681BEE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4BCAC-0A70-4477-BBAE-C40A8A9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768B6-5571-481F-B202-CF353149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EECD0-7A4D-47F3-BADE-6C11429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85D13-0827-43D1-B630-B6EF9942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66E03-125B-4154-9C38-CBEA8B8E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513CE-20A7-4F0D-A5FD-22EE6966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578BD-330C-4798-A48F-EC5A4A7E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28D3E-00FD-4EAB-A56D-526DEA13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A773B-C19B-4633-989C-0982BE87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A1BB0-676B-4A75-ADDC-BC4313D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4FA6-6261-45D9-8AE6-A8789960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7FB6A-698A-48BA-94E7-8C93D0F8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A353A-78C4-456A-BEA8-E5C318EF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40CF2-EA2F-49E9-B0C0-13DAA0D1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BF52E-0A29-4A75-95EA-B737A5E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37978-C52D-4128-A0C6-6E8107D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C2056-27B7-47B7-8B2F-28F9CF86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E39A1-14AD-4D54-AA95-39E30D55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C5EA3-C36D-48BD-AC2A-6E9906C5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7DE8B-0E5E-4776-BBCA-DF0C8786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1755F-BEAB-4D15-9481-46F6C6AC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8125-3B95-42E2-A63C-FE7ADB73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8A8F8-A987-448B-B8D5-582D35D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90967-6CA2-4981-A164-880B1FC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037C4-E97A-4248-BDBA-AABE23E7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CD4A2-EC76-465E-96C5-C9C572C2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B560A-AF1F-4121-A346-6859E041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8F83D-8029-44A3-9F65-2C6F66E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067CF-5BB4-4CCB-B7F0-36D4F432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05C2B-E6A7-475B-AAA6-0FF9A06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C824F-F3EE-4F0B-B5FE-F58C8B9B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59C7E-1308-4B2C-81B4-00118606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36D5-86D4-425E-ACF4-01421085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A45AA-3FF2-424B-99B9-92F9CBE4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11CAF-AB48-4FCE-BD71-519E6CF3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B10DB-9E4D-4BA5-99D7-E4B64068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1BFFB-DF3C-4A9B-BB8E-3CBF6C82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54688-378E-44A1-B552-3D19ADA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DEDD3-4625-4A27-99E7-D2E8B0A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5EE76-84E4-411E-A90E-4B8CA54C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28777-ED63-42B0-A790-008A616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DA49E-400F-4214-B107-DB60F29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E787A-A7A1-41C0-9A80-ABE7FCAD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D38E-570B-4CBE-944A-7305A585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20979-EE23-42B5-AA2C-B21F474A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09694-DC58-4AAE-9113-13682437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D6FC3-AC1A-430E-AC6A-EF2A1CF3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D7E1C-0B0F-4B5A-B93F-7A0E35F9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6EFC0-0FF1-4FEE-A289-C590AA14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8984C-75B3-4EA6-9358-71E4DF31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28660-FA9F-4F23-982F-59A9C520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D38FE-9828-48F9-A190-21725373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44232-F134-4118-9C87-A6EA0533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4A895-8A8E-47DD-9B42-02811285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1245-DB68-48B8-98E2-92F8C73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A381A-64B2-409D-B761-0E6AF10D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74131-9F25-471C-BD3A-05A22740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2D300-C206-412F-BFA4-78088C3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B9355-F852-4252-98D3-A1D3881B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D04C9-EA43-4760-AE87-AFB72E25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5476-1FC0-470F-B326-4E8E2B6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05B1-7B6A-4D9A-9B75-367094A036D7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79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9D0A-0047-4FFC-A7C0-5BA0081C9587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57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161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186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ftr" idx="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AA57-59BC-45CB-9236-B6CD9393AB41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235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239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264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ftr" idx="1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F7C9-D64C-490E-8239-6D182DC0963D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313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317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42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ftr" idx="1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6242-272D-4440-9052-E006C422185B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5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39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39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42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ftr" idx="1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8225-66D2-4AEB-9234-F34A3426EE5F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8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469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473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498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ftr" idx="1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3A47-25F1-4EE1-8F28-BD1E051A732E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6.xml"/><Relationship Id="rId3" Type="http://schemas.openxmlformats.org/officeDocument/2006/relationships/image" Target="../media/image24.jpeg"/><Relationship Id="rId4" Type="http://schemas.openxmlformats.org/officeDocument/2006/relationships/slide" Target="slide17.xml"/><Relationship Id="rId5" Type="http://schemas.openxmlformats.org/officeDocument/2006/relationships/image" Target="../media/image25.jpeg"/><Relationship Id="rId6" Type="http://schemas.openxmlformats.org/officeDocument/2006/relationships/slide" Target="slide18.xml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" Target="slide24.xml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42.jpeg"/><Relationship Id="rId3" Type="http://schemas.openxmlformats.org/officeDocument/2006/relationships/slide" Target="slide14.xml"/><Relationship Id="rId4" Type="http://schemas.openxmlformats.org/officeDocument/2006/relationships/image" Target="../media/image43.jpeg"/><Relationship Id="rId5" Type="http://schemas.openxmlformats.org/officeDocument/2006/relationships/slide" Target="slide16.xml"/><Relationship Id="rId6" Type="http://schemas.openxmlformats.org/officeDocument/2006/relationships/image" Target="../media/image44.jpeg"/><Relationship Id="rId7" Type="http://schemas.openxmlformats.org/officeDocument/2006/relationships/slide" Target="slide14.xml"/><Relationship Id="rId8" Type="http://schemas.openxmlformats.org/officeDocument/2006/relationships/image" Target="../media/image45.jpeg"/><Relationship Id="rId9" Type="http://schemas.openxmlformats.org/officeDocument/2006/relationships/slide" Target="slide15.xml"/><Relationship Id="rId10" Type="http://schemas.openxmlformats.org/officeDocument/2006/relationships/image" Target="../media/image4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image" Target="../media/image51.gif"/><Relationship Id="rId8" Type="http://schemas.openxmlformats.org/officeDocument/2006/relationships/image" Target="../media/image51.gif"/><Relationship Id="rId9" Type="http://schemas.openxmlformats.org/officeDocument/2006/relationships/image" Target="../media/image51.gif"/><Relationship Id="rId10" Type="http://schemas.openxmlformats.org/officeDocument/2006/relationships/image" Target="../media/image51.gif"/><Relationship Id="rId11" Type="http://schemas.openxmlformats.org/officeDocument/2006/relationships/image" Target="../media/image51.gi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История развития национального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algn="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Виртуальная экскурсия в музей имени Н.Н. Пальмова г.Элист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Автор: Немкеева Анджима Сергеевн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55640" y="1558800"/>
            <a:ext cx="2362320" cy="29545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6948360" y="1341360"/>
            <a:ext cx="1609920" cy="2806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4140360" y="1436760"/>
            <a:ext cx="1511280" cy="28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55616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есс-конференц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Из истории развития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Мужской национальный 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национальный 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Головные убор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Обув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Украше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0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708360" y="1989000"/>
            <a:ext cx="4896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Мужской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национальный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остюм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421080" cy="619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103640" y="692280"/>
            <a:ext cx="50403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циональны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716360" y="3068640"/>
            <a:ext cx="302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</a:rPr>
              <a:t>Цегдык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363384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-396720" y="333360"/>
            <a:ext cx="5472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циональны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2997360"/>
            <a:ext cx="4174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Цегдык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535"/>
                </a:solidFill>
                <a:latin typeface="Bookman Old Style"/>
              </a:rPr>
              <a:t>Зимняя верхняя одежда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949920" cy="561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национальный 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2" name=""/>
          <p:cNvSpPr/>
          <p:nvPr/>
        </p:nvSpPr>
        <p:spPr>
          <a:xfrm>
            <a:off x="826920" y="2924280"/>
            <a:ext cx="2881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Цегдык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087720" cy="453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0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национальный 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1600200"/>
            <a:ext cx="4402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13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</a:rPr>
              <a:t>Терлык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535"/>
                </a:solidFill>
                <a:latin typeface="Bookman Old Style"/>
              </a:rPr>
              <a:t>Одевается под цегдык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277020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95280" y="277920"/>
            <a:ext cx="38894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циональны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девичи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8" name=""/>
          <p:cNvSpPr/>
          <p:nvPr/>
        </p:nvSpPr>
        <p:spPr>
          <a:xfrm>
            <a:off x="179280" y="3500280"/>
            <a:ext cx="489744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Биизе или бешмет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343480" y="620640"/>
            <a:ext cx="3535560" cy="60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0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-15494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54936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,2, 3. Хазык махла (киргизская шапка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4.</a:t>
            </a: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Тоорцыг махла (хошоутовская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5,</a:t>
            </a: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6. Хаджилг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7, 8, 9. Томш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0. Хаджилг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1.Халвынг (юсюн уча халвынг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2. Юста-халвынг (булгун халвынг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3. Юста-халвынг (хошоутовская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Шапки гелюнгов: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4. Махла шаным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5. Джатык (носят духовные лица всех званий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6. Хаджилга (геплая, меховая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7. Бадма махла (для торжественных случаев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8. Тоорцыг (носят пожилые гелюнги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С рисунков из книги Ир. Житецкого, «Очерки быта   астрахан­ских калмыков», Москва, 1893 г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63440" y="1268280"/>
            <a:ext cx="4510080" cy="532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0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619280" y="26028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latin typeface="DejaVu Sans"/>
              </a:rPr>
              <a:t>волшебная шапка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latin typeface="DejaVu Sans"/>
              <a:ea typeface="DejaVu Sans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584360" cy="1947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84360" y="177336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59280" y="1773360"/>
            <a:ext cx="1656000" cy="20160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093080" y="1773360"/>
            <a:ext cx="1728720" cy="201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8"/>
          <a:stretch/>
        </p:blipFill>
        <p:spPr>
          <a:xfrm>
            <a:off x="1187280" y="3860640"/>
            <a:ext cx="2087640" cy="22323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08360" y="3933720"/>
            <a:ext cx="1943280" cy="20876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11"/>
          <a:stretch/>
        </p:blipFill>
        <p:spPr>
          <a:xfrm>
            <a:off x="6084720" y="4005360"/>
            <a:ext cx="1846440" cy="20876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-1692360" y="0"/>
            <a:ext cx="13030200" cy="76374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2843280" y="184464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5" name=""/>
          <p:cNvSpPr/>
          <p:nvPr/>
        </p:nvSpPr>
        <p:spPr>
          <a:xfrm>
            <a:off x="1042920" y="4762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  <a:ea typeface="DejaVu Sans"/>
              </a:rPr>
              <a:t>Национальный костюм  является визитной карточкой народ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84360" y="333360"/>
            <a:ext cx="7704000" cy="626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384360" cy="36734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2843280" y="907920"/>
            <a:ext cx="3529080" cy="505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9005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8000"/>
                </a:solidFill>
                <a:latin typeface="DejaVu Sans"/>
              </a:rPr>
              <a:t>"к а м ч а т к а "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latin typeface="DejaVu Sans"/>
              <a:ea typeface="DejaVu Sans"/>
            </a:endParaRPr>
          </a:p>
        </p:txBody>
      </p:sp>
    </p:spTree>
  </p:cSld>
  <p:transition advTm="5000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755640" y="692280"/>
            <a:ext cx="7488360" cy="554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340000" y="1125360"/>
            <a:ext cx="4537080" cy="1366920"/>
          </a:xfrm>
          <a:prstGeom prst="rect">
            <a:avLst/>
          </a:prstGeom>
        </p:spPr>
        <p:txBody>
          <a:bodyPr wrap="none" fromWordArt="1" lIns="90000" rIns="90000" tIns="46800" bIns="46800" anchor="ctr">
            <a:prstTxWarp prst="textArchUp">
              <a:avLst>
                <a:gd name="adj" fmla="val 11893739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9900"/>
                </a:solidFill>
                <a:latin typeface="DejaVu Sans"/>
              </a:rPr>
              <a:t>«тоорцог махла»</a:t>
            </a:r>
            <a:endParaRPr b="0" lang="en-US" sz="1800" spc="-1" strike="noStrike">
              <a:ln w="0">
                <a:noFill/>
              </a:ln>
              <a:solidFill>
                <a:srgbClr val="ff9900"/>
              </a:solidFill>
              <a:latin typeface="DejaVu Sans"/>
              <a:ea typeface="DejaVu Sans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168720" cy="3456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50920" y="333360"/>
            <a:ext cx="8569080" cy="6191280"/>
          </a:xfrm>
          <a:custGeom>
            <a:avLst/>
            <a:gdLst/>
            <a:ahLst/>
            <a:rect l="l" t="t" r="r" b="b"/>
            <a:pathLst>
              <a:path w="23803" h="9387">
                <a:moveTo>
                  <a:pt x="0" y="8599"/>
                </a:moveTo>
                <a:lnTo>
                  <a:pt x="5642" y="9387"/>
                </a:lnTo>
                <a:lnTo>
                  <a:pt x="18161" y="9387"/>
                </a:lnTo>
                <a:lnTo>
                  <a:pt x="23803" y="8599"/>
                </a:lnTo>
                <a:lnTo>
                  <a:pt x="18161" y="7811"/>
                </a:lnTo>
                <a:lnTo>
                  <a:pt x="5642" y="781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2771640" y="907920"/>
            <a:ext cx="3456000" cy="505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DoubleWave1">
              <a:avLst>
                <a:gd name="adj1" fmla="val 6477"/>
                <a:gd name="adj2" fmla="val 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ccff"/>
                </a:solidFill>
                <a:latin typeface="DejaVu Sans"/>
              </a:rPr>
              <a:t>« х а л м а г»</a:t>
            </a:r>
            <a:endParaRPr b="0" lang="en-US" sz="1800" spc="-1" strike="noStrike">
              <a:ln w="0">
                <a:noFill/>
              </a:ln>
              <a:solidFill>
                <a:srgbClr val="33ccff"/>
              </a:solidFill>
              <a:latin typeface="DejaVu Sans"/>
              <a:ea typeface="DejaVu Sans"/>
            </a:endParaRPr>
          </a:p>
        </p:txBody>
      </p:sp>
    </p:spTree>
  </p:cSld>
  <p:transition advTm="5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95280" y="404640"/>
            <a:ext cx="8353440" cy="5977080"/>
          </a:xfrm>
          <a:custGeom>
            <a:avLst/>
            <a:gdLst/>
            <a:ahLst/>
            <a:rect l="l" t="t" r="r" b="b"/>
            <a:pathLst>
              <a:path w="23204" h="16603">
                <a:moveTo>
                  <a:pt x="0" y="8158"/>
                </a:moveTo>
                <a:lnTo>
                  <a:pt x="8158" y="8158"/>
                </a:lnTo>
                <a:lnTo>
                  <a:pt x="180" y="90"/>
                </a:lnTo>
                <a:lnTo>
                  <a:pt x="15046" y="0"/>
                </a:lnTo>
                <a:lnTo>
                  <a:pt x="8158" y="8158"/>
                </a:lnTo>
                <a:lnTo>
                  <a:pt x="270" y="90"/>
                </a:lnTo>
                <a:lnTo>
                  <a:pt x="23204" y="8445"/>
                </a:lnTo>
                <a:lnTo>
                  <a:pt x="8158" y="8158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240360" cy="33703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1763640" y="836640"/>
            <a:ext cx="4969080" cy="792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" б ю с л я ч и "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4076640"/>
            <a:ext cx="64764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4" name=""/>
          <p:cNvSpPr/>
          <p:nvPr/>
        </p:nvSpPr>
        <p:spPr>
          <a:xfrm rot="19380000">
            <a:off x="971640" y="4076280"/>
            <a:ext cx="64764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3510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5" name=""/>
          <p:cNvSpPr/>
          <p:nvPr/>
        </p:nvSpPr>
        <p:spPr>
          <a:xfrm>
            <a:off x="1979640" y="1916280"/>
            <a:ext cx="5763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79" y="8979"/>
                </a:lnTo>
                <a:lnTo>
                  <a:pt x="10800" y="0"/>
                </a:lnTo>
                <a:lnTo>
                  <a:pt x="12621" y="8979"/>
                </a:lnTo>
                <a:lnTo>
                  <a:pt x="21600" y="10800"/>
                </a:lnTo>
                <a:lnTo>
                  <a:pt x="12621" y="12621"/>
                </a:lnTo>
                <a:lnTo>
                  <a:pt x="10800" y="21600"/>
                </a:lnTo>
                <a:lnTo>
                  <a:pt x="8979" y="12621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6" name=""/>
          <p:cNvSpPr/>
          <p:nvPr/>
        </p:nvSpPr>
        <p:spPr>
          <a:xfrm rot="1380000">
            <a:off x="2050920" y="1988640"/>
            <a:ext cx="432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397" y="8397"/>
                </a:lnTo>
                <a:lnTo>
                  <a:pt x="10800" y="0"/>
                </a:lnTo>
                <a:lnTo>
                  <a:pt x="13203" y="8397"/>
                </a:lnTo>
                <a:lnTo>
                  <a:pt x="21600" y="10800"/>
                </a:lnTo>
                <a:lnTo>
                  <a:pt x="13203" y="13203"/>
                </a:lnTo>
                <a:lnTo>
                  <a:pt x="10800" y="21600"/>
                </a:lnTo>
                <a:lnTo>
                  <a:pt x="8397" y="13203"/>
                </a:lnTo>
                <a:lnTo>
                  <a:pt x="0" y="108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7" name=""/>
          <p:cNvSpPr/>
          <p:nvPr/>
        </p:nvSpPr>
        <p:spPr>
          <a:xfrm>
            <a:off x="2556000" y="5877000"/>
            <a:ext cx="50472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8" name=""/>
          <p:cNvSpPr/>
          <p:nvPr/>
        </p:nvSpPr>
        <p:spPr>
          <a:xfrm>
            <a:off x="6732720" y="3357720"/>
            <a:ext cx="57600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3510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9" name=""/>
          <p:cNvSpPr/>
          <p:nvPr/>
        </p:nvSpPr>
        <p:spPr>
          <a:xfrm rot="3840000">
            <a:off x="6732360" y="3357360"/>
            <a:ext cx="57600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4aae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0" name=""/>
          <p:cNvSpPr/>
          <p:nvPr/>
        </p:nvSpPr>
        <p:spPr>
          <a:xfrm>
            <a:off x="7236000" y="1700280"/>
            <a:ext cx="5047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1" name=""/>
          <p:cNvSpPr/>
          <p:nvPr/>
        </p:nvSpPr>
        <p:spPr>
          <a:xfrm rot="3060000">
            <a:off x="7164000" y="1627200"/>
            <a:ext cx="64764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2" name=""/>
          <p:cNvSpPr/>
          <p:nvPr/>
        </p:nvSpPr>
        <p:spPr>
          <a:xfrm>
            <a:off x="8028000" y="5157720"/>
            <a:ext cx="504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3" name=""/>
          <p:cNvSpPr/>
          <p:nvPr/>
        </p:nvSpPr>
        <p:spPr>
          <a:xfrm rot="1860000">
            <a:off x="8027640" y="5155920"/>
            <a:ext cx="5032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de9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8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8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8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-973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Украшен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39640" y="3357720"/>
            <a:ext cx="40388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Общий вид шивырлыка для женщин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551400" cy="613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dur="indefinite" fill="hold">
                      <p:stCondLst>
                        <p:cond delay="0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Девичьи пояс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93080" cy="35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0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-1260360" y="260280"/>
            <a:ext cx="680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Украшение для девичьей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кос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021200" cy="589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dur="indefinite" fill="hold">
                      <p:stCondLst>
                        <p:cond delay="0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dur="indefinite" fill="hold">
                      <p:stCondLst>
                        <p:cond delay="indefinite"/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-1116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Серьг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1928880" cy="24274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1959120" cy="19749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6608880" y="1844640"/>
            <a:ext cx="2306520" cy="42483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539640" y="1773360"/>
            <a:ext cx="2094120" cy="43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dur="indefinite" fill="hold">
                      <p:stCondLst>
                        <p:cond delay="0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dur="indefinite" fill="hold">
                      <p:stCondLst>
                        <p:cond delay="indefinite"/>
                      </p:stCondLst>
                      <p:childTnLst>
                        <p:par>
                          <p:cTn id="4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Сценические костюмы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7" name=""/>
          <p:cNvSpPr/>
          <p:nvPr/>
        </p:nvSpPr>
        <p:spPr>
          <a:xfrm>
            <a:off x="3995640" y="1700280"/>
            <a:ext cx="475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Автор сценических костюмов: Жозефина Михайловна Буль, Заслуженный работник Культуры КАССР, Почетный Гражданин РК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370240" cy="45309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30240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19640" y="189000"/>
            <a:ext cx="2016000" cy="30970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189000"/>
            <a:ext cx="2232000" cy="30970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08720" y="3500280"/>
            <a:ext cx="2663640" cy="3168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32000" y="342900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e4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95280" y="476280"/>
            <a:ext cx="5113440" cy="56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Цвета переливаются, играют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Но сделаны не кисточкой они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Мазки иголкой тонкой вышивают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По нежной ткани легкие стежк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Спасибо вышивальщице за сказку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В костюмах этих, вышитых для нас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За удивительную ласку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Для наших восхищенных глаз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724360" y="1052640"/>
            <a:ext cx="3240360" cy="46814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4608720" cy="58327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900000" y="1125360"/>
            <a:ext cx="27352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  <a:ea typeface="DejaVu Sans"/>
              </a:rPr>
              <a:t>Желтое солнце верхи деревьев зажгло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  <a:ea typeface="DejaVu Sans"/>
              </a:rPr>
              <a:t>Желтое солнце мира над миром взошло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616280" cy="60483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5472000" y="981000"/>
            <a:ext cx="342108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cc"/>
                </a:solidFill>
                <a:latin typeface="Arial"/>
                <a:ea typeface="DejaVu Sans"/>
              </a:rPr>
              <a:t>Стан ее гибкий затянут был, говорят,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cc"/>
                </a:solidFill>
                <a:latin typeface="Arial"/>
                <a:ea typeface="DejaVu Sans"/>
              </a:rPr>
              <a:t>В шелковый пышный терлек: богатый халат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cc"/>
                </a:solidFill>
                <a:latin typeface="Arial"/>
                <a:ea typeface="DejaVu Sans"/>
              </a:rPr>
              <a:t>Был у нее на плечах и звался Нармой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673440" cy="58327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826920" y="836640"/>
            <a:ext cx="3384720" cy="46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Светом таким сиял владычицы взор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Что вышивали при нем тончайший узор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Так он сиял, что мог бы табунщик при нем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За табуном следить и во мраке ночном…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49440" cy="590544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5003640" y="836640"/>
            <a:ext cx="338472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99"/>
                </a:solidFill>
                <a:latin typeface="Arial"/>
                <a:ea typeface="DejaVu Sans"/>
              </a:rPr>
              <a:t>Девушка появилась такой чистоты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99"/>
                </a:solidFill>
                <a:latin typeface="Arial"/>
                <a:ea typeface="DejaVu Sans"/>
              </a:rPr>
              <a:t>Девушка появилась такой красоты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99"/>
                </a:solidFill>
                <a:latin typeface="Arial"/>
                <a:ea typeface="DejaVu Sans"/>
              </a:rPr>
              <a:t>Что потускнело солнце на</a:t>
            </a:r>
            <a:r>
              <a:rPr b="1" i="1" lang="ru-RU" sz="3200" spc="-1" strike="noStrike">
                <a:solidFill>
                  <a:srgbClr val="ff9999"/>
                </a:solidFill>
                <a:latin typeface="Arial"/>
                <a:ea typeface="DejaVu Sans"/>
              </a:rPr>
              <a:t> небесах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3" name=""/>
          <p:cNvSpPr/>
          <p:nvPr/>
        </p:nvSpPr>
        <p:spPr>
          <a:xfrm>
            <a:off x="7885080" y="620640"/>
            <a:ext cx="50328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4" name=""/>
          <p:cNvSpPr/>
          <p:nvPr/>
        </p:nvSpPr>
        <p:spPr>
          <a:xfrm>
            <a:off x="5580000" y="476280"/>
            <a:ext cx="71640" cy="71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5" name=""/>
          <p:cNvSpPr/>
          <p:nvPr/>
        </p:nvSpPr>
        <p:spPr>
          <a:xfrm>
            <a:off x="5651640" y="5734080"/>
            <a:ext cx="43308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6" name=""/>
          <p:cNvSpPr/>
          <p:nvPr/>
        </p:nvSpPr>
        <p:spPr>
          <a:xfrm>
            <a:off x="7380360" y="4581360"/>
            <a:ext cx="431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7" name=""/>
          <p:cNvSpPr/>
          <p:nvPr/>
        </p:nvSpPr>
        <p:spPr>
          <a:xfrm>
            <a:off x="5219640" y="476280"/>
            <a:ext cx="504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8" name=""/>
          <p:cNvSpPr/>
          <p:nvPr/>
        </p:nvSpPr>
        <p:spPr>
          <a:xfrm>
            <a:off x="8748720" y="2781360"/>
            <a:ext cx="39528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9" name=""/>
          <p:cNvSpPr/>
          <p:nvPr/>
        </p:nvSpPr>
        <p:spPr>
          <a:xfrm rot="19740000">
            <a:off x="7810560" y="550800"/>
            <a:ext cx="574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tretch/>
        </p:blipFill>
        <p:spPr>
          <a:xfrm>
            <a:off x="7236000" y="220500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5"/>
          <a:stretch/>
        </p:blipFill>
        <p:spPr>
          <a:xfrm>
            <a:off x="6372360" y="177336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8244000" y="5157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8639280" y="11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8"/>
          <a:stretch/>
        </p:blipFill>
        <p:spPr>
          <a:xfrm>
            <a:off x="8639280" y="4005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9"/>
          <a:stretch/>
        </p:blipFill>
        <p:spPr>
          <a:xfrm>
            <a:off x="4572000" y="5300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10"/>
          <a:stretch/>
        </p:blipFill>
        <p:spPr>
          <a:xfrm>
            <a:off x="6732720" y="5373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11"/>
          <a:stretch/>
        </p:blipFill>
        <p:spPr>
          <a:xfrm>
            <a:off x="5724360" y="3500280"/>
            <a:ext cx="505080" cy="50508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46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276800" cy="58327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95280" y="907920"/>
            <a:ext cx="403236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DejaVu Sans"/>
              </a:rPr>
              <a:t>Шелковый пышен халат упругий ее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DejaVu Sans"/>
              </a:rPr>
              <a:t>Выкроен из неизвестной ткани халат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DejaVu Sans"/>
              </a:rPr>
              <a:t>Всыпал он выиграш золото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DejaVu Sans"/>
              </a:rPr>
              <a:t>В отворот своих рукавов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535"/>
                </a:solidFill>
                <a:latin typeface="Times New Roman"/>
              </a:rPr>
              <a:t>Закрепле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гра «Эстафета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ча игры: объяснить значения слов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dur="indefinite" fill="hold">
                      <p:stCondLst>
                        <p:cond delay="0"/>
                      </p:stCondLst>
                      <p:childTnLst>
                        <p:par>
                          <p:cTn id="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dur="indefinite" fill="hold">
                      <p:stCondLst>
                        <p:cond delay="indefinite"/>
                      </p:stCondLst>
                      <p:childTnLst>
                        <p:par>
                          <p:cTn id="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dur="indefinite" fill="hold">
                      <p:stCondLst>
                        <p:cond delay="indefinite"/>
                      </p:stCondLst>
                      <p:childTnLst>
                        <p:par>
                          <p:cTn id="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зумент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асалта шалвур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Эрме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урхс йуч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үшмүд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ил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гдык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лык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6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оку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алма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аджилг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мзо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иизе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мчатк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ахл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оорц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3352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dur="indefinite" fill="hold">
                      <p:stCondLst>
                        <p:cond delay="0"/>
                      </p:stCondLst>
                      <p:childTnLst>
                        <p:par>
                          <p:cTn id="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dur="indefinite" fill="hold">
                      <p:stCondLst>
                        <p:cond delay="indefinite"/>
                      </p:stCondLst>
                      <p:childTnLst>
                        <p:par>
                          <p:cTn id="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dur="indefinite" fill="hold">
                      <p:stCondLst>
                        <p:cond delay="indefinite"/>
                      </p:stCondLst>
                      <p:childTnLst>
                        <p:par>
                          <p:cTn id="5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dur="indefinite" fill="hold">
                      <p:stCondLst>
                        <p:cond delay="indefinite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dur="indefinite" fill="hold">
                      <p:stCondLst>
                        <p:cond delay="indefinite"/>
                      </p:stCondLst>
                      <p:childTnLst>
                        <p:par>
                          <p:cTn id="6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fill="hold">
                      <p:stCondLst>
                        <p:cond delay="indefinite"/>
                      </p:stCondLst>
                      <p:childTnLst>
                        <p:par>
                          <p:cTn id="6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dur="indefinite" fill="hold">
                      <p:stCondLst>
                        <p:cond delay="indefinite"/>
                      </p:stCondLst>
                      <p:childTnLst>
                        <p:par>
                          <p:cTn id="6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dur="indefinite" fill="hold">
                      <p:stCondLst>
                        <p:cond delay="indefinite"/>
                      </p:stCondLst>
                      <p:childTnLst>
                        <p:par>
                          <p:cTn id="6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dur="indefinite" fill="hold">
                      <p:stCondLst>
                        <p:cond delay="indefinite"/>
                      </p:stCondLst>
                      <p:childTnLst>
                        <p:par>
                          <p:cTn id="6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dur="indefinite" fill="hold">
                      <p:stCondLst>
                        <p:cond delay="indefinite"/>
                      </p:stCondLst>
                      <p:childTnLst>
                        <p:par>
                          <p:cTn id="6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dur="indefinite" fill="hold">
                      <p:stCondLst>
                        <p:cond delay="indefinite"/>
                      </p:stCondLst>
                      <p:childTnLst>
                        <p:par>
                          <p:cTn id="6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dur="indefinite" fill="hold">
                      <p:stCondLst>
                        <p:cond delay="indefinite"/>
                      </p:stCondLst>
                      <p:childTnLst>
                        <p:par>
                          <p:cTn id="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dur="indefinite" fill="hold">
                      <p:stCondLst>
                        <p:cond delay="indefinite"/>
                      </p:stCondLst>
                      <p:childTnLst>
                        <p:par>
                          <p:cTn id="6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dur="indefinite" fill="hold">
                      <p:stCondLst>
                        <p:cond delay="indefinite"/>
                      </p:stCondLst>
                      <p:childTnLst>
                        <p:par>
                          <p:cTn id="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зовите элементы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ужского национального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94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Женского национального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94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евичьего национального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dur="indefinite" fill="hold">
                      <p:stCondLst>
                        <p:cond delay="0"/>
                      </p:stCondLst>
                      <p:childTnLst>
                        <p:par>
                          <p:cTn id="6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dur="indefinite" fill="hold">
                      <p:stCondLst>
                        <p:cond delay="indefinite"/>
                      </p:stCondLst>
                      <p:childTnLst>
                        <p:par>
                          <p:cTn id="6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dur="indefinite" fill="hold">
                      <p:stCondLst>
                        <p:cond delay="indefinite"/>
                      </p:stCondLst>
                      <p:childTnLst>
                        <p:par>
                          <p:cTn id="6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гра «Точка зрения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ча: Доказать, что калмыцкий национальный костюм полностью соответствует требованиям одежд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dur="indefinite" fill="hold">
                      <p:stCondLst>
                        <p:cond delay="0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39640" y="2133720"/>
            <a:ext cx="77043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DejaVu Sans"/>
              </a:rPr>
              <a:t>Изготовление игрушки-сувени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DejaVu Sans"/>
              </a:rPr>
              <a:t>в калмыцком костюм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2" name=""/>
          <p:cNvSpPr/>
          <p:nvPr/>
        </p:nvSpPr>
        <p:spPr>
          <a:xfrm>
            <a:off x="1187280" y="620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DejaVu Sans"/>
              </a:rPr>
              <a:t>Практическая работа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e4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1268280"/>
            <a:ext cx="4321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b76"/>
                </a:solidFill>
                <a:latin typeface="Arial"/>
              </a:rPr>
              <a:t>В трудных условиях кочевой жизни, не имея элементарных приспособлений, женщины-калмычки создали замечательное искусство вышивания. </a:t>
            </a:r>
            <a:br>
              <a:rPr sz="2300"/>
            </a:br>
            <a:br>
              <a:rPr sz="2300"/>
            </a:br>
            <a:r>
              <a:rPr b="1" i="1" lang="ru-RU" sz="2300" spc="-1" strike="noStrike">
                <a:solidFill>
                  <a:srgbClr val="003b76"/>
                </a:solidFill>
                <a:latin typeface="Arial"/>
              </a:rPr>
              <a:t>Калмыцкий костюм очень своеобразен и красив. Рукоделие (шитье, вышивание) женщин-калмычек было самым красивым и самым тонким народным искусством.</a:t>
            </a:r>
            <a:br>
              <a:rPr sz="2300"/>
            </a:br>
            <a:br>
              <a:rPr sz="23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608360" y="3213000"/>
            <a:ext cx="4356360" cy="28083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21440" cy="2735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46836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Назовите все профессии, связанные с изготовлением костюма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dur="indefinite" fill="hold">
                      <p:stCondLst>
                        <p:cond delay="0"/>
                      </p:stCondLst>
                      <p:childTnLst>
                        <p:par>
                          <p:cTn id="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4360" y="907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нятие закончено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6" name=""/>
          <p:cNvSpPr/>
          <p:nvPr/>
        </p:nvSpPr>
        <p:spPr>
          <a:xfrm>
            <a:off x="468360" y="393372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До свидания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dur="indefinite" fill="hold">
                      <p:stCondLst>
                        <p:cond delay="0"/>
                      </p:stCondLst>
                      <p:childTnLst>
                        <p:par>
                          <p:cTn id="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dur="indefinite" fill="hold">
                      <p:stCondLst>
                        <p:cond delay="indefinite"/>
                      </p:stCondLst>
                      <p:childTnLst>
                        <p:par>
                          <p:cTn id="6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Цель работы: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e450"/>
                </a:solidFill>
                <a:latin typeface="Bookman Old Style"/>
              </a:rPr>
              <a:t>Развить творческие способности, научно-познавательный интерес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e450"/>
                </a:solidFill>
                <a:latin typeface="Bookman Old Style"/>
              </a:rPr>
              <a:t>Привить любовь к истории, литературе, культуре и быту калмыцкого народ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e450"/>
                </a:solidFill>
                <a:latin typeface="Bookman Old Style"/>
              </a:rPr>
              <a:t>Ознакомить учащихся с профессиями, которые связаны с данной темо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6836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Bookman Old Style"/>
              </a:rPr>
              <a:t>Книжная</a:t>
            </a:r>
            <a:br>
              <a:rPr sz="9600"/>
            </a:br>
            <a:r>
              <a:rPr b="1" lang="ru-RU" sz="9600" spc="-1" strike="noStrike">
                <a:solidFill>
                  <a:srgbClr val="ffff00"/>
                </a:solidFill>
                <a:latin typeface="Bookman Old Style"/>
              </a:rPr>
              <a:t> выставка</a:t>
            </a:r>
            <a:endParaRPr b="0" lang="en-US" sz="9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0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676760" cy="5950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57192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849840" cy="54626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398840" cy="57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9:35:48Z</dcterms:created>
  <dc:creator>Учитель</dc:creator>
  <dc:description/>
  <dc:language>en-US</dc:language>
  <cp:lastModifiedBy>сош</cp:lastModifiedBy>
  <dcterms:modified xsi:type="dcterms:W3CDTF">2023-05-03T13:34:23Z</dcterms:modified>
  <cp:revision>13</cp:revision>
  <dc:subject/>
  <dc:title>Использование современных технологий в изучении т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