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093D-0095-4B55-BBFE-9FF4C5FF0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FFC8-CC8C-4154-9BFF-29CDA5556A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C19E2-9DD2-4B66-9A46-A454008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F29B7-2336-4629-9878-2F3147A8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9CDB0-4A29-45C9-B5F9-7B5F8F0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FD01C-DB93-4E63-82B3-D3C7C02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309E5-7932-471F-929A-EB02342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052DA-2CCC-4AC5-99D4-DBC6CDFF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D4B58-6883-47F5-AA6C-C44CF19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0C102-32B1-41B9-9C1E-6ADCCD11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85470-60CC-4B62-B882-E30FEC7D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AFBEB-72AD-44E1-A440-13BAEEF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25AE-0986-4F4C-86FC-1CC2C2115F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72202-7EFF-41E1-9046-DA24D50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3F94E-A071-4671-8FEB-DDA9F73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74ECC-DD1C-4856-9281-0145978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9BEF2-F6A0-4B88-9502-1EC9DE2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25710-F83E-48B6-972B-E8A96A8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2964-B83D-417F-A2E5-31A575D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7B2A5-1044-4AFC-A1F4-A1BE3FC2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14F1-CC83-4CFB-9359-A1AD42D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6698-EAD5-4CF6-ABE1-0DCF6764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29BA0-7200-43E4-BF3A-96CE29AA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574A-982F-4CC8-ADEF-B1CC0C970EB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26629-766D-498C-AC36-62C8720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FB04E-0DBA-461E-997F-A45795F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62EAF-14A1-4156-BCCE-B580E147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91518-EEF9-4DE7-9178-037AF69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BDD82-88C8-4384-9D64-ED25D7D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6B5E-937E-43C7-AC5C-92A25DB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67388-6C1B-4964-9317-0498FBC0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68752-5D0D-4433-A0D1-723DC14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97F55-9112-4446-B21F-F64A43E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4A49D-ED3B-413C-B639-534A221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EE369-BB7F-4B0F-A99B-B74E09F8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60CDE-5A80-4125-894B-C501057D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B410E-5CAE-40EB-B33A-AE2B8525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04B95-F99E-41EF-A79A-C49BC5C3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CB620-CD7C-49CB-8839-99EF53A5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81BCE-86C1-43E0-8676-F205E1F6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945BA-2CB0-4470-96FA-5C1247D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2AE2E-7136-4CF1-8CB3-33409F1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E2479-0492-4AB9-88D7-4F95A55E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46481-16C1-47CD-978D-2CF46089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16EA8-E40C-4B14-A698-D4A9FF7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4452-1F09-492D-BD28-4C276E20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F4D5A-F05E-44B6-B12F-3DAFA9E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C17F3-55AD-4B00-8AB1-9523159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792C6-4F26-4EF6-9021-0E8C25D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FB9C5-273D-4713-AAB7-FF91A709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46EF7-CB3A-496C-95B9-A142FA0E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9106B5-ABE3-4287-A014-DD7B2688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6C649A-F58D-48A9-AD3C-DFD60970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38DB63-D2E5-47F3-B2A4-40B51B7E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32854-AAF7-4DEC-9A7A-241E116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7217CB-76C0-4D84-AD54-B1893914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8F176-A96C-4F9F-89D7-3574D10F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9EEC6C-11A1-4B45-B871-4EAB885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98D093-F701-49E5-82D7-2F285C90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682B44-8F76-4C70-BFE7-3B2B78F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7E14EF-AC0F-4DE5-974F-D1FDBE9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F965D8-5B42-4439-B8D3-44625FA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955CB5-1F1C-4FF3-987F-8E040BC6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78FB92-D831-468E-84A8-9513C5AC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06381-15F8-40F1-93B4-B491CED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0486-16D5-4E96-BED9-42BC9B0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F3FE-D21D-4BDF-BA04-A5E0DE9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F9195-DC6D-4D1C-A882-C3A038F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5AF1-B80C-49E3-AD1A-7417CC2EA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F2A9-4193-46E6-9B3C-42D9CD0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C0C16-DE13-4C3C-B65B-E012303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3DB87-F8CE-4006-9F04-B796816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18D7-0117-4992-B2E7-937E0E0B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42458-DE9F-4531-9104-593BE9D0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7C27C-8E24-4915-ACD9-7D245877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5B3C2-8513-47A7-9423-44446875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D5307C-A726-41DD-930F-4A80DF6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E8399-1B15-4D04-92E5-8F2793B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5CC10-9B9F-41B8-8B84-23E2A8F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7201-8595-4774-892D-6398DF0D6B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920B8-DEA3-4019-95F4-274AB5B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83A77-D740-4BE7-929D-B6E1AF5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335D1-4F2B-44BD-BC3A-B5698FD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49A7F-6914-4BD7-A90D-9262F9B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36909-7E1A-4DD1-A258-FBC5E2D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0ADCF-5968-46B8-A201-CDAE2F32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569D6-F376-43E2-BA01-E1745D8F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9E03-C01B-4044-B0EF-04CB5C9F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CC8B-3830-4AA9-B2B6-82ED7311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F7BC-01C4-402D-9684-7B0AFE2C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E180-B5F7-49C8-8C3E-D553E88C56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A188-3026-4587-9505-F5A45642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9A61-A84C-4DDA-BC46-68FBBBE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5AA2-1F15-4CB4-BCD6-CFB348B0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7ADB-3407-4E6F-A314-9DEE88B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09FD-1E98-4747-8C76-333EC3EB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1BD7-9AB3-4234-A498-A8BD72A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101F-B78A-411F-B3AB-99C1770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DFD6-4611-45D5-99C4-254C158C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F3D3-1565-40FE-A274-83305C3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480958-4ADD-4929-B82B-C6E41F68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B7D0-6470-4DBD-B60C-670151475C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E53A00-4FD0-43C8-89ED-3F494E9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52F5B-4503-451F-98BD-A8FBF5B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086C06-CBC8-4CCA-A360-2CCEB99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558BC-0B4A-400F-83BD-88A67E08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6E44A-FA04-4FFD-8CD8-666FD56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DB564-A5F2-4117-963D-CD33547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CBF24-667B-4DAD-ADEA-5FD7B07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726F5-1927-48B3-AF66-C6B3614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EC5385-65CA-48E1-A59F-40058E6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63EFA-D203-43A9-8F5A-34F18526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5D06-B7F3-46CE-A2EA-11B85FC4F6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FAED3-1727-40E6-8080-DB34CB4F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D4F7D-8353-48EE-843D-4EBDF627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34533-93FC-4363-A8B5-580C2047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7F78C-A1BB-45BD-B9FA-AF37AE8B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C2AB6-9C42-4590-9484-81EDCB64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26F4B-A356-44E9-A74B-0BB7E959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A8509-6CE7-44D4-B740-B3C2B7DE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98EAD-5079-4204-9B5D-2CF9B27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3C3C4-0DCE-43A5-8E61-5E216DD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352AA-332D-49D7-BD33-69CF078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4BF3-3290-4245-A0B6-9DC938D068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C47E38-8EC3-4CD3-BF5D-9A2B3D96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A1C118-EB7F-48D0-A3F6-CDC8CD83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5C2F8-9FAB-4B41-905F-E5E085E3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F38CA-5FAC-4A2E-B415-20D74CD9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965C6A-398A-4271-9085-FBF75FD2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07B2D-40F2-4FE8-8C2B-9FA6201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2A178-57BF-41B9-B226-C8A036B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B8940-D174-4EC5-880A-87364726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F6FC23-38D4-4F60-A087-2C9B7B4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10B29-2302-4B07-83E9-53076E9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49AF-1DBE-4124-8780-C954CC8C93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9C3CE-A7F9-431B-AAE9-911F5F2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A3C45-687E-4085-8ED6-85A8619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DAAE0-22EE-4870-A173-10F284D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189F50-3A13-4325-9EFA-4FE46918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AC699C-5C5B-43C9-B071-7E0C888E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BF87-85F3-42F3-8D83-5B2E74CF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4933-AEE7-4AC9-8152-8041E25E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3581-C005-4734-854F-DFECD167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628B-D67D-4AE7-81EC-512BE81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94945-7242-4250-94A3-964F4B80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FCAD-24AA-4124-9343-CFB4D34E43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8197-AAC4-4516-BFDC-6A208AC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3DE0-9090-4B99-927B-97C1EE2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C617-A662-4E47-A000-6F045EC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840B-2E48-4412-AC95-A918C22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998D-751D-4B48-BD85-0EE41D2C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75AD-BF4D-4376-AAEC-6075425D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D505-8C75-4B1C-BAA4-DED07832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19D9F-DFFC-4991-9CE5-062DFC4D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B64BD-DF90-4E57-87BC-56D071E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9F074-1297-4CE1-A728-85FA60E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0428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2798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48BC6-39C9-46DA-A554-58E8C6291F9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2AEDCC-67F4-4942-B908-2DF56BFD81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2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74A5EE-8148-4488-8775-669FFCC86E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B1209B-1CC8-417D-851D-281D06C447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5E2454-F219-4B25-A66A-DC1742403A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C246F6-F1B9-40A9-8E68-C9AB22047B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79175D-125D-494B-B970-8008769735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97E3B4-2352-465A-8442-61AAD1CB5A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6A5482-9836-4DC6-B11F-7587D50600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F296D5-6002-490A-AB05-830607BCFD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C78A14-AAD6-4B5E-97B9-F9EB95DDFE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D0B7D-6158-4FDA-A5CC-E40D3A1A0E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96CE72-77EC-4048-B2FF-734BCEAD9B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uprostim.com/190-chelovechkov-dlya-prezentatsii-na-prozrachnom-fone/" TargetMode="External"/><Relationship Id="rId2" Type="http://schemas.openxmlformats.org/officeDocument/2006/relationships/hyperlink" Target="https://sosnovosti.ru/wp-content/uploads/2018/08/072459a6d86966d9514d264fa5be95a5.jpg" TargetMode="External"/><Relationship Id="rId3" Type="http://schemas.openxmlformats.org/officeDocument/2006/relationships/hyperlink" Target="https://klike.net/uploads/posts/2023-01/1674996864_3-58.jpg" TargetMode="External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-71280" y="-302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503280" y="360360"/>
            <a:ext cx="8432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Рисунок 5" descr="slide-0.jpg"/>
          <p:cNvPicPr/>
          <p:nvPr/>
        </p:nvPicPr>
        <p:blipFill>
          <a:blip r:embed="rId1"/>
          <a:stretch/>
        </p:blipFill>
        <p:spPr>
          <a:xfrm>
            <a:off x="357120" y="285840"/>
            <a:ext cx="8474040" cy="4749840"/>
          </a:xfrm>
          <a:prstGeom prst="rect">
            <a:avLst/>
          </a:prstGeom>
          <a:ln w="0">
            <a:noFill/>
          </a:ln>
        </p:spPr>
      </p:pic>
      <p:sp>
        <p:nvSpPr>
          <p:cNvPr id="674" name="TextBox 6"/>
          <p:cNvSpPr/>
          <p:nvPr/>
        </p:nvSpPr>
        <p:spPr>
          <a:xfrm>
            <a:off x="450072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одготовила: социальный педагог, педагог-психолог  Милованова С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39280" y="198000"/>
            <a:ext cx="5327640" cy="61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ыми наказаниями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совершеннолетних являются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траф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ые работы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ительные работы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ест и лишение свободы на определённый срок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6" name="Рисунок 4" descr="image029-1.png"/>
          <p:cNvPicPr/>
          <p:nvPr/>
        </p:nvPicPr>
        <p:blipFill>
          <a:blip r:embed="rId1"/>
          <a:stretch/>
        </p:blipFill>
        <p:spPr>
          <a:xfrm>
            <a:off x="5929200" y="2071800"/>
            <a:ext cx="2928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71360" y="357120"/>
            <a:ext cx="839016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ая ответственност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58. Кража (тайное хищение чужого имущества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59. Мошенничество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1. Грабёж (открытое хищение чужого имущества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7. Умышленное уничтожение или повреждение имущества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8. Уничтожение или повреждение имущества по неосторожности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16. Побои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9" name="Рисунок 4" descr="51-20211129_181254.png"/>
          <p:cNvPicPr/>
          <p:nvPr/>
        </p:nvPicPr>
        <p:blipFill>
          <a:blip r:embed="rId1"/>
          <a:stretch/>
        </p:blipFill>
        <p:spPr>
          <a:xfrm>
            <a:off x="6000840" y="3857760"/>
            <a:ext cx="2243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Административная ответственность подрост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10" descr="https://sosnovosti.ru/wp-content/uploads/2018/08/072459a6d86966d9514d264fa5be95a5.jpg"/>
          <p:cNvPicPr/>
          <p:nvPr/>
        </p:nvPicPr>
        <p:blipFill>
          <a:blip r:embed="rId1"/>
          <a:stretch/>
        </p:blipFill>
        <p:spPr>
          <a:xfrm>
            <a:off x="936720" y="1554120"/>
            <a:ext cx="72403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94920" y="928440"/>
            <a:ext cx="8497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ая ответствен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с 16 лет.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в состоянии опьянения в общественных местах и т.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е хулиганство,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дорожного движения (в том числе, безбилетный проезд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ркотических средств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94920" y="426960"/>
            <a:ext cx="84978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7.27 Мелкое хищение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1 Мелкое хулиганство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0 Распитие пива и напитков … алкогольной и спиртосодержащей продукции… либо потребление наркотических средств или психотропных веществ…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1 Появление в общественных местах в состоянии опьянен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2 Появление в состоянии опьянения…, потребление наркотических средств или психотропных  веществ в общественных местах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8360" y="1699920"/>
            <a:ext cx="8424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тебе нет 16 л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ты распиваеш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ные напитки (включая пиво) или появляешься в состоянии опьянения в общественном месте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ую ответственность будут нести твои родител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39760" y="1557360"/>
            <a:ext cx="8508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и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овершеннолетнего также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т нести ответственность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ненадлежащим образом воспитывают тебя (такое возможно, если ты совершаешь какие-либо антиобщественные действия (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я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будет установлена вина родителей в твоём ненадлежащем воспитании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1"/>
          <p:cNvSpPr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90120" y="1773360"/>
            <a:ext cx="7805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НЕ ДЕЛАЙ ОШИБОК, НЕ СОВЕРШАЙ ПРОТИВОПРАВНЫХ ДЕЙСТВИЙ – ВЕДИ ЗДОРОВЫЙ ОБРАЗ ЖИЗНИ!</a:t>
            </a:r>
            <a:r>
              <a:rPr b="0" lang="ru-RU" sz="25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entury Schoolbook"/>
              </a:rPr>
              <a:t>ЗДОРОВЫЙ ОБРАЗ ЖИЗНИ, СПОРТ И ФИЗИЧЕСКАЯ АКТИВНОСТЬ ВЫРАБАТЫВАЮТ  ПРАВИЛЬНЫЕ ПОЗИТИВНЫЕ ПРИВЫЧКИ ПОВЕДЕНИЯ, НЕ ДОПУСКАЮЩИЕ СОВЕРШЕНИЯ ПРОТИВОПРАВНЫХ ДЕЙСТВИЙ ПО ОТНОШЕНИЮ К СВОЕМУ ЗДОРОВЬЮ И ЗДОРОВЬЮ ОКРУЖАЮЩИХ, ДИСЦИПЛИНИРУЮТ С ЮНОГО ВОЗРАСТА, ЧТО В ДАЛЬНЕЙШЕМ ИГРАЕТ ВАЖНУЮ РОЛЬ В ФОРМИРОВАНИИ ЛИЧНОСТИ ЗАКОНОПОСЛУШНОГО ГРАЖДАНИНА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https://klike.net/uploads/posts/2023-01/1674996864_3-58.jpg"/>
          <p:cNvPicPr/>
          <p:nvPr/>
        </p:nvPicPr>
        <p:blipFill>
          <a:blip r:embed="rId1"/>
          <a:stretch/>
        </p:blipFill>
        <p:spPr>
          <a:xfrm>
            <a:off x="868320" y="260280"/>
            <a:ext cx="74264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250920" y="33336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Список использованных источников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Активные ссылки на страницы материалов в интернете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mbria"/>
                <a:ea typeface="Times New Roman"/>
              </a:rPr>
              <a:t>https://www.consultant.ru/document/cons_doc_LAW_10699/db3ac58f6887458a440b1161f6fe6114351938b2/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) ссылки на использованные изображени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1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ambria"/>
                <a:ea typeface="Times New Roman"/>
                <a:hlinkClick r:id="rId1"/>
              </a:rPr>
              <a:t>uprostim.com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s://sosnovosti.ru/wp-content/uploads/2018/08/072459a6d86966d9514d264fa5be95a5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s://klike.net/uploads/posts/2023-01/1674996864_3-58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77640" y="426960"/>
            <a:ext cx="505764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– несовершеннолетний, но, как и любой гражданин,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имеешь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а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сёш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ои поступки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государством и другими людьми. 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7" name="Рисунок 4" descr="image177.png"/>
          <p:cNvPicPr/>
          <p:nvPr/>
        </p:nvPicPr>
        <p:blipFill>
          <a:blip r:embed="rId1"/>
          <a:stretch/>
        </p:blipFill>
        <p:spPr>
          <a:xfrm>
            <a:off x="5143680" y="192888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РИДИЧЕСКАЯ ОТВЕТСТВЕННОСТЬ -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сударственное принуждение к исполнению требований права, когда лицо, нарушившее закон, обязано отвечать за свои поступки перед государством, обществом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24000" y="333360"/>
            <a:ext cx="820872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ыполнение обязанностей, совершение правонарушения гражданин, в том числе несовершеннолетний, может привлекаться к 4-м видам юридической ответственности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дическ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циплинарной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2" name="Рисунок 4" descr="image166-768x720.png"/>
          <p:cNvPicPr/>
          <p:nvPr/>
        </p:nvPicPr>
        <p:blipFill>
          <a:blip r:embed="rId1"/>
          <a:stretch/>
        </p:blipFill>
        <p:spPr>
          <a:xfrm>
            <a:off x="6215040" y="3500280"/>
            <a:ext cx="30862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ЦИПЛИНАРНА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4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5" name="Picture 5" descr="https://unlockedbox.com/wp-content/uploads/2012/03/The-Power-of-Yes.jpg"/>
          <p:cNvPicPr/>
          <p:nvPr/>
        </p:nvPicPr>
        <p:blipFill>
          <a:blip r:embed="rId1"/>
          <a:stretch/>
        </p:blipFill>
        <p:spPr>
          <a:xfrm>
            <a:off x="4859280" y="3373560"/>
            <a:ext cx="3487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868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ДИСЦИПЛИНАРНАЯ ОТВЕТСТВЕННОСТЬ ОБУЧАЮЩИХСЯ </a:t>
            </a:r>
            <a:br>
              <a:rPr sz="32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Ь 4 СТ. 43 ФЕДЕРАЛЬНОГО ЗАКОНА ОТ 29.12.2012 № 273-ФЗ «ОБ ОБРАЗОВАНИИ В РОССИЙСКОЙ ФЕДЕРАЦИИ» ПРЕДУСМАТРИВАЕТ ВОЗМОЖНОСТЬ ПРИМЕНЕНИЯ К ОБУЧАЮЩИМСЯ МЕР ДИСЦИПЛИНАРНОГО ВЗЫСКАНИЯ. ПОДОБНЫЕ МЕРЫ МОГУТ ПРИМЕНЯТЬСЯ ТОЛЬКО ЗА НЕИСПОЛНЕНИЕ ИЛИ НАРУШЕНИЕ УСТАВА ОРГАНИЗАЦИИ, ОСУЩЕСТВЛЯЮЩЕЙ ОБРАЗОВАТЕЛЬНУЮ ДЕЯТЕЛЬНОСТЬ, ПРАВИЛ ВНУТРЕННЕГО РАСПОРЯДКА, ПРАВИЛ ПРОЖИВАНИЯ В ОБЩЕЖИТИЯХ И ИНТЕРНАТАХ И ИНЫХ ЛОКАЛЬНЫХ НОРМАТИВНЫХ АКТОВ ПО ВОПРОСАМ ОРГАНИЗАЦИИ И ОСУЩЕСТВЛЕНИЯ ОБРАЗОВАТЕЛЬНОЙ ДЕЯТЕЛЬНОСТИ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ВИДЫ ДИСЦИПЛИНАРНОЙ ОТВЕТСТВЕННОСТИ ОБУЧАЮЩИХСЯ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8" name="TextBox 3"/>
          <p:cNvSpPr/>
          <p:nvPr/>
        </p:nvSpPr>
        <p:spPr>
          <a:xfrm>
            <a:off x="285840" y="2000160"/>
            <a:ext cx="84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В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Е ИЗ ОБРАЗОВАТЕЛЬНОЙ ОРГАНИЗ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А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571320" y="2642760"/>
            <a:ext cx="8143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1" name="Рисунок 6" descr="UK-3.jpg"/>
          <p:cNvPicPr/>
          <p:nvPr/>
        </p:nvPicPr>
        <p:blipFill>
          <a:blip r:embed="rId1"/>
          <a:stretch/>
        </p:blipFill>
        <p:spPr>
          <a:xfrm>
            <a:off x="3500280" y="3500280"/>
            <a:ext cx="508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1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С 14-ти лет наступает уголовная ответственность з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0" y="1312920"/>
            <a:ext cx="8686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0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бий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ышленное причинение тяжкого и среднего вреда здоров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хищение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насил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ж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бе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б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могатель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ничтожение или повреждение имущества при отягощающих обстоятельств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4:36:16Z</dcterms:created>
  <dc:creator>Buks3</dc:creator>
  <dc:description/>
  <dc:language>en-US</dc:language>
  <cp:lastModifiedBy>Admin</cp:lastModifiedBy>
  <dcterms:modified xsi:type="dcterms:W3CDTF">2023-05-03T17:18:58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90000000000010243100207f6000400038000</vt:lpwstr>
  </property>
</Properties>
</file>