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E398D-103E-44BF-BB6E-FCBB68E09E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5766C-726C-4073-8D48-16D717546AC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B50FD1-9862-421C-9261-BD33818C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E1A482-FC9B-4765-A77E-05281E8B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2914E7-EF2D-4756-9727-D38DDD61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E5401F-B6A1-476F-AE87-2CD1AB78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FADB29-354F-40C4-A6F2-53B4DC95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133C23-8ACA-45B0-8DEB-B2B52DC6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2C7917-014D-4E42-A77E-AD269EAD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F6D4F1-9F42-4425-819E-3520D7C7A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53DC67-5AA2-420B-ACBE-79BC9D9ED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EFF835-5786-4565-8CFB-986DEC8DD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631C4-07B3-4848-9F66-B9445C9BF9D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1A8305-AD34-4BE7-A180-D2B82732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4813BF-DA7E-42C3-9884-D2407C5C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4E489B-0B5C-4EC1-86DD-CBFCAA24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76EB42-EFE2-44C2-8B10-548D4AE1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C99B5C-74DC-4515-A6C4-3CBBC508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2CBF0F-458A-4A78-B269-1DFDA6B3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96367-59C8-4DA2-8F7E-26010363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CC60A2-CAE8-4030-9928-A3D67A17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85E4FB-71C4-42C1-88CC-153AF395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654D25-10D9-47CB-A78C-C63295C40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1A3B3-73D7-45A8-923C-D80E312CAA6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AB3CA-8882-466C-8489-59CA56670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F6C7B2-6601-4DD0-A21C-A1E2ED52D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EB4A93-7462-4BF9-BD18-38B3501B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9A2F34-7915-47D0-BD22-8E142D8E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B51E55-FF39-46EF-A70C-1A80DB38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FF3ADF-AE55-4999-A635-D1DB6E8B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ABA0AA-6C10-4EFD-8973-335DD5B9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CD4611-A016-458F-B2F2-E39EF408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860C4E-74A7-4084-8772-8DA294B7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52D914-007B-4E52-9955-489214E7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D58627-CB44-4C54-99E6-5B525230B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50DF3-C670-4A76-9228-1BEF336E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999D36-8FB2-4C9D-960D-9234C4F5A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CFEFD2-B810-42B2-BC7D-FA08F906D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BB400F-889E-4C0F-AEC4-9AFD22105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D57642-02EC-4FBC-9E26-61B5ADF7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ECA290-7299-46BE-84D2-C0A37A17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E0557C-0FD7-4343-984F-241D5794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A4D2B4-8498-4159-9E35-571C1FDE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A00728-2C35-4CB3-BDC7-377DD812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99FD06-9C79-41E6-B96A-7ACF3F49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A1BF8E-A13C-46E0-9460-73E4BAF9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151F91-0396-4C22-831E-19338B3F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AF5F58-54DD-4AA1-90E0-EB5C136C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81544E-9FD6-4BD6-9A72-B5B54868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A6F0D9-062E-4199-932F-EE4BBC203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8E47C1-4EA5-447E-9693-499435769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6A3D6BD-B086-4BD0-89A1-3E38D5893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E9CDFE2-6740-4C1B-A0D4-6BFAF495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A18D4C7-BCFF-4D92-B481-A3B60640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F8751FD-C35E-4F97-8363-B69B7F4D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D38E741-08DB-4E33-95AC-F5ACF9CB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A4B5ED-596D-4DD0-ACB2-7A1AF8D0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1E68222-4C86-4BF9-B047-D9F67456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B471DAB-E4BD-4077-9DC8-E5E1A741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941C530-DC70-4E16-AB8C-F111FF23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3F3E389-F9B4-43BF-AB38-0CDDF91E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9405A88-EDA9-4CC9-B4B9-28D085DA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DC86B63-B631-490D-A26C-BAFA8DF07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C698DB0-0D5C-45B1-B64C-0DA386CFB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8E8CAD-B454-4D34-B3BE-E812760A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BF7C1C-A467-4FB4-8F30-BFD47CC4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08DBF5-407B-4533-B71C-B19E6E09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55FF1-0FEF-4883-A8F3-4AEC785C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2AEAC-5665-4B95-B022-355697782D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8689CC-1B40-4471-8638-A66FBF18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CA85BE-589C-483A-8F74-87A04798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4F158-2F90-477F-9DC3-738F8B43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93BC9-AFA7-4B1E-A404-97EC4F619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045B1-D988-4501-98C2-7E3380F14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3DC5D0-FABD-4273-8616-EB9E3E014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32A026-6EB3-49F4-BF60-C5CB92CE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AA7255-DE4B-4AA7-AEAA-804B27B7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CE767E-65B4-469D-80A9-16F7A689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3A2B42-4B3B-4CD4-996A-B78D52F8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76092-046B-43AE-B633-92614472E3A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2051C0-BD44-445D-92E8-93B239B2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FF3D79-B01E-4CA6-93FA-92D552E9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18A4F4-1420-4E84-8023-4671DAE0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3C1EFD-7751-4659-87FA-8F2F0373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15AFF1-02AD-47E2-AD97-B950B6D1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865642-21B2-492F-85FE-BC4217B53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EAA2C7-E618-4649-A53E-BC525B1CA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6564B-9603-4D6C-BC61-4D75039CD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E32D4-C311-4199-A2B7-8C743BA9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79587-9D99-4109-B515-F6C60E6F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79638-7EE4-495F-8D99-A1558997686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60920-D4C3-436D-B85B-0E6B9766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EB6BA-2B99-4F59-B0C9-D734BF2D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73678-0DB6-4DD1-948A-91116673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0153B-0DAB-4BA8-8BD1-87A630B9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7D056-C3B3-40EF-8578-59BE45BC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E906C-E616-4655-85FE-11B9A3BA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33D80-DE3C-4FC2-91E3-E5A1BF8D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7DC11-7C00-487F-B35E-9B8DA4F3D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C0271-8424-4BCE-B962-65F26BAB6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51E719-E54C-4F9F-8214-C6FFF3FCE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2D8B8-0AF2-4B7E-A014-B7A1765A3EA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C38EC8-B09A-41B4-AAFE-97FB16A4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02ECFF-6BEF-4047-AD88-ACC81A3E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9AEE3C-AC32-4924-A6A3-3AE704F0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A32009-FE75-4347-B21A-3433BBE7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2E27D5-ADDF-4FB9-92ED-CAE5C6C5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24FD83-3671-413B-A509-FA309EF8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9F46AB-5E9D-42FA-B6AC-B930DB58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EDA5DB-D35E-4810-9CE0-1A6234B5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B43AC8-0AE7-46F8-BE5F-5F573D95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7E5CCE-F85E-426E-9042-7A98775D1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40915-6170-4217-A6D9-048D1AED050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55518C-BF34-4F05-962B-BAD167199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584997-0544-4CB1-B0AC-CA3EA3A1B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A5B4BC-240D-4944-A329-6604FD24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D7DA02-4784-4A98-A0E8-7249728D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BB5181-554F-4166-A10E-27FAA71C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0964D5-185B-4339-9ED1-4924A4BC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EB5822-A715-4137-8C97-C6258917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CA803F-8160-43A4-931F-ED442A60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B98D53-D2B8-4177-9C35-EA818876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378CB3-376B-43A8-B6EA-45841194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6A842-9B33-4C7C-9C59-CACE341B883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57F198-885A-4EAE-9E1A-EDAAA442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9F408C-6B5A-401E-BD0A-5495D86C9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15F067-9BDB-452C-8F14-22D49119C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118DC0-A12C-461C-8185-EC9FFFC13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9E689B-248B-438C-91E3-E644A215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30550A-B9F9-48A1-A828-528BD939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9FCB91-DE4E-4510-8FA9-8322E78D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24ADC1-250E-409C-9F40-A32D9D58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5219EC-499E-4840-8E49-6406716A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162834-9237-4CA6-91DD-B65F3DB5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C0158-D822-4772-97A1-5F7D853485A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D670B4-F95D-4374-BFF9-A6C50C87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7ECC56-3B4B-4579-BC11-9CDE9B6F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BC6EA4-7285-4992-94F0-3EB9F654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190890-7C0C-436E-8DC9-B0C87CA39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952B42-6D41-4372-AC01-A44D00AC3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A6014-8B3D-4006-AE67-F66792660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ADCCF-0AFF-453E-9C45-5CBB6365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A976C-93F2-48D1-938A-E5904854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3980B-0B6D-4D2C-BC1D-5C3BCF0C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0B7E4-4E81-466E-A178-A04F9494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0F2B5-6576-4C3B-9CD8-ED1E433E5B4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5455F-25A1-4446-91B7-027D20C7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CFFDA-787C-4819-BB0A-759E49FC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EC7F2-B256-4DAC-B861-86CF0BE5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6FF11-7063-4FA4-8974-B80BC4C5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2AD5F-0342-4511-9E86-6781214F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44439-FB3D-4D80-976A-74AF2EE14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CCFD3-DE44-43A5-B5BF-965EEB6ED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CE777C-D909-4342-B3B3-D9C731C9B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0EEF09-ABD7-43B5-A875-BD4AC41A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CF1F59-E6F2-434A-9D42-94BBD934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04280" cy="13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320" y="1676520"/>
            <a:ext cx="8534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27988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ECABF-E650-4BAE-A22A-9F3F37F4A872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2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F1AF59A-A393-453E-B527-4F9E89CB3A6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ftr" idx="2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2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3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9EAE783-FEA1-4CC1-A5D9-9EF382BB27D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ftr" idx="3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3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3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5547854-49C9-4540-9EE7-9AA8C12631D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3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3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3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C1788C8-0745-4B7B-8CDA-E20CA3F935A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069D64C-CC18-4998-97B4-CA392CC9918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5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6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7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CAA644F-E3F8-4395-9352-7A1136C2D20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8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B4E1138-1C7C-47A1-8A0E-BE7571DFC39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10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1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2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3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9A5516D-48EC-4E45-ADC0-B1366C1CA35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3F4BD69-BA46-4C6B-B407-EEABA2D8C8D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1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D2CDCCF-9887-4E79-8DA2-C4849E3A377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sldNum" idx="2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2CE53F7-5872-4CF6-AC96-871F0E9CF28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ftr" idx="2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C1DC2F9-5727-40CB-966C-1E4C81BA691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uprostim.com/190-chelovechkov-dlya-prezentatsii-na-prozrachnom-fone/" TargetMode="External"/><Relationship Id="rId2" Type="http://schemas.openxmlformats.org/officeDocument/2006/relationships/hyperlink" Target="https://sosnovosti.ru/wp-content/uploads/2018/08/072459a6d86966d9514d264fa5be95a5.jpg" TargetMode="External"/><Relationship Id="rId3" Type="http://schemas.openxmlformats.org/officeDocument/2006/relationships/hyperlink" Target="https://klike.net/uploads/posts/2023-01/1674996864_3-58.jpg" TargetMode="External"/><Relationship Id="rId4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1"/>
          <p:cNvSpPr/>
          <p:nvPr/>
        </p:nvSpPr>
        <p:spPr>
          <a:xfrm>
            <a:off x="-71280" y="-3024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Text Box 2"/>
          <p:cNvSpPr/>
          <p:nvPr/>
        </p:nvSpPr>
        <p:spPr>
          <a:xfrm>
            <a:off x="503280" y="360360"/>
            <a:ext cx="8432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3" name="Рисунок 5" descr="slide-0.jpg"/>
          <p:cNvPicPr/>
          <p:nvPr/>
        </p:nvPicPr>
        <p:blipFill>
          <a:blip r:embed="rId1"/>
          <a:stretch/>
        </p:blipFill>
        <p:spPr>
          <a:xfrm>
            <a:off x="357120" y="285840"/>
            <a:ext cx="8474040" cy="4749840"/>
          </a:xfrm>
          <a:prstGeom prst="rect">
            <a:avLst/>
          </a:prstGeom>
          <a:ln w="0">
            <a:noFill/>
          </a:ln>
        </p:spPr>
      </p:pic>
      <p:sp>
        <p:nvSpPr>
          <p:cNvPr id="674" name="TextBox 6"/>
          <p:cNvSpPr/>
          <p:nvPr/>
        </p:nvSpPr>
        <p:spPr>
          <a:xfrm>
            <a:off x="4500720" y="5214960"/>
            <a:ext cx="42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Подготовила: социальный педагог, педагог-психолог  Милованова С.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543440" y="609480"/>
            <a:ext cx="20628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539280" y="198000"/>
            <a:ext cx="5327640" cy="61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головными наказаниями 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несовершеннолетних являются: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траф;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язательные работы;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правительные работы;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рест и лишение свободы на определённый срок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96" name="Рисунок 4" descr="image029-1.png"/>
          <p:cNvPicPr/>
          <p:nvPr/>
        </p:nvPicPr>
        <p:blipFill>
          <a:blip r:embed="rId1"/>
          <a:stretch/>
        </p:blipFill>
        <p:spPr>
          <a:xfrm>
            <a:off x="5929200" y="2071800"/>
            <a:ext cx="292896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7543440" y="609480"/>
            <a:ext cx="20628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171360" y="357120"/>
            <a:ext cx="839016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головная ответственность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158. Кража (тайное хищение чужого имущества)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159. Мошенничество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161. Грабёж (открытое хищение чужого имущества)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167. Умышленное уничтожение или повреждение имущества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168. Уничтожение или повреждение имущества по неосторожности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116. Побои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99" name="Рисунок 4" descr="51-20211129_181254.png"/>
          <p:cNvPicPr/>
          <p:nvPr/>
        </p:nvPicPr>
        <p:blipFill>
          <a:blip r:embed="rId1"/>
          <a:stretch/>
        </p:blipFill>
        <p:spPr>
          <a:xfrm>
            <a:off x="6000840" y="3857760"/>
            <a:ext cx="224316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Text Box 1"/>
          <p:cNvSpPr/>
          <p:nvPr/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Административная ответственность подрост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1" name="Picture 10" descr="https://sosnovosti.ru/wp-content/uploads/2018/08/072459a6d86966d9514d264fa5be95a5.jpg"/>
          <p:cNvPicPr/>
          <p:nvPr/>
        </p:nvPicPr>
        <p:blipFill>
          <a:blip r:embed="rId1"/>
          <a:stretch/>
        </p:blipFill>
        <p:spPr>
          <a:xfrm>
            <a:off x="936720" y="1554120"/>
            <a:ext cx="7240320" cy="45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543440" y="609480"/>
            <a:ext cx="20628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394920" y="928440"/>
            <a:ext cx="849780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дминистративная ответственность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упает с 16 лет.  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ление в состоянии опьянения в общественных местах и т.д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лкое хулиганство, 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правил дорожного движения (в том числе, безбилетный проезд),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аганда наркотических средств,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543440" y="609480"/>
            <a:ext cx="20628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394920" y="426960"/>
            <a:ext cx="8497800" cy="59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дминистративная ответственность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7.27 Мелкое хищение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20.1 Мелкое хулиганство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20.20 Распитие пива и напитков … алкогольной и спиртосодержащей продукции… либо потребление наркотических средств или психотропных веществ…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20.21 Появление в общественных местах в состоянии опьянения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20.22 Появление в состоянии опьянения…, потребление наркотических средств или психотропных  веществ в общественных местах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7543440" y="609480"/>
            <a:ext cx="20628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468360" y="1699920"/>
            <a:ext cx="842472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сли тебе нет 16 лет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ты распиваешь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ртные напитки (включая пиво) или появляешься в состоянии опьянения в общественном месте,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дминистративную ответственность будут нести твои родители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7543440" y="609480"/>
            <a:ext cx="20628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239760" y="1557360"/>
            <a:ext cx="850896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дители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совершеннолетнего также </a:t>
            </a:r>
            <a:r>
              <a:rPr b="1" lang="ru-RU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удут нести ответственность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сли ненадлежащим образом воспитывают тебя (такое возможно, если ты совершаешь какие-либо антиобщественные действия (</a:t>
            </a:r>
            <a:r>
              <a:rPr b="1" lang="ru-RU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авонарушения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будет установлена вина родителей в твоём ненадлежащем воспитании.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 Box 1"/>
          <p:cNvSpPr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6600" algn="ctr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90120" y="1773360"/>
            <a:ext cx="780588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НЕ ДЕЛАЙ ОШИБОК, НЕ СОВЕРШАЙ ПРОТИВОПРАВНЫХ ДЕЙСТВИЙ – ВЕДИ ЗДОРОВЫЙ ОБРАЗ ЖИЗНИ!</a:t>
            </a:r>
            <a:r>
              <a:rPr b="0" lang="ru-RU" sz="2500" spc="-1" strike="noStrike">
                <a:solidFill>
                  <a:srgbClr val="ff0000"/>
                </a:solidFill>
                <a:latin typeface="Century Schoolbook"/>
              </a:rPr>
              <a:t> </a:t>
            </a:r>
            <a:br>
              <a:rPr sz="2500"/>
            </a:b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c00000"/>
                </a:solidFill>
                <a:latin typeface="Century Schoolbook"/>
              </a:rPr>
              <a:t>ЗДОРОВЫЙ ОБРАЗ ЖИЗНИ, СПОРТ И ФИЗИЧЕСКАЯ АКТИВНОСТЬ ВЫРАБАТЫВАЮТ  ПРАВИЛЬНЫЕ ПОЗИТИВНЫЕ ПРИВЫЧКИ ПОВЕДЕНИЯ, НЕ ДОПУСКАЮЩИЕ СОВЕРШЕНИЯ ПРОТИВОПРАВНЫХ ДЕЙСТВИЙ ПО ОТНОШЕНИЮ К СВОЕМУ ЗДОРОВЬЮ И ЗДОРОВЬЮ ОКРУЖАЮЩИХ, ДИСЦИПЛИНИРУЮТ С ЮНОГО ВОЗРАСТА, ЧТО В ДАЛЬНЕЙШЕМ ИГРАЕТ ВАЖНУЮ РОЛЬ В ФОРМИРОВАНИИ ЛИЧНОСТИ ЗАКОНОПОСЛУШНОГО ГРАЖДАНИНА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Picture 2" descr="https://klike.net/uploads/posts/2023-01/1674996864_3-58.jpg"/>
          <p:cNvPicPr/>
          <p:nvPr/>
        </p:nvPicPr>
        <p:blipFill>
          <a:blip r:embed="rId1"/>
          <a:stretch/>
        </p:blipFill>
        <p:spPr>
          <a:xfrm>
            <a:off x="868320" y="260280"/>
            <a:ext cx="742644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2"/>
          <p:cNvSpPr/>
          <p:nvPr/>
        </p:nvSpPr>
        <p:spPr>
          <a:xfrm>
            <a:off x="250920" y="333360"/>
            <a:ext cx="8569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  <a:ea typeface="Times New Roman"/>
              </a:rPr>
              <a:t>Список использованных источников: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mbria"/>
                <a:ea typeface="Times New Roman"/>
              </a:rPr>
              <a:t>Активные ссылки на страницы материалов в интернете:</a:t>
            </a:r>
            <a:br>
              <a:rPr sz="1800"/>
            </a:br>
            <a:r>
              <a:rPr b="0" lang="en-US" sz="1800" spc="-1" strike="noStrike">
                <a:solidFill>
                  <a:srgbClr val="0070c0"/>
                </a:solidFill>
                <a:latin typeface="Cambria"/>
                <a:ea typeface="Times New Roman"/>
              </a:rPr>
              <a:t>https://www.consultant.ru/document/cons_doc_LAW_10699/db3ac58f6887458a440b1161f6fe6114351938b2/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mbria"/>
                <a:ea typeface="Times New Roman"/>
              </a:rPr>
              <a:t>В) ссылки на использованные изображения: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mbria"/>
                <a:ea typeface="Times New Roman"/>
              </a:rPr>
              <a:t>1. </a:t>
            </a:r>
            <a:r>
              <a:rPr b="0" lang="en-US" sz="1800" spc="-1" strike="noStrike" u="sng">
                <a:solidFill>
                  <a:srgbClr val="d2611c"/>
                </a:solidFill>
                <a:uFillTx/>
                <a:latin typeface="Cambria"/>
                <a:ea typeface="Times New Roman"/>
                <a:hlinkClick r:id="rId1"/>
              </a:rPr>
              <a:t>uprostim.com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800" spc="-1" strike="noStrike" u="sng">
                <a:solidFill>
                  <a:srgbClr val="d2611c"/>
                </a:solidFill>
                <a:uFillTx/>
                <a:latin typeface="Arial"/>
                <a:hlinkClick r:id="rId2"/>
              </a:rPr>
              <a:t>https://sosnovosti.ru/wp-content/uploads/2018/08/072459a6d86966d9514d264fa5be95a5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1800" spc="-1" strike="noStrike" u="sng">
                <a:solidFill>
                  <a:srgbClr val="d2611c"/>
                </a:solidFill>
                <a:uFillTx/>
                <a:latin typeface="Arial"/>
                <a:hlinkClick r:id="rId3"/>
              </a:rPr>
              <a:t>https://klike.net/uploads/posts/2023-01/1674996864_3-58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543440" y="609480"/>
            <a:ext cx="20628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377640" y="426960"/>
            <a:ext cx="5057640" cy="59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– несовершеннолетний, но, как и любой гражданин,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имеешь </a:t>
            </a:r>
            <a:r>
              <a:rPr b="1" lang="ru-RU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ава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сёшь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ственность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вои поступки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государством и другими людьми. 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77" name="Рисунок 4" descr="image177.png"/>
          <p:cNvPicPr/>
          <p:nvPr/>
        </p:nvPicPr>
        <p:blipFill>
          <a:blip r:embed="rId1"/>
          <a:stretch/>
        </p:blipFill>
        <p:spPr>
          <a:xfrm>
            <a:off x="5143680" y="1928880"/>
            <a:ext cx="35240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414440"/>
          </a:xfrm>
          <a:prstGeom prst="rect">
            <a:avLst/>
          </a:prstGeom>
          <a:noFill/>
          <a:ln w="9360">
            <a:solidFill>
              <a:srgbClr val="59595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ЮРИДИЧЕСКАЯ ОТВЕТСТВЕННОСТЬ - </a:t>
            </a:r>
            <a:endParaRPr b="0" lang="en-US" sz="4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государственное принуждение к исполнению требований права, когда лицо, нарушившее закон, обязано отвечать за свои поступки перед государством, обществом.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7543440" y="609480"/>
            <a:ext cx="20628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324000" y="333360"/>
            <a:ext cx="8208720" cy="59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невыполнение обязанностей, совершение правонарушения гражданин, в том числе несовершеннолетний, может привлекаться к 4-м видам юридической ответственности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головной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дминистративной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юридической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сциплинарной. 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82" name="Рисунок 4" descr="image166-768x720.png"/>
          <p:cNvPicPr/>
          <p:nvPr/>
        </p:nvPicPr>
        <p:blipFill>
          <a:blip r:embed="rId1"/>
          <a:stretch/>
        </p:blipFill>
        <p:spPr>
          <a:xfrm>
            <a:off x="6215040" y="3500280"/>
            <a:ext cx="308628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СЦИПЛИНАРНАЯ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323640" y="1557360"/>
            <a:ext cx="84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СТВЕННОСТЬ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85" name="Picture 5" descr="https://unlockedbox.com/wp-content/uploads/2012/03/The-Power-of-Yes.jpg"/>
          <p:cNvPicPr/>
          <p:nvPr/>
        </p:nvPicPr>
        <p:blipFill>
          <a:blip r:embed="rId1"/>
          <a:stretch/>
        </p:blipFill>
        <p:spPr>
          <a:xfrm>
            <a:off x="4859280" y="3373560"/>
            <a:ext cx="348768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99680" y="142920"/>
            <a:ext cx="828684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Schoolbook"/>
              </a:rPr>
              <a:t>ДИСЦИПЛИНАРНАЯ ОТВЕТСТВЕННОСТЬ ОБУЧАЮЩИХСЯ </a:t>
            </a:r>
            <a:br>
              <a:rPr sz="3200"/>
            </a:br>
            <a:r>
              <a:rPr b="0" lang="ru-RU" sz="29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АСТЬ 4 СТ. 43 ФЕДЕРАЛЬНОГО ЗАКОНА ОТ 29.12.2012 № 273-ФЗ «ОБ ОБРАЗОВАНИИ В РОССИЙСКОЙ ФЕДЕРАЦИИ» ПРЕДУСМАТРИВАЕТ ВОЗМОЖНОСТЬ ПРИМЕНЕНИЯ К ОБУЧАЮЩИМСЯ МЕР ДИСЦИПЛИНАРНОГО ВЗЫСКАНИЯ. ПОДОБНЫЕ МЕРЫ МОГУТ ПРИМЕНЯТЬСЯ ТОЛЬКО ЗА НЕИСПОЛНЕНИЕ ИЛИ НАРУШЕНИЕ УСТАВА ОРГАНИЗАЦИИ, ОСУЩЕСТВЛЯЮЩЕЙ ОБРАЗОВАТЕЛЬНУЮ ДЕЯТЕЛЬНОСТЬ, ПРАВИЛ ВНУТРЕННЕГО РАСПОРЯДКА, ПРАВИЛ ПРОЖИВАНИЯ В ОБЩЕЖИТИЯХ И ИНТЕРНАТАХ И ИНЫХ ЛОКАЛЬНЫХ НОРМАТИВНЫХ АКТОВ ПО ВОПРОСАМ ОРГАНИЗАЦИИ И ОСУЩЕСТВЛЕНИЯ ОБРАЗОВАТЕЛЬНОЙ ДЕЯТЕЛЬНОСТИ.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entury Schoolbook"/>
              </a:rPr>
              <a:t>ВИДЫ ДИСЦИПЛИНАРНОЙ ОТВЕТСТВЕННОСТИ ОБУЧАЮЩИХСЯ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8" name="TextBox 3"/>
          <p:cNvSpPr/>
          <p:nvPr/>
        </p:nvSpPr>
        <p:spPr>
          <a:xfrm>
            <a:off x="285840" y="2000160"/>
            <a:ext cx="84294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МЕЧ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ГОВО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ЧИСЛЕНИЕ ИЗ ОБРАЗОВАТЕЛЬНОЙ ОРГАНИЗЦ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ГОЛОВНАЯ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571320" y="2642760"/>
            <a:ext cx="81435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СТВЕННОСТЬ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91" name="Рисунок 6" descr="UK-3.jpg"/>
          <p:cNvPicPr/>
          <p:nvPr/>
        </p:nvPicPr>
        <p:blipFill>
          <a:blip r:embed="rId1"/>
          <a:stretch/>
        </p:blipFill>
        <p:spPr>
          <a:xfrm>
            <a:off x="3500280" y="3500280"/>
            <a:ext cx="5080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Text Box 1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Arial"/>
              </a:rPr>
              <a:t>С 14-ти лет наступает уголовная ответственность з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2"/>
          <p:cNvSpPr/>
          <p:nvPr/>
        </p:nvSpPr>
        <p:spPr>
          <a:xfrm>
            <a:off x="0" y="1312920"/>
            <a:ext cx="86868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0200" indent="-3207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200" indent="-3207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200" indent="-320760">
              <a:lnSpc>
                <a:spcPct val="80000"/>
              </a:lnSpc>
              <a:spcBef>
                <a:spcPts val="601"/>
              </a:spcBef>
              <a:buClr>
                <a:srgbClr val="0e594d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бийств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200" indent="-320760">
              <a:lnSpc>
                <a:spcPct val="80000"/>
              </a:lnSpc>
              <a:spcBef>
                <a:spcPts val="601"/>
              </a:spcBef>
              <a:buClr>
                <a:srgbClr val="0e594d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мышленное причинение тяжкого и среднего вреда здоровь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200" indent="-320760">
              <a:lnSpc>
                <a:spcPct val="80000"/>
              </a:lnSpc>
              <a:spcBef>
                <a:spcPts val="601"/>
              </a:spcBef>
              <a:buClr>
                <a:srgbClr val="0e594d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хищение челове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200" indent="-320760">
              <a:lnSpc>
                <a:spcPct val="80000"/>
              </a:lnSpc>
              <a:spcBef>
                <a:spcPts val="601"/>
              </a:spcBef>
              <a:buClr>
                <a:srgbClr val="0e594d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знасилова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200" indent="-320760">
              <a:lnSpc>
                <a:spcPct val="80000"/>
              </a:lnSpc>
              <a:spcBef>
                <a:spcPts val="601"/>
              </a:spcBef>
              <a:buClr>
                <a:srgbClr val="0e594d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раж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200" indent="-320760">
              <a:lnSpc>
                <a:spcPct val="80000"/>
              </a:lnSpc>
              <a:spcBef>
                <a:spcPts val="601"/>
              </a:spcBef>
              <a:buClr>
                <a:srgbClr val="0e594d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рабеж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200" indent="-320760">
              <a:lnSpc>
                <a:spcPct val="80000"/>
              </a:lnSpc>
              <a:spcBef>
                <a:spcPts val="601"/>
              </a:spcBef>
              <a:buClr>
                <a:srgbClr val="0e594d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збо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200" indent="-320760">
              <a:lnSpc>
                <a:spcPct val="80000"/>
              </a:lnSpc>
              <a:spcBef>
                <a:spcPts val="601"/>
              </a:spcBef>
              <a:buClr>
                <a:srgbClr val="0e594d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могательств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200" indent="-320760">
              <a:lnSpc>
                <a:spcPct val="80000"/>
              </a:lnSpc>
              <a:spcBef>
                <a:spcPts val="601"/>
              </a:spcBef>
              <a:buClr>
                <a:srgbClr val="0e594d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гон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200" indent="-320760">
              <a:lnSpc>
                <a:spcPct val="80000"/>
              </a:lnSpc>
              <a:spcBef>
                <a:spcPts val="601"/>
              </a:spcBef>
              <a:buClr>
                <a:srgbClr val="0e594d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ничтожение или повреждение имущества при отягощающих обстоятельства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2T04:36:16Z</dcterms:created>
  <dc:creator>Buks3</dc:creator>
  <dc:description/>
  <dc:language>en-US</dc:language>
  <cp:lastModifiedBy>Admin</cp:lastModifiedBy>
  <dcterms:modified xsi:type="dcterms:W3CDTF">2023-05-03T17:18:58Z</dcterms:modified>
  <cp:revision>2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a090000000000010243100207f6000400038000</vt:lpwstr>
  </property>
</Properties>
</file>