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2E9-A2C6-4820-B743-B7D38257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D0C-9997-4EDA-8D68-8CE8757C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86F-5BE9-4FD5-9804-543F922B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DB6-AF5D-4DEB-B8B5-FE1E7BBC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B86D-36BB-4747-A698-1CEF933B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D8D-4FE5-476B-8CE7-843C5996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449F-7DF0-41E6-9BC5-DCF3189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FD1-E2E6-4181-93FF-DDE9B9E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FA79-46C2-4812-AB6B-EE9F4CE3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709F-4C5F-4FE5-BF2C-34FA0E4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DE06-77FB-43E0-9F67-81AB337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619-E933-4D36-891F-44064B9A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883E-26B4-4919-BE41-46CF2EC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D8D-9C82-410A-BF59-C165D40B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95B-0010-4706-9D56-E88D10F2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FD5-F5D3-43FB-9617-EB9196F6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931-7288-4E97-A993-B6CDCC4E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3D3-1D84-4A6D-9783-74B07DA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2BC-E73F-4D77-B8F8-287F23F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E76-74D4-4F13-B334-D8F587C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7FC-40CE-498F-A56A-6FFB8580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983-0C71-43DE-9B14-C2982EB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09B-831F-495A-83EF-BF3C94C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923-9091-4F0A-B59B-1FFCA18A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4CA-FDA5-432E-9397-818A061FB71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7BFE-372C-4E4D-A7DA-F43F415EA91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Александр Градский - Совесть_(mp3songsdirect.fun).mp3" descr=""/>
          <p:cNvPicPr/>
          <p:nvPr/>
        </p:nvPicPr>
        <p:blipFill>
          <a:blip r:embed="rId1"/>
          <a:stretch/>
        </p:blipFill>
        <p:spPr>
          <a:xfrm>
            <a:off x="628560" y="2101680"/>
            <a:ext cx="847800" cy="84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28200" y="3733920"/>
            <a:ext cx="1855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1871640" y="374760"/>
            <a:ext cx="6118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Calibri Light"/>
              </a:rPr>
              <a:t>Как пробуждать и развивать в себе чувство совести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060640"/>
            <a:ext cx="4248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ужно учиться говорить правду, признавать свои ошибки, уметь просить прощение, чтобы совесть не муч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4" descr="qRi_VlddkuY.jpg"/>
          <p:cNvPicPr/>
          <p:nvPr/>
        </p:nvPicPr>
        <p:blipFill>
          <a:blip r:embed="rId1"/>
          <a:stretch/>
        </p:blipFill>
        <p:spPr>
          <a:xfrm>
            <a:off x="4859280" y="2133720"/>
            <a:ext cx="38433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4" descr="img6.jp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12" descr="0016-016-Soberi-poslovitsy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4" descr="Y8_NjJV0wk0.jpg"/>
          <p:cNvPicPr/>
          <p:nvPr/>
        </p:nvPicPr>
        <p:blipFill>
          <a:blip r:embed="rId1"/>
          <a:stretch/>
        </p:blipFill>
        <p:spPr>
          <a:xfrm>
            <a:off x="684360" y="2421000"/>
            <a:ext cx="7848360" cy="403236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5" descr="sud-sovesti.jpg"/>
          <p:cNvPicPr/>
          <p:nvPr/>
        </p:nvPicPr>
        <p:blipFill>
          <a:blip r:embed="rId2"/>
          <a:stretch/>
        </p:blipFill>
        <p:spPr>
          <a:xfrm>
            <a:off x="2484360" y="189000"/>
            <a:ext cx="424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 Light"/>
              </a:rPr>
              <a:t>Осколки в сердце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ril1.wmv" descr=""/>
          <p:cNvPicPr/>
          <p:nvPr/>
        </p:nvPicPr>
        <p:blipFill>
          <a:blip r:embed="rId1"/>
          <a:stretch/>
        </p:blipFill>
        <p:spPr>
          <a:xfrm>
            <a:off x="593640" y="692280"/>
            <a:ext cx="801072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63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71640" y="9079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еннее сознание добра и зла, «тайник души», в котором отзывается одобрение или осуждение каждого поступка, способность распознавать качество посту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16000" y="3573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ы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 чувство сильного смущения, самоосуждения от сознания предосудительности поступка, в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9" descr="Слайд2.JPG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8494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ggg.jpg"/>
          <p:cNvPicPr/>
          <p:nvPr/>
        </p:nvPicPr>
        <p:blipFill>
          <a:blip r:embed="rId2"/>
          <a:stretch/>
        </p:blipFill>
        <p:spPr>
          <a:xfrm>
            <a:off x="2771640" y="2637000"/>
            <a:ext cx="61214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ословиц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 ни мудри, а совести не перемудриш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есть без зубов загрыз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т человека утаишь, от совести не утаиш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изнь дана на добрые дел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учше жить бедняком, чем разбогатеть со грех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авда как оса - лезет в глаз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71640" y="148428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2420e"/>
                </a:solidFill>
                <a:latin typeface="Calibri"/>
              </a:rPr>
              <a:t>Ситуация пер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покупаете в магазине молоко, и продавец по ошибке дает вам со сдачей лишние  пятьдесят (пятьсот) рублей.  Как вы поступите?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836640"/>
            <a:ext cx="820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20e"/>
                </a:solidFill>
                <a:latin typeface="Calibri"/>
              </a:rPr>
              <a:t>Ситуация вто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весь диктант списали у соседки по парте. Но «соседке» учитель  поставил «3», а вам «5», потому что не заметил трех грубых ошибок, которые увидел в ее тетради. Ваши действ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04640"/>
            <a:ext cx="8642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20e"/>
                </a:solidFill>
                <a:latin typeface="Calibri"/>
              </a:rPr>
              <a:t>Ситуация тре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есенние каникулы класс вместе с классным руководителем планирует поездку в лес. Идет бурная подготовка к веселому путешествию.  Но внезапно в классе происходит ЧП: кто-то сорвал кран с огнетушителя и залил пеной весь пол в кабинете химии. Классный руководитель просит виновника признаться и привести класс в порядок. Но никто не признается. Тогда классный руководитель наказывает весь класс и поездка отмен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ы знаете, что кран с огнетушителя сорвал ваш друг.  Как можно тут поступить по сове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09:57Z</dcterms:created>
  <dc:creator>1</dc:creator>
  <dc:description/>
  <dc:language>en-US</dc:language>
  <cp:lastModifiedBy>Hp</cp:lastModifiedBy>
  <dcterms:modified xsi:type="dcterms:W3CDTF">2022-03-01T20:00:42Z</dcterms:modified>
  <cp:revision>9</cp:revision>
  <dc:subject/>
  <dc:title>Слайд 1</dc:title>
</cp:coreProperties>
</file>