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20D-065A-43B0-B5A2-54D0DE02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021-9866-4D9A-9A2D-12CA7F0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183-8B07-4025-84BF-3E25B1F8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488-5242-4D81-B538-80716272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7F74-294B-4F6C-97D1-F30F4E3A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AB79-BC82-46B6-87CA-2BDF2B17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F82D-E30B-4A0E-B4B3-07249D71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80A9-ACDA-43D9-8274-597799A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D9B0-320A-404C-AAA9-2F0153A2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1643-A84F-4CB2-897A-F873EA3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5695-1E95-4856-A8DA-27B3FDA6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FB1-178A-40D7-BCC1-CBC8D89E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1245-877A-493E-A215-54278AA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A077-4AFD-479A-8778-1C9135F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9423-90DE-4767-80CF-9FFAA191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2D75-7576-46E1-ABA2-B26AE9D7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2624-2A3E-4E01-BA4E-47E993AB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86E-D458-4B2D-AECD-76E1E47C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1D1-7D42-44CB-B3E8-8EF0A375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B65-C664-45DD-9C58-D16F2E11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CFA-16AE-47A8-BB6F-40EB9819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E81-1062-4B12-B5C6-C472A4DA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862-68B9-4E19-9A73-F850503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F35-F564-4D7D-BC78-73FF62E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3C2D-0056-43A8-89CE-B5303E56E00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6BDB-C2F7-4657-A2AD-2FEED950CC3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Александр Градский - Совесть_(mp3songsdirect.fun).mp3" descr=""/>
          <p:cNvPicPr/>
          <p:nvPr/>
        </p:nvPicPr>
        <p:blipFill>
          <a:blip r:embed="rId1"/>
          <a:stretch/>
        </p:blipFill>
        <p:spPr>
          <a:xfrm>
            <a:off x="628560" y="2101680"/>
            <a:ext cx="847800" cy="84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28200" y="3733920"/>
            <a:ext cx="18558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1871640" y="374760"/>
            <a:ext cx="61182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Calibri Light"/>
              </a:rPr>
              <a:t>Как пробуждать и развивать в себе чувство совести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2060640"/>
            <a:ext cx="4248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ужно учиться говорить правду, признавать свои ошибки, уметь просить прощение, чтобы совесть не мучи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4" descr="qRi_VlddkuY.jpg"/>
          <p:cNvPicPr/>
          <p:nvPr/>
        </p:nvPicPr>
        <p:blipFill>
          <a:blip r:embed="rId1"/>
          <a:stretch/>
        </p:blipFill>
        <p:spPr>
          <a:xfrm>
            <a:off x="4859280" y="2133720"/>
            <a:ext cx="38433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4" descr="img6.jpg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12" descr="0016-016-Soberi-poslovitsy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4" descr="Y8_NjJV0wk0.jpg"/>
          <p:cNvPicPr/>
          <p:nvPr/>
        </p:nvPicPr>
        <p:blipFill>
          <a:blip r:embed="rId1"/>
          <a:stretch/>
        </p:blipFill>
        <p:spPr>
          <a:xfrm>
            <a:off x="684360" y="2421000"/>
            <a:ext cx="7848360" cy="403236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5" descr="sud-sovesti.jpg"/>
          <p:cNvPicPr/>
          <p:nvPr/>
        </p:nvPicPr>
        <p:blipFill>
          <a:blip r:embed="rId2"/>
          <a:stretch/>
        </p:blipFill>
        <p:spPr>
          <a:xfrm>
            <a:off x="2484360" y="189000"/>
            <a:ext cx="424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 Light"/>
              </a:rPr>
              <a:t>Осколки в сердце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pril1.wmv" descr=""/>
          <p:cNvPicPr/>
          <p:nvPr/>
        </p:nvPicPr>
        <p:blipFill>
          <a:blip r:embed="rId1"/>
          <a:stretch/>
        </p:blipFill>
        <p:spPr>
          <a:xfrm>
            <a:off x="593640" y="692280"/>
            <a:ext cx="8010720" cy="60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635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71640" y="9079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нутреннее сознание добра и зла, «тайник души», в котором отзывается одобрение или осуждение каждого поступка, способность распознавать качество поступ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116000" y="3573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ы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 чувство сильного смущения, самоосуждения от сознания предосудительности поступка, в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9" descr="Слайд2.JPG"/>
          <p:cNvPicPr/>
          <p:nvPr/>
        </p:nvPicPr>
        <p:blipFill>
          <a:blip r:embed="rId1"/>
          <a:stretch/>
        </p:blipFill>
        <p:spPr>
          <a:xfrm>
            <a:off x="179280" y="189000"/>
            <a:ext cx="4680000" cy="38494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ggg.jpg"/>
          <p:cNvPicPr/>
          <p:nvPr/>
        </p:nvPicPr>
        <p:blipFill>
          <a:blip r:embed="rId2"/>
          <a:stretch/>
        </p:blipFill>
        <p:spPr>
          <a:xfrm>
            <a:off x="2771640" y="2637000"/>
            <a:ext cx="61214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Пословицы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к ни мудри, а совести не перемудриш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есть без зубов загрызе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т человека утаишь, от совести не утаиш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Жизнь дана на добрые дел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учше жить бедняком, чем разбогатеть со грех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авда как оса - лезет в глаз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71640" y="148428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2420e"/>
                </a:solidFill>
                <a:latin typeface="Calibri"/>
              </a:rPr>
              <a:t>Ситуация пер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покупаете в магазине молоко, и продавец по ошибке дает вам со сдачей лишние  пятьдесят (пятьсот) рублей.  Как вы поступите?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836640"/>
            <a:ext cx="8208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420e"/>
                </a:solidFill>
                <a:latin typeface="Calibri"/>
              </a:rPr>
              <a:t>Ситуация вто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весь диктант списали у соседки по парте. Но «соседке» учитель  поставил «3», а вам «5», потому что не заметил трех грубых ошибок, которые увидел в ее тетради. Ваши действ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04640"/>
            <a:ext cx="8642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20e"/>
                </a:solidFill>
                <a:latin typeface="Calibri"/>
              </a:rPr>
              <a:t>Ситуация тре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весенние каникулы класс вместе с классным руководителем планирует поездку в лес. Идет бурная подготовка к веселому путешествию.  Но внезапно в классе происходит ЧП: кто-то сорвал кран с огнетушителя и залил пеной весь пол в кабинете химии. Классный руководитель просит виновника признаться и привести класс в порядок. Но никто не признается. Тогда классный руководитель наказывает весь класс и поездка отмен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ы знаете, что кран с огнетушителя сорвал ваш друг.  Как можно тут поступить по совест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09:57Z</dcterms:created>
  <dc:creator>1</dc:creator>
  <dc:description/>
  <dc:language>en-US</dc:language>
  <cp:lastModifiedBy>Hp</cp:lastModifiedBy>
  <dcterms:modified xsi:type="dcterms:W3CDTF">2022-03-01T20:00:42Z</dcterms:modified>
  <cp:revision>9</cp:revision>
  <dc:subject/>
  <dc:title>Слайд 1</dc:title>
</cp:coreProperties>
</file>