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549-3460-4F80-8EB3-D5D8CBD9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0B5-0191-4621-9942-E8B086C1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46F-4EE8-4B6E-B4B6-B1929B8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76B-E27D-4540-ABBD-DD953A32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FCF-95AA-4E57-BB61-8DC81E22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A65-405B-47D1-9A62-92C3EA7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3A6-521E-4B2E-9253-9AF19D2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A25-9D5D-471B-9AC0-DECC413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244440"/>
            <a:ext cx="783936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D2F-2719-4FED-A6E9-791A94D1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7DA-7E88-4C8C-B3F3-E636DB5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F87-347A-40E4-983D-2628696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FC0-0756-4577-A07B-56EFDA7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C43-A4D8-4233-B145-A9A1893F9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0872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9" descr="C:\Users\user\Desktop\154_reading_a_book_.gif"/>
          <p:cNvPicPr/>
          <p:nvPr/>
        </p:nvPicPr>
        <p:blipFill>
          <a:blip r:embed="rId1"/>
          <a:stretch/>
        </p:blipFill>
        <p:spPr>
          <a:xfrm>
            <a:off x="6912000" y="270828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44" name="副标题 2"/>
          <p:cNvSpPr/>
          <p:nvPr/>
        </p:nvSpPr>
        <p:spPr>
          <a:xfrm>
            <a:off x="250920" y="4869000"/>
            <a:ext cx="849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Цырендашиева Бэлигма Балдын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МБОУ «Дырен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332000" y="2060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SimSun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0000"/>
                </a:solidFill>
                <a:latin typeface="Times New Roman"/>
                <a:ea typeface="SimSun"/>
              </a:rPr>
              <a:t>«Развитие исследовательской компетентности школьник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 flipV="1">
            <a:off x="2986200" y="1791360"/>
            <a:ext cx="3168360" cy="64764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47474"/>
              </a:gs>
              <a:gs pos="100000">
                <a:srgbClr val="c9c9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val 10" descr=""/>
          <p:cNvPicPr/>
          <p:nvPr/>
        </p:nvPicPr>
        <p:blipFill>
          <a:blip r:embed="rId1"/>
          <a:stretch/>
        </p:blipFill>
        <p:spPr>
          <a:xfrm>
            <a:off x="3144960" y="2425680"/>
            <a:ext cx="2712960" cy="33163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068480" y="1305000"/>
            <a:ext cx="712944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труктура исследовательской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val 10" descr=""/>
          <p:cNvPicPr/>
          <p:nvPr/>
        </p:nvPicPr>
        <p:blipFill>
          <a:blip r:embed="rId2"/>
          <a:stretch/>
        </p:blipFill>
        <p:spPr>
          <a:xfrm>
            <a:off x="317520" y="2567160"/>
            <a:ext cx="2644920" cy="3315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277920" y="2922480"/>
            <a:ext cx="27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Мотивацион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3348000" y="29653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Когнитив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val 10" descr=""/>
          <p:cNvPicPr/>
          <p:nvPr/>
        </p:nvPicPr>
        <p:blipFill>
          <a:blip r:embed="rId3"/>
          <a:stretch/>
        </p:blipFill>
        <p:spPr>
          <a:xfrm>
            <a:off x="6168960" y="2425680"/>
            <a:ext cx="2640240" cy="3316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303960" y="2924280"/>
            <a:ext cx="23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ятельност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C:\Users\user\Desktop\0003-009-.gif"/>
          <p:cNvPicPr/>
          <p:nvPr/>
        </p:nvPicPr>
        <p:blipFill>
          <a:blip r:embed="rId4"/>
          <a:stretch/>
        </p:blipFill>
        <p:spPr>
          <a:xfrm>
            <a:off x="-6480" y="-6480"/>
            <a:ext cx="1451160" cy="157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4"/>
          <p:cNvSpPr/>
          <p:nvPr/>
        </p:nvSpPr>
        <p:spPr>
          <a:xfrm>
            <a:off x="611280" y="208080"/>
            <a:ext cx="7848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SimSun"/>
              </a:rPr>
              <a:t>ТЕХНОЛОГИЧЕСКОЕ ОСНОВАНИЕ АВТОРСКОЙ МЕТОДИЧЕСКОЙ СИСТЕМЫ: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развитие исследовательской компетентности как готовности и способности ученика к выполнению индивидуального учебного исследован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0" y="4292640"/>
            <a:ext cx="28432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Знакомство с историей наук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аучных открыти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биографией учё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5229360"/>
            <a:ext cx="291636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Встречи с молодыми учёны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5950080"/>
            <a:ext cx="298764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Оценка интеллектуаль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ижений уча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59280" y="4149720"/>
            <a:ext cx="28447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«Модульный курс учебной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коммуникативной мотив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чащихся» Н.И.Дерекле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3059280" y="5013360"/>
            <a:ext cx="28447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Курс «Сам себе учите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.Л.Гале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132000" y="5877000"/>
            <a:ext cx="28432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«Основы учебн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.И.Платоно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012000" y="4221000"/>
            <a:ext cx="3132000" cy="18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исследовательских ум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логических, творческих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формационно-перцептивны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мений самоуправ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чебно-исследователь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деятельност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олилиния 7"/>
          <p:cNvSpPr/>
          <p:nvPr/>
        </p:nvSpPr>
        <p:spPr>
          <a:xfrm>
            <a:off x="3741840" y="1262160"/>
            <a:ext cx="1376280" cy="814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КВЫ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ФРЫ И СИМВОЛ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8"/>
          <p:cNvSpPr/>
          <p:nvPr/>
        </p:nvSpPr>
        <p:spPr>
          <a:xfrm>
            <a:off x="3325680" y="2093760"/>
            <a:ext cx="2208240" cy="49068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0320" rIns="400320" tIns="14040" bIns="1404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СЛОЖНОГО ЗВУ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9"/>
          <p:cNvSpPr/>
          <p:nvPr/>
        </p:nvSpPr>
        <p:spPr>
          <a:xfrm>
            <a:off x="2932200" y="2556000"/>
            <a:ext cx="303984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0" rIns="54720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НАЯ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88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ГАДАТЬ БУКВУ, ЗВУК И Т.Д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10"/>
          <p:cNvSpPr/>
          <p:nvPr/>
        </p:nvSpPr>
        <p:spPr>
          <a:xfrm>
            <a:off x="2496960" y="3060720"/>
            <a:ext cx="3870360" cy="49068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2280" rIns="69228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11"/>
          <p:cNvSpPr/>
          <p:nvPr/>
        </p:nvSpPr>
        <p:spPr>
          <a:xfrm>
            <a:off x="2081160" y="3551400"/>
            <a:ext cx="4702320" cy="4921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7720" rIns="8377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НЕЗНАКОМОГО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2"/>
          <p:cNvSpPr/>
          <p:nvPr/>
        </p:nvSpPr>
        <p:spPr>
          <a:xfrm>
            <a:off x="1666800" y="4043520"/>
            <a:ext cx="5531040" cy="4921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0640" rIns="98064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ТРУИРОВАНИЕ ВЕРБАЛЬНОГО УРОВН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ПРЕДМЕТА С НОВЫМИ СВОЙСТВАМ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МЕТОД ФОКАЛЬНЫХ ОБЪЕКТ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13"/>
          <p:cNvSpPr/>
          <p:nvPr/>
        </p:nvSpPr>
        <p:spPr>
          <a:xfrm>
            <a:off x="1117440" y="4535640"/>
            <a:ext cx="6629400" cy="64764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5400" rIns="117540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РОВАНИЕ НЕОБЫЧН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БОР ЯБЛОК НА ПОЛЕ АССОЦИА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14"/>
          <p:cNvSpPr/>
          <p:nvPr/>
        </p:nvSpPr>
        <p:spPr>
          <a:xfrm>
            <a:off x="700200" y="5151600"/>
            <a:ext cx="745956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23360" rIns="1323360" tIns="17640" bIns="1764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НОМ ФАНТАЗ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15"/>
          <p:cNvSpPr/>
          <p:nvPr/>
        </p:nvSpPr>
        <p:spPr>
          <a:xfrm>
            <a:off x="287280" y="5675400"/>
            <a:ext cx="829008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3840" rIns="1473840" tIns="23040" bIns="23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И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365040" y="-6480"/>
            <a:ext cx="837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643 L -0.00104 -0.53797 E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-0.00156 -0.48518 E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4.44444E-006 -0.53727 E">
                                      <p:cBhvr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00226 -0.60902 E">
                                      <p:cBhvr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0.00104 -0.69027 E">
                                      <p:cBhvr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00226 -0.76203 E">
                                      <p:cBhvr>
                                        <p:cTn id="2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00104 -0.86736 E">
                                      <p:cBhvr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0.00139 -0.92963 E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0033 -0.70925 E">
                                      <p:cBhvr>
                                        <p:cTn id="3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 «Ж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2" descr="C:\Users\user\Desktop\Мастер-класс Гармаевой О.И\мастер-класс\4573f9eeb2fc.png"/>
          <p:cNvPicPr/>
          <p:nvPr/>
        </p:nvPicPr>
        <p:blipFill>
          <a:blip r:embed="rId1"/>
          <a:stretch/>
        </p:blipFill>
        <p:spPr>
          <a:xfrm>
            <a:off x="2330280" y="128592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user\Desktop\Мастер-класс Гармаевой О.И\мастер-класс\1015415005.jpg"/>
          <p:cNvPicPr/>
          <p:nvPr/>
        </p:nvPicPr>
        <p:blipFill>
          <a:blip r:embed="rId1"/>
          <a:stretch/>
        </p:blipFill>
        <p:spPr>
          <a:xfrm>
            <a:off x="6789600" y="4378320"/>
            <a:ext cx="1440000" cy="190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Мастер-класс Гармаевой О.И\мастер-класс\004.jpg"/>
          <p:cNvPicPr/>
          <p:nvPr/>
        </p:nvPicPr>
        <p:blipFill>
          <a:blip r:embed="rId2"/>
          <a:stretch/>
        </p:blipFill>
        <p:spPr>
          <a:xfrm>
            <a:off x="4040280" y="4392720"/>
            <a:ext cx="1360440" cy="194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user\Desktop\Мастер-класс Гармаевой О.И\мастер-класс\5b79bcce2756ba5f4b434c76.jpg"/>
          <p:cNvPicPr/>
          <p:nvPr/>
        </p:nvPicPr>
        <p:blipFill>
          <a:blip r:embed="rId3"/>
          <a:stretch/>
        </p:blipFill>
        <p:spPr>
          <a:xfrm>
            <a:off x="1168560" y="4349880"/>
            <a:ext cx="1444320" cy="20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user\Desktop\smailiki-87.gif"/>
          <p:cNvPicPr/>
          <p:nvPr/>
        </p:nvPicPr>
        <p:blipFill>
          <a:blip r:embed="rId4"/>
          <a:stretch/>
        </p:blipFill>
        <p:spPr>
          <a:xfrm>
            <a:off x="7813800" y="5175360"/>
            <a:ext cx="1330200" cy="1682640"/>
          </a:xfrm>
          <a:prstGeom prst="rect">
            <a:avLst/>
          </a:prstGeom>
          <a:ln w="0">
            <a:noFill/>
          </a:ln>
        </p:spPr>
      </p:pic>
      <p:pic>
        <p:nvPicPr>
          <p:cNvPr id="79" name="Title 1" descr=""/>
          <p:cNvPicPr/>
          <p:nvPr/>
        </p:nvPicPr>
        <p:blipFill>
          <a:blip r:embed="rId5"/>
          <a:stretch/>
        </p:blipFill>
        <p:spPr>
          <a:xfrm>
            <a:off x="-128520" y="176040"/>
            <a:ext cx="9156600" cy="84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esktop\Мастер-класс Гармаевой О.И\мастер-класс\1 001.jpg"/>
          <p:cNvPicPr/>
          <p:nvPr/>
        </p:nvPicPr>
        <p:blipFill>
          <a:blip r:embed="rId6"/>
          <a:stretch/>
        </p:blipFill>
        <p:spPr>
          <a:xfrm>
            <a:off x="928800" y="1468440"/>
            <a:ext cx="1871640" cy="257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user\Desktop\Мастер-класс Гармаевой О.И\мастер-класс\2 001.jpg"/>
          <p:cNvPicPr/>
          <p:nvPr/>
        </p:nvPicPr>
        <p:blipFill>
          <a:blip r:embed="rId7"/>
          <a:stretch/>
        </p:blipFill>
        <p:spPr>
          <a:xfrm>
            <a:off x="6483240" y="145404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user\Desktop\Мастер-класс Гармаевой О.И\мастер-класс\3 001.jpg"/>
          <p:cNvPicPr/>
          <p:nvPr/>
        </p:nvPicPr>
        <p:blipFill>
          <a:blip r:embed="rId8"/>
          <a:stretch/>
        </p:blipFill>
        <p:spPr>
          <a:xfrm>
            <a:off x="3768840" y="1482840"/>
            <a:ext cx="1873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ЯЗЫК ГЛОКОЙ КУЗДРЫ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95280" y="4941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3c7a"/>
                </a:solidFill>
                <a:latin typeface="Times New Roman"/>
                <a:ea typeface="SimSun"/>
              </a:rPr>
              <a:t>Глокая куздра штеко будланула бокра и кудрячит бокр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C:\Users\user\Desktop\Мастер-класс Гармаевой О.И\мастер-класс\img7 (1).jpg"/>
          <p:cNvPicPr/>
          <p:nvPr/>
        </p:nvPicPr>
        <p:blipFill>
          <a:blip r:embed="rId1"/>
          <a:stretch/>
        </p:blipFill>
        <p:spPr>
          <a:xfrm>
            <a:off x="1488960" y="1004760"/>
            <a:ext cx="59756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4000" y="2060640"/>
          <a:ext cx="8569080" cy="276840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ЕС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Ж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ВЕЗ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УЧ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БО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СМ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Л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Я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А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Л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Л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ОПЛАН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РЕ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C:\Users\user\Desktop\smailiki-87.gif"/>
          <p:cNvPicPr/>
          <p:nvPr/>
        </p:nvPicPr>
        <p:blipFill>
          <a:blip r:embed="rId1"/>
          <a:stretch/>
        </p:blipFill>
        <p:spPr>
          <a:xfrm>
            <a:off x="7236000" y="4797360"/>
            <a:ext cx="13302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628560"/>
            <a:ext cx="63403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esktop\Мастер-класс Гармаевой О.И\мастер-класс\1979su0zlfkx2jpg.jpg"/>
          <p:cNvPicPr/>
          <p:nvPr/>
        </p:nvPicPr>
        <p:blipFill>
          <a:blip r:embed="rId1"/>
          <a:stretch/>
        </p:blipFill>
        <p:spPr>
          <a:xfrm>
            <a:off x="468360" y="1197000"/>
            <a:ext cx="303984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user\Desktop\Мастер-класс Гармаевой О.И\мастер-класс\tom.jpg"/>
          <p:cNvPicPr/>
          <p:nvPr/>
        </p:nvPicPr>
        <p:blipFill>
          <a:blip r:embed="rId2"/>
          <a:stretch/>
        </p:blipFill>
        <p:spPr>
          <a:xfrm>
            <a:off x="5724360" y="4281480"/>
            <a:ext cx="2808360" cy="1922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user\Desktop\Мастер-класс Гармаевой О.И\мастер-класс\eded9f8261149.580056dbda9c8.jpg"/>
          <p:cNvPicPr/>
          <p:nvPr/>
        </p:nvPicPr>
        <p:blipFill>
          <a:blip r:embed="rId3"/>
          <a:stretch/>
        </p:blipFill>
        <p:spPr>
          <a:xfrm>
            <a:off x="3348000" y="2781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Title 1" descr=""/>
          <p:cNvPicPr/>
          <p:nvPr/>
        </p:nvPicPr>
        <p:blipFill>
          <a:blip r:embed="rId4"/>
          <a:stretch/>
        </p:blipFill>
        <p:spPr>
          <a:xfrm>
            <a:off x="-6480" y="219240"/>
            <a:ext cx="91569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24000" y="2060640"/>
          <a:ext cx="8569080" cy="276840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ЕС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Ж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ВЕЗ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УЧ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БО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СМ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Л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Я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А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Л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Л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ОПЛАН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РЕ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" descr="C:\Users\user\Desktop\smailiki-87.gif"/>
          <p:cNvPicPr/>
          <p:nvPr/>
        </p:nvPicPr>
        <p:blipFill>
          <a:blip r:embed="rId1"/>
          <a:stretch/>
        </p:blipFill>
        <p:spPr>
          <a:xfrm>
            <a:off x="7236000" y="4797360"/>
            <a:ext cx="133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ользователь Windows</cp:lastModifiedBy>
  <dcterms:modified xsi:type="dcterms:W3CDTF">2023-05-04T17:32:12Z</dcterms:modified>
  <cp:revision>84</cp:revision>
  <dc:subject/>
  <dc:title>Name of presentation</dc:title>
</cp:coreProperties>
</file>