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DF75-26A1-4387-80ED-1426FB1E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78692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5840" y="3926160"/>
            <a:ext cx="78692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41E-1464-499A-BF39-9F92372B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5840" y="392616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2616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33E-017A-4009-BD61-425D1428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6600" y="146520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360" y="146520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5840" y="392616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6600" y="392616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360" y="392616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A3A-9309-4712-8FF3-D3917F9F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21E-2F13-4030-B9DC-9364919A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E901-8F3E-4F9F-A647-89577880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07E-4C78-4238-972F-2277E551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77A-39C9-4767-BF2E-E6FCC992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60240" y="244440"/>
            <a:ext cx="783936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27E6-A6BA-442D-ADBF-E2799A1C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5840" y="392616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8E68-695A-469B-B094-DA055808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2616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5D7-256F-4BB4-AC7D-C775BADF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5840" y="3926160"/>
            <a:ext cx="78692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E2C-9933-4ED8-AAFC-68E551FD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8499-0E1B-472F-8F6E-7B7FEA332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40872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9" descr="C:\Users\user\Desktop\154_reading_a_book_.gif"/>
          <p:cNvPicPr/>
          <p:nvPr/>
        </p:nvPicPr>
        <p:blipFill>
          <a:blip r:embed="rId1"/>
          <a:stretch/>
        </p:blipFill>
        <p:spPr>
          <a:xfrm>
            <a:off x="6912000" y="2708280"/>
            <a:ext cx="2232000" cy="1463760"/>
          </a:xfrm>
          <a:prstGeom prst="rect">
            <a:avLst/>
          </a:prstGeom>
          <a:ln w="0">
            <a:noFill/>
          </a:ln>
        </p:spPr>
      </p:pic>
      <p:sp>
        <p:nvSpPr>
          <p:cNvPr id="44" name="副标题 2"/>
          <p:cNvSpPr/>
          <p:nvPr/>
        </p:nvSpPr>
        <p:spPr>
          <a:xfrm>
            <a:off x="250920" y="4869000"/>
            <a:ext cx="8497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173a8d"/>
                </a:solidFill>
                <a:latin typeface="Times New Roman"/>
                <a:ea typeface="Times New Roman"/>
              </a:rPr>
              <a:t>Цырендашиева Бэлигма Балдынов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a8d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a8d"/>
                </a:solidFill>
                <a:latin typeface="Times New Roman"/>
                <a:ea typeface="Times New Roman"/>
              </a:rPr>
              <a:t>МБОУ «Дыренская СОШ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1332000" y="206064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SimSun"/>
              </a:rPr>
              <a:t>Мастер-кла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0000"/>
                </a:solidFill>
                <a:latin typeface="Times New Roman"/>
                <a:ea typeface="SimSun"/>
              </a:rPr>
              <a:t>«Развитие исследовательской компетентности школьников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4"/>
          <p:cNvSpPr/>
          <p:nvPr/>
        </p:nvSpPr>
        <p:spPr>
          <a:xfrm flipV="1">
            <a:off x="2986200" y="1791360"/>
            <a:ext cx="3168360" cy="64764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747474"/>
              </a:gs>
              <a:gs pos="100000">
                <a:srgbClr val="c9c9c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Oval 10" descr=""/>
          <p:cNvPicPr/>
          <p:nvPr/>
        </p:nvPicPr>
        <p:blipFill>
          <a:blip r:embed="rId1"/>
          <a:stretch/>
        </p:blipFill>
        <p:spPr>
          <a:xfrm>
            <a:off x="3144960" y="2425680"/>
            <a:ext cx="2712960" cy="331632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5"/>
          <p:cNvSpPr/>
          <p:nvPr/>
        </p:nvSpPr>
        <p:spPr>
          <a:xfrm>
            <a:off x="1068480" y="1305000"/>
            <a:ext cx="7129440" cy="3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Структура исследовательской компетент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val 10" descr=""/>
          <p:cNvPicPr/>
          <p:nvPr/>
        </p:nvPicPr>
        <p:blipFill>
          <a:blip r:embed="rId2"/>
          <a:stretch/>
        </p:blipFill>
        <p:spPr>
          <a:xfrm>
            <a:off x="317520" y="2567160"/>
            <a:ext cx="2644920" cy="3315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2"/>
          <p:cNvSpPr/>
          <p:nvPr/>
        </p:nvSpPr>
        <p:spPr>
          <a:xfrm>
            <a:off x="277920" y="2922480"/>
            <a:ext cx="27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Мотивационны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3348000" y="296532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Когнитив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Oval 10" descr=""/>
          <p:cNvPicPr/>
          <p:nvPr/>
        </p:nvPicPr>
        <p:blipFill>
          <a:blip r:embed="rId3"/>
          <a:stretch/>
        </p:blipFill>
        <p:spPr>
          <a:xfrm>
            <a:off x="6168960" y="2425680"/>
            <a:ext cx="2640240" cy="3316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303960" y="2924280"/>
            <a:ext cx="23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Деятельностны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C:\Users\user\Desktop\0003-009-.gif"/>
          <p:cNvPicPr/>
          <p:nvPr/>
        </p:nvPicPr>
        <p:blipFill>
          <a:blip r:embed="rId4"/>
          <a:stretch/>
        </p:blipFill>
        <p:spPr>
          <a:xfrm>
            <a:off x="-6480" y="-6480"/>
            <a:ext cx="1451160" cy="1573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4"/>
          <p:cNvSpPr/>
          <p:nvPr/>
        </p:nvSpPr>
        <p:spPr>
          <a:xfrm>
            <a:off x="611280" y="208080"/>
            <a:ext cx="78483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SimSun"/>
              </a:rPr>
              <a:t>ТЕХНОЛОГИЧЕСКОЕ ОСНОВАНИЕ АВТОРСКОЙ МЕТОДИЧЕСКОЙ СИСТЕМЫ: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SimSun"/>
              </a:rPr>
              <a:t>развитие исследовательской компетентности как готовности и способности ученика к выполнению индивидуального учебного исследован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0" y="4292640"/>
            <a:ext cx="284328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Знакомство с историей науки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научных открытий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биографией учё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0" y="5229360"/>
            <a:ext cx="2916360" cy="3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Встречи с молодыми учёны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0" y="5950080"/>
            <a:ext cx="2987640" cy="50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Оценка интеллектуаль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достижений учащих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3059280" y="4149720"/>
            <a:ext cx="284472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«Модульный курс учебной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коммуникативной мотив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учащихся» Н.И.Дереклее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3059280" y="5013360"/>
            <a:ext cx="284472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Курс «Сам себе учитель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Н.Л.Галее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132000" y="5877000"/>
            <a:ext cx="284328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«Основы учебного исслед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Н.И.Платоновой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6012000" y="4221000"/>
            <a:ext cx="3132000" cy="180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Развит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исследовательских умений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логических, творческих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информационно-перцептивных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умений самоуправл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учебно-исследователь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деятельност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олилиния 7"/>
          <p:cNvSpPr/>
          <p:nvPr/>
        </p:nvSpPr>
        <p:spPr>
          <a:xfrm>
            <a:off x="3741840" y="1262160"/>
            <a:ext cx="1376280" cy="814320"/>
          </a:xfrm>
          <a:prstGeom prst="pie">
            <a:avLst/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ru-RU" sz="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ru-RU" sz="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КВЫ,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ru-RU" sz="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ВУКА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ru-RU" sz="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ИФРЫ И СИМВОЛ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олилиния 8"/>
          <p:cNvSpPr/>
          <p:nvPr/>
        </p:nvSpPr>
        <p:spPr>
          <a:xfrm>
            <a:off x="3325680" y="2093760"/>
            <a:ext cx="2208240" cy="490680"/>
          </a:xfrm>
          <a:prstGeom prst="pie">
            <a:avLst/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00320" rIns="400320" tIns="14040" bIns="1404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 СЛОЖНОГО ЗВУ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олилиния 9"/>
          <p:cNvSpPr/>
          <p:nvPr/>
        </p:nvSpPr>
        <p:spPr>
          <a:xfrm>
            <a:off x="2932200" y="2556000"/>
            <a:ext cx="3039840" cy="490320"/>
          </a:xfrm>
          <a:prstGeom prst="pie">
            <a:avLst/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7200" rIns="547200" tIns="15120" bIns="1512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ТНАЯ 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Aft>
                <a:spcPts val="388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УГАДАТЬ БУКВУ, ЗВУК И Т.Д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олилиния 10"/>
          <p:cNvSpPr/>
          <p:nvPr/>
        </p:nvSpPr>
        <p:spPr>
          <a:xfrm>
            <a:off x="2496960" y="3060720"/>
            <a:ext cx="3870360" cy="490680"/>
          </a:xfrm>
          <a:prstGeom prst="pie">
            <a:avLst/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92280" rIns="692280" tIns="15120" bIns="1512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 ПРЕДМ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олилиния 11"/>
          <p:cNvSpPr/>
          <p:nvPr/>
        </p:nvSpPr>
        <p:spPr>
          <a:xfrm>
            <a:off x="2081160" y="3551400"/>
            <a:ext cx="4702320" cy="492120"/>
          </a:xfrm>
          <a:prstGeom prst="pie">
            <a:avLst/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7720" rIns="837720" tIns="15120" bIns="1512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 НЕЗНАКОМОГО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олилиния 12"/>
          <p:cNvSpPr/>
          <p:nvPr/>
        </p:nvSpPr>
        <p:spPr>
          <a:xfrm>
            <a:off x="1666800" y="4043520"/>
            <a:ext cx="5531040" cy="492120"/>
          </a:xfrm>
          <a:prstGeom prst="pie">
            <a:avLst/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0640" rIns="980640" tIns="12600" bIns="12600" anchor="ctr">
            <a:noAutofit/>
          </a:bodyPr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СТРУИРОВАНИЕ ВЕРБАЛЬНОГО УРОВН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ПРЕДМЕТА С НОВЫМИ СВОЙСТВАМ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МЕТОД ФОКАЛЬНЫХ ОБЪЕКТ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олилиния 13"/>
          <p:cNvSpPr/>
          <p:nvPr/>
        </p:nvSpPr>
        <p:spPr>
          <a:xfrm>
            <a:off x="1117440" y="4535640"/>
            <a:ext cx="6629400" cy="647640"/>
          </a:xfrm>
          <a:prstGeom prst="pie">
            <a:avLst/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75400" rIns="1175400" tIns="15120" bIns="1512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ДЕЛИРОВАНИЕ НЕОБЫЧНО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СБОР ЯБЛОК НА ПОЛЕ АССОЦИАЦ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олилиния 14"/>
          <p:cNvSpPr/>
          <p:nvPr/>
        </p:nvSpPr>
        <p:spPr>
          <a:xfrm>
            <a:off x="700200" y="5151600"/>
            <a:ext cx="7459560" cy="490320"/>
          </a:xfrm>
          <a:prstGeom prst="pie">
            <a:avLst/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23360" rIns="1323360" tIns="17640" bIns="1764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ИНОМ ФАНТАЗ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олилиния 15"/>
          <p:cNvSpPr/>
          <p:nvPr/>
        </p:nvSpPr>
        <p:spPr>
          <a:xfrm>
            <a:off x="287280" y="5675400"/>
            <a:ext cx="8290080" cy="490320"/>
          </a:xfrm>
          <a:prstGeom prst="pie">
            <a:avLst/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3840" rIns="1473840" tIns="23040" bIns="230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ЧИ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365040" y="-6480"/>
            <a:ext cx="83710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0.01643 L -0.00104 -0.53797 E">
                                      <p:cBhvr>
                                        <p:cTn id="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L -0.00156 -0.48518 E">
                                      <p:cBhvr>
                                        <p:cTn id="1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4.44444E-006 -0.53727 E">
                                      <p:cBhvr>
                                        <p:cTn id="1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0.00226 -0.60902 E">
                                      <p:cBhvr>
                                        <p:cTn id="1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6 L 0.00104 -0.69027 E">
                                      <p:cBhvr>
                                        <p:cTn id="2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96296E-006 L 0.00226 -0.76203 E">
                                      <p:cBhvr>
                                        <p:cTn id="2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81481E-006 L 0.00104 -0.86736 E">
                                      <p:cBhvr>
                                        <p:cTn id="3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44444E-006 L 0.00139 -0.92963 E">
                                      <p:cBhvr>
                                        <p:cTn id="3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0.0033 -0.70925 E">
                                      <p:cBhvr>
                                        <p:cTn id="3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КВА «Ж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Picture 2" descr="C:\Users\user\Desktop\Мастер-класс Гармаевой О.И\мастер-класс\4573f9eeb2fc.png"/>
          <p:cNvPicPr/>
          <p:nvPr/>
        </p:nvPicPr>
        <p:blipFill>
          <a:blip r:embed="rId1"/>
          <a:stretch/>
        </p:blipFill>
        <p:spPr>
          <a:xfrm>
            <a:off x="2330280" y="1285920"/>
            <a:ext cx="448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user\Desktop\Мастер-класс Гармаевой О.И\мастер-класс\1015415005.jpg"/>
          <p:cNvPicPr/>
          <p:nvPr/>
        </p:nvPicPr>
        <p:blipFill>
          <a:blip r:embed="rId1"/>
          <a:stretch/>
        </p:blipFill>
        <p:spPr>
          <a:xfrm>
            <a:off x="6789600" y="4378320"/>
            <a:ext cx="1440000" cy="1903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user\Desktop\Мастер-класс Гармаевой О.И\мастер-класс\004.jpg"/>
          <p:cNvPicPr/>
          <p:nvPr/>
        </p:nvPicPr>
        <p:blipFill>
          <a:blip r:embed="rId2"/>
          <a:stretch/>
        </p:blipFill>
        <p:spPr>
          <a:xfrm>
            <a:off x="4040280" y="4392720"/>
            <a:ext cx="1360440" cy="1946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Users\user\Desktop\Мастер-класс Гармаевой О.И\мастер-класс\5b79bcce2756ba5f4b434c76.jpg"/>
          <p:cNvPicPr/>
          <p:nvPr/>
        </p:nvPicPr>
        <p:blipFill>
          <a:blip r:embed="rId3"/>
          <a:stretch/>
        </p:blipFill>
        <p:spPr>
          <a:xfrm>
            <a:off x="1168560" y="4349880"/>
            <a:ext cx="1444320" cy="20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user\Desktop\smailiki-87.gif"/>
          <p:cNvPicPr/>
          <p:nvPr/>
        </p:nvPicPr>
        <p:blipFill>
          <a:blip r:embed="rId4"/>
          <a:stretch/>
        </p:blipFill>
        <p:spPr>
          <a:xfrm>
            <a:off x="7813800" y="5175360"/>
            <a:ext cx="1330200" cy="1682640"/>
          </a:xfrm>
          <a:prstGeom prst="rect">
            <a:avLst/>
          </a:prstGeom>
          <a:ln w="0">
            <a:noFill/>
          </a:ln>
        </p:spPr>
      </p:pic>
      <p:pic>
        <p:nvPicPr>
          <p:cNvPr id="79" name="Title 1" descr=""/>
          <p:cNvPicPr/>
          <p:nvPr/>
        </p:nvPicPr>
        <p:blipFill>
          <a:blip r:embed="rId5"/>
          <a:stretch/>
        </p:blipFill>
        <p:spPr>
          <a:xfrm>
            <a:off x="-128520" y="176040"/>
            <a:ext cx="9156600" cy="847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user\Desktop\Мастер-класс Гармаевой О.И\мастер-класс\1 001.jpg"/>
          <p:cNvPicPr/>
          <p:nvPr/>
        </p:nvPicPr>
        <p:blipFill>
          <a:blip r:embed="rId6"/>
          <a:stretch/>
        </p:blipFill>
        <p:spPr>
          <a:xfrm>
            <a:off x="928800" y="1468440"/>
            <a:ext cx="1871640" cy="257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Users\user\Desktop\Мастер-класс Гармаевой О.И\мастер-класс\2 001.jpg"/>
          <p:cNvPicPr/>
          <p:nvPr/>
        </p:nvPicPr>
        <p:blipFill>
          <a:blip r:embed="rId7"/>
          <a:stretch/>
        </p:blipFill>
        <p:spPr>
          <a:xfrm>
            <a:off x="6483240" y="1454040"/>
            <a:ext cx="1905120" cy="261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Users\user\Desktop\Мастер-класс Гармаевой О.И\мастер-класс\3 001.jpg"/>
          <p:cNvPicPr/>
          <p:nvPr/>
        </p:nvPicPr>
        <p:blipFill>
          <a:blip r:embed="rId8"/>
          <a:stretch/>
        </p:blipFill>
        <p:spPr>
          <a:xfrm>
            <a:off x="3768840" y="1482840"/>
            <a:ext cx="187308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0240" y="244440"/>
            <a:ext cx="783936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ЯЗЫК ГЛОКОЙ КУЗДРЫ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395280" y="49417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3c7a"/>
                </a:solidFill>
                <a:latin typeface="Times New Roman"/>
                <a:ea typeface="SimSun"/>
              </a:rPr>
              <a:t>Глокая куздра штеко будланула бокра и кудрячит бокрё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C:\Users\user\Desktop\Мастер-класс Гармаевой О.И\мастер-класс\img7 (1).jpg"/>
          <p:cNvPicPr/>
          <p:nvPr/>
        </p:nvPicPr>
        <p:blipFill>
          <a:blip r:embed="rId1"/>
          <a:stretch/>
        </p:blipFill>
        <p:spPr>
          <a:xfrm>
            <a:off x="1488960" y="1004760"/>
            <a:ext cx="597564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24000" y="2060640"/>
          <a:ext cx="8569080" cy="276840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398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ЫЛЕС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РОЖ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Б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ДИВ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ВЕЗ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ЛУЧ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СТАЛ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Г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9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БО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МИД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СМ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ЗЛУ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ВТОБ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ЛЧ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Я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РАБ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Ч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ОЛ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И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ЛН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ОПЛАНЕ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ЯН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У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Г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НТ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КА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ТРЕ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УК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В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2" descr="C:\Users\user\Desktop\smailiki-87.gif"/>
          <p:cNvPicPr/>
          <p:nvPr/>
        </p:nvPicPr>
        <p:blipFill>
          <a:blip r:embed="rId1"/>
          <a:stretch/>
        </p:blipFill>
        <p:spPr>
          <a:xfrm>
            <a:off x="7236000" y="4797360"/>
            <a:ext cx="1330200" cy="168264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4" descr=""/>
          <p:cNvPicPr/>
          <p:nvPr/>
        </p:nvPicPr>
        <p:blipFill>
          <a:blip r:embed="rId2"/>
          <a:stretch/>
        </p:blipFill>
        <p:spPr>
          <a:xfrm>
            <a:off x="1785960" y="628560"/>
            <a:ext cx="634032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user\Desktop\Мастер-класс Гармаевой О.И\мастер-класс\1979su0zlfkx2jpg.jpg"/>
          <p:cNvPicPr/>
          <p:nvPr/>
        </p:nvPicPr>
        <p:blipFill>
          <a:blip r:embed="rId1"/>
          <a:stretch/>
        </p:blipFill>
        <p:spPr>
          <a:xfrm>
            <a:off x="468360" y="1197000"/>
            <a:ext cx="3039840" cy="2022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user\Desktop\Мастер-класс Гармаевой О.И\мастер-класс\tom.jpg"/>
          <p:cNvPicPr/>
          <p:nvPr/>
        </p:nvPicPr>
        <p:blipFill>
          <a:blip r:embed="rId2"/>
          <a:stretch/>
        </p:blipFill>
        <p:spPr>
          <a:xfrm>
            <a:off x="5724360" y="4281480"/>
            <a:ext cx="2808360" cy="1922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Users\user\Desktop\Мастер-класс Гармаевой О.И\мастер-класс\eded9f8261149.580056dbda9c8.jpg"/>
          <p:cNvPicPr/>
          <p:nvPr/>
        </p:nvPicPr>
        <p:blipFill>
          <a:blip r:embed="rId3"/>
          <a:stretch/>
        </p:blipFill>
        <p:spPr>
          <a:xfrm>
            <a:off x="3348000" y="278136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92" name="Title 1" descr=""/>
          <p:cNvPicPr/>
          <p:nvPr/>
        </p:nvPicPr>
        <p:blipFill>
          <a:blip r:embed="rId4"/>
          <a:stretch/>
        </p:blipFill>
        <p:spPr>
          <a:xfrm>
            <a:off x="-6480" y="219240"/>
            <a:ext cx="915696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24000" y="2060640"/>
          <a:ext cx="8569080" cy="276840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398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ЫЛЕС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РОЖ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Б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ДИВ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ВЕЗ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ЛУЧ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СТАЛ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Г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9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БО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МИД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СМ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ЗЛУ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ВТОБ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ЛЧ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Я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РАБ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Ч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ОЛ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И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ЛН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ОПЛАНЕ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ЯН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У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Г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НТ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КА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ТРЕ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УК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В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2" descr="C:\Users\user\Desktop\smailiki-87.gif"/>
          <p:cNvPicPr/>
          <p:nvPr/>
        </p:nvPicPr>
        <p:blipFill>
          <a:blip r:embed="rId1"/>
          <a:stretch/>
        </p:blipFill>
        <p:spPr>
          <a:xfrm>
            <a:off x="7236000" y="4797360"/>
            <a:ext cx="13302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8T14:12:19Z</dcterms:created>
  <dc:creator>Markasian, Pavel (KIEVH)</dc:creator>
  <dc:description/>
  <dc:language>en-US</dc:language>
  <cp:lastModifiedBy>Пользователь Windows</cp:lastModifiedBy>
  <dcterms:modified xsi:type="dcterms:W3CDTF">2023-05-04T17:32:12Z</dcterms:modified>
  <cp:revision>84</cp:revision>
  <dc:subject/>
  <dc:title>Name of presentation</dc:title>
</cp:coreProperties>
</file>