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7D059-4FB8-409C-BDF7-F55002E53B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D4E0-7160-49B8-8CE6-45F749F2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B8D90-622C-4FFE-81B6-FE8A4744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844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9A499-1988-4FE9-A9DB-BCF5437725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EA923-231F-402E-9A2D-9D068B10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C101D-BC9F-4803-95A3-EAEDA4AE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D980-9F30-42C1-A7F6-4D07EC93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474F-0E5B-422D-AE81-2246B756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D461-461B-4225-B4A8-353CBE6A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843D-5C18-423F-9C22-7D279F2A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6596-E2EE-4D1C-B09A-251C0156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32AA5-EFE7-4752-A4FF-324F4D97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6C1362-49AD-4AED-8877-A7E3E0E97CF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pandia.ru/text/category/vavilo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0" t="13511" r="0" b="11556"/>
          <a:stretch/>
        </p:blipFill>
        <p:spPr>
          <a:xfrm>
            <a:off x="-47520" y="0"/>
            <a:ext cx="12191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3"/>
          <p:cNvGrpSpPr/>
          <p:nvPr/>
        </p:nvGrpSpPr>
        <p:grpSpPr>
          <a:xfrm>
            <a:off x="-6480" y="2200320"/>
            <a:ext cx="12203280" cy="3174840"/>
            <a:chOff x="-6480" y="2200320"/>
            <a:chExt cx="12203280" cy="3174840"/>
          </a:xfrm>
        </p:grpSpPr>
        <p:pic>
          <p:nvPicPr>
            <p:cNvPr id="44" name="Picture 4" descr=""/>
            <p:cNvPicPr/>
            <p:nvPr/>
          </p:nvPicPr>
          <p:blipFill>
            <a:blip r:embed="rId2"/>
            <a:stretch/>
          </p:blipFill>
          <p:spPr>
            <a:xfrm>
              <a:off x="-6480" y="2200320"/>
              <a:ext cx="1220328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>
              <a:off x="0" y="2208240"/>
              <a:ext cx="12190320" cy="31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6" name="Text Box 6"/>
          <p:cNvSpPr/>
          <p:nvPr/>
        </p:nvSpPr>
        <p:spPr>
          <a:xfrm>
            <a:off x="1096920" y="325440"/>
            <a:ext cx="1005840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азличные способы решения квадратных уравнений»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8921880" y="3859200"/>
            <a:ext cx="341316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Автор работы: Мурских Иван, 9б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Руководитель: Кузнецова С.В.,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500"/>
                                  </p:stCondLst>
                                  <p:iterate type="el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iterate type="el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7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1500"/>
                                  </p:stCondLst>
                                  <p:iterate type="el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1500"/>
                                  </p:stCondLst>
                                  <p:iterate type="el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838080" y="466560"/>
            <a:ext cx="10839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8. Решение квадратных уравнений способом «переброски» старшего коэффициента.</a:t>
            </a:r>
            <a:br>
              <a:rPr sz="3100"/>
            </a:b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514440" y="1625760"/>
            <a:ext cx="1116324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этом способе, коэффициент а, умножается на свободный член, как бы «перебрасывается» к нему, поэтому его называют способом «переброски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х</a:t>
            </a:r>
            <a:r>
              <a:rPr b="0" lang="ru-RU" sz="28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+4х-7=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•4х-7•3 =0 , у= 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0" lang="ru-RU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+4у-21=0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т .Виета у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-21, у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у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4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 у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3, у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7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сюда следует, что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1,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5456160" y="5408640"/>
            <a:ext cx="198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9. Графический способ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54080" y="1165320"/>
            <a:ext cx="124776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м графики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             в одной системе координат.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циссы точек пересечения этих двух графиков являются корнями данного уравне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836640" y="1063800"/>
            <a:ext cx="1407960" cy="38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838080" y="1441440"/>
            <a:ext cx="1527120" cy="69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3"/>
          <a:stretch/>
        </p:blipFill>
        <p:spPr>
          <a:xfrm>
            <a:off x="6230880" y="2031840"/>
            <a:ext cx="863640" cy="74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4"/>
          <a:stretch/>
        </p:blipFill>
        <p:spPr>
          <a:xfrm>
            <a:off x="976320" y="3670200"/>
            <a:ext cx="1386000" cy="74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5"/>
          <a:stretch/>
        </p:blipFill>
        <p:spPr>
          <a:xfrm>
            <a:off x="6811920" y="3460680"/>
            <a:ext cx="2138400" cy="29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1695600" y="438120"/>
            <a:ext cx="9543960" cy="584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е способ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009800" y="1267920"/>
            <a:ext cx="1057248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 с помощью разложения левой части уравнения на множители способом группировк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 методом выделения полного квадра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 способом «переброски» старшего коэффициен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, используя теорему Без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ые способ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571680" y="1341000"/>
            <a:ext cx="11010600" cy="22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 по формул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, используя свойства коэффициент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емкие  способ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009800" y="1340280"/>
            <a:ext cx="10572480" cy="29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ого уравнения графическим способ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 с помощью разложения левой части уравнения на множители способом группировк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 методом выделения полного квадра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, используя теорему Без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ый  способ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571680" y="1290960"/>
            <a:ext cx="1101060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, используя свойства коэффициентов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ого уравнения графическим способ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28600" y="255600"/>
          <a:ext cx="11660040" cy="6602400"/>
        </p:xfrm>
        <a:graphic>
          <a:graphicData uri="http://schemas.openxmlformats.org/drawingml/2006/table">
            <a:tbl>
              <a:tblPr/>
              <a:tblGrid>
                <a:gridCol w="3886200"/>
                <a:gridCol w="3887640"/>
                <a:gridCol w="3886200"/>
              </a:tblGrid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ю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у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вадратных уравнений по формул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применить ко всем квадратным уравнения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забыть формул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вадратных уравнений, используя теорему Вие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точно легкий способ, дает возможность сразу увидеть целые корни уравн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 находятся только целые корни. Решать этим способом легко только приведенные квадратные уравн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вадратных уравнений, используя свойства коэффициен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требует особых усилий, главное помнить свой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ходит только к некоторым уравнения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вадратного уравнения графическим способ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лядный красивый спосо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не точности при составлении графиков и нахождении корней уравн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вадратных уравнений с помощью разложения левой части уравнения на множители способом группиров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ет возможность повторить формулы сокращенного умнож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но правильно увидеть слагаемые для группировки, а также правильно применить ФС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вадратных уравнений методом выделения полного квадра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плюсов не увиде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но правильно найти все слагаемые для выделения полного квадрат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вадратных уравнений способом «переброски» старшего коэффициен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минимальное количество действий можно найти корни уравнения, применяется совместно со способом теоремы Виет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Легко найти только целые корни, потому что применяется совместно с теоремой Вие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вадратных уравнений, используя теорему Без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плюсов не увиде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Трудоёмкий, очень много действий. Нужно знать теорему и как её применять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1295280" y="457200"/>
            <a:ext cx="956340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380880" y="1528920"/>
            <a:ext cx="1110636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 нашел 9 способов решения квадратных уравнений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отметить, что не все они удобны для решения, но каждый из них уникален. Некоторые способы решения помогают сэкономить время, что немаловажно при решении заданий на ОГЭ и ЕГЭ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446880" y="-93600"/>
            <a:ext cx="48402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вед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24856" t="0" r="15611" b="0"/>
          <a:stretch/>
        </p:blipFill>
        <p:spPr>
          <a:xfrm>
            <a:off x="0" y="0"/>
            <a:ext cx="61167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6378480" y="1190520"/>
            <a:ext cx="49752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Цель работы: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способы решения уравнения второй степени и рассмотреть применение данных способов решения квадратных уравнений на конкретных примерах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роследить историю развития теории и практики решения квадратных уравнений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Описать технологии различных существующих способов решения квадратных уравнений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казать применение данных способов при решении уравнений.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Подобрать тренировочные задания для отработки изученных приемов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отеза: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е квадратное уравнение можно решить всеми существующими способами.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639720" y="325440"/>
            <a:ext cx="436896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вадратные уравнения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39720" y="2587680"/>
            <a:ext cx="3475080" cy="17280"/>
          </a:xfrm>
          <a:custGeom>
            <a:avLst/>
            <a:gdLst>
              <a:gd name="textAreaLeft" fmla="*/ 0 w 3475080"/>
              <a:gd name="textAreaRight" fmla="*/ 3475440 w 34750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fill="none" w="3474720" h="18288">
                <a:moveTo>
                  <a:pt x="0" y="0"/>
                </a:moveTo>
                <a:cubicBezTo>
                  <a:pt x="224454" y="-14544"/>
                  <a:pt x="495407" y="26540"/>
                  <a:pt x="694944" y="0"/>
                </a:cubicBezTo>
                <a:cubicBezTo>
                  <a:pt x="894481" y="-26540"/>
                  <a:pt x="1130063" y="24713"/>
                  <a:pt x="1355141" y="0"/>
                </a:cubicBezTo>
                <a:cubicBezTo>
                  <a:pt x="1580219" y="-24713"/>
                  <a:pt x="1820099" y="26695"/>
                  <a:pt x="2015338" y="0"/>
                </a:cubicBezTo>
                <a:cubicBezTo>
                  <a:pt x="2210577" y="-26695"/>
                  <a:pt x="2402045" y="165"/>
                  <a:pt x="2779776" y="0"/>
                </a:cubicBezTo>
                <a:cubicBezTo>
                  <a:pt x="3157507" y="-165"/>
                  <a:pt x="3286859" y="-15571"/>
                  <a:pt x="3474720" y="0"/>
                </a:cubicBezTo>
                <a:cubicBezTo>
                  <a:pt x="3474286" y="7551"/>
                  <a:pt x="3474253" y="9822"/>
                  <a:pt x="3474720" y="18288"/>
                </a:cubicBezTo>
                <a:cubicBezTo>
                  <a:pt x="3233904" y="29845"/>
                  <a:pt x="2945134" y="-5256"/>
                  <a:pt x="2779776" y="18288"/>
                </a:cubicBezTo>
                <a:cubicBezTo>
                  <a:pt x="2614418" y="41832"/>
                  <a:pt x="2339768" y="22709"/>
                  <a:pt x="2189074" y="18288"/>
                </a:cubicBezTo>
                <a:cubicBezTo>
                  <a:pt x="2038380" y="13867"/>
                  <a:pt x="1817434" y="-4947"/>
                  <a:pt x="1528877" y="18288"/>
                </a:cubicBezTo>
                <a:cubicBezTo>
                  <a:pt x="1240320" y="41523"/>
                  <a:pt x="1042447" y="37198"/>
                  <a:pt x="868680" y="18288"/>
                </a:cubicBezTo>
                <a:cubicBezTo>
                  <a:pt x="694913" y="-622"/>
                  <a:pt x="233232" y="44909"/>
                  <a:pt x="0" y="18288"/>
                </a:cubicBezTo>
                <a:cubicBezTo>
                  <a:pt x="60" y="11696"/>
                  <a:pt x="66" y="3758"/>
                  <a:pt x="0" y="0"/>
                </a:cubicBezTo>
                <a:close/>
              </a:path>
              <a:path stroke="0" w="3474720" h="18288">
                <a:moveTo>
                  <a:pt x="0" y="0"/>
                </a:moveTo>
                <a:cubicBezTo>
                  <a:pt x="202328" y="-14716"/>
                  <a:pt x="332722" y="-11499"/>
                  <a:pt x="625450" y="0"/>
                </a:cubicBezTo>
                <a:cubicBezTo>
                  <a:pt x="918178" y="11499"/>
                  <a:pt x="1096688" y="5123"/>
                  <a:pt x="1389888" y="0"/>
                </a:cubicBezTo>
                <a:cubicBezTo>
                  <a:pt x="1683088" y="-5123"/>
                  <a:pt x="1835981" y="-14038"/>
                  <a:pt x="1980590" y="0"/>
                </a:cubicBezTo>
                <a:cubicBezTo>
                  <a:pt x="2125199" y="14038"/>
                  <a:pt x="2396099" y="-7203"/>
                  <a:pt x="2571293" y="0"/>
                </a:cubicBezTo>
                <a:cubicBezTo>
                  <a:pt x="2746487" y="7203"/>
                  <a:pt x="3041609" y="-12036"/>
                  <a:pt x="3474720" y="0"/>
                </a:cubicBezTo>
                <a:cubicBezTo>
                  <a:pt x="3474638" y="4406"/>
                  <a:pt x="3474631" y="9982"/>
                  <a:pt x="3474720" y="18288"/>
                </a:cubicBezTo>
                <a:cubicBezTo>
                  <a:pt x="3324873" y="21876"/>
                  <a:pt x="3136771" y="12587"/>
                  <a:pt x="2814523" y="18288"/>
                </a:cubicBezTo>
                <a:cubicBezTo>
                  <a:pt x="2492275" y="23989"/>
                  <a:pt x="2294402" y="47111"/>
                  <a:pt x="2154326" y="18288"/>
                </a:cubicBezTo>
                <a:cubicBezTo>
                  <a:pt x="2014250" y="-10535"/>
                  <a:pt x="1820317" y="33903"/>
                  <a:pt x="1494130" y="18288"/>
                </a:cubicBezTo>
                <a:cubicBezTo>
                  <a:pt x="1167943" y="2673"/>
                  <a:pt x="948432" y="14868"/>
                  <a:pt x="729691" y="18288"/>
                </a:cubicBezTo>
                <a:cubicBezTo>
                  <a:pt x="510950" y="21708"/>
                  <a:pt x="264032" y="24354"/>
                  <a:pt x="0" y="18288"/>
                </a:cubicBezTo>
                <a:cubicBezTo>
                  <a:pt x="189" y="14288"/>
                  <a:pt x="-703" y="3747"/>
                  <a:pt x="0" y="0"/>
                </a:cubicBezTo>
                <a:close/>
              </a:path>
            </a:pathLst>
          </a:custGeom>
          <a:solidFill>
            <a:srgbClr val="ed7d31"/>
          </a:solidFill>
          <a:ln cap="rnd" w="44280">
            <a:solidFill>
              <a:srgbClr val="ed7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9720" y="2873520"/>
            <a:ext cx="42433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ым уравнением называют уравнение вида ах²+bх+с=0, где коэффициенты а, b, с - любые действительные числа, причём, а≠0. Коэффициенты а, b, с, различают по названиям: а - первый или старший коэффициент; b - второй или коэффициент при х; с - свободный член, свободен от переменной х.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rcRect l="0" t="304" r="0" b="0"/>
          <a:stretch/>
        </p:blipFill>
        <p:spPr>
          <a:xfrm>
            <a:off x="5311800" y="0"/>
            <a:ext cx="6878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2"/>
          <p:cNvSpPr/>
          <p:nvPr/>
        </p:nvSpPr>
        <p:spPr>
          <a:xfrm flipH="1">
            <a:off x="8576640" y="3335400"/>
            <a:ext cx="3290760" cy="320040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41520" y="623880"/>
            <a:ext cx="10905840" cy="5607000"/>
          </a:xfrm>
          <a:prstGeom prst="rect">
            <a:avLst/>
          </a:prstGeom>
          <a:noFill/>
          <a:ln w="19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101600" y="628560"/>
            <a:ext cx="998388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Calibri Light"/>
              </a:rPr>
              <a:t>Из истории квадратных уравнений</a:t>
            </a:r>
            <a:endParaRPr b="0" lang="en-US" sz="5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rcRect l="2848" t="0" r="0" b="0"/>
          <a:stretch/>
        </p:blipFill>
        <p:spPr>
          <a:xfrm>
            <a:off x="628560" y="2066760"/>
            <a:ext cx="5060880" cy="4229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6095880" y="1787400"/>
            <a:ext cx="5200920" cy="39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ые уравнения умели решать около 2000 лет до наше эры 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вавилоня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я современную алгебраическую запись, можно сказать, что в их клинописных текстах встречаются, кроме неполных, и такие, например, полные квадратные уравнения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алгебраические приемы решения линейных и квадратных уравнений были известны еще 4000 лет назад в Древнем Вавилоне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838080" y="61920"/>
            <a:ext cx="105156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способы решения квадратных уравнений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457200" y="1432080"/>
            <a:ext cx="1146816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пособ 1. Решение квадратных уравнений по формул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и уравнен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х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 + с = 0, а ≠ 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но найти  по формуле: 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выражение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-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 дискриминант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09480" y="3727440"/>
            <a:ext cx="1051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2. Решение квадратных уравнений по формуле с четным коэффициент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52600" y="4319640"/>
            <a:ext cx="1099188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торой коэффициент уравнен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етное число, то формулу корней 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                           можно записать в виде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3336840" y="4813200"/>
            <a:ext cx="2584440" cy="88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8291520" y="5251320"/>
            <a:ext cx="263052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666720" y="525600"/>
            <a:ext cx="1108728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3. Метод выделения полного квадрата.</a:t>
            </a:r>
            <a:br>
              <a:rPr sz="3100"/>
            </a:b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ривести уравнение общего вида к неполному квадратному уравнению. В этом нам помогут формулы сокращенного умножения: 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 + b)</a:t>
            </a:r>
            <a:r>
              <a:rPr b="0" lang="ru-RU" sz="3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</a:t>
            </a:r>
            <a:r>
              <a:rPr b="0" lang="ru-RU" sz="3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ab +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– b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ab + b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12192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066680" y="3695760"/>
            <a:ext cx="3329280" cy="5904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0"/>
            <a:ext cx="12192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390680" y="4362480"/>
            <a:ext cx="2305080" cy="936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0" y="0"/>
            <a:ext cx="12192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1542960" y="5181480"/>
            <a:ext cx="2076480" cy="12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83808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4. Решение уравнений с использованием теоремы Виет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749160" y="11001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квадратное уравнени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с = 0, а ≠ 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сти к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ному виду, нужно все его члены разделить н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е уравнение примет ви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                  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гд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176880" y="2082960"/>
            <a:ext cx="1443240" cy="62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2386080" y="2657520"/>
            <a:ext cx="1797120" cy="1289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857160" y="4133880"/>
            <a:ext cx="104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5. Разложение на множители способом группировки.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666720" y="4695840"/>
            <a:ext cx="1080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решении квадратных уравнений часто применяется метод разложения на множители (с помощью вынесения за скобки общего множителя, формул сокращенного умножения или способа группировки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6. Решение квадратных уравнений, используя свойства коэффициентов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61800" y="1482840"/>
            <a:ext cx="1101096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а + b + с = 0 (т.е. сумма коэффициентов равна нулю)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Если а + с = b (т.е. сумма крайних коэффициентов равна среднему коэффициенту), то 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-1,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-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х-7=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573280" y="1960560"/>
            <a:ext cx="208080" cy="612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5789520" y="2849400"/>
            <a:ext cx="209520" cy="614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494000" y="3986280"/>
            <a:ext cx="852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, serif"/>
              </a:rPr>
              <a:t>Так как </a:t>
            </a:r>
            <a:r>
              <a:rPr b="0" lang="en-US" sz="2800" spc="-1" strike="noStrike">
                <a:solidFill>
                  <a:srgbClr val="000000"/>
                </a:solidFill>
                <a:latin typeface="Times New Roman, serif"/>
              </a:rPr>
              <a:t>3+4+(-7)=0, значит</a:t>
            </a:r>
            <a:r>
              <a:rPr b="0" lang="ru-RU" sz="2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, serif"/>
              </a:rPr>
              <a:t> 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, serif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, serif"/>
              </a:rPr>
              <a:t>=1, х = -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7835760" y="3851280"/>
            <a:ext cx="255600" cy="8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61800" y="365040"/>
            <a:ext cx="114490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7. Уменьшение степени уравнения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спользование теоремы Безу)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533520" y="2371680"/>
            <a:ext cx="11430000" cy="44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ями многочлена являются делители свободного коэффициента, при подстановке которых в данное уравнение превращается в верное числовое равенств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5191200" y="3213000"/>
            <a:ext cx="1439640" cy="50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879480" y="3678120"/>
            <a:ext cx="3121200" cy="70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938160" y="4422600"/>
            <a:ext cx="2871720" cy="695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5035680" y="3916440"/>
            <a:ext cx="2022480" cy="884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5156280" y="5016600"/>
            <a:ext cx="1541520" cy="34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6"/>
          <a:stretch/>
        </p:blipFill>
        <p:spPr>
          <a:xfrm>
            <a:off x="5318280" y="5508720"/>
            <a:ext cx="1082520" cy="100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8323200" y="5786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, serif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7"/>
          <a:stretch/>
        </p:blipFill>
        <p:spPr>
          <a:xfrm>
            <a:off x="10072800" y="5646600"/>
            <a:ext cx="820800" cy="849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438120" y="1356120"/>
            <a:ext cx="1141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еорема Безу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делении многочлена n-й степени относительно x на двучлен x-a остаток равен значению делимого при x=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11T13:25:12Z</dcterms:created>
  <dc:creator/>
  <dc:description/>
  <dc:language>en-US</dc:language>
  <cp:lastModifiedBy>User</cp:lastModifiedBy>
  <dcterms:modified xsi:type="dcterms:W3CDTF">2023-03-17T08:19:41Z</dcterms:modified>
  <cp:revision>121</cp:revision>
  <dc:subject/>
  <dc:title>Презентация PowerPoint</dc:title>
</cp:coreProperties>
</file>