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94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D5B49-25F2-4D0C-80CE-3E55071D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1600" cy="3728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3"/>
          </p:nvPr>
        </p:nvSpPr>
        <p:spPr>
          <a:xfrm>
            <a:off x="3884760" y="9446760"/>
            <a:ext cx="29714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E0CAF-E39C-4B41-9D35-D62194C1D6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1600" cy="3728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4"/>
          </p:nvPr>
        </p:nvSpPr>
        <p:spPr>
          <a:xfrm>
            <a:off x="3884760" y="9446760"/>
            <a:ext cx="29714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1B39ED-23D7-48F6-BC72-58EB95737D2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C69-CF41-4814-ABB6-21C07C99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53D-F1C7-443B-9A2A-EAA403B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000-B32B-448F-A605-486F4CC2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882-998B-4699-8E9C-9324BF4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DBD-8108-4EFA-9F7B-5C5F1236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6109-160E-4D42-995C-9CA9CCF2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6CD-2526-4756-8065-2169323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AFF2-9435-4456-8668-195E4516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663-9FF8-4919-AE0F-2660D3F5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0536-F05A-4305-B702-ADAE6C4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1D5-69CE-4578-B054-D2B4453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A5C-90AA-42E2-BA6F-486C906C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F72-5467-4D4A-A376-5AFFFE7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6C5C-6F75-4530-BBC1-0668E38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95CF-8430-41F7-B803-C3F5C68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96B-CD50-4238-A5EC-01D9A57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221C-D932-46BE-9153-4F6C5FE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48FE-E454-41B0-A65C-80A6AE1A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A476-61E2-45CC-9B8E-A196BF8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BE4C-9038-45B1-9191-76161094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31E3-52D2-428D-B844-F0CD583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55EE-DCCD-4ED5-86B8-8BD5F14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79B-2877-4A99-8204-E5BBB0E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7BF8-0D7E-4CEE-9DB3-4C73DDEE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A7F5-D46B-4175-8076-47636F18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14DD-6015-451D-AF10-AD46CF4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D800-2092-4149-A1B3-6311888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E6A1-0E5E-45F8-8DC8-45EC4FF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AB2B-5D12-4B2C-A7DA-F6D40BDB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309F-D2AE-4E27-83B2-ACBA1C50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5A5-7340-4EB0-85FB-6456896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465-BFF4-4A98-A70D-AEFBB85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AEB-E6ED-4C1E-9039-C837AC62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729-C98F-4509-9688-776E014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5EE-1DED-4CBD-94AC-075CCF27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C53-4066-4863-8265-63C2622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444d26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444d26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6803E9-B040-43C3-A2C4-A070FBFEE9F3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0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54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6BE2AF-1168-4EBD-A0B3-F5DB384FC4F0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98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2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3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B84534-B166-42B1-8DB0-6C77114BED0C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18480" y="2773440"/>
            <a:ext cx="7259040" cy="2026080"/>
          </a:xfrm>
          <a:prstGeom prst="rect">
            <a:avLst/>
          </a:prstGeom>
          <a:solidFill>
            <a:schemeClr val="lt1"/>
          </a:solidFill>
          <a:ln w="15840">
            <a:solidFill>
              <a:srgbClr val="ffffff"/>
            </a:solidFill>
            <a:round/>
          </a:ln>
        </p:spPr>
        <p:txBody>
          <a:bodyPr anchor="t">
            <a:normAutofit fontScale="22000"/>
          </a:bodyPr>
          <a:p>
            <a:pPr marL="723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444d26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002060"/>
                </a:solidFill>
                <a:latin typeface="Palatino Linotype"/>
              </a:rPr>
              <a:t>Участники проекта: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воспитанники подготовительной группы-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      </a:t>
            </a: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Конощук Екатерина,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Климович Дарина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002060"/>
                </a:solidFill>
                <a:latin typeface="Palatino Linotype"/>
              </a:rPr>
              <a:t>Руководитель проекта: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воспитатель  Горюнова Н.В.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</p:txBody>
      </p:sp>
      <p:pic>
        <p:nvPicPr>
          <p:cNvPr id="158" name="Рисунок 16" descr="01 (1) копия.png"/>
          <p:cNvPicPr/>
          <p:nvPr/>
        </p:nvPicPr>
        <p:blipFill>
          <a:blip r:embed="rId1"/>
          <a:stretch/>
        </p:blipFill>
        <p:spPr>
          <a:xfrm>
            <a:off x="100800" y="4653000"/>
            <a:ext cx="2238840" cy="1890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7" descr="01 (2) копия.png"/>
          <p:cNvPicPr/>
          <p:nvPr/>
        </p:nvPicPr>
        <p:blipFill>
          <a:blip r:embed="rId2"/>
          <a:stretch/>
        </p:blipFill>
        <p:spPr>
          <a:xfrm>
            <a:off x="6588360" y="4807080"/>
            <a:ext cx="23868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Изображение 009.png"/>
          <p:cNvPicPr/>
          <p:nvPr/>
        </p:nvPicPr>
        <p:blipFill>
          <a:blip r:embed="rId3"/>
          <a:stretch/>
        </p:blipFill>
        <p:spPr>
          <a:xfrm>
            <a:off x="3204000" y="3786840"/>
            <a:ext cx="2952000" cy="31158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6"/>
          <p:cNvSpPr/>
          <p:nvPr/>
        </p:nvSpPr>
        <p:spPr>
          <a:xfrm>
            <a:off x="1220040" y="1772640"/>
            <a:ext cx="676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002060"/>
                </a:solidFill>
                <a:latin typeface="Palatino Linotype"/>
              </a:rPr>
              <a:t>«Питание и здоровь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1475640" y="404640"/>
            <a:ext cx="66376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П МАОУ Слад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Маслянская средняя общеобразовательная школа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детский сад «Алён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итамин С</a:t>
            </a:r>
            <a:br>
              <a:rPr sz="49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4716000" y="5013000"/>
            <a:ext cx="430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тамин С- прячется в чесноке, капусте. Луке, во всех овощах, фруктах, яг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403640" y="1340640"/>
            <a:ext cx="372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т простуды и ангины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могают апельсины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у, а лучше есть лимон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Хоть и очень кислый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E:\DCIM\100PHOTO\SAM_3692.JPG"/>
          <p:cNvPicPr/>
          <p:nvPr/>
        </p:nvPicPr>
        <p:blipFill>
          <a:blip r:embed="rId1"/>
          <a:stretch/>
        </p:blipFill>
        <p:spPr>
          <a:xfrm rot="479400">
            <a:off x="5724000" y="1844640"/>
            <a:ext cx="1982520" cy="302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0" name="Picture 5" descr="E:\DCIM\100PHOTO\SAM_3684.JPG"/>
          <p:cNvPicPr/>
          <p:nvPr/>
        </p:nvPicPr>
        <p:blipFill>
          <a:blip r:embed="rId2"/>
          <a:stretch/>
        </p:blipFill>
        <p:spPr>
          <a:xfrm rot="20834400">
            <a:off x="882720" y="2893320"/>
            <a:ext cx="2726640" cy="3607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Е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953280" y="1195920"/>
            <a:ext cx="441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Е укрепляет наш организм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ащищает от болезней и прочих катаклизмов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амедляет процессы старени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Предупреждает развитие болезней сердца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611640" y="405036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4356000" y="5229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Кушайте мясо, яйца, молоко, оре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елень, черешню, бобы и зл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E:\DCIM\100PHOTO\SAM_3744.JPG"/>
          <p:cNvPicPr/>
          <p:nvPr/>
        </p:nvPicPr>
        <p:blipFill>
          <a:blip r:embed="rId1"/>
          <a:srcRect l="0" t="-1068" r="0" b="0"/>
          <a:stretch/>
        </p:blipFill>
        <p:spPr>
          <a:xfrm rot="890400">
            <a:off x="5514480" y="2441520"/>
            <a:ext cx="2627280" cy="2278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6" name="Picture 2" descr="E:\DCIM\100PHOTO\SAM_3741.JPG"/>
          <p:cNvPicPr/>
          <p:nvPr/>
        </p:nvPicPr>
        <p:blipFill>
          <a:blip r:embed="rId2"/>
          <a:stretch/>
        </p:blipFill>
        <p:spPr>
          <a:xfrm rot="21250800">
            <a:off x="1691640" y="3428640"/>
            <a:ext cx="1980000" cy="288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</a:t>
            </a:r>
            <a:r>
              <a:rPr b="1" lang="ru-RU" sz="44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122840" y="1212840"/>
            <a:ext cx="424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 стимулирует обмен веществ,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Укрепляет здоровье кров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тгонит от нас все напаст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Лимон, апельсин и сал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forumsmile.ru/u/d/7/b/d7b1ac41f1649c2bd7c6104cb0eb4e96.gif"/>
          <p:cNvPicPr/>
          <p:nvPr/>
        </p:nvPicPr>
        <p:blipFill>
          <a:blip r:embed="rId1"/>
          <a:stretch/>
        </p:blipFill>
        <p:spPr>
          <a:xfrm>
            <a:off x="2843640" y="2967480"/>
            <a:ext cx="2304000" cy="172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DCIM\100PHOTO\SAM_3688.JPG"/>
          <p:cNvPicPr/>
          <p:nvPr/>
        </p:nvPicPr>
        <p:blipFill>
          <a:blip r:embed="rId2"/>
          <a:stretch/>
        </p:blipFill>
        <p:spPr>
          <a:xfrm rot="416400">
            <a:off x="5554080" y="1537200"/>
            <a:ext cx="3178080" cy="285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1" name="Прямоугольник 3"/>
          <p:cNvSpPr/>
          <p:nvPr/>
        </p:nvSpPr>
        <p:spPr>
          <a:xfrm>
            <a:off x="3878640" y="4871520"/>
            <a:ext cx="487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ольшинство витаминов не образуются в организме человека и не накапливаются , а поступают только вместе с пищей. Вот почему ягоды, овощи и фрукты должны быть в рационе ребенка регулярно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K:\DCIM\100PHOTO\SAM_3671.JPG"/>
          <p:cNvPicPr/>
          <p:nvPr/>
        </p:nvPicPr>
        <p:blipFill>
          <a:blip r:embed="rId3"/>
          <a:stretch/>
        </p:blipFill>
        <p:spPr>
          <a:xfrm rot="20626200">
            <a:off x="816840" y="3395520"/>
            <a:ext cx="2088000" cy="3030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609760" cy="17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Рыба, мясо, молочные продукты нужны нашему организму, чтобы быть сильными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24" name="Picture 3" descr="E:\DCIM\100PHOTO\SAM_3770.JPG"/>
          <p:cNvPicPr/>
          <p:nvPr/>
        </p:nvPicPr>
        <p:blipFill>
          <a:blip r:embed="rId1"/>
          <a:stretch/>
        </p:blipFill>
        <p:spPr>
          <a:xfrm>
            <a:off x="3202560" y="2798280"/>
            <a:ext cx="3096000" cy="374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5" name="Picture 4" descr="E:\DCIM\100PHOTO\SAM_3651.JPG"/>
          <p:cNvPicPr/>
          <p:nvPr/>
        </p:nvPicPr>
        <p:blipFill>
          <a:blip r:embed="rId2"/>
          <a:stretch/>
        </p:blipFill>
        <p:spPr>
          <a:xfrm rot="567600">
            <a:off x="6517800" y="4442760"/>
            <a:ext cx="2488680" cy="1875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6" name="Picture 5" descr="E:\DCIM\100PHOTO\SAM_3652.JPG"/>
          <p:cNvPicPr/>
          <p:nvPr/>
        </p:nvPicPr>
        <p:blipFill>
          <a:blip r:embed="rId3"/>
          <a:stretch/>
        </p:blipFill>
        <p:spPr>
          <a:xfrm rot="20787000">
            <a:off x="251280" y="2205000"/>
            <a:ext cx="2747520" cy="2060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3640" y="274320"/>
            <a:ext cx="8136720" cy="24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Овощи и фрукты содержат много витаминов, которые помогают организму расти развиваться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28" name="Picture 2" descr="K:\DCIM\100PHOTO\SAM_3664.JPG"/>
          <p:cNvPicPr/>
          <p:nvPr/>
        </p:nvPicPr>
        <p:blipFill>
          <a:blip r:embed="rId1"/>
          <a:stretch/>
        </p:blipFill>
        <p:spPr>
          <a:xfrm rot="20639400">
            <a:off x="303120" y="2681280"/>
            <a:ext cx="2724840" cy="2099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9" name="Picture 3" descr="K:\DCIM\100PHOTO\SAM_3663.JPG"/>
          <p:cNvPicPr/>
          <p:nvPr/>
        </p:nvPicPr>
        <p:blipFill>
          <a:blip r:embed="rId2"/>
          <a:stretch/>
        </p:blipFill>
        <p:spPr>
          <a:xfrm rot="1272000">
            <a:off x="6269760" y="2772720"/>
            <a:ext cx="2593080" cy="2100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0" name="Picture 4" descr="K:\DCIM\100PHOTO\SAM_3643.JPG"/>
          <p:cNvPicPr/>
          <p:nvPr/>
        </p:nvPicPr>
        <p:blipFill>
          <a:blip r:embed="rId3"/>
          <a:stretch/>
        </p:blipFill>
        <p:spPr>
          <a:xfrm>
            <a:off x="3500280" y="2205000"/>
            <a:ext cx="2307600" cy="208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1" name="Заголовок 1"/>
          <p:cNvSpPr/>
          <p:nvPr/>
        </p:nvSpPr>
        <p:spPr>
          <a:xfrm>
            <a:off x="539640" y="4725000"/>
            <a:ext cx="8229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А ещё у нас нововведение,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 теперь у нас «капустоед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64000" y="4581000"/>
            <a:ext cx="345600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Ее на зиму шинкуют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Солят, квасят, маринуют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едь капуста, как известно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о всех видах нам полезна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Она раны очищает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И от стрессов защищает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И лечебна, и вкусна –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Она нам всегда нужна.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Квашеная капуст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467640" y="1866240"/>
            <a:ext cx="3384000" cy="1218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шьте капус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оветуем ва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шьте капусту цветную, Ешьте капусту морскую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K:\DCIM\100PHOTO\SAM_3657.JPG"/>
          <p:cNvPicPr/>
          <p:nvPr/>
        </p:nvPicPr>
        <p:blipFill>
          <a:blip r:embed="rId1"/>
          <a:stretch/>
        </p:blipFill>
        <p:spPr>
          <a:xfrm rot="507600">
            <a:off x="4860000" y="1758960"/>
            <a:ext cx="3709440" cy="266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6" name="Picture 3" descr="K:\DCIM\100PHOTO\SAM_3654.JPG"/>
          <p:cNvPicPr/>
          <p:nvPr/>
        </p:nvPicPr>
        <p:blipFill>
          <a:blip r:embed="rId2"/>
          <a:stretch/>
        </p:blipFill>
        <p:spPr>
          <a:xfrm>
            <a:off x="1096560" y="3182760"/>
            <a:ext cx="1852560" cy="327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Морская капуста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187640" y="1556640"/>
            <a:ext cx="2789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смотрите! Под водо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ырос целый сад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н накормит нас с тоб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падет в сал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4572000" y="4893120"/>
            <a:ext cx="394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собенно полезна она для детей, поскольку питает мозг, организм становится выносливее, улучшаются память и з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K:\DCIM\100PHOTO\SAM_3658.JPG"/>
          <p:cNvPicPr/>
          <p:nvPr/>
        </p:nvPicPr>
        <p:blipFill>
          <a:blip r:embed="rId1"/>
          <a:stretch/>
        </p:blipFill>
        <p:spPr>
          <a:xfrm rot="1237200">
            <a:off x="5147640" y="1844640"/>
            <a:ext cx="3168000" cy="237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1" name="Picture 3" descr="K:\DCIM\100PHOTO\SAM_3655.JPG"/>
          <p:cNvPicPr/>
          <p:nvPr/>
        </p:nvPicPr>
        <p:blipFill>
          <a:blip r:embed="rId2"/>
          <a:stretch/>
        </p:blipFill>
        <p:spPr>
          <a:xfrm>
            <a:off x="1907640" y="3178800"/>
            <a:ext cx="1773000" cy="338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825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3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53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Ягоды- источники витаминов и минеральных веществ 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3" name="Picture 2" descr="K:\DCIM\100PHOTO\SAM_3680.JPG"/>
          <p:cNvPicPr/>
          <p:nvPr/>
        </p:nvPicPr>
        <p:blipFill>
          <a:blip r:embed="rId1"/>
          <a:srcRect l="0" t="0" r="0" b="-11734"/>
          <a:stretch/>
        </p:blipFill>
        <p:spPr>
          <a:xfrm>
            <a:off x="3348000" y="2061000"/>
            <a:ext cx="273600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4" name="Picture 3" descr="K:\DCIM\100PHOTO\SAM_3679.JPG"/>
          <p:cNvPicPr/>
          <p:nvPr/>
        </p:nvPicPr>
        <p:blipFill>
          <a:blip r:embed="rId2"/>
          <a:stretch/>
        </p:blipFill>
        <p:spPr>
          <a:xfrm rot="20718600">
            <a:off x="328680" y="2778840"/>
            <a:ext cx="2231280" cy="2880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5" name="Picture 4" descr="K:\DCIM\100PHOTO\SAM_3676.JPG"/>
          <p:cNvPicPr/>
          <p:nvPr/>
        </p:nvPicPr>
        <p:blipFill>
          <a:blip r:embed="rId3"/>
          <a:stretch/>
        </p:blipFill>
        <p:spPr>
          <a:xfrm rot="1103400">
            <a:off x="6832800" y="2559960"/>
            <a:ext cx="1803240" cy="302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46" name="Прямоугольник 2"/>
          <p:cNvSpPr/>
          <p:nvPr/>
        </p:nvSpPr>
        <p:spPr>
          <a:xfrm rot="1105200">
            <a:off x="6416280" y="571140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рус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"/>
          <p:cNvSpPr/>
          <p:nvPr/>
        </p:nvSpPr>
        <p:spPr>
          <a:xfrm rot="20709000">
            <a:off x="1541520" y="5684400"/>
            <a:ext cx="137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лу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145400" y="533808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лю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:\DCIM\100PHOTO\SAM_3767.JPG"/>
          <p:cNvPicPr/>
          <p:nvPr/>
        </p:nvPicPr>
        <p:blipFill>
          <a:blip r:embed="rId1"/>
          <a:srcRect l="0" t="0" r="-425" b="0"/>
          <a:stretch/>
        </p:blipFill>
        <p:spPr>
          <a:xfrm>
            <a:off x="155520" y="4817520"/>
            <a:ext cx="400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0" name="Picture 5" descr="E:\DCIM\100PHOTO\SAM_3746.JPG"/>
          <p:cNvPicPr/>
          <p:nvPr/>
        </p:nvPicPr>
        <p:blipFill>
          <a:blip r:embed="rId2"/>
          <a:stretch/>
        </p:blipFill>
        <p:spPr>
          <a:xfrm>
            <a:off x="6300360" y="4530600"/>
            <a:ext cx="2556360" cy="2158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51" name="Прямоугольник 1"/>
          <p:cNvSpPr/>
          <p:nvPr/>
        </p:nvSpPr>
        <p:spPr>
          <a:xfrm>
            <a:off x="611640" y="285840"/>
            <a:ext cx="8103600" cy="639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002060"/>
                </a:solidFill>
                <a:latin typeface="Palatino Linotype"/>
              </a:rPr>
              <a:t>Витаминный 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E:\DCIM\100PHOTO\SAM_3737.JPG"/>
          <p:cNvPicPr/>
          <p:nvPr/>
        </p:nvPicPr>
        <p:blipFill>
          <a:blip r:embed="rId3"/>
          <a:stretch/>
        </p:blipFill>
        <p:spPr>
          <a:xfrm>
            <a:off x="5942880" y="1371960"/>
            <a:ext cx="2841480" cy="2139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3" name="Picture 2" descr="E:\DCIM\100PHOTO\SAM_3736.JPG"/>
          <p:cNvPicPr/>
          <p:nvPr/>
        </p:nvPicPr>
        <p:blipFill>
          <a:blip r:embed="rId4"/>
          <a:srcRect l="0" t="0" r="-236" b="0"/>
          <a:stretch/>
        </p:blipFill>
        <p:spPr>
          <a:xfrm>
            <a:off x="251640" y="1355760"/>
            <a:ext cx="3674520" cy="2140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4" name="Рисунок 3" descr=""/>
          <p:cNvPicPr/>
          <p:nvPr/>
        </p:nvPicPr>
        <p:blipFill>
          <a:blip r:embed="rId5"/>
          <a:stretch/>
        </p:blipFill>
        <p:spPr>
          <a:xfrm>
            <a:off x="3601440" y="3103560"/>
            <a:ext cx="2842200" cy="3027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23640" y="357120"/>
            <a:ext cx="831996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Спектак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«А полезные продукты – это овощи и фрукты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4000" spc="-1" strike="noStrike">
                <a:solidFill>
                  <a:srgbClr val="dd99a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E:\DCIM\100PHOTO\SAM_3726.JPG"/>
          <p:cNvPicPr/>
          <p:nvPr/>
        </p:nvPicPr>
        <p:blipFill>
          <a:blip r:embed="rId1"/>
          <a:stretch/>
        </p:blipFill>
        <p:spPr>
          <a:xfrm rot="20529000">
            <a:off x="353520" y="2411280"/>
            <a:ext cx="3221640" cy="2416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7" name="Picture 3" descr="E:\DCIM\100PHOTO\SAM_3731.JPG"/>
          <p:cNvPicPr/>
          <p:nvPr/>
        </p:nvPicPr>
        <p:blipFill>
          <a:blip r:embed="rId2"/>
          <a:stretch/>
        </p:blipFill>
        <p:spPr>
          <a:xfrm rot="676200">
            <a:off x="4739400" y="2499480"/>
            <a:ext cx="4020120" cy="3015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8" name="Picture 4" descr="E:\DCIM\100PHOTO\SAM_3709.JPG"/>
          <p:cNvPicPr/>
          <p:nvPr/>
        </p:nvPicPr>
        <p:blipFill>
          <a:blip r:embed="rId3"/>
          <a:stretch/>
        </p:blipFill>
        <p:spPr>
          <a:xfrm>
            <a:off x="1629720" y="5109120"/>
            <a:ext cx="285372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«Питание и здоровье»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323640" y="1772640"/>
            <a:ext cx="856872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Palatino Linotype"/>
              </a:rPr>
              <a:t>Цель проект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ормировать  представление о необходимости заботы о своём здоровье и в первую очередь о важности правильного питания, как составной части   сохранения и укрепления здоровья.</a:t>
            </a:r>
            <a:r>
              <a:rPr b="1" i="1" lang="ru-RU" sz="40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формировать представление детей о продуктах питания, их разнообразии и жизненно важной ценности, о влиянии пищи на организм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ормировать привычку вести здоровый образ жизни и серьёзно относиться к собственному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точнить знания детей о здоровом питании, о пользе вита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риобщить  родителей к культуре здоров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:\DCIM\100PHOTO\SAM_3752.JPG"/>
          <p:cNvPicPr/>
          <p:nvPr/>
        </p:nvPicPr>
        <p:blipFill>
          <a:blip r:embed="rId1"/>
          <a:stretch/>
        </p:blipFill>
        <p:spPr>
          <a:xfrm rot="20417400">
            <a:off x="382680" y="1777320"/>
            <a:ext cx="2483280" cy="186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0" name="Picture 3" descr="E:\DCIM\100PHOTO\SAM_3753.JPG"/>
          <p:cNvPicPr/>
          <p:nvPr/>
        </p:nvPicPr>
        <p:blipFill>
          <a:blip r:embed="rId2"/>
          <a:stretch/>
        </p:blipFill>
        <p:spPr>
          <a:xfrm rot="740400">
            <a:off x="5920200" y="1813680"/>
            <a:ext cx="2861280" cy="2145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1" name="Picture 4" descr="E:\DCIM\100PHOTO\SAM_3757.JPG"/>
          <p:cNvPicPr/>
          <p:nvPr/>
        </p:nvPicPr>
        <p:blipFill>
          <a:blip r:embed="rId3"/>
          <a:stretch/>
        </p:blipFill>
        <p:spPr>
          <a:xfrm>
            <a:off x="3107880" y="3107160"/>
            <a:ext cx="2542320" cy="2716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2" name="Picture 5" descr="E:\DCIM\100PHOTO\SAM_3762.JPG"/>
          <p:cNvPicPr/>
          <p:nvPr/>
        </p:nvPicPr>
        <p:blipFill>
          <a:blip r:embed="rId4"/>
          <a:stretch/>
        </p:blipFill>
        <p:spPr>
          <a:xfrm rot="20227200">
            <a:off x="530640" y="4201200"/>
            <a:ext cx="2187000" cy="2102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3" name="Picture 6" descr="E:\DCIM\100PHOTO\SAM_3763.JPG"/>
          <p:cNvPicPr/>
          <p:nvPr/>
        </p:nvPicPr>
        <p:blipFill>
          <a:blip r:embed="rId5"/>
          <a:srcRect l="-5086" t="0" r="0" b="0"/>
          <a:stretch/>
        </p:blipFill>
        <p:spPr>
          <a:xfrm rot="1936800">
            <a:off x="6318720" y="4858920"/>
            <a:ext cx="1884600" cy="1423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64" name="Прямоугольник 1"/>
          <p:cNvSpPr/>
          <p:nvPr/>
        </p:nvSpPr>
        <p:spPr>
          <a:xfrm>
            <a:off x="900360" y="332640"/>
            <a:ext cx="771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Викторина –развлечение «Будьте здоровы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DCIM\100PHOTO\SAM_3816.JPG"/>
          <p:cNvPicPr/>
          <p:nvPr/>
        </p:nvPicPr>
        <p:blipFill>
          <a:blip r:embed="rId1"/>
          <a:stretch/>
        </p:blipFill>
        <p:spPr>
          <a:xfrm rot="20922000">
            <a:off x="538560" y="2781000"/>
            <a:ext cx="273096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6" name="Picture 3" descr="F:\DCIM\100PHOTO\SAM_3815.JPG"/>
          <p:cNvPicPr/>
          <p:nvPr/>
        </p:nvPicPr>
        <p:blipFill>
          <a:blip r:embed="rId2"/>
          <a:stretch/>
        </p:blipFill>
        <p:spPr>
          <a:xfrm rot="342000">
            <a:off x="6345000" y="2752200"/>
            <a:ext cx="2479320" cy="3104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7" name="Picture 4" descr="F:\DCIM\100PHOTO\SAM_3813.JPG"/>
          <p:cNvPicPr/>
          <p:nvPr/>
        </p:nvPicPr>
        <p:blipFill>
          <a:blip r:embed="rId3"/>
          <a:srcRect l="0" t="-136" r="0" b="0"/>
          <a:stretch/>
        </p:blipFill>
        <p:spPr>
          <a:xfrm>
            <a:off x="3564000" y="1874160"/>
            <a:ext cx="2417040" cy="213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68" name="Прямоугольник 2"/>
          <p:cNvSpPr/>
          <p:nvPr/>
        </p:nvSpPr>
        <p:spPr>
          <a:xfrm>
            <a:off x="755640" y="404640"/>
            <a:ext cx="756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Анкетирование родителей «Питание в сем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1046520" y="404640"/>
            <a:ext cx="71434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Готовим салат  овощ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 rot="1159200">
            <a:off x="6567120" y="1746720"/>
            <a:ext cx="2139840" cy="223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1" name="Рисунок 4" descr=""/>
          <p:cNvPicPr/>
          <p:nvPr/>
        </p:nvPicPr>
        <p:blipFill>
          <a:blip r:embed="rId2"/>
          <a:stretch/>
        </p:blipFill>
        <p:spPr>
          <a:xfrm rot="20298600">
            <a:off x="558000" y="1847520"/>
            <a:ext cx="2061360" cy="187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2" name="Рисунок 5" descr=""/>
          <p:cNvPicPr/>
          <p:nvPr/>
        </p:nvPicPr>
        <p:blipFill>
          <a:blip r:embed="rId3"/>
          <a:stretch/>
        </p:blipFill>
        <p:spPr>
          <a:xfrm rot="1162200">
            <a:off x="6299640" y="4246200"/>
            <a:ext cx="2302200" cy="2126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3" name="Рисунок 6" descr=""/>
          <p:cNvPicPr/>
          <p:nvPr/>
        </p:nvPicPr>
        <p:blipFill>
          <a:blip r:embed="rId4"/>
          <a:stretch/>
        </p:blipFill>
        <p:spPr>
          <a:xfrm rot="20158800">
            <a:off x="639000" y="4021560"/>
            <a:ext cx="2309400" cy="2303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74" name="Прямоугольник 8"/>
          <p:cNvSpPr/>
          <p:nvPr/>
        </p:nvSpPr>
        <p:spPr>
          <a:xfrm>
            <a:off x="2925720" y="5310360"/>
            <a:ext cx="3385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грядки овощи приш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негрет нам прине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за вкусные растенья? Просто объед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746440" y="1539720"/>
            <a:ext cx="374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высился интерес родителей к меню детского сада, стали использовать рецепты из меню ДОУ для домашнего пригот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>
            <a:off x="3492000" y="3016800"/>
            <a:ext cx="1804680" cy="17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5"/>
          <p:cNvSpPr/>
          <p:nvPr/>
        </p:nvSpPr>
        <p:spPr>
          <a:xfrm>
            <a:off x="971640" y="455040"/>
            <a:ext cx="7214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:\проект\WP_20150224_17_40_27_Pro__highres.jpg"/>
          <p:cNvPicPr/>
          <p:nvPr/>
        </p:nvPicPr>
        <p:blipFill>
          <a:blip r:embed="rId1"/>
          <a:stretch/>
        </p:blipFill>
        <p:spPr>
          <a:xfrm rot="586200">
            <a:off x="6148080" y="2688120"/>
            <a:ext cx="2681280" cy="1833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9" name="Picture 3" descr="H:\проект\WP_20150224_17_40_13_Pro.jpg"/>
          <p:cNvPicPr/>
          <p:nvPr/>
        </p:nvPicPr>
        <p:blipFill>
          <a:blip r:embed="rId2"/>
          <a:stretch/>
        </p:blipFill>
        <p:spPr>
          <a:xfrm>
            <a:off x="2915640" y="4616280"/>
            <a:ext cx="3586320" cy="208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80" name="Picture 4" descr="H:\проект\WP_20150224_17_38_35_Pro__highres.jpg"/>
          <p:cNvPicPr/>
          <p:nvPr/>
        </p:nvPicPr>
        <p:blipFill>
          <a:blip r:embed="rId3"/>
          <a:srcRect l="0" t="-323" r="0" b="0"/>
          <a:stretch/>
        </p:blipFill>
        <p:spPr>
          <a:xfrm rot="21135600">
            <a:off x="208440" y="2202120"/>
            <a:ext cx="2761560" cy="2238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81" name="Прямоугольник 1"/>
          <p:cNvSpPr/>
          <p:nvPr/>
        </p:nvSpPr>
        <p:spPr>
          <a:xfrm>
            <a:off x="1673640" y="1119960"/>
            <a:ext cx="627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Готовим салат фрукт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2492280" y="2444400"/>
            <a:ext cx="4095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Мы за столик с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артучки над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удем резать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кусны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риготовим мы са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гощенью каждый р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1331640" y="1928520"/>
            <a:ext cx="6624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1. Мы  узнали о 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сколько важно есть полезную пищ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 том, как влияет еда на наш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2. Что не правильное питание ведет к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рушению процессов роста 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худшению состояния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рушению обменны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нижению иммун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Вывод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1640" y="2349000"/>
            <a:ext cx="8609760" cy="32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Не смотря на то, что вопросам питания дошкольников в современном обществе  отведена особая роль, рост болезней у детей, вызванных неправильным питанием, заметно увеличивается. Одной из причин неправильного питания является низкий уровень информированности родителей  о культуре здорового питания.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marL="788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Исходя из этого разработка данного проекта актуальна. 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60" y="404640"/>
            <a:ext cx="893340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Актуальность создания проекта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Ι этап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«Выбор темы»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2239560" y="3937680"/>
            <a:ext cx="4404240" cy="103500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мы хотим узнать о себе, о своём здоровь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5156280" y="5445360"/>
            <a:ext cx="3600000" cy="103032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ак нам найти ответы на наши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251640" y="5445360"/>
            <a:ext cx="4032000" cy="103032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мы знаем о пользе продуктов, для нашего здоров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2558520" y="1892520"/>
            <a:ext cx="4003920" cy="79164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Модель «Трех вопрос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верх 14"/>
          <p:cNvSpPr/>
          <p:nvPr/>
        </p:nvSpPr>
        <p:spPr>
          <a:xfrm rot="12439200">
            <a:off x="1729440" y="2756880"/>
            <a:ext cx="287640" cy="242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73" name="Стрелка вверх 15"/>
          <p:cNvSpPr/>
          <p:nvPr/>
        </p:nvSpPr>
        <p:spPr>
          <a:xfrm rot="10800000">
            <a:off x="4284360" y="2902680"/>
            <a:ext cx="276480" cy="9583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74" name="Стрелка вверх 16"/>
          <p:cNvSpPr/>
          <p:nvPr/>
        </p:nvSpPr>
        <p:spPr>
          <a:xfrm rot="9600000">
            <a:off x="7006320" y="2867040"/>
            <a:ext cx="287640" cy="242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260640"/>
            <a:ext cx="6984360" cy="791640"/>
          </a:xfrm>
          <a:prstGeom prst="rect">
            <a:avLst/>
          </a:prstGeom>
          <a:noFill/>
          <a:ln w="1584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2060"/>
                </a:solidFill>
                <a:latin typeface="Palatino Linotype"/>
              </a:rPr>
              <a:t>II </a:t>
            </a: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этап – сбор информации: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6" name="Овал 2"/>
          <p:cNvSpPr/>
          <p:nvPr/>
        </p:nvSpPr>
        <p:spPr>
          <a:xfrm>
            <a:off x="3326040" y="3042720"/>
            <a:ext cx="2948400" cy="125028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Сбор с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5947200" y="4864320"/>
            <a:ext cx="319644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Организация экскур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6353280" y="1572840"/>
            <a:ext cx="266400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одбор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6"/>
          <p:cNvSpPr/>
          <p:nvPr/>
        </p:nvSpPr>
        <p:spPr>
          <a:xfrm>
            <a:off x="611640" y="1700640"/>
            <a:ext cx="249804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Интернет 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7"/>
          <p:cNvSpPr/>
          <p:nvPr/>
        </p:nvSpPr>
        <p:spPr>
          <a:xfrm>
            <a:off x="3051720" y="5733360"/>
            <a:ext cx="3725640" cy="9140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Организация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47520" y="4941000"/>
            <a:ext cx="3074400" cy="9140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ривлеч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право 12"/>
          <p:cNvSpPr/>
          <p:nvPr/>
        </p:nvSpPr>
        <p:spPr>
          <a:xfrm rot="19394400">
            <a:off x="6279840" y="264924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3" name="Стрелка вправо 13"/>
          <p:cNvSpPr/>
          <p:nvPr/>
        </p:nvSpPr>
        <p:spPr>
          <a:xfrm rot="13575000">
            <a:off x="2372760" y="2838960"/>
            <a:ext cx="9201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4" name="Стрелка вправо 16"/>
          <p:cNvSpPr/>
          <p:nvPr/>
        </p:nvSpPr>
        <p:spPr>
          <a:xfrm rot="5400000">
            <a:off x="4311720" y="474408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5" name="Стрелка вправо 17"/>
          <p:cNvSpPr/>
          <p:nvPr/>
        </p:nvSpPr>
        <p:spPr>
          <a:xfrm rot="8552400">
            <a:off x="2458440" y="434376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6" name="Стрелка вправо 18"/>
          <p:cNvSpPr/>
          <p:nvPr/>
        </p:nvSpPr>
        <p:spPr>
          <a:xfrm rot="2892600">
            <a:off x="6283800" y="4176360"/>
            <a:ext cx="8960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11640" y="2781000"/>
            <a:ext cx="8092080" cy="3450240"/>
          </a:xfrm>
          <a:prstGeom prst="rect">
            <a:avLst/>
          </a:prstGeom>
          <a:noFill/>
          <a:ln w="15840">
            <a:noFill/>
          </a:ln>
        </p:spPr>
        <p:txBody>
          <a:bodyPr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оздание брошюры для родителей «Питание и здоровье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Викторина –развлечение «Будьте здоровы!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Анкетирование родителей «Питание в семье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оздание витаминного кроссворда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пектакль «А полезные продукты – это овощи и фрукты!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2060"/>
                </a:solidFill>
                <a:latin typeface="Palatino Linotype"/>
              </a:rPr>
              <a:t>III </a:t>
            </a: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 этап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реализация проект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:\DCIM\100PHOTO\SAM_3799.JPG"/>
          <p:cNvPicPr/>
          <p:nvPr/>
        </p:nvPicPr>
        <p:blipFill>
          <a:blip r:embed="rId1"/>
          <a:stretch/>
        </p:blipFill>
        <p:spPr>
          <a:xfrm rot="20151000">
            <a:off x="937080" y="3331440"/>
            <a:ext cx="1711080" cy="331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07320" y="335520"/>
            <a:ext cx="65923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539640" y="2061000"/>
            <a:ext cx="349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Помни истину простую -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Лучше видит только тот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Кто жует морковь сырую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Или пьёт морковный с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4428000" y="5661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йти его можно в молоке, моркови, зеленом л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8" descr="215062988558.png"/>
          <p:cNvPicPr/>
          <p:nvPr/>
        </p:nvPicPr>
        <p:blipFill>
          <a:blip r:embed="rId2"/>
          <a:stretch/>
        </p:blipFill>
        <p:spPr>
          <a:xfrm>
            <a:off x="3556440" y="3124080"/>
            <a:ext cx="1742760" cy="2508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E:\DCIM\100PHOTO\SAM_3692.JPG"/>
          <p:cNvPicPr/>
          <p:nvPr/>
        </p:nvPicPr>
        <p:blipFill>
          <a:blip r:embed="rId3"/>
          <a:stretch/>
        </p:blipFill>
        <p:spPr>
          <a:xfrm rot="465000">
            <a:off x="5641920" y="1566720"/>
            <a:ext cx="2957040" cy="3652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5" name="Прямоугольник 1"/>
          <p:cNvSpPr/>
          <p:nvPr/>
        </p:nvSpPr>
        <p:spPr>
          <a:xfrm>
            <a:off x="297000" y="161640"/>
            <a:ext cx="5354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Создание брошюры «Питание и здоров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6280" y="26064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Д 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430560" y="1402560"/>
            <a:ext cx="403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Рыбий жир всего полезней!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Хоть противный - надо пить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н спасает от болезн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Без болезней - лучше ж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4068000" y="4797000"/>
            <a:ext cx="4896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тамин Д сохраняет зубы. Без него зубы становятся хрупкими. Его можно найти в молоке, рыбе , твороге. Загорая на солнце , мы тоже получаем витамин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K:\DCIM\100PHOTO\SAM_3668.JPG"/>
          <p:cNvPicPr/>
          <p:nvPr/>
        </p:nvPicPr>
        <p:blipFill>
          <a:blip r:embed="rId1"/>
          <a:stretch/>
        </p:blipFill>
        <p:spPr>
          <a:xfrm rot="20794800">
            <a:off x="474120" y="3560760"/>
            <a:ext cx="3321000" cy="273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0" name="Picture 3" descr="K:\DCIM\100PHOTO\SAM_3666.JPG"/>
          <p:cNvPicPr/>
          <p:nvPr/>
        </p:nvPicPr>
        <p:blipFill>
          <a:blip r:embed="rId2"/>
          <a:stretch/>
        </p:blipFill>
        <p:spPr>
          <a:xfrm>
            <a:off x="5342760" y="1502640"/>
            <a:ext cx="3050280" cy="275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384680" cy="92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Palatino Linotype"/>
              </a:rPr>
              <a:t>Витамин В 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1151640" y="126864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чень важно спозаранку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сть за завтраком овсянку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ерный хлеб полезен нам-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не только по у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E:\DCIM\100PHOTO\SAM_3702.JPG"/>
          <p:cNvPicPr/>
          <p:nvPr/>
        </p:nvPicPr>
        <p:blipFill>
          <a:blip r:embed="rId1"/>
          <a:stretch/>
        </p:blipFill>
        <p:spPr>
          <a:xfrm>
            <a:off x="6124320" y="1647000"/>
            <a:ext cx="2088720" cy="343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4" name="Picture 3" descr="E:\DCIM\100PHOTO\SAM_3699.JPG"/>
          <p:cNvPicPr/>
          <p:nvPr/>
        </p:nvPicPr>
        <p:blipFill>
          <a:blip r:embed="rId2"/>
          <a:stretch/>
        </p:blipFill>
        <p:spPr>
          <a:xfrm>
            <a:off x="375120" y="3147840"/>
            <a:ext cx="3456000" cy="3141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5" name="Прямоугольник 2"/>
          <p:cNvSpPr/>
          <p:nvPr/>
        </p:nvSpPr>
        <p:spPr>
          <a:xfrm>
            <a:off x="4356000" y="537336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Геркулес», гречка дают организму энергию, чтобы двигаться, хорошо думать, не уст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997</TotalTime>
  <Application>LibreOffice/7.4.7.2$Linux_X86_64 LibreOffice_project/40$Build-2</Application>
  <AppVersion>15.0000</AppVersion>
  <Words>637</Words>
  <Paragraphs>113</Paragraphs>
  <Company>Мэрия города Новосибирск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0:54:02Z</dcterms:created>
  <dc:creator>DS</dc:creator>
  <dc:description/>
  <dc:language>en-US</dc:language>
  <cp:lastModifiedBy>Улыбнись</cp:lastModifiedBy>
  <cp:lastPrinted>2015-03-02T10:43:02Z</cp:lastPrinted>
  <dcterms:modified xsi:type="dcterms:W3CDTF">2016-01-22T19:02:26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