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52.png" ContentType="image/pn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gif" ContentType="image/gif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26.jpeg" ContentType="image/jpeg"/>
  <Override PartName="/ppt/media/image5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28.jpeg" ContentType="image/jpeg"/>
  <Override PartName="/ppt/media/image51.jpeg" ContentType="image/jpe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945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677007-8F1C-4396-9010-9C3042953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1600" cy="37285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04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13"/>
          </p:nvPr>
        </p:nvSpPr>
        <p:spPr>
          <a:xfrm>
            <a:off x="3884760" y="9446760"/>
            <a:ext cx="29714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0CE6FB-4745-479E-A6A9-39B140327039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1600" cy="37285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04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4"/>
          </p:nvPr>
        </p:nvSpPr>
        <p:spPr>
          <a:xfrm>
            <a:off x="3884760" y="9446760"/>
            <a:ext cx="29714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D5D48AD-74C6-48EF-A7C0-165A76294E42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1725-39B4-4EE6-B49F-1437C2078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1ABC-D334-4714-9520-A417C133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F5AF-99AE-4E32-AFD2-3559301CA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9044-277F-46DF-91D6-4AE70CA0A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9C06-B6DC-439B-BE3B-75CDD6F63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AD7D-A25A-4E4F-9687-A27B6C82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81E4-A622-43A1-8998-8654A665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79C95-94F2-4776-8510-19007E87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DA42-9537-4111-9822-EF66B16A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400"/>
            <a:ext cx="822924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62B6-0811-4309-B0FA-B24AD8A7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A3545-BCE6-490C-8FE2-361EEF81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6174-D5BD-4891-92EF-B5E045BE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E943-2AA7-4B1B-B87E-79AD4785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3DF2-14F1-4593-A719-C697C9A2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D2C2-A91B-415B-A04D-709C799D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D4BC-B106-4AAA-A5E5-57EEAECF3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64F4-AD11-435C-8D56-CA03078A9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E1624-05BD-4B8E-A8A4-DA92084D8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CBFB6-3F6D-4D1E-94D0-56B147FE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67AB4-2B58-4D2A-80B0-0C5D6DD3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FB470-F554-449A-8C9C-678BD369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33DD1-9D20-4B61-8605-9DFFEE91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E46B-ABB7-4A05-82BA-279DFC71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338400"/>
            <a:ext cx="822924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7EB4A-D341-4767-B59A-856EC33C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C7AF1-EE23-4747-AE1D-9DC9D4FE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2FA0A-CB14-4484-977F-BF2D1C9D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98537-5687-442F-80DA-D9EFE0D0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403C9-C002-43AD-A549-9456DF97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CD623-81FA-47D3-BB91-56FD709AB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43212-3804-4C8B-89EF-1EA206F3F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D2CC-FAC0-4170-B987-C83159D5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68AF-EBDD-4C76-8E10-147333CA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400"/>
            <a:ext cx="822924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8E60-B961-4C02-BEE7-DAB28F23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071A-B59C-4E47-B3F5-505A316D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AD20-E41A-4A73-9D1E-AD682583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8C56-1EBF-4B3B-A144-D49F822A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c9d3be"/>
              </a:gs>
              <a:gs pos="100000">
                <a:srgbClr val="7d9263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2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6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5b592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444d26"/>
                </a:solidFill>
                <a:latin typeface="Candara"/>
              </a:rPr>
              <a:t>Образец текста</a:t>
            </a: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  <a:p>
            <a:pPr lvl="1" marL="576360" indent="-274320">
              <a:lnSpc>
                <a:spcPct val="100000"/>
              </a:lnSpc>
              <a:spcBef>
                <a:spcPts val="439"/>
              </a:spcBef>
              <a:buClr>
                <a:srgbClr val="a5b592"/>
              </a:buClr>
              <a:buFont typeface="Symbol"/>
              <a:buChar char=""/>
            </a:pPr>
            <a:r>
              <a:rPr b="0" lang="ru-RU" sz="2200" spc="-1" strike="noStrike">
                <a:solidFill>
                  <a:srgbClr val="444d26"/>
                </a:solidFill>
                <a:latin typeface="Candara"/>
              </a:rPr>
              <a:t>Второй уровень</a:t>
            </a:r>
            <a:endParaRPr b="0" lang="ru-RU" sz="2200" spc="-1" strike="noStrike">
              <a:solidFill>
                <a:srgbClr val="444d26"/>
              </a:solidFill>
              <a:latin typeface="Candara"/>
            </a:endParaRPr>
          </a:p>
          <a:p>
            <a:pPr lvl="2" marL="855720" indent="-228600">
              <a:lnSpc>
                <a:spcPct val="100000"/>
              </a:lnSpc>
              <a:spcBef>
                <a:spcPts val="400"/>
              </a:spcBef>
              <a:buClr>
                <a:srgbClr val="a5b592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444d26"/>
                </a:solidFill>
                <a:latin typeface="Candara"/>
              </a:rPr>
              <a:t>Третий уровень</a:t>
            </a:r>
            <a:endParaRPr b="0" lang="ru-RU" sz="2000" spc="-1" strike="noStrike">
              <a:solidFill>
                <a:srgbClr val="444d26"/>
              </a:solidFill>
              <a:latin typeface="Candara"/>
            </a:endParaRPr>
          </a:p>
          <a:p>
            <a:pPr lvl="3" marL="1143000" indent="-228600">
              <a:lnSpc>
                <a:spcPct val="100000"/>
              </a:lnSpc>
              <a:spcBef>
                <a:spcPts val="360"/>
              </a:spcBef>
              <a:buClr>
                <a:srgbClr val="a5b592"/>
              </a:buClr>
              <a:buFont typeface="Symbol"/>
              <a:buChar char=""/>
            </a:pPr>
            <a:r>
              <a:rPr b="0" lang="ru-RU" sz="1800" spc="-1" strike="noStrike">
                <a:solidFill>
                  <a:srgbClr val="444d26"/>
                </a:solidFill>
                <a:latin typeface="Candara"/>
              </a:rPr>
              <a:t>Четвертый уровень</a:t>
            </a:r>
            <a:endParaRPr b="0" lang="ru-RU" sz="1800" spc="-1" strike="noStrike">
              <a:solidFill>
                <a:srgbClr val="444d26"/>
              </a:solidFill>
              <a:latin typeface="Candara"/>
            </a:endParaRPr>
          </a:p>
          <a:p>
            <a:pPr lvl="4" marL="1463040" indent="-228600">
              <a:lnSpc>
                <a:spcPct val="100000"/>
              </a:lnSpc>
              <a:spcBef>
                <a:spcPts val="320"/>
              </a:spcBef>
              <a:buClr>
                <a:srgbClr val="a5b592"/>
              </a:buClr>
              <a:buFont typeface="Symbol"/>
              <a:buChar char=""/>
            </a:pPr>
            <a:r>
              <a:rPr b="0" lang="ru-RU" sz="1600" spc="-1" strike="noStrike">
                <a:solidFill>
                  <a:srgbClr val="444d26"/>
                </a:solidFill>
                <a:latin typeface="Candara"/>
              </a:rPr>
              <a:t>Пятый уровень</a:t>
            </a:r>
            <a:endParaRPr b="0" lang="ru-RU" sz="16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444d26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444d26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000" spc="-1" strike="noStrike">
                <a:solidFill>
                  <a:srgbClr val="444d26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B669418-00BF-4399-BF1A-558F266AB765}" type="slidenum">
              <a:rPr b="0" lang="en-US" sz="1000" spc="-1" strike="noStrike">
                <a:solidFill>
                  <a:srgbClr val="444d26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3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c9d3be"/>
              </a:gs>
              <a:gs pos="100000">
                <a:srgbClr val="7d9263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49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50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54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444d26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444d26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000" spc="-1" strike="noStrike">
                <a:solidFill>
                  <a:srgbClr val="444d26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DAE5872-0A75-420D-8CDB-68AE28E60CBC}" type="slidenum">
              <a:rPr b="0" lang="en-US" sz="1000" spc="-1" strike="noStrike">
                <a:solidFill>
                  <a:srgbClr val="444d26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444d26"/>
                </a:solidFill>
                <a:latin typeface="Candara"/>
              </a:rPr>
              <a:t>Click to edit the outline text format</a:t>
            </a: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444d26"/>
                </a:solidFill>
                <a:latin typeface="Candara"/>
              </a:rPr>
              <a:t>Second Outline Level</a:t>
            </a:r>
            <a:endParaRPr b="0" lang="ru-RU" sz="2000" spc="-1" strike="noStrike">
              <a:solidFill>
                <a:srgbClr val="444d26"/>
              </a:solidFill>
              <a:latin typeface="Candar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444d26"/>
                </a:solidFill>
                <a:latin typeface="Candara"/>
              </a:rPr>
              <a:t>Third Outline Level</a:t>
            </a:r>
            <a:endParaRPr b="0" lang="ru-RU" sz="1800" spc="-1" strike="noStrike">
              <a:solidFill>
                <a:srgbClr val="444d26"/>
              </a:solidFill>
              <a:latin typeface="Candar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444d26"/>
                </a:solidFill>
                <a:latin typeface="Candara"/>
              </a:rPr>
              <a:t>Fourth Outline Level</a:t>
            </a:r>
            <a:endParaRPr b="0" lang="ru-RU" sz="1600" spc="-1" strike="noStrike">
              <a:solidFill>
                <a:srgbClr val="444d26"/>
              </a:solidFill>
              <a:latin typeface="Candar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44d26"/>
                </a:solidFill>
                <a:latin typeface="Candara"/>
              </a:rPr>
              <a:t>Fifth Outline Level</a:t>
            </a:r>
            <a:endParaRPr b="0" lang="ru-RU" sz="2000" spc="-1" strike="noStrike">
              <a:solidFill>
                <a:srgbClr val="444d26"/>
              </a:solidFill>
              <a:latin typeface="Candar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44d26"/>
                </a:solidFill>
                <a:latin typeface="Candara"/>
              </a:rPr>
              <a:t>Sixth Outline Level</a:t>
            </a:r>
            <a:endParaRPr b="0" lang="ru-RU" sz="2000" spc="-1" strike="noStrike">
              <a:solidFill>
                <a:srgbClr val="444d26"/>
              </a:solidFill>
              <a:latin typeface="Candar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44d26"/>
                </a:solidFill>
                <a:latin typeface="Candara"/>
              </a:rPr>
              <a:t>Seventh Outline Level</a:t>
            </a:r>
            <a:endParaRPr b="0" lang="ru-RU" sz="2000" spc="-1" strike="noStrike">
              <a:solidFill>
                <a:srgbClr val="444d26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 hidden="1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c9d3be"/>
              </a:gs>
              <a:gs pos="100000">
                <a:srgbClr val="7d9263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97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98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9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1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102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03" name="Rounded Rectangle 11"/>
          <p:cNvSpPr/>
          <p:nvPr/>
        </p:nvSpPr>
        <p:spPr>
          <a:xfrm>
            <a:off x="228600" y="228600"/>
            <a:ext cx="8695440" cy="1425960"/>
          </a:xfrm>
          <a:prstGeom prst="roundRect">
            <a:avLst>
              <a:gd name="adj" fmla="val 7136"/>
            </a:avLst>
          </a:prstGeom>
          <a:gradFill rotWithShape="0">
            <a:gsLst>
              <a:gs pos="10000">
                <a:srgbClr val="c9d3be"/>
              </a:gs>
              <a:gs pos="100000">
                <a:srgbClr val="7d9263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104" name="Group 5"/>
          <p:cNvGrpSpPr/>
          <p:nvPr/>
        </p:nvGrpSpPr>
        <p:grpSpPr>
          <a:xfrm>
            <a:off x="211680" y="714240"/>
            <a:ext cx="8723160" cy="1329480"/>
            <a:chOff x="211680" y="714240"/>
            <a:chExt cx="8723160" cy="1329480"/>
          </a:xfrm>
        </p:grpSpPr>
        <p:sp>
          <p:nvSpPr>
            <p:cNvPr id="105" name="Freeform 14"/>
            <p:cNvSpPr/>
            <p:nvPr/>
          </p:nvSpPr>
          <p:spPr>
            <a:xfrm>
              <a:off x="6047280" y="85932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6" name="Freeform 18"/>
            <p:cNvSpPr/>
            <p:nvPr/>
          </p:nvSpPr>
          <p:spPr>
            <a:xfrm>
              <a:off x="2619360" y="73080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7" name="Freeform 22"/>
            <p:cNvSpPr/>
            <p:nvPr/>
          </p:nvSpPr>
          <p:spPr>
            <a:xfrm>
              <a:off x="2828880" y="74304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8" name="Freeform 26"/>
            <p:cNvSpPr/>
            <p:nvPr/>
          </p:nvSpPr>
          <p:spPr>
            <a:xfrm>
              <a:off x="5609520" y="72972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109" name="Freeform 10"/>
            <p:cNvSpPr/>
            <p:nvPr/>
          </p:nvSpPr>
          <p:spPr>
            <a:xfrm>
              <a:off x="211680" y="71424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dt" idx="7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444d26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444d26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ftr" idx="8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Num" idx="9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000" spc="-1" strike="noStrike">
                <a:solidFill>
                  <a:srgbClr val="444d26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1DD8600-2364-42BB-AD68-6B19057F9643}" type="slidenum">
              <a:rPr b="0" lang="en-US" sz="1000" spc="-1" strike="noStrike">
                <a:solidFill>
                  <a:srgbClr val="444d26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444d26"/>
                </a:solidFill>
                <a:latin typeface="Candara"/>
              </a:rPr>
              <a:t>Click to edit the outline text format</a:t>
            </a: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444d26"/>
                </a:solidFill>
                <a:latin typeface="Candara"/>
              </a:rPr>
              <a:t>Second Outline Level</a:t>
            </a:r>
            <a:endParaRPr b="0" lang="ru-RU" sz="2000" spc="-1" strike="noStrike">
              <a:solidFill>
                <a:srgbClr val="444d26"/>
              </a:solidFill>
              <a:latin typeface="Candar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444d26"/>
                </a:solidFill>
                <a:latin typeface="Candara"/>
              </a:rPr>
              <a:t>Third Outline Level</a:t>
            </a:r>
            <a:endParaRPr b="0" lang="ru-RU" sz="1800" spc="-1" strike="noStrike">
              <a:solidFill>
                <a:srgbClr val="444d26"/>
              </a:solidFill>
              <a:latin typeface="Candar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444d26"/>
                </a:solidFill>
                <a:latin typeface="Candara"/>
              </a:rPr>
              <a:t>Fourth Outline Level</a:t>
            </a:r>
            <a:endParaRPr b="0" lang="ru-RU" sz="1600" spc="-1" strike="noStrike">
              <a:solidFill>
                <a:srgbClr val="444d26"/>
              </a:solidFill>
              <a:latin typeface="Candar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44d26"/>
                </a:solidFill>
                <a:latin typeface="Candara"/>
              </a:rPr>
              <a:t>Fifth Outline Level</a:t>
            </a:r>
            <a:endParaRPr b="0" lang="ru-RU" sz="2000" spc="-1" strike="noStrike">
              <a:solidFill>
                <a:srgbClr val="444d26"/>
              </a:solidFill>
              <a:latin typeface="Candar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44d26"/>
                </a:solidFill>
                <a:latin typeface="Candara"/>
              </a:rPr>
              <a:t>Sixth Outline Level</a:t>
            </a:r>
            <a:endParaRPr b="0" lang="ru-RU" sz="2000" spc="-1" strike="noStrike">
              <a:solidFill>
                <a:srgbClr val="444d26"/>
              </a:solidFill>
              <a:latin typeface="Candar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44d26"/>
                </a:solidFill>
                <a:latin typeface="Candara"/>
              </a:rPr>
              <a:t>Seventh Outline Level</a:t>
            </a:r>
            <a:endParaRPr b="0" lang="ru-RU" sz="2000" spc="-1" strike="noStrike">
              <a:solidFill>
                <a:srgbClr val="444d26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518480" y="2773440"/>
            <a:ext cx="7259040" cy="2026080"/>
          </a:xfrm>
          <a:prstGeom prst="rect">
            <a:avLst/>
          </a:prstGeom>
          <a:solidFill>
            <a:schemeClr val="lt1"/>
          </a:solidFill>
          <a:ln w="15840">
            <a:solidFill>
              <a:srgbClr val="ffffff"/>
            </a:solidFill>
            <a:round/>
          </a:ln>
        </p:spPr>
        <p:txBody>
          <a:bodyPr anchor="t">
            <a:normAutofit fontScale="22000"/>
          </a:bodyPr>
          <a:p>
            <a:pPr marL="7236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444d26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444d26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1281"/>
              </a:spcBef>
              <a:buNone/>
              <a:tabLst>
                <a:tab algn="l" pos="0"/>
              </a:tabLst>
            </a:pPr>
            <a:endParaRPr b="0" lang="ru-RU" sz="6400" spc="-1" strike="noStrike">
              <a:solidFill>
                <a:srgbClr val="444d26"/>
              </a:solidFill>
              <a:latin typeface="Candara"/>
            </a:endParaRPr>
          </a:p>
          <a:p>
            <a:pPr marL="72360" indent="0" algn="r">
              <a:lnSpc>
                <a:spcPct val="100000"/>
              </a:lnSpc>
              <a:spcBef>
                <a:spcPts val="1281"/>
              </a:spcBef>
              <a:buNone/>
              <a:tabLst>
                <a:tab algn="l" pos="0"/>
              </a:tabLst>
            </a:pPr>
            <a:r>
              <a:rPr b="1" lang="ru-RU" sz="6400" spc="-1" strike="noStrike">
                <a:solidFill>
                  <a:srgbClr val="002060"/>
                </a:solidFill>
                <a:latin typeface="Palatino Linotype"/>
              </a:rPr>
              <a:t>Участники проекта: </a:t>
            </a:r>
            <a:endParaRPr b="0" lang="ru-RU" sz="6400" spc="-1" strike="noStrike">
              <a:solidFill>
                <a:srgbClr val="444d26"/>
              </a:solidFill>
              <a:latin typeface="Candara"/>
            </a:endParaRPr>
          </a:p>
          <a:p>
            <a:pPr marL="72360" indent="0" algn="r">
              <a:lnSpc>
                <a:spcPct val="100000"/>
              </a:lnSpc>
              <a:spcBef>
                <a:spcPts val="1281"/>
              </a:spcBef>
              <a:buNone/>
              <a:tabLst>
                <a:tab algn="l" pos="0"/>
              </a:tabLst>
            </a:pPr>
            <a:r>
              <a:rPr b="0" i="1" lang="ru-RU" sz="6400" spc="-1" strike="noStrike">
                <a:solidFill>
                  <a:srgbClr val="002060"/>
                </a:solidFill>
                <a:latin typeface="Palatino Linotype"/>
              </a:rPr>
              <a:t>воспитанники подготовительной группы- </a:t>
            </a:r>
            <a:endParaRPr b="0" lang="ru-RU" sz="6400" spc="-1" strike="noStrike">
              <a:solidFill>
                <a:srgbClr val="444d26"/>
              </a:solidFill>
              <a:latin typeface="Candara"/>
            </a:endParaRPr>
          </a:p>
          <a:p>
            <a:pPr marL="72360" indent="0" algn="r">
              <a:lnSpc>
                <a:spcPct val="100000"/>
              </a:lnSpc>
              <a:spcBef>
                <a:spcPts val="1281"/>
              </a:spcBef>
              <a:buNone/>
              <a:tabLst>
                <a:tab algn="l" pos="0"/>
              </a:tabLst>
            </a:pPr>
            <a:r>
              <a:rPr b="0" i="1" lang="ru-RU" sz="6400" spc="-1" strike="noStrike">
                <a:solidFill>
                  <a:srgbClr val="002060"/>
                </a:solidFill>
                <a:latin typeface="Palatino Linotype"/>
              </a:rPr>
              <a:t>      </a:t>
            </a:r>
            <a:r>
              <a:rPr b="0" i="1" lang="ru-RU" sz="6400" spc="-1" strike="noStrike">
                <a:solidFill>
                  <a:srgbClr val="002060"/>
                </a:solidFill>
                <a:latin typeface="Palatino Linotype"/>
              </a:rPr>
              <a:t>Конощук Екатерина,</a:t>
            </a:r>
            <a:endParaRPr b="0" lang="ru-RU" sz="6400" spc="-1" strike="noStrike">
              <a:solidFill>
                <a:srgbClr val="444d26"/>
              </a:solidFill>
              <a:latin typeface="Candara"/>
            </a:endParaRPr>
          </a:p>
          <a:p>
            <a:pPr marL="72360" indent="0" algn="r">
              <a:lnSpc>
                <a:spcPct val="100000"/>
              </a:lnSpc>
              <a:spcBef>
                <a:spcPts val="1281"/>
              </a:spcBef>
              <a:buNone/>
              <a:tabLst>
                <a:tab algn="l" pos="0"/>
              </a:tabLst>
            </a:pPr>
            <a:r>
              <a:rPr b="0" i="1" lang="ru-RU" sz="6400" spc="-1" strike="noStrike">
                <a:solidFill>
                  <a:srgbClr val="002060"/>
                </a:solidFill>
                <a:latin typeface="Palatino Linotype"/>
              </a:rPr>
              <a:t> </a:t>
            </a:r>
            <a:r>
              <a:rPr b="0" i="1" lang="ru-RU" sz="6400" spc="-1" strike="noStrike">
                <a:solidFill>
                  <a:srgbClr val="002060"/>
                </a:solidFill>
                <a:latin typeface="Palatino Linotype"/>
              </a:rPr>
              <a:t>Климович Дарина</a:t>
            </a:r>
            <a:endParaRPr b="0" lang="ru-RU" sz="6400" spc="-1" strike="noStrike">
              <a:solidFill>
                <a:srgbClr val="444d26"/>
              </a:solidFill>
              <a:latin typeface="Candara"/>
            </a:endParaRPr>
          </a:p>
          <a:p>
            <a:pPr marL="72360" indent="0" algn="r">
              <a:lnSpc>
                <a:spcPct val="100000"/>
              </a:lnSpc>
              <a:spcBef>
                <a:spcPts val="1281"/>
              </a:spcBef>
              <a:buNone/>
              <a:tabLst>
                <a:tab algn="l" pos="0"/>
              </a:tabLst>
            </a:pPr>
            <a:r>
              <a:rPr b="1" lang="ru-RU" sz="6400" spc="-1" strike="noStrike">
                <a:solidFill>
                  <a:srgbClr val="002060"/>
                </a:solidFill>
                <a:latin typeface="Palatino Linotype"/>
              </a:rPr>
              <a:t>Руководитель проекта: </a:t>
            </a:r>
            <a:endParaRPr b="0" lang="ru-RU" sz="6400" spc="-1" strike="noStrike">
              <a:solidFill>
                <a:srgbClr val="444d26"/>
              </a:solidFill>
              <a:latin typeface="Candara"/>
            </a:endParaRPr>
          </a:p>
          <a:p>
            <a:pPr marL="72360" indent="0" algn="r">
              <a:lnSpc>
                <a:spcPct val="100000"/>
              </a:lnSpc>
              <a:spcBef>
                <a:spcPts val="1281"/>
              </a:spcBef>
              <a:buNone/>
              <a:tabLst>
                <a:tab algn="l" pos="0"/>
              </a:tabLst>
            </a:pPr>
            <a:r>
              <a:rPr b="0" i="1" lang="ru-RU" sz="6400" spc="-1" strike="noStrike">
                <a:solidFill>
                  <a:srgbClr val="002060"/>
                </a:solidFill>
                <a:latin typeface="Palatino Linotype"/>
              </a:rPr>
              <a:t>воспитатель  Горюнова Н.В.</a:t>
            </a:r>
            <a:endParaRPr b="0" lang="ru-RU" sz="6400" spc="-1" strike="noStrike">
              <a:solidFill>
                <a:srgbClr val="444d26"/>
              </a:solidFill>
              <a:latin typeface="Candara"/>
            </a:endParaRPr>
          </a:p>
        </p:txBody>
      </p:sp>
      <p:pic>
        <p:nvPicPr>
          <p:cNvPr id="158" name="Рисунок 16" descr="01 (1) копия.png"/>
          <p:cNvPicPr/>
          <p:nvPr/>
        </p:nvPicPr>
        <p:blipFill>
          <a:blip r:embed="rId1"/>
          <a:stretch/>
        </p:blipFill>
        <p:spPr>
          <a:xfrm>
            <a:off x="100800" y="4653000"/>
            <a:ext cx="2238840" cy="189072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17" descr="01 (2) копия.png"/>
          <p:cNvPicPr/>
          <p:nvPr/>
        </p:nvPicPr>
        <p:blipFill>
          <a:blip r:embed="rId2"/>
          <a:stretch/>
        </p:blipFill>
        <p:spPr>
          <a:xfrm>
            <a:off x="6588360" y="4807080"/>
            <a:ext cx="2386800" cy="190512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7" descr="Изображение 009.png"/>
          <p:cNvPicPr/>
          <p:nvPr/>
        </p:nvPicPr>
        <p:blipFill>
          <a:blip r:embed="rId3"/>
          <a:stretch/>
        </p:blipFill>
        <p:spPr>
          <a:xfrm>
            <a:off x="3204000" y="3786840"/>
            <a:ext cx="2952000" cy="311580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6"/>
          <p:cNvSpPr/>
          <p:nvPr/>
        </p:nvSpPr>
        <p:spPr>
          <a:xfrm>
            <a:off x="1220040" y="1772640"/>
            <a:ext cx="67683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800" spc="-1" strike="noStrike">
                <a:solidFill>
                  <a:srgbClr val="002060"/>
                </a:solidFill>
                <a:latin typeface="Palatino Linotype"/>
              </a:rPr>
              <a:t>«Питание и здоровь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7"/>
          <p:cNvSpPr/>
          <p:nvPr/>
        </p:nvSpPr>
        <p:spPr>
          <a:xfrm>
            <a:off x="1475640" y="404640"/>
            <a:ext cx="663768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2060"/>
                </a:solidFill>
                <a:latin typeface="Palatino Linotype"/>
              </a:rPr>
              <a:t>СП МАОУ Сладковского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2060"/>
                </a:solidFill>
                <a:latin typeface="Palatino Linotype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Palatino Linotype"/>
              </a:rPr>
              <a:t>Маслянская средняя общеобразовательная школа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Palatino Linotype"/>
              </a:rPr>
              <a:t>детский сад «Алёнуш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5000"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Palatino Linotype"/>
              </a:rPr>
              <a:t>Витамин С</a:t>
            </a:r>
            <a:br>
              <a:rPr sz="4900"/>
            </a:b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7" name="Прямоугольник 2"/>
          <p:cNvSpPr/>
          <p:nvPr/>
        </p:nvSpPr>
        <p:spPr>
          <a:xfrm>
            <a:off x="4716000" y="5013000"/>
            <a:ext cx="4302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Витамин С- прячется в чесноке, капусте. Луке, во всех овощах, фруктах, ягод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3"/>
          <p:cNvSpPr/>
          <p:nvPr/>
        </p:nvSpPr>
        <p:spPr>
          <a:xfrm>
            <a:off x="1403640" y="1340640"/>
            <a:ext cx="3725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От простуды и ангины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Помогают апельсины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Ну, а лучше есть лимон,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Хоть и очень кислый 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" descr="E:\DCIM\100PHOTO\SAM_3692.JPG"/>
          <p:cNvPicPr/>
          <p:nvPr/>
        </p:nvPicPr>
        <p:blipFill>
          <a:blip r:embed="rId1"/>
          <a:stretch/>
        </p:blipFill>
        <p:spPr>
          <a:xfrm rot="479400">
            <a:off x="5724000" y="1844640"/>
            <a:ext cx="1982520" cy="30240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10" name="Picture 5" descr="E:\DCIM\100PHOTO\SAM_3684.JPG"/>
          <p:cNvPicPr/>
          <p:nvPr/>
        </p:nvPicPr>
        <p:blipFill>
          <a:blip r:embed="rId2"/>
          <a:stretch/>
        </p:blipFill>
        <p:spPr>
          <a:xfrm rot="20834400">
            <a:off x="882720" y="2893320"/>
            <a:ext cx="2726640" cy="36079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2060"/>
                </a:solidFill>
                <a:latin typeface="Palatino Linotype"/>
                <a:ea typeface="Times New Roman"/>
              </a:rPr>
              <a:t>Витамин Е</a:t>
            </a:r>
            <a:endParaRPr b="0" lang="ru-RU" sz="4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12" name="Прямоугольник 2"/>
          <p:cNvSpPr/>
          <p:nvPr/>
        </p:nvSpPr>
        <p:spPr>
          <a:xfrm>
            <a:off x="953280" y="1195920"/>
            <a:ext cx="4410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  <a:ea typeface="Times New Roman"/>
              </a:rPr>
              <a:t>Витамин Е укрепляет наш организм,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  <a:ea typeface="Times New Roman"/>
              </a:rPr>
              <a:t>Защищает от болезней и прочих катаклизмов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  <a:ea typeface="Times New Roman"/>
              </a:rPr>
              <a:t>Замедляет процессы старения,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  <a:ea typeface="Times New Roman"/>
              </a:rPr>
              <a:t>Предупреждает развитие болезней сердца.</a:t>
            </a:r>
            <a:br>
              <a:rPr sz="1800"/>
            </a:b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3"/>
          <p:cNvSpPr/>
          <p:nvPr/>
        </p:nvSpPr>
        <p:spPr>
          <a:xfrm>
            <a:off x="611640" y="4050360"/>
            <a:ext cx="457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4"/>
          <p:cNvSpPr/>
          <p:nvPr/>
        </p:nvSpPr>
        <p:spPr>
          <a:xfrm>
            <a:off x="4356000" y="5229360"/>
            <a:ext cx="4571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  <a:ea typeface="Times New Roman"/>
              </a:rPr>
              <a:t>Кушайте мясо, яйца, молоко, орехи,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  <a:ea typeface="Times New Roman"/>
              </a:rPr>
              <a:t>Зелень, черешню, бобы и зла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E:\DCIM\100PHOTO\SAM_3744.JPG"/>
          <p:cNvPicPr/>
          <p:nvPr/>
        </p:nvPicPr>
        <p:blipFill>
          <a:blip r:embed="rId1"/>
          <a:srcRect l="0" t="-1068" r="0" b="0"/>
          <a:stretch/>
        </p:blipFill>
        <p:spPr>
          <a:xfrm rot="890400">
            <a:off x="5514480" y="2441520"/>
            <a:ext cx="2627280" cy="22788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16" name="Picture 2" descr="E:\DCIM\100PHOTO\SAM_3741.JPG"/>
          <p:cNvPicPr/>
          <p:nvPr/>
        </p:nvPicPr>
        <p:blipFill>
          <a:blip r:embed="rId2"/>
          <a:stretch/>
        </p:blipFill>
        <p:spPr>
          <a:xfrm rot="21250800">
            <a:off x="1691640" y="3428640"/>
            <a:ext cx="1980000" cy="28864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Palatino Linotype"/>
                <a:ea typeface="Times New Roman"/>
              </a:rPr>
              <a:t>Витамин Р</a:t>
            </a:r>
            <a:r>
              <a:rPr b="1" lang="ru-RU" sz="4400" spc="-1" strike="noStrike">
                <a:solidFill>
                  <a:srgbClr val="002060"/>
                </a:solidFill>
                <a:latin typeface="Palatino Linotype"/>
                <a:ea typeface="Times New Roman"/>
              </a:rPr>
              <a:t> 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18" name="Прямоугольник 2"/>
          <p:cNvSpPr/>
          <p:nvPr/>
        </p:nvSpPr>
        <p:spPr>
          <a:xfrm>
            <a:off x="1122840" y="1212840"/>
            <a:ext cx="42480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2060"/>
                </a:solidFill>
                <a:latin typeface="Palatino Linotype"/>
                <a:ea typeface="Times New Roman"/>
              </a:rPr>
              <a:t>Витамин Р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  <a:ea typeface="Times New Roman"/>
              </a:rPr>
              <a:t>Витамин Р стимулирует обмен веществ,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  <a:ea typeface="Times New Roman"/>
              </a:rPr>
              <a:t>Укрепляет здоровье крови,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  <a:ea typeface="Times New Roman"/>
              </a:rPr>
              <a:t>Отгонит от нас все напасти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  <a:ea typeface="Times New Roman"/>
              </a:rPr>
              <a:t>Лимон, апельсин и сал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http://forumsmile.ru/u/d/7/b/d7b1ac41f1649c2bd7c6104cb0eb4e96.gif"/>
          <p:cNvPicPr/>
          <p:nvPr/>
        </p:nvPicPr>
        <p:blipFill>
          <a:blip r:embed="rId1"/>
          <a:stretch/>
        </p:blipFill>
        <p:spPr>
          <a:xfrm>
            <a:off x="2843640" y="2967480"/>
            <a:ext cx="2304000" cy="1728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E:\DCIM\100PHOTO\SAM_3688.JPG"/>
          <p:cNvPicPr/>
          <p:nvPr/>
        </p:nvPicPr>
        <p:blipFill>
          <a:blip r:embed="rId2"/>
          <a:stretch/>
        </p:blipFill>
        <p:spPr>
          <a:xfrm rot="416400">
            <a:off x="5554080" y="1537200"/>
            <a:ext cx="3178080" cy="28594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221" name="Прямоугольник 3"/>
          <p:cNvSpPr/>
          <p:nvPr/>
        </p:nvSpPr>
        <p:spPr>
          <a:xfrm>
            <a:off x="3878640" y="4871520"/>
            <a:ext cx="48780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Большинство витаминов не образуются в организме человека и не накапливаются , а поступают только вместе с пищей. Вот почему ягоды, овощи и фрукты должны быть в рационе ребенка регулярно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K:\DCIM\100PHOTO\SAM_3671.JPG"/>
          <p:cNvPicPr/>
          <p:nvPr/>
        </p:nvPicPr>
        <p:blipFill>
          <a:blip r:embed="rId3"/>
          <a:stretch/>
        </p:blipFill>
        <p:spPr>
          <a:xfrm rot="20626200">
            <a:off x="816840" y="3395520"/>
            <a:ext cx="2088000" cy="30308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609760" cy="178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 </a:t>
            </a:r>
            <a:br>
              <a:rPr sz="4400"/>
            </a:br>
            <a:r>
              <a:rPr b="0" lang="ru-RU" sz="4000" spc="-1" strike="noStrike">
                <a:solidFill>
                  <a:srgbClr val="002060"/>
                </a:solidFill>
                <a:latin typeface="Palatino Linotype"/>
              </a:rPr>
              <a:t>Рыба, мясо, молочные продукты нужны нашему организму, чтобы быть сильными</a:t>
            </a:r>
            <a:br>
              <a:rPr sz="4400"/>
            </a:br>
            <a:endParaRPr b="0" lang="ru-RU" sz="4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224" name="Picture 3" descr="E:\DCIM\100PHOTO\SAM_3770.JPG"/>
          <p:cNvPicPr/>
          <p:nvPr/>
        </p:nvPicPr>
        <p:blipFill>
          <a:blip r:embed="rId1"/>
          <a:stretch/>
        </p:blipFill>
        <p:spPr>
          <a:xfrm>
            <a:off x="3202560" y="2798280"/>
            <a:ext cx="3096000" cy="37440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25" name="Picture 4" descr="E:\DCIM\100PHOTO\SAM_3651.JPG"/>
          <p:cNvPicPr/>
          <p:nvPr/>
        </p:nvPicPr>
        <p:blipFill>
          <a:blip r:embed="rId2"/>
          <a:stretch/>
        </p:blipFill>
        <p:spPr>
          <a:xfrm rot="567600">
            <a:off x="6517800" y="4442760"/>
            <a:ext cx="2488680" cy="18752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26" name="Picture 5" descr="E:\DCIM\100PHOTO\SAM_3652.JPG"/>
          <p:cNvPicPr/>
          <p:nvPr/>
        </p:nvPicPr>
        <p:blipFill>
          <a:blip r:embed="rId3"/>
          <a:stretch/>
        </p:blipFill>
        <p:spPr>
          <a:xfrm rot="20787000">
            <a:off x="251280" y="2205000"/>
            <a:ext cx="2747520" cy="20606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3640" y="274320"/>
            <a:ext cx="8136720" cy="243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02060"/>
                </a:solidFill>
                <a:latin typeface="Palatino Linotype"/>
              </a:rPr>
              <a:t>Овощи и фрукты содержат много витаминов, которые помогают организму расти развиваться</a:t>
            </a:r>
            <a:br>
              <a:rPr sz="4400"/>
            </a:br>
            <a:endParaRPr b="0" lang="ru-RU" sz="4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228" name="Picture 2" descr="K:\DCIM\100PHOTO\SAM_3664.JPG"/>
          <p:cNvPicPr/>
          <p:nvPr/>
        </p:nvPicPr>
        <p:blipFill>
          <a:blip r:embed="rId1"/>
          <a:stretch/>
        </p:blipFill>
        <p:spPr>
          <a:xfrm rot="20639400">
            <a:off x="303120" y="2681280"/>
            <a:ext cx="2724840" cy="20998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29" name="Picture 3" descr="K:\DCIM\100PHOTO\SAM_3663.JPG"/>
          <p:cNvPicPr/>
          <p:nvPr/>
        </p:nvPicPr>
        <p:blipFill>
          <a:blip r:embed="rId2"/>
          <a:stretch/>
        </p:blipFill>
        <p:spPr>
          <a:xfrm rot="1272000">
            <a:off x="6269760" y="2772720"/>
            <a:ext cx="2593080" cy="21006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30" name="Picture 4" descr="K:\DCIM\100PHOTO\SAM_3643.JPG"/>
          <p:cNvPicPr/>
          <p:nvPr/>
        </p:nvPicPr>
        <p:blipFill>
          <a:blip r:embed="rId3"/>
          <a:stretch/>
        </p:blipFill>
        <p:spPr>
          <a:xfrm>
            <a:off x="3500280" y="2205000"/>
            <a:ext cx="2307600" cy="20880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231" name="Заголовок 1"/>
          <p:cNvSpPr/>
          <p:nvPr/>
        </p:nvSpPr>
        <p:spPr>
          <a:xfrm>
            <a:off x="539640" y="4725000"/>
            <a:ext cx="82292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85000"/>
          </a:bodyPr>
          <a:p>
            <a:pPr algn="ctr">
              <a:lnSpc>
                <a:spcPct val="100000"/>
              </a:lnSpc>
            </a:pPr>
            <a:r>
              <a:rPr b="0" lang="ru-RU" sz="4400" spc="-1" strike="noStrike">
                <a:solidFill>
                  <a:srgbClr val="002060"/>
                </a:solidFill>
                <a:latin typeface="Palatino Linotype"/>
              </a:rPr>
              <a:t>А ещё у нас нововведение,</a:t>
            </a:r>
            <a:br>
              <a:rPr sz="4400"/>
            </a:br>
            <a:r>
              <a:rPr b="0" lang="ru-RU" sz="4400" spc="-1" strike="noStrike">
                <a:solidFill>
                  <a:srgbClr val="002060"/>
                </a:solidFill>
                <a:latin typeface="Palatino Linotype"/>
              </a:rPr>
              <a:t> теперь у нас «капустоедени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5364000" y="4581000"/>
            <a:ext cx="3456000" cy="21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24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Ее на зиму шинкуют,</a:t>
            </a:r>
            <a:br>
              <a:rPr sz="1600"/>
            </a:b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Солят, квасят, маринуют.</a:t>
            </a:r>
            <a:br>
              <a:rPr sz="1600"/>
            </a:b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Ведь капуста, как известно,</a:t>
            </a:r>
            <a:br>
              <a:rPr sz="1600"/>
            </a:b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Во всех видах нам полезна.</a:t>
            </a:r>
            <a:br>
              <a:rPr sz="1600"/>
            </a:b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Она раны очищает</a:t>
            </a:r>
            <a:br>
              <a:rPr sz="1600"/>
            </a:b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И от стрессов защищает,</a:t>
            </a:r>
            <a:br>
              <a:rPr sz="1600"/>
            </a:b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И лечебна, и вкусна –</a:t>
            </a:r>
            <a:br>
              <a:rPr sz="1600"/>
            </a:b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Она нам всегда нужна.</a:t>
            </a:r>
            <a:endParaRPr b="0" lang="ru-RU" sz="16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02060"/>
                </a:solidFill>
                <a:latin typeface="Palatino Linotype"/>
              </a:rPr>
              <a:t>Квашеная капуста</a:t>
            </a:r>
            <a:endParaRPr b="0" lang="ru-RU" sz="3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34" name="Rectangle 1"/>
          <p:cNvSpPr/>
          <p:nvPr/>
        </p:nvSpPr>
        <p:spPr>
          <a:xfrm>
            <a:off x="467640" y="1866240"/>
            <a:ext cx="3384000" cy="12186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Ешьте капуст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Советуем вам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Ешьте капусту цветную, Ешьте капусту морскую</a:t>
            </a:r>
            <a:r>
              <a:rPr b="0" lang="ru-RU" sz="2000" spc="-1" strike="noStrike">
                <a:solidFill>
                  <a:srgbClr val="002060"/>
                </a:solidFill>
                <a:latin typeface="Palatino Linotype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K:\DCIM\100PHOTO\SAM_3657.JPG"/>
          <p:cNvPicPr/>
          <p:nvPr/>
        </p:nvPicPr>
        <p:blipFill>
          <a:blip r:embed="rId1"/>
          <a:stretch/>
        </p:blipFill>
        <p:spPr>
          <a:xfrm rot="507600">
            <a:off x="4860000" y="1758960"/>
            <a:ext cx="3709440" cy="26640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36" name="Picture 3" descr="K:\DCIM\100PHOTO\SAM_3654.JPG"/>
          <p:cNvPicPr/>
          <p:nvPr/>
        </p:nvPicPr>
        <p:blipFill>
          <a:blip r:embed="rId2"/>
          <a:stretch/>
        </p:blipFill>
        <p:spPr>
          <a:xfrm>
            <a:off x="1096560" y="3182760"/>
            <a:ext cx="1852560" cy="32767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11640" y="404640"/>
            <a:ext cx="8229240" cy="85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2060"/>
                </a:solidFill>
                <a:latin typeface="Palatino Linotype"/>
              </a:rPr>
              <a:t>Морская капуста 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38" name="Прямоугольник 4"/>
          <p:cNvSpPr/>
          <p:nvPr/>
        </p:nvSpPr>
        <p:spPr>
          <a:xfrm>
            <a:off x="1187640" y="1556640"/>
            <a:ext cx="278964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Посмотрите! Под водой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Вырос целый сад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Он накормит нас с тобой,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Попадет в салат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5"/>
          <p:cNvSpPr/>
          <p:nvPr/>
        </p:nvSpPr>
        <p:spPr>
          <a:xfrm>
            <a:off x="4572000" y="4893120"/>
            <a:ext cx="394200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Особенно полезна она для детей, поскольку питает мозг, организм становится выносливее, улучшаются память и зр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K:\DCIM\100PHOTO\SAM_3658.JPG"/>
          <p:cNvPicPr/>
          <p:nvPr/>
        </p:nvPicPr>
        <p:blipFill>
          <a:blip r:embed="rId1"/>
          <a:stretch/>
        </p:blipFill>
        <p:spPr>
          <a:xfrm rot="1237200">
            <a:off x="5147640" y="1844640"/>
            <a:ext cx="3168000" cy="23760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41" name="Picture 3" descr="K:\DCIM\100PHOTO\SAM_3655.JPG"/>
          <p:cNvPicPr/>
          <p:nvPr/>
        </p:nvPicPr>
        <p:blipFill>
          <a:blip r:embed="rId2"/>
          <a:stretch/>
        </p:blipFill>
        <p:spPr>
          <a:xfrm>
            <a:off x="1907640" y="3178800"/>
            <a:ext cx="1773000" cy="33800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7640" y="274320"/>
            <a:ext cx="8825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49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300" spc="-1" strike="noStrike">
                <a:solidFill>
                  <a:srgbClr val="ffffff"/>
                </a:solidFill>
                <a:latin typeface="Palatino Linotype"/>
              </a:rPr>
              <a:t> </a:t>
            </a:r>
            <a:br>
              <a:rPr sz="5300"/>
            </a:br>
            <a:r>
              <a:rPr b="0" lang="ru-RU" sz="4000" spc="-1" strike="noStrike">
                <a:solidFill>
                  <a:srgbClr val="002060"/>
                </a:solidFill>
                <a:latin typeface="Palatino Linotype"/>
              </a:rPr>
              <a:t>Ягоды- источники витаминов и минеральных веществ </a:t>
            </a:r>
            <a:br>
              <a:rPr sz="4400"/>
            </a:br>
            <a:endParaRPr b="0" lang="ru-RU" sz="4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243" name="Picture 2" descr="K:\DCIM\100PHOTO\SAM_3680.JPG"/>
          <p:cNvPicPr/>
          <p:nvPr/>
        </p:nvPicPr>
        <p:blipFill>
          <a:blip r:embed="rId1"/>
          <a:srcRect l="0" t="0" r="0" b="-11734"/>
          <a:stretch/>
        </p:blipFill>
        <p:spPr>
          <a:xfrm>
            <a:off x="3348000" y="2061000"/>
            <a:ext cx="2736000" cy="29520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44" name="Picture 3" descr="K:\DCIM\100PHOTO\SAM_3679.JPG"/>
          <p:cNvPicPr/>
          <p:nvPr/>
        </p:nvPicPr>
        <p:blipFill>
          <a:blip r:embed="rId2"/>
          <a:stretch/>
        </p:blipFill>
        <p:spPr>
          <a:xfrm rot="20718600">
            <a:off x="328680" y="2778840"/>
            <a:ext cx="2231280" cy="288036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45" name="Picture 4" descr="K:\DCIM\100PHOTO\SAM_3676.JPG"/>
          <p:cNvPicPr/>
          <p:nvPr/>
        </p:nvPicPr>
        <p:blipFill>
          <a:blip r:embed="rId3"/>
          <a:stretch/>
        </p:blipFill>
        <p:spPr>
          <a:xfrm rot="1103400">
            <a:off x="6832800" y="2559960"/>
            <a:ext cx="1803240" cy="30200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246" name="Прямоугольник 2"/>
          <p:cNvSpPr/>
          <p:nvPr/>
        </p:nvSpPr>
        <p:spPr>
          <a:xfrm rot="1105200">
            <a:off x="6416280" y="5711400"/>
            <a:ext cx="1336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Брус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3"/>
          <p:cNvSpPr/>
          <p:nvPr/>
        </p:nvSpPr>
        <p:spPr>
          <a:xfrm rot="20709000">
            <a:off x="1541520" y="5684400"/>
            <a:ext cx="1379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Клуб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4"/>
          <p:cNvSpPr/>
          <p:nvPr/>
        </p:nvSpPr>
        <p:spPr>
          <a:xfrm>
            <a:off x="4145400" y="5338080"/>
            <a:ext cx="1141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Клюк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E:\DCIM\100PHOTO\SAM_3767.JPG"/>
          <p:cNvPicPr/>
          <p:nvPr/>
        </p:nvPicPr>
        <p:blipFill>
          <a:blip r:embed="rId1"/>
          <a:srcRect l="0" t="0" r="-425" b="0"/>
          <a:stretch/>
        </p:blipFill>
        <p:spPr>
          <a:xfrm>
            <a:off x="155520" y="4817520"/>
            <a:ext cx="4007520" cy="18720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50" name="Picture 5" descr="E:\DCIM\100PHOTO\SAM_3746.JPG"/>
          <p:cNvPicPr/>
          <p:nvPr/>
        </p:nvPicPr>
        <p:blipFill>
          <a:blip r:embed="rId2"/>
          <a:stretch/>
        </p:blipFill>
        <p:spPr>
          <a:xfrm>
            <a:off x="6300360" y="4530600"/>
            <a:ext cx="2556360" cy="215856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251" name="Прямоугольник 1"/>
          <p:cNvSpPr/>
          <p:nvPr/>
        </p:nvSpPr>
        <p:spPr>
          <a:xfrm>
            <a:off x="611640" y="285840"/>
            <a:ext cx="8103600" cy="63972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 cap="all">
                <a:solidFill>
                  <a:srgbClr val="002060"/>
                </a:solidFill>
                <a:latin typeface="Palatino Linotype"/>
              </a:rPr>
              <a:t>Витаминный  кроссвор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3" descr="E:\DCIM\100PHOTO\SAM_3737.JPG"/>
          <p:cNvPicPr/>
          <p:nvPr/>
        </p:nvPicPr>
        <p:blipFill>
          <a:blip r:embed="rId3"/>
          <a:stretch/>
        </p:blipFill>
        <p:spPr>
          <a:xfrm>
            <a:off x="5942880" y="1371960"/>
            <a:ext cx="2841480" cy="21398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53" name="Picture 2" descr="E:\DCIM\100PHOTO\SAM_3736.JPG"/>
          <p:cNvPicPr/>
          <p:nvPr/>
        </p:nvPicPr>
        <p:blipFill>
          <a:blip r:embed="rId4"/>
          <a:srcRect l="0" t="0" r="-236" b="0"/>
          <a:stretch/>
        </p:blipFill>
        <p:spPr>
          <a:xfrm>
            <a:off x="251640" y="1355760"/>
            <a:ext cx="3674520" cy="21409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54" name="Рисунок 3" descr=""/>
          <p:cNvPicPr/>
          <p:nvPr/>
        </p:nvPicPr>
        <p:blipFill>
          <a:blip r:embed="rId5"/>
          <a:stretch/>
        </p:blipFill>
        <p:spPr>
          <a:xfrm>
            <a:off x="3601440" y="3103560"/>
            <a:ext cx="2842200" cy="302796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оугольник 1"/>
          <p:cNvSpPr/>
          <p:nvPr/>
        </p:nvSpPr>
        <p:spPr>
          <a:xfrm>
            <a:off x="323640" y="357120"/>
            <a:ext cx="8319960" cy="23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>
                <a:rot lat="0" lon="0" rev="0"/>
              </a:camera>
              <a:lightRig dir="t" rig="glow">
                <a:rot lat="0" lon="0" rev="3600000"/>
              </a:lightRig>
            </a:scene3d>
            <a:sp3d prstMaterial="softEdge">
              <a:bevelT w="29210" h="16510"/>
              <a:contourClr>
                <a:schemeClr val="accent4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2060"/>
                </a:solidFill>
                <a:latin typeface="Candara"/>
              </a:rPr>
              <a:t>Спектак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2060"/>
                </a:solidFill>
                <a:latin typeface="Candara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Palatino Linotype"/>
              </a:rPr>
              <a:t>«А полезные продукты – это овощи и фрукты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2060"/>
                </a:solidFill>
                <a:latin typeface="Candara"/>
              </a:rPr>
              <a:t> </a:t>
            </a:r>
            <a:r>
              <a:rPr b="1" lang="ru-RU" sz="4000" spc="-1" strike="noStrike">
                <a:solidFill>
                  <a:srgbClr val="dd99af"/>
                </a:solidFill>
                <a:latin typeface="Candar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E:\DCIM\100PHOTO\SAM_3726.JPG"/>
          <p:cNvPicPr/>
          <p:nvPr/>
        </p:nvPicPr>
        <p:blipFill>
          <a:blip r:embed="rId1"/>
          <a:stretch/>
        </p:blipFill>
        <p:spPr>
          <a:xfrm rot="20529000">
            <a:off x="353520" y="2411280"/>
            <a:ext cx="3221640" cy="24163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57" name="Picture 3" descr="E:\DCIM\100PHOTO\SAM_3731.JPG"/>
          <p:cNvPicPr/>
          <p:nvPr/>
        </p:nvPicPr>
        <p:blipFill>
          <a:blip r:embed="rId2"/>
          <a:stretch/>
        </p:blipFill>
        <p:spPr>
          <a:xfrm rot="676200">
            <a:off x="4739400" y="2499480"/>
            <a:ext cx="4020120" cy="30150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58" name="Picture 4" descr="E:\DCIM\100PHOTO\SAM_3709.JPG"/>
          <p:cNvPicPr/>
          <p:nvPr/>
        </p:nvPicPr>
        <p:blipFill>
          <a:blip r:embed="rId3"/>
          <a:stretch/>
        </p:blipFill>
        <p:spPr>
          <a:xfrm>
            <a:off x="1629720" y="5109120"/>
            <a:ext cx="2853720" cy="15562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02060"/>
                </a:solidFill>
                <a:latin typeface="Palatino Linotype"/>
              </a:rPr>
              <a:t>Тема проекта: </a:t>
            </a: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Palatino Linotype"/>
              </a:rPr>
              <a:t>«Питание и здоровье»</a:t>
            </a:r>
            <a:endParaRPr b="0" lang="ru-RU" sz="3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4" name="Прямоугольник 4"/>
          <p:cNvSpPr/>
          <p:nvPr/>
        </p:nvSpPr>
        <p:spPr>
          <a:xfrm>
            <a:off x="323640" y="1772640"/>
            <a:ext cx="8568720" cy="49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2060"/>
                </a:solidFill>
                <a:latin typeface="Palatino Linotype"/>
              </a:rPr>
              <a:t>Цель проекта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формировать  представление о необходимости заботы о своём здоровье и в первую очередь о важности правильного питания, как составной части   сохранения и укрепления здоровья.</a:t>
            </a:r>
            <a:r>
              <a:rPr b="1" i="1" lang="ru-RU" sz="4000" spc="-1" strike="noStrike">
                <a:solidFill>
                  <a:srgbClr val="002060"/>
                </a:solidFill>
                <a:latin typeface="Candar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2060"/>
                </a:solidFill>
                <a:latin typeface="Candara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792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сформировать представление детей о продуктах питания, их разнообразии и жизненно важной ценности, о влиянии пищи на организм челове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792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формировать привычку вести здоровый образ жизни и серьёзно относиться к собственному здоровь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792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уточнить знания детей о здоровом питании, о пользе витамин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792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приобщить  родителей к культуре здорового пи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E:\DCIM\100PHOTO\SAM_3752.JPG"/>
          <p:cNvPicPr/>
          <p:nvPr/>
        </p:nvPicPr>
        <p:blipFill>
          <a:blip r:embed="rId1"/>
          <a:stretch/>
        </p:blipFill>
        <p:spPr>
          <a:xfrm rot="20417400">
            <a:off x="382680" y="1777320"/>
            <a:ext cx="2483280" cy="18626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60" name="Picture 3" descr="E:\DCIM\100PHOTO\SAM_3753.JPG"/>
          <p:cNvPicPr/>
          <p:nvPr/>
        </p:nvPicPr>
        <p:blipFill>
          <a:blip r:embed="rId2"/>
          <a:stretch/>
        </p:blipFill>
        <p:spPr>
          <a:xfrm rot="740400">
            <a:off x="5920200" y="1813680"/>
            <a:ext cx="2861280" cy="214596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61" name="Picture 4" descr="E:\DCIM\100PHOTO\SAM_3757.JPG"/>
          <p:cNvPicPr/>
          <p:nvPr/>
        </p:nvPicPr>
        <p:blipFill>
          <a:blip r:embed="rId3"/>
          <a:stretch/>
        </p:blipFill>
        <p:spPr>
          <a:xfrm>
            <a:off x="3107880" y="3107160"/>
            <a:ext cx="2542320" cy="27169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62" name="Picture 5" descr="E:\DCIM\100PHOTO\SAM_3762.JPG"/>
          <p:cNvPicPr/>
          <p:nvPr/>
        </p:nvPicPr>
        <p:blipFill>
          <a:blip r:embed="rId4"/>
          <a:stretch/>
        </p:blipFill>
        <p:spPr>
          <a:xfrm rot="20227200">
            <a:off x="530640" y="4201200"/>
            <a:ext cx="2187000" cy="210276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63" name="Picture 6" descr="E:\DCIM\100PHOTO\SAM_3763.JPG"/>
          <p:cNvPicPr/>
          <p:nvPr/>
        </p:nvPicPr>
        <p:blipFill>
          <a:blip r:embed="rId5"/>
          <a:srcRect l="-5086" t="0" r="0" b="0"/>
          <a:stretch/>
        </p:blipFill>
        <p:spPr>
          <a:xfrm rot="1936800">
            <a:off x="6318720" y="4858920"/>
            <a:ext cx="1884600" cy="14238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264" name="Прямоугольник 1"/>
          <p:cNvSpPr/>
          <p:nvPr/>
        </p:nvSpPr>
        <p:spPr>
          <a:xfrm>
            <a:off x="900360" y="332640"/>
            <a:ext cx="77173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2060"/>
                </a:solidFill>
                <a:latin typeface="Palatino Linotype"/>
              </a:rPr>
              <a:t>Викторина –развлечение «Будьте здоровы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F:\DCIM\100PHOTO\SAM_3816.JPG"/>
          <p:cNvPicPr/>
          <p:nvPr/>
        </p:nvPicPr>
        <p:blipFill>
          <a:blip r:embed="rId1"/>
          <a:stretch/>
        </p:blipFill>
        <p:spPr>
          <a:xfrm rot="20922000">
            <a:off x="538560" y="2781000"/>
            <a:ext cx="2730960" cy="29520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66" name="Picture 3" descr="F:\DCIM\100PHOTO\SAM_3815.JPG"/>
          <p:cNvPicPr/>
          <p:nvPr/>
        </p:nvPicPr>
        <p:blipFill>
          <a:blip r:embed="rId2"/>
          <a:stretch/>
        </p:blipFill>
        <p:spPr>
          <a:xfrm rot="342000">
            <a:off x="6345000" y="2752200"/>
            <a:ext cx="2479320" cy="31042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67" name="Picture 4" descr="F:\DCIM\100PHOTO\SAM_3813.JPG"/>
          <p:cNvPicPr/>
          <p:nvPr/>
        </p:nvPicPr>
        <p:blipFill>
          <a:blip r:embed="rId3"/>
          <a:srcRect l="0" t="-136" r="0" b="0"/>
          <a:stretch/>
        </p:blipFill>
        <p:spPr>
          <a:xfrm>
            <a:off x="3564000" y="1874160"/>
            <a:ext cx="2417040" cy="21326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268" name="Прямоугольник 2"/>
          <p:cNvSpPr/>
          <p:nvPr/>
        </p:nvSpPr>
        <p:spPr>
          <a:xfrm>
            <a:off x="755640" y="404640"/>
            <a:ext cx="75603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2060"/>
                </a:solidFill>
                <a:latin typeface="Palatino Linotype"/>
              </a:rPr>
              <a:t>Анкетирование родителей «Питание в семь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ик 1"/>
          <p:cNvSpPr/>
          <p:nvPr/>
        </p:nvSpPr>
        <p:spPr>
          <a:xfrm>
            <a:off x="1046520" y="404640"/>
            <a:ext cx="714348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 cap="all">
                <a:solidFill>
                  <a:srgbClr val="002060"/>
                </a:solidFill>
                <a:latin typeface="Palatino Linotype"/>
              </a:rPr>
              <a:t>Результаты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 cap="all">
                <a:solidFill>
                  <a:srgbClr val="002060"/>
                </a:solidFill>
                <a:latin typeface="Palatino Linotype"/>
              </a:rPr>
              <a:t>Готовим салат  овощ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Рисунок 3" descr=""/>
          <p:cNvPicPr/>
          <p:nvPr/>
        </p:nvPicPr>
        <p:blipFill>
          <a:blip r:embed="rId1"/>
          <a:stretch/>
        </p:blipFill>
        <p:spPr>
          <a:xfrm rot="1159200">
            <a:off x="6567120" y="1746720"/>
            <a:ext cx="2139840" cy="22320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71" name="Рисунок 4" descr=""/>
          <p:cNvPicPr/>
          <p:nvPr/>
        </p:nvPicPr>
        <p:blipFill>
          <a:blip r:embed="rId2"/>
          <a:stretch/>
        </p:blipFill>
        <p:spPr>
          <a:xfrm rot="20298600">
            <a:off x="558000" y="1847520"/>
            <a:ext cx="2061360" cy="18734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72" name="Рисунок 5" descr=""/>
          <p:cNvPicPr/>
          <p:nvPr/>
        </p:nvPicPr>
        <p:blipFill>
          <a:blip r:embed="rId3"/>
          <a:stretch/>
        </p:blipFill>
        <p:spPr>
          <a:xfrm rot="1162200">
            <a:off x="6299640" y="4246200"/>
            <a:ext cx="2302200" cy="21268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73" name="Рисунок 6" descr=""/>
          <p:cNvPicPr/>
          <p:nvPr/>
        </p:nvPicPr>
        <p:blipFill>
          <a:blip r:embed="rId4"/>
          <a:stretch/>
        </p:blipFill>
        <p:spPr>
          <a:xfrm rot="20158800">
            <a:off x="639000" y="4021560"/>
            <a:ext cx="2309400" cy="23032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274" name="Прямоугольник 8"/>
          <p:cNvSpPr/>
          <p:nvPr/>
        </p:nvSpPr>
        <p:spPr>
          <a:xfrm>
            <a:off x="2925720" y="5310360"/>
            <a:ext cx="33854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С грядки овощи приш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Винегрет нам принес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Что за вкусные растенья? Просто объедень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7"/>
          <p:cNvSpPr/>
          <p:nvPr/>
        </p:nvSpPr>
        <p:spPr>
          <a:xfrm>
            <a:off x="2746440" y="1539720"/>
            <a:ext cx="374400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Повысился интерес родителей к меню детского сада, стали использовать рецепты из меню ДОУ для домашнего пригото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5"/>
          <a:stretch/>
        </p:blipFill>
        <p:spPr>
          <a:xfrm>
            <a:off x="3492000" y="3016800"/>
            <a:ext cx="1804680" cy="179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рямоугольник 5"/>
          <p:cNvSpPr/>
          <p:nvPr/>
        </p:nvSpPr>
        <p:spPr>
          <a:xfrm>
            <a:off x="971640" y="455040"/>
            <a:ext cx="72147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 cap="all">
                <a:solidFill>
                  <a:srgbClr val="002060"/>
                </a:solidFill>
                <a:latin typeface="Palatino Linotype"/>
              </a:rPr>
              <a:t>Результаты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H:\проект\WP_20150224_17_40_27_Pro__highres.jpg"/>
          <p:cNvPicPr/>
          <p:nvPr/>
        </p:nvPicPr>
        <p:blipFill>
          <a:blip r:embed="rId1"/>
          <a:stretch/>
        </p:blipFill>
        <p:spPr>
          <a:xfrm rot="586200">
            <a:off x="6148080" y="2688120"/>
            <a:ext cx="2681280" cy="18334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79" name="Picture 3" descr="H:\проект\WP_20150224_17_40_13_Pro.jpg"/>
          <p:cNvPicPr/>
          <p:nvPr/>
        </p:nvPicPr>
        <p:blipFill>
          <a:blip r:embed="rId2"/>
          <a:stretch/>
        </p:blipFill>
        <p:spPr>
          <a:xfrm>
            <a:off x="2915640" y="4616280"/>
            <a:ext cx="3586320" cy="20880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80" name="Picture 4" descr="H:\проект\WP_20150224_17_38_35_Pro__highres.jpg"/>
          <p:cNvPicPr/>
          <p:nvPr/>
        </p:nvPicPr>
        <p:blipFill>
          <a:blip r:embed="rId3"/>
          <a:srcRect l="0" t="-323" r="0" b="0"/>
          <a:stretch/>
        </p:blipFill>
        <p:spPr>
          <a:xfrm rot="21135600">
            <a:off x="208440" y="2202120"/>
            <a:ext cx="2761560" cy="22381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281" name="Прямоугольник 1"/>
          <p:cNvSpPr/>
          <p:nvPr/>
        </p:nvSpPr>
        <p:spPr>
          <a:xfrm>
            <a:off x="1673640" y="1119960"/>
            <a:ext cx="6278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2060"/>
                </a:solidFill>
                <a:latin typeface="Palatino Linotype"/>
              </a:rPr>
              <a:t>Готовим салат фруктов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4"/>
          <p:cNvSpPr/>
          <p:nvPr/>
        </p:nvSpPr>
        <p:spPr>
          <a:xfrm>
            <a:off x="2492280" y="2444400"/>
            <a:ext cx="40957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Мы за столик сел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Фартучки надел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будем резать фру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Вкусные продук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Приготовим мы сал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Угощенью каждый рад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оугольник 1"/>
          <p:cNvSpPr/>
          <p:nvPr/>
        </p:nvSpPr>
        <p:spPr>
          <a:xfrm>
            <a:off x="1331640" y="1928520"/>
            <a:ext cx="662436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1. Мы  узнали о т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206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насколько важно есть полезную пищ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206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о том, как влияет еда на наш организ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2. Что не правильное питание ведет к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206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нарушению процессов роста и разви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206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ухудшению состояния здоровь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206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нарушению обменных процесс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206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снижению иммунит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2060"/>
                </a:solidFill>
                <a:latin typeface="Palatino Linotype"/>
              </a:rPr>
              <a:t>Вывод</a:t>
            </a:r>
            <a:endParaRPr b="0" lang="ru-RU" sz="3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51640" y="2349000"/>
            <a:ext cx="8609760" cy="32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88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Palatino Linotype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Palatino Linotype"/>
              </a:rPr>
              <a:t>Не смотря на то, что вопросам питания дошкольников в современном обществе  отведена особая роль, рост болезней у детей, вызванных неправильным питанием, заметно увеличивается. Одной из причин неправильного питания является низкий уровень информированности родителей  о культуре здорового питания.</a:t>
            </a: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  <a:p>
            <a:pPr marL="788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Palatino Linotype"/>
              </a:rPr>
              <a:t>Исходя из этого разработка данного проекта актуальна. </a:t>
            </a: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60" y="404640"/>
            <a:ext cx="8933400" cy="11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6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0" lang="ru-RU" sz="4000" spc="-1" strike="noStrike">
                <a:solidFill>
                  <a:srgbClr val="002060"/>
                </a:solidFill>
                <a:latin typeface="Palatino Linotype"/>
              </a:rPr>
              <a:t>Актуальность создания проекта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2060"/>
                </a:solidFill>
                <a:latin typeface="Palatino Linotype"/>
              </a:rPr>
              <a:t>Ι этап 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Palatino Linotype"/>
              </a:rPr>
              <a:t>«Выбор темы»</a:t>
            </a:r>
            <a:endParaRPr b="0" lang="ru-RU" sz="3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8" name="Прямоугольник 7"/>
          <p:cNvSpPr/>
          <p:nvPr/>
        </p:nvSpPr>
        <p:spPr>
          <a:xfrm>
            <a:off x="2239560" y="3937680"/>
            <a:ext cx="4404240" cy="1035000"/>
          </a:xfrm>
          <a:prstGeom prst="rect">
            <a:avLst/>
          </a:prstGeom>
          <a:solidFill>
            <a:srgbClr val="a5b592"/>
          </a:solidFill>
          <a:ln>
            <a:solidFill>
              <a:srgbClr val="565e4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Что мы хотим узнать о себе, о своём здоровь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11"/>
          <p:cNvSpPr/>
          <p:nvPr/>
        </p:nvSpPr>
        <p:spPr>
          <a:xfrm>
            <a:off x="5156280" y="5445360"/>
            <a:ext cx="3600000" cy="1030320"/>
          </a:xfrm>
          <a:prstGeom prst="rect">
            <a:avLst/>
          </a:prstGeom>
          <a:solidFill>
            <a:srgbClr val="a5b592"/>
          </a:solidFill>
          <a:ln>
            <a:solidFill>
              <a:srgbClr val="565e4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Как нам найти ответы на наши 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12"/>
          <p:cNvSpPr/>
          <p:nvPr/>
        </p:nvSpPr>
        <p:spPr>
          <a:xfrm>
            <a:off x="251640" y="5445360"/>
            <a:ext cx="4032000" cy="1030320"/>
          </a:xfrm>
          <a:prstGeom prst="rect">
            <a:avLst/>
          </a:prstGeom>
          <a:solidFill>
            <a:srgbClr val="a5b592"/>
          </a:solidFill>
          <a:ln>
            <a:solidFill>
              <a:srgbClr val="565e4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Что мы знаем о пользе продуктов, для нашего здоровь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13"/>
          <p:cNvSpPr/>
          <p:nvPr/>
        </p:nvSpPr>
        <p:spPr>
          <a:xfrm>
            <a:off x="2558520" y="1892520"/>
            <a:ext cx="4003920" cy="791640"/>
          </a:xfrm>
          <a:prstGeom prst="rect">
            <a:avLst/>
          </a:prstGeom>
          <a:solidFill>
            <a:srgbClr val="a5b592"/>
          </a:solidFill>
          <a:ln>
            <a:solidFill>
              <a:srgbClr val="565e4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Модель «Трех вопросов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Стрелка вверх 14"/>
          <p:cNvSpPr/>
          <p:nvPr/>
        </p:nvSpPr>
        <p:spPr>
          <a:xfrm rot="12439200">
            <a:off x="1729440" y="2756880"/>
            <a:ext cx="287640" cy="24292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a5b592"/>
          </a:solidFill>
          <a:ln>
            <a:solidFill>
              <a:srgbClr val="565e4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ndara"/>
            </a:endParaRPr>
          </a:p>
        </p:txBody>
      </p:sp>
      <p:sp>
        <p:nvSpPr>
          <p:cNvPr id="173" name="Стрелка вверх 15"/>
          <p:cNvSpPr/>
          <p:nvPr/>
        </p:nvSpPr>
        <p:spPr>
          <a:xfrm rot="10800000">
            <a:off x="4284360" y="2902680"/>
            <a:ext cx="276480" cy="9583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a5b592"/>
          </a:solidFill>
          <a:ln>
            <a:solidFill>
              <a:srgbClr val="565e4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ndara"/>
            </a:endParaRPr>
          </a:p>
        </p:txBody>
      </p:sp>
      <p:sp>
        <p:nvSpPr>
          <p:cNvPr id="174" name="Стрелка вверх 16"/>
          <p:cNvSpPr/>
          <p:nvPr/>
        </p:nvSpPr>
        <p:spPr>
          <a:xfrm rot="9600000">
            <a:off x="7006320" y="2867040"/>
            <a:ext cx="287640" cy="24292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a5b592"/>
          </a:solidFill>
          <a:ln>
            <a:solidFill>
              <a:srgbClr val="565e4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3640" y="260640"/>
            <a:ext cx="6984360" cy="791640"/>
          </a:xfrm>
          <a:prstGeom prst="rect">
            <a:avLst/>
          </a:prstGeom>
          <a:noFill/>
          <a:ln w="1584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2060"/>
                </a:solidFill>
                <a:latin typeface="Palatino Linotype"/>
              </a:rPr>
              <a:t>II </a:t>
            </a:r>
            <a:r>
              <a:rPr b="0" lang="ru-RU" sz="4400" spc="-1" strike="noStrike">
                <a:solidFill>
                  <a:srgbClr val="002060"/>
                </a:solidFill>
                <a:latin typeface="Palatino Linotype"/>
              </a:rPr>
              <a:t>этап – сбор информации: 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76" name="Овал 2"/>
          <p:cNvSpPr/>
          <p:nvPr/>
        </p:nvSpPr>
        <p:spPr>
          <a:xfrm>
            <a:off x="3326040" y="3042720"/>
            <a:ext cx="2948400" cy="1250280"/>
          </a:xfrm>
          <a:prstGeom prst="ellipse">
            <a:avLst/>
          </a:prstGeom>
          <a:solidFill>
            <a:srgbClr val="a5b592"/>
          </a:solidFill>
          <a:ln>
            <a:solidFill>
              <a:srgbClr val="565e4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2060"/>
                </a:solidFill>
                <a:latin typeface="Palatino Linotype"/>
              </a:rPr>
              <a:t>Сбор свед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4"/>
          <p:cNvSpPr/>
          <p:nvPr/>
        </p:nvSpPr>
        <p:spPr>
          <a:xfrm>
            <a:off x="5947200" y="4864320"/>
            <a:ext cx="3196440" cy="1007640"/>
          </a:xfrm>
          <a:prstGeom prst="ellipse">
            <a:avLst/>
          </a:prstGeom>
          <a:solidFill>
            <a:srgbClr val="a5b592"/>
          </a:solidFill>
          <a:ln>
            <a:solidFill>
              <a:srgbClr val="565e4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2060"/>
                </a:solidFill>
                <a:latin typeface="Palatino Linotype"/>
              </a:rPr>
              <a:t>Организация экскурс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Овал 5"/>
          <p:cNvSpPr/>
          <p:nvPr/>
        </p:nvSpPr>
        <p:spPr>
          <a:xfrm>
            <a:off x="6353280" y="1572840"/>
            <a:ext cx="2664000" cy="1007640"/>
          </a:xfrm>
          <a:prstGeom prst="ellipse">
            <a:avLst/>
          </a:prstGeom>
          <a:solidFill>
            <a:srgbClr val="a5b592"/>
          </a:solidFill>
          <a:ln>
            <a:solidFill>
              <a:srgbClr val="565e4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2060"/>
                </a:solidFill>
                <a:latin typeface="Palatino Linotype"/>
              </a:rPr>
              <a:t>Подбор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Овал 6"/>
          <p:cNvSpPr/>
          <p:nvPr/>
        </p:nvSpPr>
        <p:spPr>
          <a:xfrm>
            <a:off x="611640" y="1700640"/>
            <a:ext cx="2498040" cy="1007640"/>
          </a:xfrm>
          <a:prstGeom prst="ellipse">
            <a:avLst/>
          </a:prstGeom>
          <a:solidFill>
            <a:srgbClr val="a5b592"/>
          </a:solidFill>
          <a:ln>
            <a:solidFill>
              <a:srgbClr val="565e4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2060"/>
                </a:solidFill>
                <a:latin typeface="Palatino Linotype"/>
              </a:rPr>
              <a:t>Интернет источ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Овал 7"/>
          <p:cNvSpPr/>
          <p:nvPr/>
        </p:nvSpPr>
        <p:spPr>
          <a:xfrm>
            <a:off x="3051720" y="5733360"/>
            <a:ext cx="3725640" cy="914040"/>
          </a:xfrm>
          <a:prstGeom prst="ellipse">
            <a:avLst/>
          </a:prstGeom>
          <a:solidFill>
            <a:srgbClr val="a5b592"/>
          </a:solidFill>
          <a:ln>
            <a:solidFill>
              <a:srgbClr val="565e4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2060"/>
                </a:solidFill>
                <a:latin typeface="Palatino Linotype"/>
              </a:rPr>
              <a:t>Организация игров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Овал 8"/>
          <p:cNvSpPr/>
          <p:nvPr/>
        </p:nvSpPr>
        <p:spPr>
          <a:xfrm>
            <a:off x="47520" y="4941000"/>
            <a:ext cx="3074400" cy="914040"/>
          </a:xfrm>
          <a:prstGeom prst="ellipse">
            <a:avLst/>
          </a:prstGeom>
          <a:solidFill>
            <a:srgbClr val="a5b592"/>
          </a:solidFill>
          <a:ln>
            <a:solidFill>
              <a:srgbClr val="565e4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2060"/>
                </a:solidFill>
                <a:latin typeface="Palatino Linotype"/>
              </a:rPr>
              <a:t>Привлечение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трелка вправо 12"/>
          <p:cNvSpPr/>
          <p:nvPr/>
        </p:nvSpPr>
        <p:spPr>
          <a:xfrm rot="19394400">
            <a:off x="6279840" y="2649240"/>
            <a:ext cx="9781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5b592"/>
          </a:solidFill>
          <a:ln>
            <a:solidFill>
              <a:srgbClr val="565e4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ndara"/>
            </a:endParaRPr>
          </a:p>
        </p:txBody>
      </p:sp>
      <p:sp>
        <p:nvSpPr>
          <p:cNvPr id="183" name="Стрелка вправо 13"/>
          <p:cNvSpPr/>
          <p:nvPr/>
        </p:nvSpPr>
        <p:spPr>
          <a:xfrm rot="13575000">
            <a:off x="2372760" y="2838960"/>
            <a:ext cx="92016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5b592"/>
          </a:solidFill>
          <a:ln>
            <a:solidFill>
              <a:srgbClr val="565e4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ndara"/>
            </a:endParaRPr>
          </a:p>
        </p:txBody>
      </p:sp>
      <p:sp>
        <p:nvSpPr>
          <p:cNvPr id="184" name="Стрелка вправо 16"/>
          <p:cNvSpPr/>
          <p:nvPr/>
        </p:nvSpPr>
        <p:spPr>
          <a:xfrm rot="5400000">
            <a:off x="4311720" y="4744080"/>
            <a:ext cx="9781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5b592"/>
          </a:solidFill>
          <a:ln>
            <a:solidFill>
              <a:srgbClr val="565e4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ndara"/>
            </a:endParaRPr>
          </a:p>
        </p:txBody>
      </p:sp>
      <p:sp>
        <p:nvSpPr>
          <p:cNvPr id="185" name="Стрелка вправо 17"/>
          <p:cNvSpPr/>
          <p:nvPr/>
        </p:nvSpPr>
        <p:spPr>
          <a:xfrm rot="8552400">
            <a:off x="2458440" y="4343760"/>
            <a:ext cx="9781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5b592"/>
          </a:solidFill>
          <a:ln>
            <a:solidFill>
              <a:srgbClr val="565e4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ndara"/>
            </a:endParaRPr>
          </a:p>
        </p:txBody>
      </p:sp>
      <p:sp>
        <p:nvSpPr>
          <p:cNvPr id="186" name="Стрелка вправо 18"/>
          <p:cNvSpPr/>
          <p:nvPr/>
        </p:nvSpPr>
        <p:spPr>
          <a:xfrm rot="2892600">
            <a:off x="6283800" y="4176360"/>
            <a:ext cx="89604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5b592"/>
          </a:solidFill>
          <a:ln>
            <a:solidFill>
              <a:srgbClr val="565e4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11640" y="2781000"/>
            <a:ext cx="8092080" cy="3450240"/>
          </a:xfrm>
          <a:prstGeom prst="rect">
            <a:avLst/>
          </a:prstGeom>
          <a:noFill/>
          <a:ln w="15840">
            <a:noFill/>
          </a:ln>
        </p:spPr>
        <p:txBody>
          <a:bodyPr anchor="t">
            <a:normAutofit/>
          </a:bodyPr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444d26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a5b592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Palatino Linotype"/>
              </a:rPr>
              <a:t>Создание брошюры для родителей «Питание и здоровье»</a:t>
            </a:r>
            <a:endParaRPr b="0" lang="ru-RU" sz="2000" spc="-1" strike="noStrike">
              <a:solidFill>
                <a:srgbClr val="444d26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a5b592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Palatino Linotype"/>
              </a:rPr>
              <a:t>Викторина –развлечение «Будьте здоровы!»</a:t>
            </a:r>
            <a:endParaRPr b="0" lang="ru-RU" sz="2000" spc="-1" strike="noStrike">
              <a:solidFill>
                <a:srgbClr val="444d26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a5b592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Palatino Linotype"/>
              </a:rPr>
              <a:t>Анкетирование родителей «Питание в семье»</a:t>
            </a:r>
            <a:endParaRPr b="0" lang="ru-RU" sz="2000" spc="-1" strike="noStrike">
              <a:solidFill>
                <a:srgbClr val="444d26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a5b592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Palatino Linotype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Palatino Linotype"/>
              </a:rPr>
              <a:t>Создание витаминного кроссворда</a:t>
            </a:r>
            <a:endParaRPr b="0" lang="ru-RU" sz="2000" spc="-1" strike="noStrike">
              <a:solidFill>
                <a:srgbClr val="444d26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a5b592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Palatino Linotype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Palatino Linotype"/>
              </a:rPr>
              <a:t>Спектакль «А полезные продукты – это овощи и фрукты!»</a:t>
            </a:r>
            <a:endParaRPr b="0" lang="ru-RU" sz="2000" spc="-1" strike="noStrike">
              <a:solidFill>
                <a:srgbClr val="444d26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444d26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444d26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444d26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444d26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444d26"/>
              </a:solidFill>
              <a:latin typeface="Candar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936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2060"/>
                </a:solidFill>
                <a:latin typeface="Palatino Linotype"/>
              </a:rPr>
              <a:t>III </a:t>
            </a:r>
            <a:r>
              <a:rPr b="1" lang="ru-RU" sz="3600" spc="-1" strike="noStrike">
                <a:solidFill>
                  <a:srgbClr val="002060"/>
                </a:solidFill>
                <a:latin typeface="Palatino Linotype"/>
              </a:rPr>
              <a:t> этап: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Palatino Linotype"/>
              </a:rPr>
              <a:t>реализация проекта</a:t>
            </a:r>
            <a:endParaRPr b="0" lang="ru-RU" sz="3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F:\DCIM\100PHOTO\SAM_3799.JPG"/>
          <p:cNvPicPr/>
          <p:nvPr/>
        </p:nvPicPr>
        <p:blipFill>
          <a:blip r:embed="rId1"/>
          <a:stretch/>
        </p:blipFill>
        <p:spPr>
          <a:xfrm rot="20151000">
            <a:off x="937080" y="3331440"/>
            <a:ext cx="1711080" cy="33134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07320" y="335520"/>
            <a:ext cx="659232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3600" spc="-1" strike="noStrike">
                <a:solidFill>
                  <a:srgbClr val="002060"/>
                </a:solidFill>
                <a:latin typeface="Palatino Linotype"/>
                <a:ea typeface="Times New Roman"/>
              </a:rPr>
              <a:t>Витамин А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1" name="Прямоугольник 2"/>
          <p:cNvSpPr/>
          <p:nvPr/>
        </p:nvSpPr>
        <p:spPr>
          <a:xfrm>
            <a:off x="539640" y="2061000"/>
            <a:ext cx="349164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  <a:ea typeface="Times New Roman"/>
              </a:rPr>
              <a:t>Помни истину простую -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  <a:ea typeface="Times New Roman"/>
              </a:rPr>
              <a:t>Лучше видит только тот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  <a:ea typeface="Times New Roman"/>
              </a:rPr>
              <a:t>Кто жует морковь сырую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  <a:ea typeface="Times New Roman"/>
              </a:rPr>
              <a:t>Или пьёт морковный сок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3"/>
          <p:cNvSpPr/>
          <p:nvPr/>
        </p:nvSpPr>
        <p:spPr>
          <a:xfrm>
            <a:off x="4428000" y="5661360"/>
            <a:ext cx="4571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Найти его можно в молоке, моркови, зеленом лу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Рисунок 8" descr="215062988558.png"/>
          <p:cNvPicPr/>
          <p:nvPr/>
        </p:nvPicPr>
        <p:blipFill>
          <a:blip r:embed="rId2"/>
          <a:stretch/>
        </p:blipFill>
        <p:spPr>
          <a:xfrm>
            <a:off x="3556440" y="3124080"/>
            <a:ext cx="1742760" cy="25088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E:\DCIM\100PHOTO\SAM_3692.JPG"/>
          <p:cNvPicPr/>
          <p:nvPr/>
        </p:nvPicPr>
        <p:blipFill>
          <a:blip r:embed="rId3"/>
          <a:stretch/>
        </p:blipFill>
        <p:spPr>
          <a:xfrm rot="465000">
            <a:off x="5641920" y="1566720"/>
            <a:ext cx="2957040" cy="365256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195" name="Прямоугольник 1"/>
          <p:cNvSpPr/>
          <p:nvPr/>
        </p:nvSpPr>
        <p:spPr>
          <a:xfrm>
            <a:off x="297000" y="161640"/>
            <a:ext cx="53546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2060"/>
                </a:solidFill>
                <a:latin typeface="Palatino Linotype"/>
              </a:rPr>
              <a:t>Создание брошюры «Питание и здоровь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66280" y="26064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2060"/>
                </a:solidFill>
                <a:latin typeface="Palatino Linotype"/>
                <a:ea typeface="Times New Roman"/>
              </a:rPr>
              <a:t>Витамин Д </a:t>
            </a:r>
            <a:endParaRPr b="0" lang="ru-RU" sz="4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7" name="Прямоугольник 2"/>
          <p:cNvSpPr/>
          <p:nvPr/>
        </p:nvSpPr>
        <p:spPr>
          <a:xfrm>
            <a:off x="430560" y="1402560"/>
            <a:ext cx="403200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  <a:ea typeface="Times New Roman"/>
              </a:rPr>
              <a:t>Рыбий жир всего полезней!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  <a:ea typeface="Times New Roman"/>
              </a:rPr>
              <a:t>Хоть противный - надо пить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  <a:ea typeface="Times New Roman"/>
              </a:rPr>
              <a:t>Он спасает от болезней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  <a:ea typeface="Times New Roman"/>
              </a:rPr>
              <a:t>Без болезней - лучше жи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3"/>
          <p:cNvSpPr/>
          <p:nvPr/>
        </p:nvSpPr>
        <p:spPr>
          <a:xfrm>
            <a:off x="4068000" y="4797000"/>
            <a:ext cx="489636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Витамин Д сохраняет зубы. Без него зубы становятся хрупкими. Его можно найти в молоке, рыбе , твороге. Загорая на солнце , мы тоже получаем витамин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K:\DCIM\100PHOTO\SAM_3668.JPG"/>
          <p:cNvPicPr/>
          <p:nvPr/>
        </p:nvPicPr>
        <p:blipFill>
          <a:blip r:embed="rId1"/>
          <a:stretch/>
        </p:blipFill>
        <p:spPr>
          <a:xfrm rot="20794800">
            <a:off x="474120" y="3560760"/>
            <a:ext cx="3321000" cy="27360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00" name="Picture 3" descr="K:\DCIM\100PHOTO\SAM_3666.JPG"/>
          <p:cNvPicPr/>
          <p:nvPr/>
        </p:nvPicPr>
        <p:blipFill>
          <a:blip r:embed="rId2"/>
          <a:stretch/>
        </p:blipFill>
        <p:spPr>
          <a:xfrm>
            <a:off x="5342760" y="1502640"/>
            <a:ext cx="3050280" cy="27550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384680" cy="92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Palatino Linotype"/>
              </a:rPr>
              <a:t>Витамин В 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Прямоугольник 3"/>
          <p:cNvSpPr/>
          <p:nvPr/>
        </p:nvSpPr>
        <p:spPr>
          <a:xfrm>
            <a:off x="1151640" y="1268640"/>
            <a:ext cx="3960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Очень важно спозаранку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Есть за завтраком овсянку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Черный хлеб полезен нам-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И не только по утр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E:\DCIM\100PHOTO\SAM_3702.JPG"/>
          <p:cNvPicPr/>
          <p:nvPr/>
        </p:nvPicPr>
        <p:blipFill>
          <a:blip r:embed="rId1"/>
          <a:stretch/>
        </p:blipFill>
        <p:spPr>
          <a:xfrm>
            <a:off x="6124320" y="1647000"/>
            <a:ext cx="2088720" cy="34380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04" name="Picture 3" descr="E:\DCIM\100PHOTO\SAM_3699.JPG"/>
          <p:cNvPicPr/>
          <p:nvPr/>
        </p:nvPicPr>
        <p:blipFill>
          <a:blip r:embed="rId2"/>
          <a:stretch/>
        </p:blipFill>
        <p:spPr>
          <a:xfrm>
            <a:off x="375120" y="3147840"/>
            <a:ext cx="3456000" cy="31417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205" name="Прямоугольник 2"/>
          <p:cNvSpPr/>
          <p:nvPr/>
        </p:nvSpPr>
        <p:spPr>
          <a:xfrm>
            <a:off x="4356000" y="5373360"/>
            <a:ext cx="4571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Геркулес», гречка дают организму энергию, чтобы двигаться, хорошо думать, не устав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Волна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Волна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Волна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Waveform</Template>
  <TotalTime>1997</TotalTime>
  <Application>LibreOffice/7.4.7.2$Linux_X86_64 LibreOffice_project/40$Build-2</Application>
  <AppVersion>15.0000</AppVersion>
  <Words>637</Words>
  <Paragraphs>113</Paragraphs>
  <Company>Мэрия города Новосибирска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10:54:02Z</dcterms:created>
  <dc:creator>DS</dc:creator>
  <dc:description/>
  <dc:language>en-US</dc:language>
  <cp:lastModifiedBy>Улыбнись</cp:lastModifiedBy>
  <cp:lastPrinted>2015-03-02T10:43:02Z</cp:lastPrinted>
  <dcterms:modified xsi:type="dcterms:W3CDTF">2016-01-22T19:02:26Z</dcterms:modified>
  <cp:revision>17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Экран (4:3)</vt:lpwstr>
  </property>
  <property fmtid="{D5CDD505-2E9C-101B-9397-08002B2CF9AE}" pid="4" name="Slides">
    <vt:r8>24</vt:r8>
  </property>
</Properties>
</file>