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D548-93BE-4DA3-9B7D-AC678BAC91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5B23-744B-4143-A64C-42386D93DE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7BC-7C83-4F60-B8A4-51C54CB1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5E80-8C06-4C0A-9BF7-6EC4096F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7384-16F6-4874-83F9-623BEF00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EDC2-03DD-406B-92CE-C647B66A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BAAC-9D08-4004-BE20-3101EA93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1D36-A727-4646-89F4-D399C362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6DB-A6C6-47C4-8159-4DF7DF8C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490F-CBD5-43C8-859C-15BE71D3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431-8507-49A7-A4ED-1538AF56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BEF7-D842-4B96-B5A2-355D579C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3F0-5122-49E5-9BD1-13A53D67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A41B-DA92-486B-8793-49F1B104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EB42-FFD3-40A2-93F2-CB6D715646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14395" t="3268" r="15761" b="5261"/>
          <a:stretch/>
        </p:blipFill>
        <p:spPr>
          <a:xfrm>
            <a:off x="0" y="527040"/>
            <a:ext cx="3487680" cy="342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rcRect l="4665" t="0" r="3280" b="14427"/>
          <a:stretch/>
        </p:blipFill>
        <p:spPr>
          <a:xfrm>
            <a:off x="5456160" y="3084480"/>
            <a:ext cx="3673440" cy="383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3487680" y="3352680"/>
            <a:ext cx="18018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68000" y="2352600"/>
            <a:ext cx="83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Обобщение изученного материала по теме «Причастие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Цель уро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Задачи уро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995640" y="1484280"/>
            <a:ext cx="47293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4" descr=""/>
          <p:cNvPicPr/>
          <p:nvPr/>
        </p:nvPicPr>
        <p:blipFill>
          <a:blip r:embed="rId1"/>
          <a:stretch/>
        </p:blipFill>
        <p:spPr>
          <a:xfrm>
            <a:off x="420840" y="304920"/>
            <a:ext cx="84610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Кластер «Фишбоун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627280" y="2506680"/>
            <a:ext cx="33177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бразуйте причастия, выделите суффик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роблемы), которые побуждают к действию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Человек), который обидел природу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Река), которую загрязняют –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Мусор), который выбросили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Цветок), который сорвали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ставьте предложения из сло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работа в парах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008000" y="2139840"/>
            <a:ext cx="687708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е стиль текста, тему, основную мысль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764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just">
              <a:lnSpc>
                <a:spcPct val="95000"/>
              </a:lnSpc>
              <a:spcBef>
                <a:spcPts val="6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…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оследнее время экологические проблемы имеют глобальный характер и затрагивают все человечество. К числу самых волну…щих относятся проблемы, связа…ые</a:t>
            </a:r>
            <a:r>
              <a:rPr b="0" lang="ru-RU" sz="26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загрязнением окружа….щей</a:t>
            </a:r>
            <a:r>
              <a:rPr b="0" lang="ru-RU" sz="26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среды. Загрязняется все: воздух, вода, почва. И это в свою очередь не может не сказаться губительно на растениях, животных, на здоровье людей. Тревожная обстановка наблюдается и в нашей Республике. С каждым годом уровень загрязнения реки Мокша возрастает, а значит, загрязняются Ока и Волга. Нужно помнить, что будущее планеты зависит от каждого из нас. Внеси и ты  свой вклад в улучшение экологической ситуации города, Республики, страны, Земли!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5000"/>
              </a:lnSpc>
              <a:spcBef>
                <a:spcPts val="6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Д. Кулаги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 с карточ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06064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)пойма(н,нн)ый браконьерами медведь; браконьер (не)наказа(н,нн); (не)нарушаемый, а соблюдаемый закон; запах (не)коше(н,нн)ой травы, красота (не)сорва(н,нн)ых ландыш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3T21:13:10Z</dcterms:created>
  <dc:creator>ASUS</dc:creator>
  <dc:description/>
  <dc:language>en-US</dc:language>
  <cp:lastModifiedBy>Пользователь Windows</cp:lastModifiedBy>
  <dcterms:modified xsi:type="dcterms:W3CDTF">2023-05-04T16:56:30Z</dcterms:modified>
  <cp:revision>6</cp:revision>
  <dc:subject/>
  <dc:title>Презентация PowerPoint</dc:title>
</cp:coreProperties>
</file>