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EE70-C7D6-4C11-BB89-0D5F8931B2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DCB1-EB41-45CF-83DC-8D4707B69F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10B-E17A-4B8C-845A-D85BADB7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5D6-83F5-44CE-A2FC-9F064B62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156-E8B0-4A38-9EF5-26D0643D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6B7-0CF8-4C85-9A6B-C5C86687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2300-E593-491B-AC4B-E8FE9DD4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A90-E5A3-4AA2-AEF9-D7F409FA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25D-6834-4BE8-84E6-296B1914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3947-DEBB-4428-A0AC-7992A206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C29F-740D-43BC-98DE-3E72ABDC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815-6E99-457A-80B8-0020FF57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C0D-77A4-44F5-9546-62848988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C59-AB32-429B-AA17-1F022EEE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1932-E654-428C-9FFC-E36A47B1D4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4395" t="3268" r="15761" b="5261"/>
          <a:stretch/>
        </p:blipFill>
        <p:spPr>
          <a:xfrm>
            <a:off x="0" y="527040"/>
            <a:ext cx="3487680" cy="342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rcRect l="4665" t="0" r="3280" b="14427"/>
          <a:stretch/>
        </p:blipFill>
        <p:spPr>
          <a:xfrm>
            <a:off x="5456160" y="3084480"/>
            <a:ext cx="3673440" cy="383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3487680" y="3352680"/>
            <a:ext cx="1801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000" y="2352600"/>
            <a:ext cx="83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Обобщение изученного материала по теме «Причастие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Цель уро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Задачи уро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995640" y="1484280"/>
            <a:ext cx="47293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4" descr=""/>
          <p:cNvPicPr/>
          <p:nvPr/>
        </p:nvPicPr>
        <p:blipFill>
          <a:blip r:embed="rId1"/>
          <a:stretch/>
        </p:blipFill>
        <p:spPr>
          <a:xfrm>
            <a:off x="420840" y="304920"/>
            <a:ext cx="84610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Кластер «Фишбоун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627280" y="2506680"/>
            <a:ext cx="3317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разуйте причастия, выделите суффик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роблемы), которые побуждают к действию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Человек), который обидел природу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Река), которую загрязняют –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Мусор), который выбросили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Цветок), который сорвали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ставьте предложения из сл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работа в парах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08000" y="2139840"/>
            <a:ext cx="687708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 стиль текста, тему, основную мысль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764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just">
              <a:lnSpc>
                <a:spcPct val="95000"/>
              </a:lnSpc>
              <a:spcBef>
                <a:spcPts val="6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…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следнее время экологические проблемы имеют глобальный характер и затрагивают все человечество. К числу самых волну…щих относятся проблемы, связа…ые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загрязнением окружа….щей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среды. Загрязняется все: воздух, вода, почва. И это в свою очередь не может не сказаться губительно на растениях, животных, на здоровье людей. Тревожная обстановка наблюдается и в нашей Республике. С каждым годом уровень загрязнения реки Мокша возрастает, а значит, загрязняются Ока и Волга. Нужно помнить, что будущее планеты зависит от каждого из нас. Внеси и ты  свой вклад в улучшение экологической ситуации города, Республики, страны, Земли!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5000"/>
              </a:lnSpc>
              <a:spcBef>
                <a:spcPts val="6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Д. Кулаги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 с карточ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06064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)пойма(н,нн)ый браконьерами медведь; браконьер (не)наказа(н,нн); (не)нарушаемый, а соблюдаемый закон; запах (не)коше(н,нн)ой травы, красота (не)сорва(н,нн)ых ландыш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3T21:13:10Z</dcterms:created>
  <dc:creator>ASUS</dc:creator>
  <dc:description/>
  <dc:language>en-US</dc:language>
  <cp:lastModifiedBy>Пользователь Windows</cp:lastModifiedBy>
  <dcterms:modified xsi:type="dcterms:W3CDTF">2023-05-04T16:56:30Z</dcterms:modified>
  <cp:revision>6</cp:revision>
  <dc:subject/>
  <dc:title>Презентация PowerPoint</dc:title>
</cp:coreProperties>
</file>