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FD1-FF96-40ED-A329-D68D77B17B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EF2-47F7-4305-9EF4-D16C94F9C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0D4-F1E2-4443-9E59-2A10B1D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F40-AEC6-4220-9BCB-2E798FDA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771-49E0-4AC5-93D1-2B5B90C6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0E3-62A1-4833-B911-9153128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8E67-C5DB-46B9-9A01-0B59D265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1EF-E0FD-40B3-8BE3-7BFA45C5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D9C-16EA-46E4-8E12-E3D7E8C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89A3-B29F-4D83-807C-903A3DE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FB5-DAE6-4365-A940-06486C2E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46DB-A0DA-451A-BFB7-C1737EAB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6C2-C1FC-41DB-AD1E-E0F8D5C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E05-2178-4234-873A-22B19EB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E7D-4A12-4615-B9BF-CAFFD05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223A-D141-4148-BEDD-268A93B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F95-EB7B-42C7-BE87-A9454DD0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2108-CB9E-4D1B-93ED-E78F05F4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8CB8-2625-469F-87CE-59DFAF77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B3D0-EFAF-43C8-9EA2-6E4F3EE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6419-7FB6-4DCA-8FB1-0A15644E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0559-B72E-46C0-A3C0-23684A8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7C17-81C6-473F-83D0-349B198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2B6A-61E5-4655-B617-1C07D50A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81A-8342-4BA2-8C2B-F2CB63D4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9085-C784-4130-9E75-4D00D8E5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DD75-DBC4-4720-A9B5-D1668F3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DA25-B7D4-41ED-A42C-6637FA3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C5D4-7986-4D78-8F91-0BABFEA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52E5-FC85-43A9-B011-E68B223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AFE0-6034-49C7-95BF-0D5A34A7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11AC-68AA-4654-A8C4-A03983BD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065-5B77-4C7B-A736-32DF2E8F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88A-D7E0-4574-8CB2-1D5E563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1C6-1A39-4F7E-AD2B-333E952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AEE-A712-46A4-9538-5CC106B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0EF-51F5-4655-8DC0-0A5DF91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D35-FA87-4477-BC47-D759BB2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17B-A604-4ED8-BB44-79CA70E5B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A8A3-E833-42C5-A63F-5D724FD8D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B919-11AF-46EE-9A23-F2F64B0B8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П МАОУ Сладков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Маслянская средняя общеобразовательная школа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тский сад «Алёнушк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одзаголовок 2" descr=""/>
          <p:cNvPicPr/>
          <p:nvPr/>
        </p:nvPicPr>
        <p:blipFill>
          <a:blip r:embed="rId1"/>
          <a:stretch/>
        </p:blipFill>
        <p:spPr>
          <a:xfrm>
            <a:off x="1285920" y="1700280"/>
            <a:ext cx="785808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971640" y="311040"/>
            <a:ext cx="74167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основе полученных знаний мы решили соз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ни – автодорогу в группе, что бы обыгрывать дорожные ситуации и закреплять знания о правилах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s\Пользователь\Desktop\Денис\DSCN1817.JPG"/>
          <p:cNvPicPr/>
          <p:nvPr/>
        </p:nvPicPr>
        <p:blipFill>
          <a:blip r:embed="rId1"/>
          <a:stretch/>
        </p:blipFill>
        <p:spPr>
          <a:xfrm>
            <a:off x="1116000" y="1938240"/>
            <a:ext cx="25542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Пользователь\Desktop\Денис\DSCN1818.JPG"/>
          <p:cNvPicPr/>
          <p:nvPr/>
        </p:nvPicPr>
        <p:blipFill>
          <a:blip r:embed="rId2"/>
          <a:stretch/>
        </p:blipFill>
        <p:spPr>
          <a:xfrm>
            <a:off x="5608800" y="2090880"/>
            <a:ext cx="2627280" cy="1742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Пользователь\Desktop\Денис\DSCN1819.JPG"/>
          <p:cNvPicPr/>
          <p:nvPr/>
        </p:nvPicPr>
        <p:blipFill>
          <a:blip r:embed="rId3"/>
          <a:stretch/>
        </p:blipFill>
        <p:spPr>
          <a:xfrm>
            <a:off x="1060560" y="4224240"/>
            <a:ext cx="2719440" cy="2000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Пользователь\Desktop\Денис\DSCN1820.JPG"/>
          <p:cNvPicPr/>
          <p:nvPr/>
        </p:nvPicPr>
        <p:blipFill>
          <a:blip r:embed="rId4"/>
          <a:stretch/>
        </p:blipFill>
        <p:spPr>
          <a:xfrm>
            <a:off x="5651640" y="4206960"/>
            <a:ext cx="260820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Пользователь\Desktop\Денис\DSCN1848.JPG"/>
          <p:cNvPicPr/>
          <p:nvPr/>
        </p:nvPicPr>
        <p:blipFill>
          <a:blip r:embed="rId5"/>
          <a:stretch/>
        </p:blipFill>
        <p:spPr>
          <a:xfrm>
            <a:off x="3490920" y="3143160"/>
            <a:ext cx="237816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499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т  так мы закрепляем знания о правилах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Users\Пользователь\Desktop\Денис\DSCN1821.JPG"/>
          <p:cNvPicPr/>
          <p:nvPr/>
        </p:nvPicPr>
        <p:blipFill>
          <a:blip r:embed="rId1"/>
          <a:stretch/>
        </p:blipFill>
        <p:spPr>
          <a:xfrm>
            <a:off x="933480" y="2114640"/>
            <a:ext cx="3857760" cy="294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:\Денис\DSCN1828.JPG"/>
          <p:cNvPicPr/>
          <p:nvPr/>
        </p:nvPicPr>
        <p:blipFill>
          <a:blip r:embed="rId2"/>
          <a:stretch/>
        </p:blipFill>
        <p:spPr>
          <a:xfrm>
            <a:off x="4889520" y="1962000"/>
            <a:ext cx="340056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J:\Денис\DSCN1827.JPG"/>
          <p:cNvPicPr/>
          <p:nvPr/>
        </p:nvPicPr>
        <p:blipFill>
          <a:blip r:embed="rId3"/>
          <a:stretch/>
        </p:blipFill>
        <p:spPr>
          <a:xfrm>
            <a:off x="3882960" y="4054320"/>
            <a:ext cx="32734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2"/>
          <p:cNvSpPr/>
          <p:nvPr/>
        </p:nvSpPr>
        <p:spPr>
          <a:xfrm>
            <a:off x="826920" y="285840"/>
            <a:ext cx="749016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перь  я точно знаю, что переходить улицу нужно по пешеходному переходу и только на зеленый свет. Слежу я строго, чтобы мои родители, знакомые и друзья соблюдали правила перехода через улицу</a:t>
            </a:r>
            <a:r>
              <a:rPr b="0" i="1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Users\Пользователь\Desktop\Денис\DSCN1841.JPG"/>
          <p:cNvPicPr/>
          <p:nvPr/>
        </p:nvPicPr>
        <p:blipFill>
          <a:blip r:embed="rId1"/>
          <a:stretch/>
        </p:blipFill>
        <p:spPr>
          <a:xfrm>
            <a:off x="3236760" y="2901960"/>
            <a:ext cx="281016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428760" y="214200"/>
            <a:ext cx="8429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826920" y="0"/>
            <a:ext cx="7632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оекта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Формирование безопасного  поведения 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Задачи проекта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Изучить азбуку движения пешехода на доро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Развивать знания о правилах поведения на улице, дорожных зна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Воспитывать культуру поведения на ул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Исследовать историю возникновения пешеходного перехода и его значения для безопасност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libri"/>
              </a:rPr>
              <a:t>Приобщить детей группы к созданию макета дороги для урока безопасности</a:t>
            </a:r>
            <a:r>
              <a:rPr b="0" i="1" lang="ru-RU" sz="24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874800" y="2060640"/>
            <a:ext cx="7272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Гипотеза: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 считаю, если взрослые и дети будут соблюдать правила дорожного движ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ереходить улицу по пешеходному переходу, то аварийных ситуаций  на дорогах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476360" y="21420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Методы исслед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хема 2" descr=""/>
          <p:cNvPicPr/>
          <p:nvPr/>
        </p:nvPicPr>
        <p:blipFill>
          <a:blip r:embed="rId1"/>
          <a:stretch/>
        </p:blipFill>
        <p:spPr>
          <a:xfrm>
            <a:off x="1073160" y="1547640"/>
            <a:ext cx="7070760" cy="4664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069920" y="-45720"/>
            <a:ext cx="73868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Кто такие пеше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ля того , чтобы узнать, кто такие пешеходы я обращался в раз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:\Users\Пользователь\Desktop\Денис\DSCN1855.JPG"/>
          <p:cNvPicPr/>
          <p:nvPr/>
        </p:nvPicPr>
        <p:blipFill>
          <a:blip r:embed="rId1"/>
          <a:stretch/>
        </p:blipFill>
        <p:spPr>
          <a:xfrm>
            <a:off x="871560" y="2919240"/>
            <a:ext cx="2610000" cy="244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Пользователь\Desktop\Денис\DSCN1856.JPG"/>
          <p:cNvPicPr/>
          <p:nvPr/>
        </p:nvPicPr>
        <p:blipFill>
          <a:blip r:embed="rId2"/>
          <a:stretch/>
        </p:blipFill>
        <p:spPr>
          <a:xfrm>
            <a:off x="6102360" y="2554200"/>
            <a:ext cx="2139840" cy="247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Users\Пользователь\Desktop\Денис\DSCN1830.JPG"/>
          <p:cNvPicPr/>
          <p:nvPr/>
        </p:nvPicPr>
        <p:blipFill>
          <a:blip r:embed="rId3"/>
          <a:stretch/>
        </p:blipFill>
        <p:spPr>
          <a:xfrm>
            <a:off x="3468600" y="4359240"/>
            <a:ext cx="2670120" cy="2138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187280" y="100080"/>
            <a:ext cx="7129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шеходный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шеходный переход мы узнаем по знаку: на нем нарисован шагающий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Users\Пользователь\Desktop\Денис\DSCN1836.JPG"/>
          <p:cNvPicPr/>
          <p:nvPr/>
        </p:nvPicPr>
        <p:blipFill>
          <a:blip r:embed="rId1"/>
          <a:stretch/>
        </p:blipFill>
        <p:spPr>
          <a:xfrm>
            <a:off x="6334200" y="3164040"/>
            <a:ext cx="1950840" cy="324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Пользователь\Desktop\Денис\DSCN1857.JPG"/>
          <p:cNvPicPr/>
          <p:nvPr/>
        </p:nvPicPr>
        <p:blipFill>
          <a:blip r:embed="rId2"/>
          <a:stretch/>
        </p:blipFill>
        <p:spPr>
          <a:xfrm>
            <a:off x="835200" y="3895560"/>
            <a:ext cx="2889000" cy="296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3780000" y="2987640"/>
            <a:ext cx="2536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147680" y="169452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968400" y="2565360"/>
            <a:ext cx="6180120" cy="2379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8400" y="507600"/>
            <a:ext cx="7570800" cy="19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а с  двухсторонним и односторонним движением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пешеход, прежде чем перейти улицу, должен определить какое на нем движение, так как от этого зависит правила пере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2347920" cy="201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812880" y="357120"/>
            <a:ext cx="797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ители  и пешеходы должны действовать так, как говорится в стихотворении С. Михалк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свет зажегс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чит, двигаться опа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ый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вор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ходите, путь откры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вет – предупрежд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ди сигнала для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видел, что для пешеходов есть сво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гналы с двух сторо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расный человечек»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зеленый человечек»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и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 переходить улицу на красный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же если нет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684360" y="428760"/>
            <a:ext cx="795960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ще я узнал, какие бывают  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рещающие 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предупреждающие 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указательные 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5:40:28Z</dcterms:created>
  <dc:creator>First</dc:creator>
  <dc:description/>
  <dc:language>en-US</dc:language>
  <cp:lastModifiedBy>Улыбнись</cp:lastModifiedBy>
  <cp:lastPrinted>2014-04-14T09:02:04Z</cp:lastPrinted>
  <dcterms:modified xsi:type="dcterms:W3CDTF">2016-01-22T17:40:00Z</dcterms:modified>
  <cp:revision>164</cp:revision>
  <dc:subject/>
  <dc:title>МАДОУ «Детский сад комбинированного вида № 48» г. Тобольска</dc:title>
</cp:coreProperties>
</file>