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58BA-91AB-45A3-AFCA-6EAA6BC30C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1DF-297A-4466-B38E-470F4F6E0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E15-F707-462B-A2FB-1035032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36E-6334-44A9-AEFA-1EAC86B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BC7-E826-4BFE-80F8-A6A2991C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6EF-13F4-461C-8A9F-E8268BC0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A03B-43A9-4312-8F2D-94F44F20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FCC-9009-4BA6-A471-59FB55B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1A6-4A4F-4688-84F7-77941B5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F154-FCBB-425F-880C-F820202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66D9-6DAC-4C0E-B99A-9ADD430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28E8-36A3-4C19-8CFD-32C8052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47D5-1815-49AD-8CD8-1126101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D16-A417-4517-8DFC-95FE0A63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843E-8E7F-4A80-922C-2427415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E51-8B3A-4182-BD28-D5E5655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720-55CE-4C2B-B4AC-0045979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E80-504F-4F18-8E2E-BA654522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6B5F-CB29-4803-A296-CAC3745E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5C1C-1219-4091-88F9-F14F1D24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6383-D591-48C7-B558-D523BBAC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BF57-B65D-452D-9E7F-7B8AE40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1FD8-A382-47B9-A5A4-A6960294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83E0-B9FE-4D23-AB5E-4C7E33A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6A5-9F86-413F-B981-F9F061A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3153-629B-4CA8-B827-C5DBFD8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3B3C-DF75-4EBB-BA0C-B5496DDE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A81A-5310-4F0F-82A0-747FFD0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BC59-8E90-4740-BD8B-962513F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FC67-0092-4E53-B4DF-09F2686F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C729-AE7C-495A-9995-3E334502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1D6B-94B2-4CE1-88E4-F08C42D4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8B3-B855-41FF-A102-BFD2CC9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92B-E53D-49BA-AAB5-DA38921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5BF-B140-4E41-873C-55207D2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105-7E3D-4B78-8563-B561809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58A-2188-479B-B440-FF490BD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8D9-8AA3-4FC8-AFBF-90F2974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399C-9F22-4DDC-9D3C-A78C53A44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E50-55B5-414E-BFEE-9987FAD0E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98EB-840D-4E96-85B4-4267C357A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П МАОУ Сладков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Маслянская средняя общеобразовательная школа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тский сад «Алёнушк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одзаголовок 2" descr=""/>
          <p:cNvPicPr/>
          <p:nvPr/>
        </p:nvPicPr>
        <p:blipFill>
          <a:blip r:embed="rId1"/>
          <a:stretch/>
        </p:blipFill>
        <p:spPr>
          <a:xfrm>
            <a:off x="1285920" y="1700280"/>
            <a:ext cx="785808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971640" y="311040"/>
            <a:ext cx="74167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основе полученных знаний мы решили соз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ни – автодорогу в группе, что бы обыгрывать дорожные ситуации и закреплять знания о правилах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s\Пользователь\Desktop\Денис\DSCN1817.JPG"/>
          <p:cNvPicPr/>
          <p:nvPr/>
        </p:nvPicPr>
        <p:blipFill>
          <a:blip r:embed="rId1"/>
          <a:stretch/>
        </p:blipFill>
        <p:spPr>
          <a:xfrm>
            <a:off x="1116000" y="1938240"/>
            <a:ext cx="25542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Пользователь\Desktop\Денис\DSCN1818.JPG"/>
          <p:cNvPicPr/>
          <p:nvPr/>
        </p:nvPicPr>
        <p:blipFill>
          <a:blip r:embed="rId2"/>
          <a:stretch/>
        </p:blipFill>
        <p:spPr>
          <a:xfrm>
            <a:off x="5608800" y="2090880"/>
            <a:ext cx="2627280" cy="1742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Пользователь\Desktop\Денис\DSCN1819.JPG"/>
          <p:cNvPicPr/>
          <p:nvPr/>
        </p:nvPicPr>
        <p:blipFill>
          <a:blip r:embed="rId3"/>
          <a:stretch/>
        </p:blipFill>
        <p:spPr>
          <a:xfrm>
            <a:off x="1060560" y="4224240"/>
            <a:ext cx="2719440" cy="2000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Пользователь\Desktop\Денис\DSCN1820.JPG"/>
          <p:cNvPicPr/>
          <p:nvPr/>
        </p:nvPicPr>
        <p:blipFill>
          <a:blip r:embed="rId4"/>
          <a:stretch/>
        </p:blipFill>
        <p:spPr>
          <a:xfrm>
            <a:off x="5651640" y="4206960"/>
            <a:ext cx="260820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Пользователь\Desktop\Денис\DSCN1848.JPG"/>
          <p:cNvPicPr/>
          <p:nvPr/>
        </p:nvPicPr>
        <p:blipFill>
          <a:blip r:embed="rId5"/>
          <a:stretch/>
        </p:blipFill>
        <p:spPr>
          <a:xfrm>
            <a:off x="3490920" y="3143160"/>
            <a:ext cx="237816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9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т  так мы закрепляем знания о правилах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Users\Пользователь\Desktop\Денис\DSCN1821.JPG"/>
          <p:cNvPicPr/>
          <p:nvPr/>
        </p:nvPicPr>
        <p:blipFill>
          <a:blip r:embed="rId1"/>
          <a:stretch/>
        </p:blipFill>
        <p:spPr>
          <a:xfrm>
            <a:off x="933480" y="2114640"/>
            <a:ext cx="3857760" cy="294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:\Денис\DSCN1828.JPG"/>
          <p:cNvPicPr/>
          <p:nvPr/>
        </p:nvPicPr>
        <p:blipFill>
          <a:blip r:embed="rId2"/>
          <a:stretch/>
        </p:blipFill>
        <p:spPr>
          <a:xfrm>
            <a:off x="4889520" y="1962000"/>
            <a:ext cx="340056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J:\Денис\DSCN1827.JPG"/>
          <p:cNvPicPr/>
          <p:nvPr/>
        </p:nvPicPr>
        <p:blipFill>
          <a:blip r:embed="rId3"/>
          <a:stretch/>
        </p:blipFill>
        <p:spPr>
          <a:xfrm>
            <a:off x="3882960" y="4054320"/>
            <a:ext cx="32734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2"/>
          <p:cNvSpPr/>
          <p:nvPr/>
        </p:nvSpPr>
        <p:spPr>
          <a:xfrm>
            <a:off x="826920" y="285840"/>
            <a:ext cx="749016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перь  я точно знаю, что переходить улицу нужно по пешеходному переходу и только на зеленый свет. Слежу я строго, чтобы мои родители, знакомые и друзья соблюдали правила перехода через улицу</a:t>
            </a:r>
            <a:r>
              <a:rPr b="0" i="1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Users\Пользователь\Desktop\Денис\DSCN1841.JPG"/>
          <p:cNvPicPr/>
          <p:nvPr/>
        </p:nvPicPr>
        <p:blipFill>
          <a:blip r:embed="rId1"/>
          <a:stretch/>
        </p:blipFill>
        <p:spPr>
          <a:xfrm>
            <a:off x="3236760" y="2901960"/>
            <a:ext cx="281016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428760" y="214200"/>
            <a:ext cx="8429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826920" y="0"/>
            <a:ext cx="7632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оекта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Формирование безопасного  поведения 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Задачи проекта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Изучить азбуку движения пешехода на доро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Развивать знания о правилах поведения на улице, дорожных зна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Воспитывать культуру поведения на ул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Исследовать историю возникновения пешеходного перехода и его значения для безопасност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Приобщить детей группы к созданию макета дороги для урока безопасности</a:t>
            </a:r>
            <a:r>
              <a:rPr b="0" i="1" lang="ru-RU" sz="24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874800" y="2060640"/>
            <a:ext cx="7272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Гипотеза: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 считаю, если взрослые и дети будут соблюдать правила дорожного движ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ереходить улицу по пешеходному переходу, то аварийных ситуаций  на дорогах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476360" y="21420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Методы исслед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хема 2" descr=""/>
          <p:cNvPicPr/>
          <p:nvPr/>
        </p:nvPicPr>
        <p:blipFill>
          <a:blip r:embed="rId1"/>
          <a:stretch/>
        </p:blipFill>
        <p:spPr>
          <a:xfrm>
            <a:off x="1073160" y="1547640"/>
            <a:ext cx="7070760" cy="4664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069920" y="-45720"/>
            <a:ext cx="73868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Кто такие пеше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ля того , чтобы узнать, кто такие пешеходы я обращался в раз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Пользователь\Desktop\Денис\DSCN1855.JPG"/>
          <p:cNvPicPr/>
          <p:nvPr/>
        </p:nvPicPr>
        <p:blipFill>
          <a:blip r:embed="rId1"/>
          <a:stretch/>
        </p:blipFill>
        <p:spPr>
          <a:xfrm>
            <a:off x="871560" y="2919240"/>
            <a:ext cx="2610000" cy="244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Пользователь\Desktop\Денис\DSCN1856.JPG"/>
          <p:cNvPicPr/>
          <p:nvPr/>
        </p:nvPicPr>
        <p:blipFill>
          <a:blip r:embed="rId2"/>
          <a:stretch/>
        </p:blipFill>
        <p:spPr>
          <a:xfrm>
            <a:off x="6102360" y="2554200"/>
            <a:ext cx="2139840" cy="247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Users\Пользователь\Desktop\Денис\DSCN1830.JPG"/>
          <p:cNvPicPr/>
          <p:nvPr/>
        </p:nvPicPr>
        <p:blipFill>
          <a:blip r:embed="rId3"/>
          <a:stretch/>
        </p:blipFill>
        <p:spPr>
          <a:xfrm>
            <a:off x="3468600" y="4359240"/>
            <a:ext cx="2670120" cy="2138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187280" y="100080"/>
            <a:ext cx="7129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шеходный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шеходный переход мы узнаем по знаку: на нем нарисован шагающий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Users\Пользователь\Desktop\Денис\DSCN1836.JPG"/>
          <p:cNvPicPr/>
          <p:nvPr/>
        </p:nvPicPr>
        <p:blipFill>
          <a:blip r:embed="rId1"/>
          <a:stretch/>
        </p:blipFill>
        <p:spPr>
          <a:xfrm>
            <a:off x="6334200" y="3164040"/>
            <a:ext cx="1950840" cy="324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Пользователь\Desktop\Денис\DSCN1857.JPG"/>
          <p:cNvPicPr/>
          <p:nvPr/>
        </p:nvPicPr>
        <p:blipFill>
          <a:blip r:embed="rId2"/>
          <a:stretch/>
        </p:blipFill>
        <p:spPr>
          <a:xfrm>
            <a:off x="835200" y="3895560"/>
            <a:ext cx="2889000" cy="296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3780000" y="2987640"/>
            <a:ext cx="2536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147680" y="169452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968400" y="2565360"/>
            <a:ext cx="6180120" cy="2379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8400" y="507600"/>
            <a:ext cx="7570800" cy="19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а с  двухсторонним и односторонним движением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пешеход, прежде чем перейти улицу, должен определить какое на нем движение, так как от этого зависит правила пере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2347920" cy="201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812880" y="357120"/>
            <a:ext cx="797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ители  и пешеходы должны действовать так, как говорится в стихотворении С. Михалк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свет зажегс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чит, двигаться опа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ый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вор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ходите, путь откры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вет – предупрежд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ди сигнала для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видел, что для пешеходов есть сво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гналы с двух сторо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расный человечек»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зеленый человечек»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и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 переходить улицу на красный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же если нет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684360" y="428760"/>
            <a:ext cx="795960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ще я узнал, какие бывают  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ющие 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едупреждающие 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указательные 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5:40:28Z</dcterms:created>
  <dc:creator>First</dc:creator>
  <dc:description/>
  <dc:language>en-US</dc:language>
  <cp:lastModifiedBy>Улыбнись</cp:lastModifiedBy>
  <cp:lastPrinted>2014-04-14T09:02:04Z</cp:lastPrinted>
  <dcterms:modified xsi:type="dcterms:W3CDTF">2016-01-22T17:40:00Z</dcterms:modified>
  <cp:revision>164</cp:revision>
  <dc:subject/>
  <dc:title>МАДОУ «Детский сад комбинированного вида № 48» г. Тобольска</dc:title>
</cp:coreProperties>
</file>