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D60-D78B-4EB3-9659-ED7296FE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A8D-6C92-40EE-8458-9F8EFAE7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4F9-E6F7-4EBC-94EF-1D19A90B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476-0504-4C7E-A9E4-4C8FCEC4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1B7-2092-4C1C-A8BC-6F352F8A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629-4EBC-4032-A8F0-FD2ADF03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A46-A6A3-4BE6-80E0-132122EE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FC3-6AE8-4042-A80F-C63EDFCB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A0C-29F2-4CAE-BD21-34EBBC48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3A8-D342-4CB7-9F77-869B3A70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2E8-8D84-4C75-85D7-FA21F9DB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210-4110-4A03-ABE4-7A22E50A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966E-8628-4F18-9233-506B8D76C5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1052640"/>
            <a:ext cx="518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RE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dueva Ren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o O.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69228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Learn to plan you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reate an action plan to handle a worrying challenge. List what you have to do. Set priorities. Focus on one task at a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Divide the task into parts you can manage. A one-step-at-a-time approach divides and conquers anxie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Prepare for stressful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Being well prepared for a test, for example, will strengthen your confidence and help you stay calm on the day of the tes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Do not be afraid t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Mistakes are an important part of personal growth. Learning from failures allows you to go on to greater succes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Analyse  how you explain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Do you blame yourself? Laying blame and taking responsibilities are two different things. Pessimists blame themselves; optimists don not. Do not say, "I failed because I am stupid or incompetent." Do say," I failed because the test covered material I didn't focus on when studying." In the latter situation you are in control of changing things for the bet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сс – это неизбежность, о которой мы должны знать и всегда помн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сс можно предвидеть. Нужно обязательно подготовиться к его приходу и постараться справиться с ним как можно лучш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которых стрессов можно избежать вообщ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льзя допускать победы стресса над собой. Надо терпеливо, с желанием готовить себя к сложным жизненным ситуациям, которые обязательно нам встретятся и на работе и в личной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116000" y="1628640"/>
            <a:ext cx="6769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дьте здоровы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541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: ознакомить одноклассников с проблемой стресса и помочь справиться с 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теоретический анализ и изучение проблемы «Стрес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роведение и анализ анкетирования среди однокласс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йти пути решения пробл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a4"/>
                </a:solidFill>
                <a:latin typeface="Arial"/>
              </a:rPr>
              <a:t>What is stress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is your body's normal reaction to the pressures and challenges of life. Too much stress can make you unhappy or s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3132000" y="4437000"/>
            <a:ext cx="288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88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b7e7ff"/>
                </a:solidFill>
                <a:latin typeface="Arial"/>
              </a:rPr>
              <a:t>Signs of stress</a:t>
            </a:r>
            <a:br>
              <a:rPr sz="40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are under stress you may have tense muscles, sweaty hands, a fast heart­beat or sleeplessness. Stress can cause a loss of appetite or overeating, frequent headaches, stomachache's, nausea, nervous tics or stuttering. People experiencing stress may lose their temper easily, get frustrated about little things, fight or argue a lot, have more accidents and get colds more fre­qu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476280"/>
            <a:ext cx="8510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Basic types of stress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.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 str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s from things you enjoy or look forward to. For example, making new friends, playing a sport or acting in a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 str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s from things you find unpleasant or threat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way to avoid negative stress completely. Positive stress helps make our life inter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10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b7e7ff"/>
                </a:solidFill>
                <a:latin typeface="Arial"/>
              </a:rPr>
              <a:t>Sources of stress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that makes you feel excited or uneasy is a source of stress. This happens when you face a challenge or a change. In order to reduce your stress levels you should find out what is causing you to feel stressed. Here are some common causes of st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feel stressed if you have to take a test, learn a new routine when you change class­es or schools, make new friends or break up with someone, have trouble at home, feel anx­ious about your future not knowing what direction to take in life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How well you deal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ith stress?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Do you often feel overwhelmed by schoolwork or probl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Do you often lay awake at night worry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Have you lost interest in things you once enjo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Are you spending a lot more time alone, than you used t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do you seem to get sick more than you used t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Do you often wake up in the morning feeling tir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 Do you have trouble concent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 Do you feel like you need more time to do all the things you want to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. Are you having a hard time getting alone with peop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. Is your mood affected by little th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. Do you often feel you just want the world to go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 you answered "yes" to any of these questions, you may need hel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dealing with str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1488960" y="1676520"/>
            <a:ext cx="616608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me advice for reducing stre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. Think about what makes you feel stres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Avoid these things when you ca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. See problems for what they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Do not let your reaction to a problem confuse the sit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Focus on the problem and think about how to solve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3. Make up your own mi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Do not let others push you into doing something that is not right for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When you make up your own mind, you will feel better about yourself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and less "stressed out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. Set goals that you can at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Ask yourself if there are some things you do not need to 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. Be a positive thin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Keeping a positive attitude can reduce your stress 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When you look beyond your problems, you will see that the world is full of opportun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43:26Z</dcterms:created>
  <dc:creator>Customer</dc:creator>
  <dc:description/>
  <dc:language>en-US</dc:language>
  <cp:lastModifiedBy>Koms</cp:lastModifiedBy>
  <dcterms:modified xsi:type="dcterms:W3CDTF">2023-05-04T07:33:07Z</dcterms:modified>
  <cp:revision>11</cp:revision>
  <dc:subject/>
  <dc:title>Слайд 1</dc:title>
</cp:coreProperties>
</file>