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18E-2D75-4CE1-AAFB-9845EC94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52F-1F97-469C-AFEC-27AE89CE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9D7-2ADC-4719-821E-88E22243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2CF-8B98-49B8-81E7-0FCD670E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BD2-8C64-45ED-835F-46033A8A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7A0-565F-4C77-950F-A44C45EC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244-7BC1-4871-8ABD-D41C3B95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DCB-67D6-4AAA-8C42-4EC10782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E1A-1237-43E5-B2E3-79CB4A9D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04A-755C-48EC-91F3-DE884792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642-1C8D-402A-9C03-5F5C0AE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871-31D7-48CA-AFC9-FC7D480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0A0A-68F7-42AE-A881-1540D0ED8A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052640"/>
            <a:ext cx="518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R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ueva Ren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o O.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Learn to plan you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reate an action plan to handle a worrying challenge. List what you have to do. Set priorities. Focus on one task at a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ivide the task into parts you can manage. A one-step-at-a-time approach divides and conquers anxie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Prepare for stressful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Being well prepared for a test, for example, will strengthen your confidence and help you stay calm on the day of the te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Do not be afraid t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Mistakes are an important part of personal growth. Learning from failures allows you to go on to greater succe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Analyse  how you explain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o you blame yourself? Laying blame and taking responsibilities are two different things. Pessimists blame themselves; optimists don not. Do not say, "I failed because I am stupid or incompetent." Do say," I failed because the test covered material I didn't focus on when studying." In the latter situation you are in control of changing things for the bet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сс – это неизбежность, о которой мы должны знать и всегда помн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сс можно предвидеть. Нужно обязательно подготовиться к его приходу и постараться справиться с ним как можно луч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х стрессов можно избежать вообщ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льзя допускать победы стресса над собой. Надо терпеливо, с желанием готовить себя к сложным жизненным ситуациям, которые обязательно нам встретятся и на работе и в личной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116000" y="1628640"/>
            <a:ext cx="6769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 здоров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541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ознакомить одноклассников с проблемой стресса и помочь справиться с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теоретический анализ и изучение проблемы «Стре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роведение и анализ анкетирования среди однокласс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йти пути решения пробл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What is stress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s your body's normal reaction to the pressures and challenges of life. Too much stress can make you unhappy or s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3132000" y="4437000"/>
            <a:ext cx="288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88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Signs of stress</a:t>
            </a:r>
            <a:br>
              <a:rPr sz="40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are under stress you may have tense muscles, sweaty hands, a fast heart­beat or sleeplessness. Stress can cause a loss of appetite or overeating, frequent headaches, stomachache's, nausea, nervous tics or stuttering. People experiencing stress may lose their temper easily, get frustrated about little things, fight or argue a lot, have more accidents and get colds more fre­qu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476280"/>
            <a:ext cx="8510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Basic types of stress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.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 str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 from things you enjoy or look forward to. For example, making new friends, playing a sport or acting in a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 str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 from things you find unpleasant or threat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way to avoid negative stress completely. Positive stress helps make our life inter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10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Sources of stress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that makes you feel excited or uneasy is a source of stress. This happens when you face a challenge or a change. In order to reduce your stress levels you should find out what is causing you to feel stressed. Here are some common causes of st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feel stressed if you have to take a test, learn a new routine when you change class­es or schools, make new friends or break up with someone, have trouble at home, feel anx­ious about your future not knowing what direction to take in lif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How well you deal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th stress?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Do you often feel overwhelmed by schoolwork or probl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Do you often lay awake at night worry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Have you lost interest in things you once enjo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Are you spending a lot more time alone, than you used 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do you seem to get sick more than you used 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Do you often wake up in the morning feeling tir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Do you have trouble concent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 Do you feel like you need more time to do all the things you want to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. Are you having a hard time getting alone with peop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. Is your mood affected by little th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. Do you often feel you just want the world to go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 you answered "yes" to any of these questions, you may need hel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ealing with str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1488960" y="1676520"/>
            <a:ext cx="61660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me advice for reducing str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. Think about what makes you feel stres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Avoid these things when you c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. See problems for what they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Do not let your reaction to a problem confuse the sit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Focus on the problem and think about how to solve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 Make up your own mi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Do not let others push you into doing something that is not right for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When you make up your own mind, you will feel better about yoursel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and less "stressed out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 Set goals that you can at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Ask yourself if there are some things you do not need to 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 Be a positive thin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Keeping a positive attitude can reduce your stress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When you look beyond your problems, you will see that the world is full of opportun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43:26Z</dcterms:created>
  <dc:creator>Customer</dc:creator>
  <dc:description/>
  <dc:language>en-US</dc:language>
  <cp:lastModifiedBy>Koms</cp:lastModifiedBy>
  <dcterms:modified xsi:type="dcterms:W3CDTF">2023-05-04T07:33:07Z</dcterms:modified>
  <cp:revision>11</cp:revision>
  <dc:subject/>
  <dc:title>Слайд 1</dc:title>
</cp:coreProperties>
</file>