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5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8.png" ContentType="image/png"/>
  <Override PartName="/ppt/media/image15.png" ContentType="image/png"/>
  <Override PartName="/ppt/media/image14.jpeg" ContentType="image/jpeg"/>
  <Override PartName="/ppt/media/image2.jpeg" ContentType="image/jpeg"/>
  <Override PartName="/ppt/media/image23.jpeg" ContentType="image/jpeg"/>
  <Override PartName="/ppt/media/image24.png" ContentType="image/png"/>
  <Override PartName="/ppt/media/image1.png" ContentType="image/png"/>
  <Override PartName="/ppt/media/image3.png" ContentType="image/png"/>
  <Override PartName="/ppt/media/image26.png" ContentType="image/png"/>
  <Override PartName="/ppt/media/image1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C89E-2407-4322-B814-32CAC35D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900D-4372-4FB6-B625-63EB42C9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99433-1140-4733-BA69-95D43678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4897A-BB63-4B4A-ACBC-7F4A5B3B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1B01B-FEEE-4128-B44E-63F5BC52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E5200-377F-48CA-BD7D-01FF9AC2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04890-04B3-488F-81C1-4DEB9D2E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0268F-20FE-4A94-950B-1F0F6ABB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575A8-028D-4FA1-99DB-EF30E555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ECDB2-D419-4DE6-BAD5-EBABC74FD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3C7415-3ADF-4580-B843-2E99E225F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F38EDD-3062-498D-A50C-DDE61F89E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E605-BCB9-437E-871B-E0286A309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C66CF1-06DC-4B50-BCA7-72D64294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0C03FE-909B-4D15-AEC1-13FC1418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21CCC-6F70-4F6A-A984-AB6F79A9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E9D89-4537-4E92-8BCA-CE79B51C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A7A580-801E-4AEB-AFD7-4D74F47D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5611C3-FD56-4103-82E2-A9A54C04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12327-1D13-4D4F-8641-A44CA699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55201-89CD-43D0-B475-706C4364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03D45A-E167-4C01-9216-A57895FF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EC1DF-9C33-47CA-9052-9DC048F93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05DC-806D-4AC1-8468-7C6A0D9C4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156FE0-BFDB-479D-8D05-D49D85E73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42908-AE40-46D7-A0EF-EC6A3D568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22B91-D1C1-4FD1-89DA-625D84FE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5A376-4973-4324-9DF6-42A294E1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44E41-8FC9-4CC4-B3BB-6C185349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0E2EB-8A87-4527-8484-AFB3E000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6DB49-C0D4-4D5D-9F9F-082C7D0C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9AF8B-1FCF-4F6F-9727-C9BB2917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FF70A-9909-4A63-87D9-9C330B9C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2805C-702C-4E23-9CF3-4A5A3549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A928-D5D7-4843-AA07-D1884DD79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508C7-AAE2-4A34-ABF7-E60CA909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A163D-3B0C-49C5-A3B0-15B30734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435C3-4AE7-4459-9F30-74ACCDD52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06EA9D-7F44-4BC1-993F-1A2BC8F70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0A16F6-4684-43E4-A095-2A9B25A6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B0DE49-53F9-49FF-B6D5-F9D6018B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EB2C14-FC0D-41C2-BD60-47C42C86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3CB228-60DE-440A-84AE-892933CB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E777A2-60CE-4FAC-AB24-B15017A1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5A448E-78F2-4005-AFFC-58DB4730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B519-70CB-4399-8B38-0C3A726F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7E31A3-CD7E-42E9-A09C-EE799290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B76417-250D-47AA-95D4-9DECE67E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FD3280-BDEC-4441-B5F5-25D98CB0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2B75A3-E8D0-4C3E-AF13-14D711199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917D75-5C04-4C50-97E6-8836A466C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C31E-EFA1-48AE-B7E2-CEFF486F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EA63-DD5D-42AE-8F46-C592AC5C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C8F1-7E1B-43B1-8F48-16580EFE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6198-4ED7-48B7-B2BE-8B5A1AEB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1ED4-54B1-4D5A-AF34-B5632388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0C4B-0683-46C7-9E13-A3BF38A0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2A82-C4D7-4D0A-B823-4A389BC0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7DAD-B74E-4795-89DD-5572FA79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AE7F-44D9-49F0-807B-E852133E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B21F-0C9D-4538-A82A-92E8B75F4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FF7A-B021-4C7A-AAA5-2E1696C93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3E7D0-E719-4130-8C89-9D439E560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B4B80-7822-4102-A4D9-C4C69E97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1E1DB-CC43-4055-B1E9-E0E6E24E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72CD8-F425-49CC-907C-A72C90E3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CA4C4-7C7F-4EBF-9911-230F4B82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0141-801B-4C37-A8C3-DB01EE38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6A938-B0DF-4AA8-9EE9-E7C00BC0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12A35-563C-4EE2-85AB-2913AF9F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76C68-03A4-4CF5-B713-DC172204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34A02-029B-48FE-9DD6-B4B592A5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D6C40-6EB0-4D59-8C0B-58410F72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E2E80-CAF1-4378-A58F-3574BE550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8D164-3B13-4171-93BF-088BC2A73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2BB90-DCB8-43AF-85E8-0578FB149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40583-DA1F-4A06-80A4-8450218C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9EC75-1950-4D55-848F-C7E28988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ED49-6254-4702-948D-4A18DAD3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73F2F-D2E5-4C07-9B0D-0A392075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F6463-EDB0-4A49-B619-3A405AF0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5D125-1650-4FDD-8522-D9930687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0310A-DEEA-40CA-BE19-2C8C4CE2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7552B-3F3F-47F5-A7B1-C7DF533A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6A003-EB61-4B0C-AA10-5A43C9B4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95BDB-5CDC-4131-9B1A-C0B27691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70628-3DAA-4754-9EC5-C52847B7A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7FD84-0844-43B6-BA06-E5413E6AC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7AA2E-F7F4-43D2-8DFE-197A26D8D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0AF4-4446-45B1-8352-2057AAAB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5FB32-BB6D-4283-8BC3-129CF5D9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6742D-8374-4878-AA68-40296183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A5016-720E-4480-ABCE-94AAFC99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258BA-E41A-44A9-8461-A2B29709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24FCD-B878-4A0B-9263-776E5ADD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699AA-E016-4757-9580-BE133A26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C34C2-7C91-49DB-A408-C913E898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3D2FD-7A20-4ED8-9CAE-3C93623D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BF52B-F8E5-4189-A068-0D6AB1CE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B3F7D-C66F-4B13-A978-685327714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C44F-52CB-4EF7-87EB-2578DA8A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749FD-AF7F-4F39-9FDF-08F50951E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C8BD1-23E2-4EC6-A684-D8E50A1E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0397A-D608-4868-8D89-CF496739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A86B0-5E96-4D38-BA31-A6E55DC0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2D4CC-DE57-4E18-AB62-A9029743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059D9-E809-49F2-9086-58DF8F53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CF89C-F01F-49F9-9217-3106F792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78304-EA39-4D92-898A-A692435E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85039-FA78-4B78-94C6-F1ECBDBE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AEC6B-30C3-493E-95EA-9091F367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4B28-EEDB-4700-87E6-DF224540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1FD28-A965-42B8-88A6-B7718594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23C23-45FE-40D4-BEC3-17CF43A88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B9435-1CB5-4468-9753-B10C5057B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FA14F-BED2-469B-B062-DA4500553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B76F6-3F6D-4FEE-8E1F-639A0E78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F9941-73B1-4820-9671-8EE2CF30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DA412-2EC3-48A8-A34A-249196CE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5E43C-1802-48F0-9E04-894C005C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92FB4-AE5A-4130-AE4B-B244C638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98078-DB46-4058-B5AB-32CA1BD3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E2B3-E313-44B0-AFCB-46954B5D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41029-DCE2-4F32-8AB6-87E563D6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1D247-17CD-4DF9-B5F9-6C5C9D84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03AF3-10C5-48D9-995D-BFAB19A7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22765-C696-4D11-BBB4-404B25C1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7664E-4123-43C9-BCBD-D48CC6B8A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21E9C-5300-4FBD-A3B7-1576ADA35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89972-D338-4F7A-B3D5-4EFC44D6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4DE91-C472-4AC0-A4C5-C75A2A2F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2CE5A-16D2-49DB-A814-07B147BA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304FA-60AA-43EB-80E0-3ED7EC3C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8305-EBCA-4D8A-9B96-183F464D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11FD0-9718-4E10-8133-D959C6E7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9A4A1-95B5-4D89-A450-6A751B8A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31AF4-4886-4656-9BA7-C557AD30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7414C-21A3-44E9-822D-2D185989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D5B5B-6BAF-4A8C-AABA-D2F4CD66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30D50-36D8-4411-9811-1A333D768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47EAD-B7F9-4724-86A8-09EA9C4B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67F8A-8795-46BE-AFEB-854F1BEA2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1DA86-DC16-430D-9BF7-8439B042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AFB05-FE70-481C-8AC6-C1E5F551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0cf9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0cf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0cf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18E5-6871-414F-B2FD-BB4FC8D06731}" type="slidenum">
              <a:rPr b="0" lang="ru-RU" sz="1100" spc="-1" strike="noStrike">
                <a:solidFill>
                  <a:srgbClr val="10cf9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6ff9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6ff9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6ff9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36ff9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26EF-AB74-471A-B71D-67444B6D2F9B}" type="slidenum">
              <a:rPr b="0" lang="ru-RU" sz="1100" spc="-1" strike="noStrike">
                <a:solidFill>
                  <a:srgbClr val="36ff91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44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0cf9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0cf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0cf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97B3-AF69-4A9A-BFB4-78DF40873409}" type="slidenum">
              <a:rPr b="0" lang="ru-RU" sz="1100" spc="-1" strike="noStrike">
                <a:solidFill>
                  <a:srgbClr val="10cf9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48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0cf9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0cf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0cf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546C-FD4A-4477-980C-6430FE5DA806}" type="slidenum">
              <a:rPr b="0" lang="ru-RU" sz="1100" spc="-1" strike="noStrike">
                <a:solidFill>
                  <a:srgbClr val="10cf9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81C2-31E7-42D3-8702-E7F51F4BBF31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0cf9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0cf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0cf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E9FB-CEBF-4F0F-8FC0-53C2459D74D6}" type="slidenum">
              <a:rPr b="0" lang="ru-RU" sz="1100" spc="-1" strike="noStrike">
                <a:solidFill>
                  <a:srgbClr val="10cf9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34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0cf9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0cf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0cf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C962-42B9-4D9F-B768-170686F3C9F9}" type="slidenum">
              <a:rPr b="0" lang="ru-RU" sz="1100" spc="-1" strike="noStrike">
                <a:solidFill>
                  <a:srgbClr val="10cf9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8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0cf9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0cf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0cf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ACBA-6748-4B5D-9BCA-382A88BDE708}" type="slidenum">
              <a:rPr b="0" lang="ru-RU" sz="1100" spc="-1" strike="noStrike">
                <a:solidFill>
                  <a:srgbClr val="10cf9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22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0cf9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0cf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0cf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927D-69D4-4411-92B3-4A33ECAA4EED}" type="slidenum">
              <a:rPr b="0" lang="ru-RU" sz="1100" spc="-1" strike="noStrike">
                <a:solidFill>
                  <a:srgbClr val="10cf9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66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0cf9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0cf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0cf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B73D-49DE-4523-8740-0338CB92054C}" type="slidenum">
              <a:rPr b="0" lang="ru-RU" sz="1100" spc="-1" strike="noStrike">
                <a:solidFill>
                  <a:srgbClr val="10cf9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31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0cf9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0cf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3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4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0cf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B239-EC21-492F-AAD2-D1AC25DF9F24}" type="slidenum">
              <a:rPr b="0" lang="ru-RU" sz="1100" spc="-1" strike="noStrike">
                <a:solidFill>
                  <a:srgbClr val="10cf9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354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0cf9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0cf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0cf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45D7-E3ED-4CC6-9D40-5E55BDA9C1ED}" type="slidenum">
              <a:rPr b="0" lang="ru-RU" sz="1100" spc="-1" strike="noStrike">
                <a:solidFill>
                  <a:srgbClr val="10cf9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Заголовок 1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108400" cy="286560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Picture 5" descr="C:\Users\1\Desktop\Новая папка\i.jpg"/>
          <p:cNvPicPr/>
          <p:nvPr/>
        </p:nvPicPr>
        <p:blipFill>
          <a:blip r:embed="rId2"/>
          <a:stretch/>
        </p:blipFill>
        <p:spPr>
          <a:xfrm>
            <a:off x="108000" y="2133720"/>
            <a:ext cx="2519280" cy="2508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5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51120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 txBox="1"/>
          <p:nvPr/>
        </p:nvSpPr>
        <p:spPr>
          <a:xfrm>
            <a:off x="452520" y="1052640"/>
            <a:ext cx="7238880" cy="53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ля приверженцев таких индийских религий как индуизм, джайнизм и буддизм вегетарианство является обязательн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говорить о вегетарианства в христианстве, то оно поощрялось,  но не являлось обязательн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слам разрешает питаться некоторыми видами мя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2" descr="C:\Users\1\Desktop\Новая папка\1319622458_vegetarianstvo-v-dzhaynizme-buddizme-zoroastrizme-i-sikhizme.jpg"/>
          <p:cNvPicPr/>
          <p:nvPr/>
        </p:nvPicPr>
        <p:blipFill>
          <a:blip r:embed="rId2"/>
          <a:srcRect l="1729" t="0" r="1482" b="0"/>
          <a:stretch/>
        </p:blipFill>
        <p:spPr>
          <a:xfrm>
            <a:off x="539640" y="3521160"/>
            <a:ext cx="7272360" cy="242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25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583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 txBox="1"/>
          <p:nvPr/>
        </p:nvSpPr>
        <p:spPr>
          <a:xfrm>
            <a:off x="457200" y="1341000"/>
            <a:ext cx="3898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появлением этических воззрений у человека можно судить об уровне его сознания: способности анализировать свои поступки, де­лать выводы о своем повед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3" descr="C:\Users\1\Desktop\Новая папка\1401984942_1188407130.jpg"/>
          <p:cNvPicPr/>
          <p:nvPr/>
        </p:nvPicPr>
        <p:blipFill>
          <a:blip r:embed="rId2"/>
          <a:stretch/>
        </p:blipFill>
        <p:spPr>
          <a:xfrm>
            <a:off x="539640" y="3716280"/>
            <a:ext cx="3456000" cy="2703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60" name="TextBox 6"/>
          <p:cNvSpPr/>
          <p:nvPr/>
        </p:nvSpPr>
        <p:spPr>
          <a:xfrm>
            <a:off x="4356000" y="4307040"/>
            <a:ext cx="3745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ка вегетарианства рассматривает вопрос морального права человека на лишение животных жизни для удовлетворения своих потреб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5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Заголовок 1" descr=""/>
          <p:cNvPicPr/>
          <p:nvPr/>
        </p:nvPicPr>
        <p:blipFill>
          <a:blip r:embed="rId1"/>
          <a:stretch/>
        </p:blipFill>
        <p:spPr>
          <a:xfrm>
            <a:off x="450720" y="476280"/>
            <a:ext cx="7236000" cy="44460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 txBox="1"/>
          <p:nvPr/>
        </p:nvSpPr>
        <p:spPr>
          <a:xfrm>
            <a:off x="457200" y="1125360"/>
            <a:ext cx="72388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ногие современные люди считают, что отношение к животным – это показатель, индикатор этического уровня человечества. обще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3" descr="C:\Users\1\Desktop\Новая папка\choice.jpg"/>
          <p:cNvPicPr/>
          <p:nvPr/>
        </p:nvPicPr>
        <p:blipFill>
          <a:blip r:embed="rId2"/>
          <a:stretch/>
        </p:blipFill>
        <p:spPr>
          <a:xfrm>
            <a:off x="457200" y="2565360"/>
            <a:ext cx="7499520" cy="379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25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 txBox="1"/>
          <p:nvPr/>
        </p:nvSpPr>
        <p:spPr>
          <a:xfrm>
            <a:off x="468360" y="1773000"/>
            <a:ext cx="72388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тверждать, что вегетарианство - это единственно верный стиль питания для современного человека, необъективно. Вегетарианство  можно рассматривать только как один из способов организации жизнедеятельности челове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25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Заголовок 9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51120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 txBox="1"/>
          <p:nvPr/>
        </p:nvSpPr>
        <p:spPr>
          <a:xfrm>
            <a:off x="456840" y="1412640"/>
            <a:ext cx="352116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гетарианство – система питания, исключающая или ограничивающая потребление продуктов животного происхо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оторые вегетарианцы также исключают и различную продук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и которой изготовлены из меха, кож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остав которой входят компоненты животного происхожд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шедшую испытание на живот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Объект 11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3384720" cy="273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25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Объект 6" descr=""/>
          <p:cNvPicPr/>
          <p:nvPr/>
        </p:nvPicPr>
        <p:blipFill>
          <a:blip r:embed="rId1"/>
          <a:stretch/>
        </p:blipFill>
        <p:spPr>
          <a:xfrm>
            <a:off x="457200" y="0"/>
            <a:ext cx="7254720" cy="6456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5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58392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 txBox="1"/>
          <p:nvPr/>
        </p:nvSpPr>
        <p:spPr>
          <a:xfrm>
            <a:off x="457200" y="1988640"/>
            <a:ext cx="73548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егетарианство существовало всег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цесс его развития и становления исчисляется тысячелет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начале своего существования люди питались в основном растительной пищ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Экстремальные условия заставили человека обратиться к более частому употреблению мясной пищ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511200"/>
          </a:xfrm>
          <a:prstGeom prst="rect">
            <a:avLst/>
          </a:prstGeom>
          <a:ln w="0">
            <a:noFill/>
          </a:ln>
        </p:spPr>
      </p:pic>
      <p:pic>
        <p:nvPicPr>
          <p:cNvPr id="538" name="Объект 9" descr=""/>
          <p:cNvPicPr/>
          <p:nvPr/>
        </p:nvPicPr>
        <p:blipFill>
          <a:blip r:embed="rId2"/>
          <a:stretch/>
        </p:blipFill>
        <p:spPr>
          <a:xfrm>
            <a:off x="517680" y="1773360"/>
            <a:ext cx="3400200" cy="3095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 txBox="1"/>
          <p:nvPr/>
        </p:nvSpPr>
        <p:spPr>
          <a:xfrm>
            <a:off x="4177800" y="1599840"/>
            <a:ext cx="352116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ин «вегетарианство» возник в Великобритании в 1842 го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России вегетарианство начинает становиться заметным явлением во второй половине XIX века. В 1901 году в Санкт-Петербурге появилось первое вегетарианское общест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25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 txBox="1"/>
          <p:nvPr/>
        </p:nvSpPr>
        <p:spPr>
          <a:xfrm>
            <a:off x="456840" y="177336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сновная проблема использования вегетарианских рационов — обеспечение организма белком,  витаминами В2, В12, D, микроэлементами и кальцием. Очевидно, что при правильном подборе продуктов можно даже вегетарианские рационы обеспечить всеми необходимыми для ор­ганизма аминокислотами</a:t>
            </a:r>
            <a:r>
              <a:rPr b="0" lang="ru-RU" sz="2000" spc="-1" strike="noStrike">
                <a:solidFill>
                  <a:srgbClr val="0c9b74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177800" y="1916280"/>
            <a:ext cx="35211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3" descr="C:\Users\1\Desktop\Новая папка\Prav-pitanie.jpg"/>
          <p:cNvPicPr/>
          <p:nvPr/>
        </p:nvPicPr>
        <p:blipFill>
          <a:blip r:embed="rId2"/>
          <a:stretch/>
        </p:blipFill>
        <p:spPr>
          <a:xfrm>
            <a:off x="4178160" y="1916280"/>
            <a:ext cx="3594240" cy="352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25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58392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 txBox="1"/>
          <p:nvPr/>
        </p:nvSpPr>
        <p:spPr>
          <a:xfrm>
            <a:off x="178920" y="1600200"/>
            <a:ext cx="397836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гетарианская диета рекомендуется медиками при некоторых заболеваниях, например, при атеросклерозе, но не рекомендуется всем, кто страдает какими-либо заболеваниями желудочно-кишечного тра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177800" y="1599840"/>
            <a:ext cx="352116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2" descr="C:\Users\1\Desktop\Новая папка\i.jpg"/>
          <p:cNvPicPr/>
          <p:nvPr/>
        </p:nvPicPr>
        <p:blipFill>
          <a:blip r:embed="rId2"/>
          <a:stretch/>
        </p:blipFill>
        <p:spPr>
          <a:xfrm>
            <a:off x="4178160" y="1600200"/>
            <a:ext cx="3418200" cy="3916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25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394920" y="549000"/>
            <a:ext cx="3745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гетарианцы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еже умирают злокачественных опухолей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чти не страдают воспалением аппендицита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еже выявляются рас­стройства нервной системы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егетарианцы почти не страдают  нарушениями артериального давлени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2" descr="C:\Users\1\Desktop\Новая папка\2015-07-20-15-40-44-66288.jpg"/>
          <p:cNvPicPr/>
          <p:nvPr/>
        </p:nvPicPr>
        <p:blipFill>
          <a:blip r:embed="rId1"/>
          <a:stretch/>
        </p:blipFill>
        <p:spPr>
          <a:xfrm>
            <a:off x="4284720" y="692280"/>
            <a:ext cx="3816360" cy="4105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25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73008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 txBox="1"/>
          <p:nvPr/>
        </p:nvSpPr>
        <p:spPr>
          <a:xfrm>
            <a:off x="456840" y="1600200"/>
            <a:ext cx="352116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Факторами оздоровительного действия вегета­рианских рационов, способствующих снижению роста ряда заболе­ваний, являются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повышенное содержание в диете ненасыщенных жирных кислот и пищевых волокон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аминокислотный состав рас­тительного белка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высокое содержание щелочных эквивалентов, калия и витамино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177800" y="1600200"/>
            <a:ext cx="352116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10cf9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" descr="C:\Users\1\Desktop\Новая папка\vegan-728x484.jpg"/>
          <p:cNvPicPr/>
          <p:nvPr/>
        </p:nvPicPr>
        <p:blipFill>
          <a:blip r:embed="rId2"/>
          <a:stretch/>
        </p:blipFill>
        <p:spPr>
          <a:xfrm>
            <a:off x="4178160" y="1600200"/>
            <a:ext cx="3521160" cy="3246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25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5T18:13:23Z</dcterms:created>
  <dc:creator>1</dc:creator>
  <dc:description/>
  <dc:language>en-US</dc:language>
  <cp:lastModifiedBy>Лапина Татьяна</cp:lastModifiedBy>
  <dcterms:modified xsi:type="dcterms:W3CDTF">2023-05-04T08:06:28Z</dcterms:modified>
  <cp:revision>22</cp:revision>
  <dc:subject/>
  <dc:title>Вегетарианство  как система питания и система духовно-нравственных ценностей</dc:title>
</cp:coreProperties>
</file>