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26B-BB86-4E2B-A73E-5E3D4C88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93D-FF97-436A-AC42-2FB77BD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99704-107A-4C9A-AFB3-7BFE0F3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E73A6-7EEF-4436-9463-52E4E44D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1ABBF-A49D-4A65-8C77-D2E982C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B131-887D-46EE-A9D3-E2AE318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26A79-E258-4034-BD4D-4BDE71A3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713E9-60EA-4354-A067-40DE108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5307F-44C7-44EE-B037-5CB9857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650F-81EA-4DC9-A97C-ABE84A32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6E91-0256-408F-B1ED-1BC474E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A7642-D604-4371-B8A8-66445962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A93-A955-4A19-85DE-96D67F06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123D-4BF7-491C-8074-16690D82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BB93-9DE4-4EAE-8676-0C57CDB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14A04-25A1-48ED-8777-98B11B2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50843-A9B0-4B94-B412-EC8BF28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8780-C3BB-4DBA-84C6-5FF8823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FEA87-2A3A-42B3-94E5-A66CB2C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165B4-FA84-4F80-87DB-27F717F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6E95B-A4D5-4158-8F67-14B10FB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07028-DBB0-462B-AC63-655972A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405AC-7DFD-4446-A7C6-F9730716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1A0-3A74-4F0F-998F-4B52176D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3F89F-39EA-422A-9D9E-6252314B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253CF-BA93-4C63-89BE-BC0CA4AF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7C907-8E59-46EC-BF7E-2EF968E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E913A-2691-4821-B39A-A50C5EB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0CB50-0427-4751-B387-5E49A38E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2405-DA79-4096-AD6E-C120157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73FDE-9A90-4D34-B00E-D041395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17CF1-8824-4EEE-8A9F-1D6559E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B44C0-2C92-4BA3-B173-035E99F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4D17E-ABCC-4587-B97C-1E6B1AC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ADA3-E754-4D6B-8923-079DD894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09FC2-0BC3-4D4B-B198-BDA5967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B2AE-3A8A-480E-A739-1B410E17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8177-8623-4B2D-AECE-BDD80F3B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ACAAA-1C8A-40A7-8279-3BAA2691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E4AD2-BF26-4B63-98AC-4550574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D20F0-19C5-4269-B29E-C5E7DE8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2468D-ADB4-44EE-961F-2B4CF73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A5298-34FB-4642-8843-7A6167C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48CBB-EA99-4797-9A3C-768B41AA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5AD4B-1A04-4316-A775-9E8A904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CB4-2181-4054-AABA-733905A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4A5FB-EA5B-4338-A8CE-2B654DB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62689-DBCB-460B-82ED-E7FD02B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4A5C3-F778-4B10-B84D-506A221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C7323-811B-4C3E-A4AF-838E1A1C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23CB9-B59D-48A2-A7EC-1E688048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B99-2A02-4CE2-874C-002A292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F5B-8CA1-4CA0-A6D4-93F7BF4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3F2-A72C-470A-93CC-DBA76CBC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02F-1058-4854-96F6-AE90E90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BB5-DB9F-4B65-A598-638301B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398-8131-499F-84AE-298C0D5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BB4-E348-466B-BE5D-E585D8B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BD7-4E16-447F-A71C-79CD3826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4DB4-596D-4216-8FCE-F153C0F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C35F-479D-4E85-ABFA-9AF86136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3E7F-27D3-4E80-B7FF-4E381BBB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687A-D60A-4CC1-80AE-4A13CC38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95F0-8CED-42CB-86CA-B496C952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EE87-2A67-44EA-A6EA-8CB8E12E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CC50-E101-4B3E-B2C8-000622A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F645-5234-44AD-8A1F-C5FA7C7D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54D-9A2D-48A2-A508-D929892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6F0A-B2DA-4FDC-9699-0A1A81C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172A-4283-4EC1-AC8A-1B099B2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89E4-950C-4757-8E1F-7260234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9905-5450-4012-85D0-08F02737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7204-9F98-46DB-8930-7306E0F2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02D0-7D96-40C8-9C38-C79B6ADD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4835-FA0D-436F-B2B5-F2DA84D6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97FF-2AA9-47B3-93FA-AF9CE828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5BAA-6F47-4083-B195-AC93923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A058-F5D4-4EC0-A155-4854959F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8CB-C55B-46F9-BD7F-8DAB25D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EF41-78FB-412E-9497-AC1CD6D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BA76-9C59-4334-AF90-658ACA5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C440-D73F-46D5-B6AD-4A2312F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42BB-F9C6-45C9-8492-868C548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1F2F-DF41-43F6-AB83-8AF00B5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7B0C-D7F5-4825-987A-DD2B9E0C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7BC8-02F8-466A-8506-C4350B0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DDDF-D697-490C-8C13-7453A114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C6E3-FBF7-42C2-B76F-A0F88B8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0A26-A21B-4588-B807-349D07E4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021-33BF-4D26-A277-28D8A11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E3ED-02EA-4D21-ADCD-6513A00F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933E-FCAC-42AF-B1B1-CDA30552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ED62-E300-449B-9399-8891A62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6952-EB76-4FE4-B425-5BF3042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8016-223D-498B-9646-EE8E19E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DAB3-5AC1-42D8-A9CD-A6D8559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0793-E5B6-462A-83CA-7029200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F606-776E-44E7-BB88-DE0A748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4587-91B6-494B-85B4-0E80E4CD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7A68-7B74-45F5-A7C4-46480E22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817-5292-4AE1-B80E-A11FC9A0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7437-E578-4DD9-948A-1CB67BE8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2C93-6866-4256-9EC1-CCE03D9F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62FD-D0B7-45A6-BF97-638D881D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BB9E-B909-401E-9DA0-D381E2F4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3D912-9727-440B-AE95-E56B825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7785-C75E-41E4-930E-F1273FE6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CC11-E040-47ED-8715-E64D07B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3FC3-5565-42D9-8F5A-B1279F3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E0FB-B085-4F65-96CC-AFEC137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709D0-5502-4A81-B045-D53E172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A5A-B1B6-4C3C-B9F6-17ACA2CD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8D29-E7BE-492C-86B4-F9736EE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AC1E-3BCF-4478-B929-49C0169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C1C8-B463-4FB9-9425-D7AF5A53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CE2C-EFD6-46CD-804A-4AAD8BD7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02AA-41D6-4239-91D2-826BBC16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464A7-5EE0-495A-BBA8-07FBD1B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9596-EA65-40E2-A6C8-31E09BFD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81AC-D922-47A3-A7DE-240774A3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935A9-041C-49B3-8B41-0F4081D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4445-2614-48CE-80A1-FD37B54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34B-530A-41F1-B3C5-3021C7C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6328-17D7-4ACD-8678-DCCE28A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BC04-C764-4464-86DD-F0365B0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4C6C-BB2B-4EE3-9071-37570379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4618-1D76-46CB-A575-C4474777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9DAD-1A6F-4AD3-8A87-812549A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094A-4256-4C45-B17B-517C1C0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BD1FF-EC44-4418-BA19-3B314CE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2D51-8D67-404F-B878-8882738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E790-A1F2-45F1-B8C2-F84CFD4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7C69-6BBA-4513-96EB-2DC6510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3CD-E253-4453-B2D2-37E71C0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684F-DDAC-4EA8-922D-F32FE48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B9823-2811-4DDC-8EEE-F54C709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E60D-4618-43FC-8A53-576FDA0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0FD8-2F3D-455A-B4DD-6B5ABAC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05C5-7293-4D02-A910-3CC30E6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ED5D-C01B-41A5-8CD2-A90FA404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519F-999E-4B19-B122-3C9D796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09503-F636-41C7-B896-4B2EA042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BD68E-23CA-446C-BB30-A5A87031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69131-2A17-43EC-B36C-C356921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889-99A5-46C7-8A2F-EC82D019D5B0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ABBB-7CF6-4347-98A7-4843FF52BFC9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8AA-A12A-45DD-A9C7-FD8B9CFEE204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4DAF-7B41-49BB-A979-5874BFBAFB64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7FAA-D224-42FE-AE58-63478975F2E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68F-803E-450D-B6EB-6D62C7702A70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528-73DD-47F3-8518-64A468E4AD0D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9257-A6A4-43AF-9187-E196C62604CB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C1BB-D835-466A-A93F-C084AB682E3E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174-F42F-4A7B-8916-7855F892DDA0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8EC-4FDF-430C-9D9E-573833015A89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BD4-50C8-46BA-A479-3398CC4F6259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C:\Users\1\Desktop\Новая папка\i.jpg"/>
          <p:cNvPicPr/>
          <p:nvPr/>
        </p:nvPicPr>
        <p:blipFill>
          <a:blip r:embed="rId2"/>
          <a:stretch/>
        </p:blipFill>
        <p:spPr>
          <a:xfrm>
            <a:off x="108000" y="2133720"/>
            <a:ext cx="2519280" cy="25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452520" y="1052640"/>
            <a:ext cx="7238880" cy="53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риверженцев таких индийских религий как индуизм, джайнизм и буддизм вегетарианство является обяза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оворить о вегетарианства в христианстве, то оно поощрялось,  но не являлось обяза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лам разрешает питаться некоторыми видами м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Users\1\Desktop\Новая папка\1319622458_vegetarianstvo-v-dzhaynizme-buddizme-zoroastrizme-i-sikhizme.jpg"/>
          <p:cNvPicPr/>
          <p:nvPr/>
        </p:nvPicPr>
        <p:blipFill>
          <a:blip r:embed="rId2"/>
          <a:srcRect l="1729" t="0" r="1482" b="0"/>
          <a:stretch/>
        </p:blipFill>
        <p:spPr>
          <a:xfrm>
            <a:off x="539640" y="3521160"/>
            <a:ext cx="72723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457200" y="1341000"/>
            <a:ext cx="389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явлением этических воззрений у человека можно судить об уровне его сознания: способности анализировать свои поступки, де­лать выводы о своем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C:\Users\1\Desktop\Новая папка\1401984942_1188407130.jpg"/>
          <p:cNvPicPr/>
          <p:nvPr/>
        </p:nvPicPr>
        <p:blipFill>
          <a:blip r:embed="rId2"/>
          <a:stretch/>
        </p:blipFill>
        <p:spPr>
          <a:xfrm>
            <a:off x="539640" y="3716280"/>
            <a:ext cx="3456000" cy="270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0" name="TextBox 6"/>
          <p:cNvSpPr/>
          <p:nvPr/>
        </p:nvSpPr>
        <p:spPr>
          <a:xfrm>
            <a:off x="4356000" y="4307040"/>
            <a:ext cx="37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ка вегетарианства рассматривает вопрос морального права человека на лишение животных жизни для удовлетворения сво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7236000" cy="4446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огие современные люди считают, что отношение к животным – это показатель, индикатор этического уровня человечества. 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C:\Users\1\Desktop\Новая папка\choice.jpg"/>
          <p:cNvPicPr/>
          <p:nvPr/>
        </p:nvPicPr>
        <p:blipFill>
          <a:blip r:embed="rId2"/>
          <a:stretch/>
        </p:blipFill>
        <p:spPr>
          <a:xfrm>
            <a:off x="457200" y="2565360"/>
            <a:ext cx="7499520" cy="379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68360" y="1773000"/>
            <a:ext cx="72388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ать, что вегетарианство - это единственно верный стиль питания для современного человека, необъективно. Вегетарианство  можно рассматривать только как один из способов организации жизнедеятельности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5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9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6840" y="1412640"/>
            <a:ext cx="3521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гетарианство – система питания, исключающая или ограничивающая потребление продуктов животного 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вегетарианцы также исключают и различную проду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 которой изготовлены из меха, 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которой входят компоненты животного проис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едшую испытание на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11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8472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Объект 6" descr=""/>
          <p:cNvPicPr/>
          <p:nvPr/>
        </p:nvPicPr>
        <p:blipFill>
          <a:blip r:embed="rId1"/>
          <a:stretch/>
        </p:blipFill>
        <p:spPr>
          <a:xfrm>
            <a:off x="457200" y="0"/>
            <a:ext cx="7254720" cy="645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5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988640"/>
            <a:ext cx="7354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гетарианство существовало всег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его развития и становления исчисляется тысячел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своего существования люди питались в основном растительной пи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стремальные условия заставили человека обратиться к более частому употреблению мясной пищ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pic>
        <p:nvPicPr>
          <p:cNvPr id="538" name="Объект 9" descr=""/>
          <p:cNvPicPr/>
          <p:nvPr/>
        </p:nvPicPr>
        <p:blipFill>
          <a:blip r:embed="rId2"/>
          <a:stretch/>
        </p:blipFill>
        <p:spPr>
          <a:xfrm>
            <a:off x="517680" y="1773360"/>
            <a:ext cx="3400200" cy="3095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177800" y="1599840"/>
            <a:ext cx="352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«вегетарианство» возник в Великобритании в 1842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оссии вегетарианство начинает становиться заметным явлением во второй половине XIX века. В 1901 году в Санкт-Петербурге появилось первое вегетарианское об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5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6840" y="17733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проблема использования вегетарианских рационов — обеспечение организма белком,  витаминами В2, В12, D, микроэлементами и кальцием. Очевидно, что при правильном подборе продуктов можно даже вегетарианские рационы обеспечить всеми необходимыми для ор­ганизма аминокислотами</a:t>
            </a:r>
            <a:r>
              <a:rPr b="0" lang="ru-RU" sz="2000" spc="-1" strike="noStrike">
                <a:solidFill>
                  <a:srgbClr val="0c9b74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177800" y="1916280"/>
            <a:ext cx="3521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C:\Users\1\Desktop\Новая папка\Prav-pitanie.jpg"/>
          <p:cNvPicPr/>
          <p:nvPr/>
        </p:nvPicPr>
        <p:blipFill>
          <a:blip r:embed="rId2"/>
          <a:stretch/>
        </p:blipFill>
        <p:spPr>
          <a:xfrm>
            <a:off x="4178160" y="1916280"/>
            <a:ext cx="3594240" cy="35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5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178920" y="1600200"/>
            <a:ext cx="39783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гетарианская диета рекомендуется медиками при некоторых заболеваниях, например, при атеросклерозе, но не рекомендуется всем, кто страдает какими-либо заболеваниями желудочно-кишечного тр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177800" y="1599840"/>
            <a:ext cx="352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Users\1\Desktop\Новая папка\i.jpg"/>
          <p:cNvPicPr/>
          <p:nvPr/>
        </p:nvPicPr>
        <p:blipFill>
          <a:blip r:embed="rId2"/>
          <a:stretch/>
        </p:blipFill>
        <p:spPr>
          <a:xfrm>
            <a:off x="4178160" y="1600200"/>
            <a:ext cx="3418200" cy="391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94920" y="54900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гетарианц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же умирают злокачественных опухоле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чти не страдают воспалением аппендицита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же выявляются рас­стройства нервной систем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гетарианцы почти не страдают  нарушениями артериального д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C:\Users\1\Desktop\Новая папка\2015-07-20-15-40-44-66288.jpg"/>
          <p:cNvPicPr/>
          <p:nvPr/>
        </p:nvPicPr>
        <p:blipFill>
          <a:blip r:embed="rId1"/>
          <a:stretch/>
        </p:blipFill>
        <p:spPr>
          <a:xfrm>
            <a:off x="4284720" y="692280"/>
            <a:ext cx="381636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5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30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456840" y="1600200"/>
            <a:ext cx="352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акторами оздоровительного действия вегета­рианских рационов, способствующих снижению роста ряда заболе­ваний, являются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ое содержание в диете ненасыщенных жирных кислот и пищевых волок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лотный состав рас­тительного белк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ысокое содержание щелочных эквивалентов, калия и витамин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177800" y="1600200"/>
            <a:ext cx="3521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Users\1\Desktop\Новая папка\vegan-728x484.jpg"/>
          <p:cNvPicPr/>
          <p:nvPr/>
        </p:nvPicPr>
        <p:blipFill>
          <a:blip r:embed="rId2"/>
          <a:stretch/>
        </p:blipFill>
        <p:spPr>
          <a:xfrm>
            <a:off x="4178160" y="1600200"/>
            <a:ext cx="352116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8:13:23Z</dcterms:created>
  <dc:creator>1</dc:creator>
  <dc:description/>
  <dc:language>en-US</dc:language>
  <cp:lastModifiedBy>Лапина Татьяна</cp:lastModifiedBy>
  <dcterms:modified xsi:type="dcterms:W3CDTF">2023-05-04T08:06:28Z</dcterms:modified>
  <cp:revision>22</cp:revision>
  <dc:subject/>
  <dc:title>Вегетарианство  как система питания и система духовно-нравственных ценностей</dc:title>
</cp:coreProperties>
</file>