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509-157C-432F-99BC-0A8A013E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808-FE60-4B86-A437-5BE2E311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AFB-2FCA-488C-9233-63038ACF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036-6BAE-4BB5-A55E-FD5B08E1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4B5-86B0-40FF-99E9-5A10069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E08-8E93-46C5-8BFD-18E6D581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092-D614-4CCD-AD7F-6C20AC3F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0ED-AD2D-4678-8CC4-8A930D5E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8D8-9ED7-43EA-AC56-15619122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63D-F32C-45A5-8ADC-E4FB29AD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E66-8B07-45AF-9C1B-D8FF212C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C73-93AF-4AF9-8C28-8DBB0AED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24D9-07F6-4A23-BFFE-95068C5021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rial Black"/>
              </a:rPr>
              <a:t>«Двигательная активность – средство полноценного развития дете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езентацию подготов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оспитатели МДОАУ «Детский сад № 138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группы старшего дошко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озраста от 5 до 6 л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Ануфриева Анна Александ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Семченко Татьяна Станислав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0" descr="(snail)_scaled_90"/>
          <p:cNvPicPr/>
          <p:nvPr/>
        </p:nvPicPr>
        <p:blipFill>
          <a:blip r:embed="rId1"/>
          <a:stretch/>
        </p:blipFill>
        <p:spPr>
          <a:xfrm>
            <a:off x="250920" y="5805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7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В нашей группе двигательная активность проходит в форме: 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 утренней зарядки;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физкультминутки;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 физические упражнения на прогулке и занятии;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 спортивные игры;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 самостоятельная игровая деяте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4535640" cy="3557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"/>
          <p:cNvPicPr/>
          <p:nvPr/>
        </p:nvPicPr>
        <p:blipFill>
          <a:blip r:embed="rId2"/>
          <a:stretch/>
        </p:blipFill>
        <p:spPr>
          <a:xfrm rot="601200">
            <a:off x="2733840" y="2479680"/>
            <a:ext cx="40766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(snail)_scaled_90"/>
          <p:cNvPicPr/>
          <p:nvPr/>
        </p:nvPicPr>
        <p:blipFill>
          <a:blip r:embed="rId3"/>
          <a:stretch/>
        </p:blipFill>
        <p:spPr>
          <a:xfrm>
            <a:off x="250920" y="5805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 Rounded MT Bold"/>
              </a:rPr>
              <a:t>В форме продукта мы хотим представить вам такой вид двигательной активности - </a:t>
            </a: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Arial Rounded MT Bold"/>
              </a:rPr>
              <a:t>«Фольклорные игры и Народные игр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Мы составили картотеку игр, подобрав игры в соответствии с возрастом детей. Проводятся эти игры во время прогулок, совместной деятельности с детьми в группе. Также создаются условия для организации самостоятельной деятельности (условия в спортивном уголке атрибуты – маски, платочки и т.д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(snail)_scaled_90"/>
          <p:cNvPicPr/>
          <p:nvPr/>
        </p:nvPicPr>
        <p:blipFill>
          <a:blip r:embed="rId1"/>
          <a:stretch/>
        </p:blipFill>
        <p:spPr>
          <a:xfrm>
            <a:off x="457200" y="5373720"/>
            <a:ext cx="15048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Lucida Handwriting"/>
              </a:rPr>
              <a:t>Хотим представить вам опыт своей работы в виде видео презентации, а также можно будет ознакомиться с картотек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(snail)_scaled_90"/>
          <p:cNvPicPr/>
          <p:nvPr/>
        </p:nvPicPr>
        <p:blipFill>
          <a:blip r:embed="rId1"/>
          <a:stretch/>
        </p:blipFill>
        <p:spPr>
          <a:xfrm>
            <a:off x="324000" y="5389560"/>
            <a:ext cx="15048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(snail)_scaled_90"/>
          <p:cNvPicPr/>
          <p:nvPr/>
        </p:nvPicPr>
        <p:blipFill>
          <a:blip r:embed="rId1"/>
          <a:stretch/>
        </p:blipFill>
        <p:spPr>
          <a:xfrm>
            <a:off x="324000" y="5389560"/>
            <a:ext cx="1504800" cy="143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09T05:49:36Z</dcterms:created>
  <dc:creator>User</dc:creator>
  <dc:description/>
  <dc:language>en-US</dc:language>
  <cp:lastModifiedBy>Учетная запись Майкрософт</cp:lastModifiedBy>
  <dcterms:modified xsi:type="dcterms:W3CDTF">2023-04-27T07:22:45Z</dcterms:modified>
  <cp:revision>11</cp:revision>
  <dc:subject/>
  <dc:title>Слайд 1</dc:title>
</cp:coreProperties>
</file>