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DD9-242B-4E82-845B-53F14D81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B5B-3A94-4265-8771-35238DD5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971-E4C5-4929-B2AB-FA6EBF4B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1BB-E9D1-4457-87BE-6DE0985D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958-CD31-4767-A1BC-623F1C0B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337-B311-4AB9-822C-23C2B41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31E-9E72-4523-91C7-2F3885E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2E7-C98A-48BA-8DB2-616BF3E9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D2D-99AC-4B76-9806-6FFAEECF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A76-D6F5-4FA7-85C7-BC8201A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871-8E86-482D-925C-27305B96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F3E-D95C-42A2-BDE5-2B5FF584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9F6D-5ED3-4253-84C5-FFA4B950BE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rial Black"/>
              </a:rPr>
              <a:t>«Двигательная активность – средство полноценного развития дете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езентацию подготов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оспитатели МДОАУ «Детский сад № 138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группы старшего дошколь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озраста от 5 до 6 л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Ануфриева Анна Александ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Семченко Татьяна Станислав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0" descr="(snail)_scaled_90"/>
          <p:cNvPicPr/>
          <p:nvPr/>
        </p:nvPicPr>
        <p:blipFill>
          <a:blip r:embed="rId1"/>
          <a:stretch/>
        </p:blipFill>
        <p:spPr>
          <a:xfrm>
            <a:off x="250920" y="5805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7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В нашей группе двигательная активность проходит в форме: </a:t>
            </a:r>
            <a:br>
              <a:rPr sz="2000"/>
            </a:b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- утренней зарядки;</a:t>
            </a:r>
            <a:br>
              <a:rPr sz="2000"/>
            </a:b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-физкультминутки;</a:t>
            </a:r>
            <a:br>
              <a:rPr sz="2000"/>
            </a:b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- физические упражнения на прогулке и занятии;</a:t>
            </a:r>
            <a:br>
              <a:rPr sz="2000"/>
            </a:b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- спортивные игры;</a:t>
            </a:r>
            <a:br>
              <a:rPr sz="2000"/>
            </a:br>
            <a:r>
              <a:rPr b="0" lang="ru-RU" sz="2000" spc="-1" strike="noStrike">
                <a:solidFill>
                  <a:srgbClr val="3e3e5c"/>
                </a:solidFill>
                <a:latin typeface="Arial"/>
              </a:rPr>
              <a:t>- самостоятельная игровая деяте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4535640" cy="3557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"/>
          <p:cNvPicPr/>
          <p:nvPr/>
        </p:nvPicPr>
        <p:blipFill>
          <a:blip r:embed="rId2"/>
          <a:stretch/>
        </p:blipFill>
        <p:spPr>
          <a:xfrm rot="601200">
            <a:off x="2733840" y="2479680"/>
            <a:ext cx="4076640" cy="112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(snail)_scaled_90"/>
          <p:cNvPicPr/>
          <p:nvPr/>
        </p:nvPicPr>
        <p:blipFill>
          <a:blip r:embed="rId3"/>
          <a:stretch/>
        </p:blipFill>
        <p:spPr>
          <a:xfrm>
            <a:off x="250920" y="5805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 Rounded MT Bold"/>
              </a:rPr>
              <a:t>В форме продукта мы хотим представить вам такой вид двигательной активности - </a:t>
            </a: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Arial Rounded MT Bold"/>
              </a:rPr>
              <a:t>«Фольклорные игры и Народные игр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Мы составили картотеку игр, подобрав игры в соответствии с возрастом детей. Проводятся эти игры во время прогулок, совместной деятельности с детьми в группе. Также создаются условия для организации самостоятельной деятельности (условия в спортивном уголке атрибуты – маски, платочки и т.д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(snail)_scaled_90"/>
          <p:cNvPicPr/>
          <p:nvPr/>
        </p:nvPicPr>
        <p:blipFill>
          <a:blip r:embed="rId1"/>
          <a:stretch/>
        </p:blipFill>
        <p:spPr>
          <a:xfrm>
            <a:off x="457200" y="5373720"/>
            <a:ext cx="15048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Lucida Handwriting"/>
              </a:rPr>
              <a:t>Хотим представить вам опыт своей работы в виде видео презентации, а также можно будет ознакомиться с картотек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(snail)_scaled_90"/>
          <p:cNvPicPr/>
          <p:nvPr/>
        </p:nvPicPr>
        <p:blipFill>
          <a:blip r:embed="rId1"/>
          <a:stretch/>
        </p:blipFill>
        <p:spPr>
          <a:xfrm>
            <a:off x="324000" y="5389560"/>
            <a:ext cx="15048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(snail)_scaled_90"/>
          <p:cNvPicPr/>
          <p:nvPr/>
        </p:nvPicPr>
        <p:blipFill>
          <a:blip r:embed="rId1"/>
          <a:stretch/>
        </p:blipFill>
        <p:spPr>
          <a:xfrm>
            <a:off x="324000" y="5389560"/>
            <a:ext cx="1504800" cy="143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09T05:49:36Z</dcterms:created>
  <dc:creator>User</dc:creator>
  <dc:description/>
  <dc:language>en-US</dc:language>
  <cp:lastModifiedBy>Учетная запись Майкрософт</cp:lastModifiedBy>
  <dcterms:modified xsi:type="dcterms:W3CDTF">2023-04-27T07:22:45Z</dcterms:modified>
  <cp:revision>11</cp:revision>
  <dc:subject/>
  <dc:title>Слайд 1</dc:title>
</cp:coreProperties>
</file>