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58B-9D83-4404-80F5-ACDC62B0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58F-BD8E-4AE2-8285-53B035F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C67-D063-466E-961D-8AEC01A9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6DB-E991-4C2E-B15E-048628D7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B07D-6504-4F78-975E-6C08032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E35-3E98-4C13-BDD6-A2E3827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53B7-B248-4D80-B1A9-A891779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897E-C210-4026-8E3B-C4F4E844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6826-3F96-4768-A3A4-FA885F7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4B0-C3A3-4220-AF8A-581D9C6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C7C8-561C-4256-B6A6-5DB1C48A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368-0E19-4690-9276-D7ABC029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B49-4DAC-432E-A117-BF514B4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6A79-9604-4FC0-9949-7D35B21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2F03-8F6B-4FA0-97F5-B06D1783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F3EE-CF76-4F23-8B43-990B9147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758C-4875-41C9-B1FC-FDB98878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6DC-2881-4151-9040-507168D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393-1C25-4084-8234-F227867E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AE2-F1B6-40DA-974E-65791803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A06-5F14-48A7-A4F6-E1664ED8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0A8-087B-4D24-8234-AD19585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57F-D2F4-493A-A8BD-3F481F0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8EA-256A-46B6-A4D5-ADBC387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EFB5-BE5B-4A57-A2BE-0B3441256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AD2-DBF6-4422-BF9F-0DE1A53A8D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4 клас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57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здева Светлана Петро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143000" y="457200"/>
            <a:ext cx="70102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русского языка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авила постановки знаков препинания при однородных член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50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сли стоят однородные чле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Их запятой раздели непременно!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сли же вдруг появился союз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 запятая, тогда лишний груз!   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Если союз к нам пришел не од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тавь   запятую ты перед вторым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 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А перед союзами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но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лгих сомнений быть не дол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И не думай впустую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тавь скорей запятую…                      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 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 н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Нагнал Кощей Ивана-Царевича, соскочил наземь и замахнулся на него острой саблей. Погостили Иван-Царевич и Марья Моревна у ворона, орла и сокола, попировали и поехали в свое царство.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-  Каштанка!  Каштан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Тетка прыгнула, но не допрыгнула и поползла по стене. Затем она переходила с рук на руки, лизала чьи-то руки и лица, подвигалась все выше и выше и, наконец, попала на галерку.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Роптать - высказать недовольство кем-либо, чем-либо, обиду на кого-либо, что-либ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Ракетка - спортивный снаряд в виде овальной - деревянной, фанерной или с натянутой  сеткой - лопатки для отбивания мяча или волана при игре в теннис, бадмин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Салат - холодное блюдо из нарезанных сырых или вареных овощей, зелени, яиц, мяса, рыбы, заправленное  каким-либо  соусом.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Семя состоит из кожуры и зародыша. В зародыше различают корешок, стебелек, почечку с листочками.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Травяной сбор составляют цветки липы, ромашки, череды, зверобоя, душицы. Применяется при ангине, бронхите, простудных заболеваниях.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Verdana"/>
              </a:rPr>
              <a:t>Вывод</a:t>
            </a:r>
            <a:r>
              <a:rPr b="0" lang="en-US" sz="3600" spc="-1" strike="noStrike">
                <a:solidFill>
                  <a:srgbClr val="ff99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Однородные члены предложения могут употребляться в художественной литературе, научной литературе, в толковых словарях,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рецептах, инструкциях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с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ступила осень. Осенью дни короткие. Осенью дни пасмурные. Разноцветные  листья летят над поляной. Листья кружатся. С наступлением осени поля опустели. Луга опус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олотой дож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Брызнули листья с деревьев. Листья полетели по ветру. Листья понеслись по земле. Листья шуршат. Листья скребутся. Листья лопочут. Шумит золотой дожд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с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ступила осень. Осенью дни короткие и пасмурные. Разноцветные  листья летят над поляной, кружатся. С наступлением осени поля и луга  опустели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олотой дож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Брызнули листья с деревьев. Листья полетели по ветру и понеслись по земле. Листья шуршат, скребутся, лопочут. Шумит золотой дождь.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Вывод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Однородные члены предложения делают речь красивой, более выразительной, создают яркие описания и динамические карти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не понрави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не было труд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ы научил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ы узнал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не было интерес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й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" descr="emocii-2157.gif"/>
          <p:cNvPicPr/>
          <p:nvPr/>
        </p:nvPicPr>
        <p:blipFill>
          <a:blip r:embed="rId2"/>
          <a:stretch/>
        </p:blipFill>
        <p:spPr>
          <a:xfrm>
            <a:off x="685800" y="3006720"/>
            <a:ext cx="2157480" cy="17604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emocii-2170.gif"/>
          <p:cNvPicPr/>
          <p:nvPr/>
        </p:nvPicPr>
        <p:blipFill>
          <a:blip r:embed="rId3"/>
          <a:stretch/>
        </p:blipFill>
        <p:spPr>
          <a:xfrm>
            <a:off x="3425760" y="2716200"/>
            <a:ext cx="2898720" cy="22366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emocii-2154.gif"/>
          <p:cNvPicPr/>
          <p:nvPr/>
        </p:nvPicPr>
        <p:blipFill>
          <a:blip r:embed="rId4"/>
          <a:stretch/>
        </p:blipFill>
        <p:spPr>
          <a:xfrm>
            <a:off x="6161040" y="2971800"/>
            <a:ext cx="2505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1295280" y="83808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С малой удачи начинается успех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38080" y="53352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нализиро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бъясня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азы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авни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оцени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уметь выражать свои мыс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an-mamy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7"/>
          <p:cNvSpPr txBox="1"/>
          <p:nvPr/>
        </p:nvSpPr>
        <p:spPr>
          <a:xfrm>
            <a:off x="304920" y="1522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днородные члены предложения"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Гром перекатывае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Гром грохоч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Гром встряхивает землю</a:t>
            </a:r>
            <a:r>
              <a:rPr b="0" lang="ru-RU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Гром перекатывается, грохочет, встряхивает землю.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                                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____ </a:t>
            </a: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О, О, 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838080" y="20574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33720" y="213372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2133720" y="205740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6172200" y="2057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172200" y="21337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914400" y="2514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914400" y="259092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знаки однородных член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.   Отвечают  на один и тот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же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2.  Являются одним членом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3.  Относятся к одному и тому же члену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4.  Обычно выражены одной и той же частью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.   Произносятся с интонацией переч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1.   Растворились в темноте рощи сады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2.   Волны пенились и бились с шумом о набереж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3.   По склонам гор видны и  сосны и ели и  клён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4.   Зимой солнце светит ярко а не гр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.   Лебеди летели низко над озером но на воду не садились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1. Растворились в темноте рощ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сад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поля.</a:t>
            </a: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 Волны пенились и бились с шумом о набережную.</a:t>
            </a: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_  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3.  По склонам гор видны и  сос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и ел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и  клё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_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4.  Зимой солнце светит ярк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не греет.</a:t>
            </a: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_  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5.   Лебеди летели низко над озер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на воду не садилис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____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но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О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4-03-14T02:13:5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