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735-1D1F-48FE-9B7C-46D5FB40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5B7-DF55-4CEA-8A69-27B65246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281-2888-45EC-B91B-69A83EC8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B03-A2C3-4EDA-B9FC-F558DB5C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9BAF-3330-42CD-BDBF-D5CA5E22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AB81-0C88-4DB6-9204-37E64AC6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9438-70AB-4B12-846B-BD4E9F3C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AEF8-872E-4954-9959-65780448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4D2-2FF0-42A4-A1A3-0EA9055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6032-D53C-46FD-80DD-7501038E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D114-5326-406D-9747-30A88AA4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B3E-4AA0-4E19-80AC-3485B874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A0D9-52DE-48E0-ABD3-10E9E1D7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8462-FD54-4312-98FD-E13CEB2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D988-75EB-47FF-9A8F-CA041C86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539E-FA74-4A0C-B896-B490C905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D0BC-DF9B-444A-8202-F3EBE03F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6E6-28F7-4E7D-AD57-4A0EECC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2CE-B447-4B0A-82E2-7595F9F5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991-47EE-4E80-A722-59DBB64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37D-B492-48C9-B4EA-A823F42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70A-C139-475A-8E8C-6C6846FD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674-E25A-4BFF-A112-D3F1731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674-C8B4-4780-8E81-169F82E1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96A0-51E2-429C-A09F-8CE112F55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21E-C743-4B05-81BF-D7006F7F42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4 клас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здева Светлана Петро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143000" y="457200"/>
            <a:ext cx="70102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русского языка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авила постановки знаков препинания при однородных член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50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сли стоят однородные чле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Их запятой раздели непременно!    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 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сли же вдруг появился союз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 запятая, тогда лишний груз!       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 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Если союз к нам пришел не оди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тавь   запятую ты перед вторым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 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А перед союзами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но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лгих сомнений быть не дол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И не думай впустую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тавь скорей запятую…                          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 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 н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Нагнал Кощей Ивана-Царевича, соскочил наземь и замахнулся на него острой саблей. Погостили Иван-Царевич и Марья Моревна у ворона, орла и сокола, попировали и поехали в свое царство.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-  Каштанка!  Каштанк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Тетка прыгнула, но не допрыгнула и поползла по стене. Затем она переходила с рук на руки, лизала чьи-то руки и лица, подвигалась все выше и выше и, наконец, попала на галерку.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Роптать - высказать недовольство кем-либо, чем-либо, обиду на кого-либо, что-либ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Ракетка - спортивный снаряд в виде овальной - деревянной, фанерной или с натянутой  сеткой - лопатки для отбивания мяча или волана при игре в теннис, бадминт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Салат - холодное блюдо из нарезанных сырых или вареных овощей, зелени, яиц, мяса, рыбы, заправленное  каким-либо  соусом.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Семя состоит из кожуры и зародыша. В зародыше различают корешок, стебелек, почечку с листочками.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Травяной сбор составляют цветки липы, ромашки, череды, зверобоя, душицы. Применяется при ангине, бронхите, простудных заболеваниях.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Verdana"/>
              </a:rPr>
              <a:t>Вывод</a:t>
            </a:r>
            <a:r>
              <a:rPr b="0" lang="en-US" sz="3600" spc="-1" strike="noStrike">
                <a:solidFill>
                  <a:srgbClr val="ff99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Однородные члены предложения могут употребляться в художественной литературе, научной литературе, в толковых словарях,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рецептах, инструкциях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Ос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ступила осень. Осенью дни короткие. Осенью дни пасмурные. Разноцветные  листья летят над поляной. Листья кружатся. С наступлением осени поля опустели. Луга опус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олотой дож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Брызнули листья с деревьев. Листья полетели по ветру. Листья понеслись по земле. Листья шуршат. Листья скребутся. Листья лопочут. Шумит золотой дожд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Ос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ступила осень. Осенью дни короткие и пасмурные. Разноцветные  листья летят над поляной, кружатся. С наступлением осени поля и луга  опустели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олотой дож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Брызнули листья с деревьев. Листья полетели по ветру и понеслись по земле. Листья шуршат, скребутся, лопочут. Шумит золотой дождь.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Вывод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Однородные члены предложения делают речь красивой, более выразительной, создают яркие описания и динамические карти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не понрави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не было труд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ы научил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ы узнал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не было интерес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цен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й дея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" descr="emocii-2157.gif"/>
          <p:cNvPicPr/>
          <p:nvPr/>
        </p:nvPicPr>
        <p:blipFill>
          <a:blip r:embed="rId2"/>
          <a:stretch/>
        </p:blipFill>
        <p:spPr>
          <a:xfrm>
            <a:off x="685800" y="3006720"/>
            <a:ext cx="2157480" cy="17604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emocii-2170.gif"/>
          <p:cNvPicPr/>
          <p:nvPr/>
        </p:nvPicPr>
        <p:blipFill>
          <a:blip r:embed="rId3"/>
          <a:stretch/>
        </p:blipFill>
        <p:spPr>
          <a:xfrm>
            <a:off x="3425760" y="2716200"/>
            <a:ext cx="2898720" cy="22366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emocii-2154.gif"/>
          <p:cNvPicPr/>
          <p:nvPr/>
        </p:nvPicPr>
        <p:blipFill>
          <a:blip r:embed="rId4"/>
          <a:stretch/>
        </p:blipFill>
        <p:spPr>
          <a:xfrm>
            <a:off x="6161040" y="2971800"/>
            <a:ext cx="2505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"/>
          <p:cNvSpPr/>
          <p:nvPr/>
        </p:nvSpPr>
        <p:spPr>
          <a:xfrm>
            <a:off x="1295280" y="83808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С малой удачи начинается успех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838080" y="53352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анализиро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объясня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азы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авни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оцени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уметь выражать свои мыс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an-mamy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7"/>
          <p:cNvSpPr txBox="1"/>
          <p:nvPr/>
        </p:nvSpPr>
        <p:spPr>
          <a:xfrm>
            <a:off x="304920" y="1522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днородные члены предложения"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Гром перекатывает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Гром грохоч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Гром встряхивает землю</a:t>
            </a:r>
            <a:r>
              <a:rPr b="0" lang="ru-RU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Гром перекатывается, грохочет, встряхивает землю.</a:t>
            </a: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                                </a:t>
            </a: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____ </a:t>
            </a: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О, О, 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838080" y="20574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133720" y="2133720"/>
            <a:ext cx="3733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2133720" y="2057400"/>
            <a:ext cx="3733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6172200" y="2057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172200" y="213372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914400" y="2514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914400" y="259092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знаки однородных член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.   Отвечают  на один и тот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же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2.  Являются одним членом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3.  Относятся к одному и тому же члену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4.  Обычно выражены одной и той же частью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5.   Произносятся с интонацией перечис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1.   Растворились в темноте рощи сады 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2.   Волны пенились и бились с шумом о набережн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3.   По склонам гор видны и  сосны и ели и  клён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4.   Зимой солнце светит ярко а не гр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5.   Лебеди летели низко над озером но на воду не садились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1. Растворились в темноте рощ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сад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поля.</a:t>
            </a: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 Волны пенились и бились с шумом о набережную.</a:t>
            </a: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_  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3.  По склонам гор видны и  сосн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и ел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и  клё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_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4.  Зимой солнце светит ярк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не греет.</a:t>
            </a: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_  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5.   Лебеди летели низко над озер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на воду не садилис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но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4-03-14T02:13:5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